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40.png" ContentType="image/pn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636-D8CC-4AF5-85C8-7B87168F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11D-D238-4D67-94A1-87E953EA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0D5-6066-46E8-84AF-7400D5B7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954-F265-4CF5-97CF-7F4508F5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DB20-BF57-42E3-B189-58FE3F24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725B-4BF3-4837-9CDA-060177DD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E8C2-7D34-4116-BF6D-D32C7E09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1C27-379C-4274-B9C4-D7F2A6C8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F59B-A1CA-45C3-BE5B-699F609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D346-D2ED-4475-9E4E-7AC62BDD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8EF4-7B76-4764-B2A1-3F06E0EB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188-0D70-4823-86A1-3F71EE35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B292-E4AC-48CE-9BE1-C2C3F05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9DCC-5F85-41F8-A6D2-F633977D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877F-817D-4BE6-9E85-8F4B9FFE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B1F8-8D9A-4DB1-8444-1F077A7E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4072-10D4-4097-83C7-D07C92C8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BC6-D328-478E-94E7-F94FC662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40E-B587-47C1-9458-F05BC35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93A-13F3-456E-A9F8-AB3DBE63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CC9-BAF6-463A-A38B-7A20C3DC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69D-E508-4941-9B51-C6DF5598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104-F45D-4A93-86EE-47728331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E16-07BF-4CEE-9758-A35D11A4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E15F-08BF-47EA-BCB8-2B6AA67B516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9CB2-F822-40A6-805D-71D00DF4D7F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63480" y="10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6676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979640" y="2205000"/>
            <a:ext cx="5616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丝绸之路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22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4920" y="-98280"/>
            <a:ext cx="9144000" cy="6858000"/>
            <a:chOff x="34920" y="-98280"/>
            <a:chExt cx="9144000" cy="6858000"/>
          </a:xfrm>
        </p:grpSpPr>
        <p:sp>
          <p:nvSpPr>
            <p:cNvPr id="235" name=""/>
            <p:cNvSpPr/>
            <p:nvPr/>
          </p:nvSpPr>
          <p:spPr>
            <a:xfrm>
              <a:off x="34920" y="-9828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隶书"/>
                  <a:ea typeface="楷体_GB2312"/>
                </a:rPr>
                <a:t>莫高窟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1806480" y="-98280"/>
              <a:ext cx="7372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4920" y="679680"/>
              <a:ext cx="1752480" cy="1373760"/>
            </a:xfrm>
            <a:prstGeom prst="rect">
              <a:avLst/>
            </a:prstGeom>
            <a:noFill/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俗称千佛洞，现今世界上规模最宏大、历史最久远、内容最丰富、保存最良好的佛教遗址，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被列入世界文化遗产保护名录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936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600200" y="581040"/>
            <a:ext cx="41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玉门关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2760" y="15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4360" y="1125360"/>
            <a:ext cx="53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阳关  烽火台遗址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76720"/>
            <a:ext cx="96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971800"/>
            <a:ext cx="944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462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47920" y="259092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塔克拉玛干沙漠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90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114800" y="762120"/>
            <a:ext cx="33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火焰山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9364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040" y="93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918440" y="403848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欣赏完丝路景观大家有什么感受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838080"/>
            <a:ext cx="33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楼兰遗址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6606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305920" y="5877000"/>
            <a:ext cx="838080" cy="761760"/>
          </a:xfrm>
          <a:custGeom>
            <a:avLst/>
            <a:gdLst>
              <a:gd name="textAreaLeft" fmla="*/ 47520 w 838080"/>
              <a:gd name="textAreaRight" fmla="*/ 790560 w 83808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413" y="1350"/>
                </a:lnTo>
                <a:lnTo>
                  <a:pt x="1350" y="135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413" y="20250"/>
                </a:lnTo>
                <a:lnTo>
                  <a:pt x="22413" y="135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413" y="2025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763" h="21600">
                <a:moveTo>
                  <a:pt x="11882" y="3800"/>
                </a:moveTo>
                <a:lnTo>
                  <a:pt x="14472" y="6425"/>
                </a:lnTo>
                <a:lnTo>
                  <a:pt x="14472" y="4675"/>
                </a:lnTo>
                <a:lnTo>
                  <a:pt x="16257" y="4675"/>
                </a:lnTo>
                <a:lnTo>
                  <a:pt x="16257" y="8210"/>
                </a:lnTo>
                <a:lnTo>
                  <a:pt x="18882" y="10800"/>
                </a:lnTo>
                <a:lnTo>
                  <a:pt x="17219" y="10800"/>
                </a:lnTo>
                <a:lnTo>
                  <a:pt x="17219" y="18028"/>
                </a:lnTo>
                <a:lnTo>
                  <a:pt x="6544" y="18028"/>
                </a:lnTo>
                <a:lnTo>
                  <a:pt x="6544" y="10800"/>
                </a:lnTo>
                <a:lnTo>
                  <a:pt x="4882" y="10800"/>
                </a:lnTo>
                <a:close/>
              </a:path>
              <a:path fill="darkenLess" w="23763" h="21600">
                <a:moveTo>
                  <a:pt x="14472" y="6425"/>
                </a:moveTo>
                <a:lnTo>
                  <a:pt x="14472" y="4675"/>
                </a:lnTo>
                <a:lnTo>
                  <a:pt x="16257" y="4675"/>
                </a:lnTo>
                <a:lnTo>
                  <a:pt x="16257" y="8210"/>
                </a:lnTo>
                <a:close/>
              </a:path>
              <a:path fill="darkenLess" w="23763" h="21600">
                <a:moveTo>
                  <a:pt x="10954" y="14318"/>
                </a:moveTo>
                <a:lnTo>
                  <a:pt x="12809" y="14318"/>
                </a:lnTo>
                <a:lnTo>
                  <a:pt x="12809" y="18028"/>
                </a:lnTo>
                <a:lnTo>
                  <a:pt x="17219" y="18028"/>
                </a:lnTo>
                <a:lnTo>
                  <a:pt x="17219" y="10800"/>
                </a:lnTo>
                <a:lnTo>
                  <a:pt x="6544" y="10800"/>
                </a:lnTo>
                <a:lnTo>
                  <a:pt x="6544" y="18028"/>
                </a:lnTo>
                <a:lnTo>
                  <a:pt x="10954" y="18028"/>
                </a:lnTo>
                <a:close/>
              </a:path>
            </a:pathLst>
          </a:custGeom>
          <a:solidFill>
            <a:srgbClr val="f9a815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5686560" cy="9169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畅想丝路繁荣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936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76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2057400"/>
            <a:ext cx="3809880" cy="3505320"/>
          </a:xfrm>
          <a:custGeom>
            <a:avLst/>
            <a:gdLst>
              <a:gd name="textAreaLeft" fmla="*/ 218880 w 3809880"/>
              <a:gd name="textAreaRight" fmla="*/ 3591000 w 3809880"/>
              <a:gd name="textAreaTop" fmla="*/ 218880 h 3505320"/>
              <a:gd name="textAreaBottom" fmla="*/ 3286440 h 3505320"/>
            </a:gdLst>
            <a:ahLst/>
            <a:rect l="textAreaLeft" t="textAreaTop" r="textAreaRight" b="textAreaBottom"/>
            <a:pathLst>
              <a:path w="23477" h="21600">
                <a:moveTo>
                  <a:pt x="0" y="0"/>
                </a:moveTo>
                <a:lnTo>
                  <a:pt x="23477" y="0"/>
                </a:lnTo>
                <a:lnTo>
                  <a:pt x="23477" y="21600"/>
                </a:lnTo>
                <a:lnTo>
                  <a:pt x="0" y="21600"/>
                </a:lnTo>
                <a:close/>
              </a:path>
              <a:path fill="lightenLess" w="23477" h="21600">
                <a:moveTo>
                  <a:pt x="0" y="0"/>
                </a:moveTo>
                <a:lnTo>
                  <a:pt x="23477" y="0"/>
                </a:lnTo>
                <a:lnTo>
                  <a:pt x="22127" y="1350"/>
                </a:lnTo>
                <a:lnTo>
                  <a:pt x="1350" y="1350"/>
                </a:lnTo>
                <a:close/>
              </a:path>
              <a:path fill="darken" w="23477" h="21600">
                <a:moveTo>
                  <a:pt x="23477" y="0"/>
                </a:moveTo>
                <a:lnTo>
                  <a:pt x="23477" y="21600"/>
                </a:lnTo>
                <a:lnTo>
                  <a:pt x="22127" y="20250"/>
                </a:lnTo>
                <a:lnTo>
                  <a:pt x="22127" y="1350"/>
                </a:lnTo>
                <a:close/>
              </a:path>
              <a:path fill="darkenLess" w="23477" h="21600">
                <a:moveTo>
                  <a:pt x="2347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127" y="20250"/>
                </a:lnTo>
                <a:close/>
              </a:path>
              <a:path fill="lighten" w="2347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477" h="21600">
                <a:moveTo>
                  <a:pt x="11738" y="3800"/>
                </a:moveTo>
                <a:lnTo>
                  <a:pt x="14328" y="6425"/>
                </a:lnTo>
                <a:lnTo>
                  <a:pt x="14328" y="4675"/>
                </a:lnTo>
                <a:lnTo>
                  <a:pt x="16113" y="4675"/>
                </a:lnTo>
                <a:lnTo>
                  <a:pt x="16113" y="8210"/>
                </a:lnTo>
                <a:lnTo>
                  <a:pt x="18738" y="10800"/>
                </a:lnTo>
                <a:lnTo>
                  <a:pt x="17076" y="10800"/>
                </a:lnTo>
                <a:lnTo>
                  <a:pt x="17076" y="18028"/>
                </a:lnTo>
                <a:lnTo>
                  <a:pt x="6401" y="18028"/>
                </a:lnTo>
                <a:lnTo>
                  <a:pt x="6401" y="10800"/>
                </a:lnTo>
                <a:lnTo>
                  <a:pt x="4738" y="10800"/>
                </a:lnTo>
                <a:close/>
              </a:path>
              <a:path fill="darkenLess" w="23477" h="21600">
                <a:moveTo>
                  <a:pt x="14328" y="6425"/>
                </a:moveTo>
                <a:lnTo>
                  <a:pt x="14328" y="4675"/>
                </a:lnTo>
                <a:lnTo>
                  <a:pt x="16113" y="4675"/>
                </a:lnTo>
                <a:lnTo>
                  <a:pt x="16113" y="8210"/>
                </a:lnTo>
                <a:close/>
              </a:path>
              <a:path fill="darkenLess" w="23477" h="21600">
                <a:moveTo>
                  <a:pt x="10811" y="14318"/>
                </a:moveTo>
                <a:lnTo>
                  <a:pt x="12666" y="14318"/>
                </a:lnTo>
                <a:lnTo>
                  <a:pt x="12666" y="18028"/>
                </a:lnTo>
                <a:lnTo>
                  <a:pt x="17076" y="18028"/>
                </a:lnTo>
                <a:lnTo>
                  <a:pt x="17076" y="10800"/>
                </a:lnTo>
                <a:lnTo>
                  <a:pt x="6401" y="10800"/>
                </a:lnTo>
                <a:lnTo>
                  <a:pt x="6401" y="18028"/>
                </a:lnTo>
                <a:lnTo>
                  <a:pt x="10811" y="180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" y="18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495680" cy="5500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527840" y="-14400"/>
            <a:ext cx="446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从西域传入中原的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------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rcRect l="0" t="0" r="610" b="3504"/>
          <a:stretch/>
        </p:blipFill>
        <p:spPr>
          <a:xfrm>
            <a:off x="4572000" y="1125360"/>
            <a:ext cx="45435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90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0" t="8130" r="1371" b="0"/>
          <a:stretch/>
        </p:blipFill>
        <p:spPr>
          <a:xfrm>
            <a:off x="0" y="990720"/>
            <a:ext cx="4659480" cy="5102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rcRect l="0" t="7675" r="868" b="0"/>
          <a:stretch/>
        </p:blipFill>
        <p:spPr>
          <a:xfrm>
            <a:off x="4743360" y="974880"/>
            <a:ext cx="4362480" cy="51181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077200" y="59500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葡萄美酒夜光杯，欲饮琵琶马上催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890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74" name="" descr="0078.jpg"/>
          <p:cNvPicPr/>
          <p:nvPr/>
        </p:nvPicPr>
        <p:blipFill>
          <a:blip r:embed="rId1"/>
          <a:stretch/>
        </p:blipFill>
        <p:spPr>
          <a:xfrm>
            <a:off x="4495680" y="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0179.jpg"/>
          <p:cNvPicPr/>
          <p:nvPr/>
        </p:nvPicPr>
        <p:blipFill>
          <a:blip r:embed="rId2"/>
          <a:stretch/>
        </p:blipFill>
        <p:spPr>
          <a:xfrm>
            <a:off x="395280" y="28440"/>
            <a:ext cx="3889440" cy="3113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0133.jpg"/>
          <p:cNvPicPr/>
          <p:nvPr/>
        </p:nvPicPr>
        <p:blipFill>
          <a:blip r:embed="rId3"/>
          <a:stretch/>
        </p:blipFill>
        <p:spPr>
          <a:xfrm>
            <a:off x="4427640" y="3141720"/>
            <a:ext cx="4321080" cy="28922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395280" y="3195720"/>
            <a:ext cx="3889440" cy="2755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676520" y="5867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胡蒜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80000" y="587700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胡葱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洋葱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9856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-10008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岁月留痕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282000" cy="4869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5400000">
            <a:off x="-1433520" y="317016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古墓出土的汉代丝绸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6996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5867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胡椒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5181480" cy="5429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08240" y="329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2590920" cy="5715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914400" y="586728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胡琴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143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5877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034680" y="5977080"/>
            <a:ext cx="17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胡瓜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黄瓜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5950080"/>
            <a:ext cx="25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蚕豆胡豆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127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121440" cy="55213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6481800" cy="5819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8224560" y="2060640"/>
            <a:ext cx="54648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核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桃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93080" y="2817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386064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792000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66840" y="1182600"/>
            <a:ext cx="1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936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859280" y="0"/>
            <a:ext cx="4114800" cy="2736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095880" y="2514600"/>
            <a:ext cx="1152720" cy="541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212"/>
                </a:solidFill>
                <a:latin typeface="黑体"/>
                <a:ea typeface="黑体"/>
              </a:rPr>
              <a:t>苜蓿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191120" y="3581280"/>
            <a:ext cx="3809880" cy="16765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943600" y="5410080"/>
            <a:ext cx="158436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212"/>
                </a:solidFill>
                <a:latin typeface="黑体"/>
                <a:ea typeface="黑体"/>
              </a:rPr>
              <a:t>良种马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4320" y="-391320"/>
            <a:ext cx="1185840" cy="73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 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不是张骞通西域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6480" y="-72720"/>
            <a:ext cx="282060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安有佳种自西来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606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371600" y="6094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736640" y="413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43828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钱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1332000" y="3141720"/>
            <a:ext cx="3504960" cy="2816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51600" y="4581360"/>
            <a:ext cx="6678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芝麻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93640" y="131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8077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从中原传入西域的</a:t>
            </a:r>
            <a:r>
              <a:rPr b="1" lang="en-US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------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42920" y="3860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丝绸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886200" y="1371600"/>
            <a:ext cx="1657440" cy="3041640"/>
            <a:chOff x="3886200" y="1371600"/>
            <a:chExt cx="1657440" cy="3041640"/>
          </a:xfrm>
        </p:grpSpPr>
        <p:sp>
          <p:nvSpPr>
            <p:cNvPr id="318" name=""/>
            <p:cNvSpPr/>
            <p:nvPr/>
          </p:nvSpPr>
          <p:spPr>
            <a:xfrm>
              <a:off x="3887640" y="1371600"/>
              <a:ext cx="16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铸铁技术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7640" y="1947960"/>
              <a:ext cx="16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开渠技术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259560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凿井技术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86200" y="329076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漆器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6200" y="389268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金属工具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32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5638680" y="11430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400800" y="2666880"/>
            <a:ext cx="16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铁器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24480" y="335268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陶器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4005360"/>
            <a:ext cx="22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蚕桑技术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4653000"/>
            <a:ext cx="21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四大发明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996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12720" y="4630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27c4"/>
                </a:solidFill>
                <a:latin typeface="Times New Roman"/>
                <a:ea typeface="黑体"/>
              </a:rPr>
              <a:t>茶叶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84360" y="1479600"/>
            <a:ext cx="23032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04920" y="1268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3120" y="47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99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475920" y="1844640"/>
            <a:ext cx="16426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西   方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26680" y="1828800"/>
            <a:ext cx="164268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东   方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58920" y="2133720"/>
            <a:ext cx="6172200" cy="0"/>
          </a:xfrm>
          <a:prstGeom prst="line">
            <a:avLst/>
          </a:prstGeom>
          <a:ln w="76320">
            <a:solidFill>
              <a:srgbClr val="f9a8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16000" y="1204920"/>
            <a:ext cx="60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毛皮、香料、药材、珠宝、蔬菜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瓜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258560" y="3645000"/>
            <a:ext cx="6172200" cy="0"/>
          </a:xfrm>
          <a:prstGeom prst="line">
            <a:avLst/>
          </a:prstGeom>
          <a:ln w="76320">
            <a:solidFill>
              <a:srgbClr val="f9a8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4800" y="3716280"/>
            <a:ext cx="51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丝绸、陶瓷、铁器、漆器、茶叶…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770200" y="2278080"/>
            <a:ext cx="30481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楷体_GB2312"/>
              </a:rPr>
              <a:t>丝绸之路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  <p:sp>
        <p:nvSpPr>
          <p:cNvPr id="341" name=""/>
          <p:cNvSpPr/>
          <p:nvPr/>
        </p:nvSpPr>
        <p:spPr>
          <a:xfrm>
            <a:off x="4211640" y="4581360"/>
            <a:ext cx="485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c7c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东西方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贸易往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重要通道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28195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19280" y="2708280"/>
            <a:ext cx="5759280" cy="720720"/>
          </a:xfrm>
          <a:custGeom>
            <a:avLst/>
            <a:gdLst>
              <a:gd name="textAreaLeft" fmla="*/ 1053720 w 5759280"/>
              <a:gd name="textAreaRight" fmla="*/ 4705560 w 5759280"/>
              <a:gd name="textAreaTop" fmla="*/ 22320 h 720720"/>
              <a:gd name="textAreaBottom" fmla="*/ 712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0925"/>
                </a:moveTo>
                <a:arcTo wR="21600" hR="5038" stAng="9480057" swAng="-774702"/>
                <a:lnTo>
                  <a:pt x="3953" y="21340"/>
                </a:lnTo>
                <a:arcTo wR="21600" hR="5038" stAng="8705355" swAng="-6610709"/>
                <a:lnTo>
                  <a:pt x="17647" y="21340"/>
                </a:lnTo>
                <a:arcTo wR="21600" hR="5038" stAng="2094645" swAng="-774702"/>
                <a:lnTo>
                  <a:pt x="18900" y="10770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680860"/>
                <a:lnTo>
                  <a:pt x="14947" y="581"/>
                </a:lnTo>
                <a:arcTo wR="21600" hR="5038" stAng="3000803" swAng="4798394"/>
                <a:lnTo>
                  <a:pt x="6653" y="581"/>
                </a:lnTo>
                <a:arcTo wR="21600" hR="5038" stAng="7799197" swAng="1680860"/>
                <a:lnTo>
                  <a:pt x="2700" y="10770"/>
                </a:lnTo>
                <a:close/>
              </a:path>
              <a:path fill="none" w="21600" h="21600">
                <a:moveTo>
                  <a:pt x="6653" y="581"/>
                </a:moveTo>
                <a:arcTo wR="21600" hR="5038" stAng="7799197" swAng="906158"/>
                <a:lnTo>
                  <a:pt x="6653" y="581"/>
                </a:lnTo>
              </a:path>
              <a:path fill="none" w="21600" h="21600">
                <a:moveTo>
                  <a:pt x="14947" y="581"/>
                </a:moveTo>
                <a:arcTo wR="21600" hR="5038" stAng="3000803" swAng="-906158"/>
                <a:lnTo>
                  <a:pt x="14947" y="581"/>
                </a:lnTo>
              </a:path>
              <a:path fill="none" w="21600" h="21600">
                <a:moveTo>
                  <a:pt x="3953" y="21340"/>
                </a:moveTo>
                <a:lnTo>
                  <a:pt x="3953" y="415"/>
                </a:lnTo>
              </a:path>
              <a:path fill="none" w="21600" h="21600">
                <a:moveTo>
                  <a:pt x="17647" y="21340"/>
                </a:moveTo>
                <a:lnTo>
                  <a:pt x="17647" y="415"/>
                </a:lnTo>
              </a:path>
            </a:pathLst>
          </a:custGeom>
          <a:solidFill>
            <a:srgbClr val="c7c7df"/>
          </a:solidFill>
          <a:ln w="9360">
            <a:solidFill>
              <a:srgbClr val="c7c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93880" y="26668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友谊 之 纽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81600" y="53737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东西方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文化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桥梁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167652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玻璃器皿、魔术、音乐、舞蹈、宗教…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13120" y="41911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冶铁技术、蚕桑技术、四大发明…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64000" y="0"/>
            <a:ext cx="5790960" cy="1477080"/>
          </a:xfrm>
          <a:prstGeom prst="rect">
            <a:avLst/>
          </a:prstGeom>
          <a:solidFill>
            <a:srgbClr val="ffffcc">
              <a:alpha val="39000"/>
            </a:srgbClr>
          </a:solidFill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沟通亚欧两大洲，促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东西方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经济文化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交流</a:t>
            </a: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23840" y="609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40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丝路作用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12000" y="5815080"/>
            <a:ext cx="720720" cy="493560"/>
          </a:xfrm>
          <a:custGeom>
            <a:avLst/>
            <a:gdLst>
              <a:gd name="textAreaLeft" fmla="*/ 30600 w 720720"/>
              <a:gd name="textAreaRight" fmla="*/ 690120 w 720720"/>
              <a:gd name="textAreaTop" fmla="*/ 30600 h 493560"/>
              <a:gd name="textAreaBottom" fmla="*/ 462960 h 493560"/>
            </a:gdLst>
            <a:ahLst/>
            <a:rect l="textAreaLeft" t="textAreaTop" r="textAreaRight" b="textAreaBottom"/>
            <a:pathLst>
              <a:path w="31534" h="21600">
                <a:moveTo>
                  <a:pt x="0" y="0"/>
                </a:moveTo>
                <a:lnTo>
                  <a:pt x="31534" y="0"/>
                </a:lnTo>
                <a:lnTo>
                  <a:pt x="31534" y="21600"/>
                </a:lnTo>
                <a:lnTo>
                  <a:pt x="0" y="21600"/>
                </a:lnTo>
                <a:close/>
              </a:path>
              <a:path fill="lightenLess" w="31534" h="21600">
                <a:moveTo>
                  <a:pt x="0" y="0"/>
                </a:moveTo>
                <a:lnTo>
                  <a:pt x="31534" y="0"/>
                </a:lnTo>
                <a:lnTo>
                  <a:pt x="30184" y="1350"/>
                </a:lnTo>
                <a:lnTo>
                  <a:pt x="1350" y="1350"/>
                </a:lnTo>
                <a:close/>
              </a:path>
              <a:path fill="darken" w="31534" h="21600">
                <a:moveTo>
                  <a:pt x="31534" y="0"/>
                </a:moveTo>
                <a:lnTo>
                  <a:pt x="31534" y="21600"/>
                </a:lnTo>
                <a:lnTo>
                  <a:pt x="30184" y="20250"/>
                </a:lnTo>
                <a:lnTo>
                  <a:pt x="30184" y="1350"/>
                </a:lnTo>
                <a:close/>
              </a:path>
              <a:path fill="darkenLess" w="31534" h="21600">
                <a:moveTo>
                  <a:pt x="31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184" y="20250"/>
                </a:lnTo>
                <a:close/>
              </a:path>
              <a:path fill="lighten" w="31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534" h="21600">
                <a:moveTo>
                  <a:pt x="15767" y="3800"/>
                </a:moveTo>
                <a:lnTo>
                  <a:pt x="18357" y="6425"/>
                </a:lnTo>
                <a:lnTo>
                  <a:pt x="18357" y="4675"/>
                </a:lnTo>
                <a:lnTo>
                  <a:pt x="20142" y="4675"/>
                </a:lnTo>
                <a:lnTo>
                  <a:pt x="20142" y="8210"/>
                </a:lnTo>
                <a:lnTo>
                  <a:pt x="22767" y="10800"/>
                </a:lnTo>
                <a:lnTo>
                  <a:pt x="21105" y="10800"/>
                </a:lnTo>
                <a:lnTo>
                  <a:pt x="21105" y="18028"/>
                </a:lnTo>
                <a:lnTo>
                  <a:pt x="10430" y="18028"/>
                </a:lnTo>
                <a:lnTo>
                  <a:pt x="10430" y="10800"/>
                </a:lnTo>
                <a:lnTo>
                  <a:pt x="8767" y="10800"/>
                </a:lnTo>
                <a:close/>
              </a:path>
              <a:path fill="darkenLess" w="31534" h="21600">
                <a:moveTo>
                  <a:pt x="18357" y="6425"/>
                </a:moveTo>
                <a:lnTo>
                  <a:pt x="18357" y="4675"/>
                </a:lnTo>
                <a:lnTo>
                  <a:pt x="20142" y="4675"/>
                </a:lnTo>
                <a:lnTo>
                  <a:pt x="20142" y="8210"/>
                </a:lnTo>
                <a:close/>
              </a:path>
              <a:path fill="darkenLess" w="31534" h="21600">
                <a:moveTo>
                  <a:pt x="14840" y="14318"/>
                </a:moveTo>
                <a:lnTo>
                  <a:pt x="16695" y="14318"/>
                </a:lnTo>
                <a:lnTo>
                  <a:pt x="16695" y="18028"/>
                </a:lnTo>
                <a:lnTo>
                  <a:pt x="21105" y="18028"/>
                </a:lnTo>
                <a:lnTo>
                  <a:pt x="21105" y="10800"/>
                </a:lnTo>
                <a:lnTo>
                  <a:pt x="10430" y="10800"/>
                </a:lnTo>
                <a:lnTo>
                  <a:pt x="10430" y="18028"/>
                </a:lnTo>
                <a:lnTo>
                  <a:pt x="14840" y="18028"/>
                </a:lnTo>
                <a:close/>
              </a:path>
            </a:pathLst>
          </a:custGeom>
          <a:solidFill>
            <a:srgbClr val="f9a8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6996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475920" y="1844640"/>
            <a:ext cx="16426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西   方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26680" y="1828800"/>
            <a:ext cx="164268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东   方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2133720"/>
            <a:ext cx="6172200" cy="0"/>
          </a:xfrm>
          <a:prstGeom prst="line">
            <a:avLst/>
          </a:prstGeom>
          <a:ln w="76320">
            <a:solidFill>
              <a:srgbClr val="f9a8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16000" y="1204920"/>
            <a:ext cx="60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毛皮、香料、药材、珠宝、蔬菜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瓜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258560" y="3645000"/>
            <a:ext cx="6172200" cy="0"/>
          </a:xfrm>
          <a:prstGeom prst="line">
            <a:avLst/>
          </a:prstGeom>
          <a:ln w="76320">
            <a:solidFill>
              <a:srgbClr val="f9a8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4800" y="3716280"/>
            <a:ext cx="51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丝绸、陶瓷、铁器、漆器、…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770200" y="2278080"/>
            <a:ext cx="30481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楷体_GB2312"/>
              </a:rPr>
              <a:t>丝绸之路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楷体_GB2312"/>
              <a:ea typeface="楷体_GB2312"/>
            </a:endParaRPr>
          </a:p>
        </p:txBody>
      </p:sp>
      <p:sp>
        <p:nvSpPr>
          <p:cNvPr id="361" name=""/>
          <p:cNvSpPr/>
          <p:nvPr/>
        </p:nvSpPr>
        <p:spPr>
          <a:xfrm>
            <a:off x="4211640" y="4581360"/>
            <a:ext cx="4856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c7c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东西方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贸易往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重要通道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0" y="28195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19280" y="2708280"/>
            <a:ext cx="5759280" cy="720720"/>
          </a:xfrm>
          <a:custGeom>
            <a:avLst/>
            <a:gdLst>
              <a:gd name="textAreaLeft" fmla="*/ 1053720 w 5759280"/>
              <a:gd name="textAreaRight" fmla="*/ 4705560 w 5759280"/>
              <a:gd name="textAreaTop" fmla="*/ 22320 h 720720"/>
              <a:gd name="textAreaBottom" fmla="*/ 712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0925"/>
                </a:moveTo>
                <a:arcTo wR="21600" hR="5038" stAng="9480057" swAng="-774702"/>
                <a:lnTo>
                  <a:pt x="3953" y="21340"/>
                </a:lnTo>
                <a:arcTo wR="21600" hR="5038" stAng="8705355" swAng="-6610709"/>
                <a:lnTo>
                  <a:pt x="17647" y="21340"/>
                </a:lnTo>
                <a:arcTo wR="21600" hR="5038" stAng="2094645" swAng="-774702"/>
                <a:lnTo>
                  <a:pt x="18900" y="10770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680860"/>
                <a:lnTo>
                  <a:pt x="14947" y="581"/>
                </a:lnTo>
                <a:arcTo wR="21600" hR="5038" stAng="3000803" swAng="4798394"/>
                <a:lnTo>
                  <a:pt x="6653" y="581"/>
                </a:lnTo>
                <a:arcTo wR="21600" hR="5038" stAng="7799197" swAng="1680860"/>
                <a:lnTo>
                  <a:pt x="2700" y="10770"/>
                </a:lnTo>
                <a:close/>
              </a:path>
              <a:path fill="none" w="21600" h="21600">
                <a:moveTo>
                  <a:pt x="6653" y="581"/>
                </a:moveTo>
                <a:arcTo wR="21600" hR="5038" stAng="7799197" swAng="906158"/>
                <a:lnTo>
                  <a:pt x="6653" y="581"/>
                </a:lnTo>
              </a:path>
              <a:path fill="none" w="21600" h="21600">
                <a:moveTo>
                  <a:pt x="14947" y="581"/>
                </a:moveTo>
                <a:arcTo wR="21600" hR="5038" stAng="3000803" swAng="-906158"/>
                <a:lnTo>
                  <a:pt x="14947" y="581"/>
                </a:lnTo>
              </a:path>
              <a:path fill="none" w="21600" h="21600">
                <a:moveTo>
                  <a:pt x="3953" y="21340"/>
                </a:moveTo>
                <a:lnTo>
                  <a:pt x="3953" y="415"/>
                </a:lnTo>
              </a:path>
              <a:path fill="none" w="21600" h="21600">
                <a:moveTo>
                  <a:pt x="17647" y="21340"/>
                </a:moveTo>
                <a:lnTo>
                  <a:pt x="17647" y="415"/>
                </a:lnTo>
              </a:path>
            </a:pathLst>
          </a:custGeom>
          <a:solidFill>
            <a:srgbClr val="c7c7df"/>
          </a:solidFill>
          <a:ln w="9360">
            <a:solidFill>
              <a:srgbClr val="c7c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93880" y="26668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友谊 之 纽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81600" y="53737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东西方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文化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桥梁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81080" y="1676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魔术、音乐、舞蹈、宗教…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13120" y="41911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冶铁技术、蚕桑技术、四大发明…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64000" y="0"/>
            <a:ext cx="5790960" cy="1477080"/>
          </a:xfrm>
          <a:prstGeom prst="rect">
            <a:avLst/>
          </a:prstGeom>
          <a:solidFill>
            <a:srgbClr val="ffffcc">
              <a:alpha val="39000"/>
            </a:srgbClr>
          </a:solidFill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沟通亚欧两大洲，促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东西方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经济文化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交流</a:t>
            </a:r>
            <a:r>
              <a:rPr b="1" lang="en-US" sz="36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23840" y="609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40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丝路作用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67640" y="6165720"/>
            <a:ext cx="636480" cy="517680"/>
          </a:xfrm>
          <a:custGeom>
            <a:avLst/>
            <a:gdLst>
              <a:gd name="textAreaLeft" fmla="*/ 32040 w 636480"/>
              <a:gd name="textAreaRight" fmla="*/ 604440 w 636480"/>
              <a:gd name="textAreaTop" fmla="*/ 32040 h 517680"/>
              <a:gd name="textAreaBottom" fmla="*/ 485640 h 517680"/>
            </a:gdLst>
            <a:ahLst/>
            <a:rect l="textAreaLeft" t="textAreaTop" r="textAreaRight" b="textAreaBottom"/>
            <a:pathLst>
              <a:path w="26553" h="21600">
                <a:moveTo>
                  <a:pt x="0" y="0"/>
                </a:moveTo>
                <a:lnTo>
                  <a:pt x="26553" y="0"/>
                </a:lnTo>
                <a:lnTo>
                  <a:pt x="26553" y="21600"/>
                </a:lnTo>
                <a:lnTo>
                  <a:pt x="0" y="21600"/>
                </a:lnTo>
                <a:close/>
              </a:path>
              <a:path fill="lightenLess" w="26553" h="21600">
                <a:moveTo>
                  <a:pt x="0" y="0"/>
                </a:moveTo>
                <a:lnTo>
                  <a:pt x="26553" y="0"/>
                </a:lnTo>
                <a:lnTo>
                  <a:pt x="25203" y="1350"/>
                </a:lnTo>
                <a:lnTo>
                  <a:pt x="1350" y="1350"/>
                </a:lnTo>
                <a:close/>
              </a:path>
              <a:path fill="darken" w="26553" h="21600">
                <a:moveTo>
                  <a:pt x="26553" y="0"/>
                </a:moveTo>
                <a:lnTo>
                  <a:pt x="26553" y="21600"/>
                </a:lnTo>
                <a:lnTo>
                  <a:pt x="25203" y="20250"/>
                </a:lnTo>
                <a:lnTo>
                  <a:pt x="25203" y="1350"/>
                </a:lnTo>
                <a:close/>
              </a:path>
              <a:path fill="darkenLess" w="26553" h="21600">
                <a:moveTo>
                  <a:pt x="2655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203" y="20250"/>
                </a:lnTo>
                <a:close/>
              </a:path>
              <a:path fill="lighten" w="2655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553" h="21600">
                <a:moveTo>
                  <a:pt x="13277" y="3800"/>
                </a:moveTo>
                <a:lnTo>
                  <a:pt x="15867" y="6425"/>
                </a:lnTo>
                <a:lnTo>
                  <a:pt x="15867" y="4675"/>
                </a:lnTo>
                <a:lnTo>
                  <a:pt x="17652" y="4675"/>
                </a:lnTo>
                <a:lnTo>
                  <a:pt x="17652" y="8210"/>
                </a:lnTo>
                <a:lnTo>
                  <a:pt x="20277" y="10800"/>
                </a:lnTo>
                <a:lnTo>
                  <a:pt x="18614" y="10800"/>
                </a:lnTo>
                <a:lnTo>
                  <a:pt x="18614" y="18028"/>
                </a:lnTo>
                <a:lnTo>
                  <a:pt x="7939" y="18028"/>
                </a:lnTo>
                <a:lnTo>
                  <a:pt x="7939" y="10800"/>
                </a:lnTo>
                <a:lnTo>
                  <a:pt x="6277" y="10800"/>
                </a:lnTo>
                <a:close/>
              </a:path>
              <a:path fill="darkenLess" w="26553" h="21600">
                <a:moveTo>
                  <a:pt x="15867" y="6425"/>
                </a:moveTo>
                <a:lnTo>
                  <a:pt x="15867" y="4675"/>
                </a:lnTo>
                <a:lnTo>
                  <a:pt x="17652" y="4675"/>
                </a:lnTo>
                <a:lnTo>
                  <a:pt x="17652" y="8210"/>
                </a:lnTo>
                <a:close/>
              </a:path>
              <a:path fill="darkenLess" w="26553" h="21600">
                <a:moveTo>
                  <a:pt x="12349" y="14318"/>
                </a:moveTo>
                <a:lnTo>
                  <a:pt x="14204" y="14318"/>
                </a:lnTo>
                <a:lnTo>
                  <a:pt x="14204" y="18028"/>
                </a:lnTo>
                <a:lnTo>
                  <a:pt x="18614" y="18028"/>
                </a:lnTo>
                <a:lnTo>
                  <a:pt x="18614" y="10800"/>
                </a:lnTo>
                <a:lnTo>
                  <a:pt x="7939" y="10800"/>
                </a:lnTo>
                <a:lnTo>
                  <a:pt x="7939" y="18028"/>
                </a:lnTo>
                <a:lnTo>
                  <a:pt x="12349" y="18028"/>
                </a:lnTo>
                <a:close/>
              </a:path>
            </a:pathLst>
          </a:custGeom>
          <a:solidFill>
            <a:srgbClr val="f9a815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6165720"/>
            <a:ext cx="617400" cy="569880"/>
          </a:xfrm>
          <a:custGeom>
            <a:avLst/>
            <a:gdLst>
              <a:gd name="textAreaLeft" fmla="*/ 35640 w 617400"/>
              <a:gd name="textAreaRight" fmla="*/ 582120 w 617400"/>
              <a:gd name="textAreaTop" fmla="*/ 35640 h 569880"/>
              <a:gd name="textAreaBottom" fmla="*/ 534600 h 569880"/>
            </a:gdLst>
            <a:ahLst/>
            <a:rect l="textAreaLeft" t="textAreaTop" r="textAreaRight" b="textAreaBottom"/>
            <a:pathLst>
              <a:path w="23400" h="21600">
                <a:moveTo>
                  <a:pt x="0" y="0"/>
                </a:moveTo>
                <a:lnTo>
                  <a:pt x="23400" y="0"/>
                </a:lnTo>
                <a:lnTo>
                  <a:pt x="23400" y="21600"/>
                </a:lnTo>
                <a:lnTo>
                  <a:pt x="0" y="21600"/>
                </a:lnTo>
                <a:close/>
              </a:path>
              <a:path fill="lightenLess" w="23400" h="21600">
                <a:moveTo>
                  <a:pt x="0" y="0"/>
                </a:moveTo>
                <a:lnTo>
                  <a:pt x="23400" y="0"/>
                </a:lnTo>
                <a:lnTo>
                  <a:pt x="22050" y="1350"/>
                </a:lnTo>
                <a:lnTo>
                  <a:pt x="1350" y="1350"/>
                </a:lnTo>
                <a:close/>
              </a:path>
              <a:path fill="darken" w="23400" h="21600">
                <a:moveTo>
                  <a:pt x="23400" y="0"/>
                </a:moveTo>
                <a:lnTo>
                  <a:pt x="23400" y="21600"/>
                </a:lnTo>
                <a:lnTo>
                  <a:pt x="22050" y="20250"/>
                </a:lnTo>
                <a:lnTo>
                  <a:pt x="22050" y="1350"/>
                </a:lnTo>
                <a:close/>
              </a:path>
              <a:path fill="darkenLess" w="23400" h="21600">
                <a:moveTo>
                  <a:pt x="23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050" y="20250"/>
                </a:lnTo>
                <a:close/>
              </a:path>
              <a:path fill="lighten" w="23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400" h="21600">
                <a:moveTo>
                  <a:pt x="11700" y="3800"/>
                </a:moveTo>
                <a:lnTo>
                  <a:pt x="14290" y="6425"/>
                </a:lnTo>
                <a:lnTo>
                  <a:pt x="14290" y="4675"/>
                </a:lnTo>
                <a:lnTo>
                  <a:pt x="16075" y="4675"/>
                </a:lnTo>
                <a:lnTo>
                  <a:pt x="16075" y="8210"/>
                </a:lnTo>
                <a:lnTo>
                  <a:pt x="18700" y="10800"/>
                </a:lnTo>
                <a:lnTo>
                  <a:pt x="17038" y="10800"/>
                </a:lnTo>
                <a:lnTo>
                  <a:pt x="17038" y="18028"/>
                </a:lnTo>
                <a:lnTo>
                  <a:pt x="6363" y="18028"/>
                </a:lnTo>
                <a:lnTo>
                  <a:pt x="6363" y="10800"/>
                </a:lnTo>
                <a:lnTo>
                  <a:pt x="4700" y="10800"/>
                </a:lnTo>
                <a:close/>
              </a:path>
              <a:path fill="darkenLess" w="23400" h="21600">
                <a:moveTo>
                  <a:pt x="14290" y="6425"/>
                </a:moveTo>
                <a:lnTo>
                  <a:pt x="14290" y="4675"/>
                </a:lnTo>
                <a:lnTo>
                  <a:pt x="16075" y="4675"/>
                </a:lnTo>
                <a:lnTo>
                  <a:pt x="16075" y="8210"/>
                </a:lnTo>
                <a:close/>
              </a:path>
              <a:path fill="darkenLess" w="23400" h="21600">
                <a:moveTo>
                  <a:pt x="10773" y="14318"/>
                </a:moveTo>
                <a:lnTo>
                  <a:pt x="12628" y="14318"/>
                </a:lnTo>
                <a:lnTo>
                  <a:pt x="12628" y="18028"/>
                </a:lnTo>
                <a:lnTo>
                  <a:pt x="17038" y="18028"/>
                </a:lnTo>
                <a:lnTo>
                  <a:pt x="17038" y="10800"/>
                </a:lnTo>
                <a:lnTo>
                  <a:pt x="6363" y="10800"/>
                </a:lnTo>
                <a:lnTo>
                  <a:pt x="6363" y="18028"/>
                </a:lnTo>
                <a:lnTo>
                  <a:pt x="10773" y="18028"/>
                </a:lnTo>
                <a:close/>
              </a:path>
            </a:pathLst>
          </a:custGeom>
          <a:solidFill>
            <a:srgbClr val="f9a815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650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98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在东西方的经济文化交流中，哪方受到的影响大？从中带给我们什么启示呢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24624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Arial"/>
                <a:ea typeface="楷体_GB2312"/>
              </a:rPr>
              <a:t>与历史对话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5936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0591920" cy="6553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68360" y="-17136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楷体_GB2312"/>
              </a:rPr>
              <a:t>谈古论今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05920" y="43434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黑体"/>
              </a:rPr>
              <a:t>○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67480" y="4648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○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0666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○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781600"/>
            <a:ext cx="10210680" cy="1068840"/>
          </a:xfrm>
          <a:prstGeom prst="rect">
            <a:avLst/>
          </a:prstGeom>
          <a:solidFill>
            <a:srgbClr val="f9a815"/>
          </a:solidFill>
          <a:ln w="9360">
            <a:solidFill>
              <a:srgbClr val="f9a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与昔日的丝绸之路相比，亚欧大陆桥有什么优势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29200" y="2819520"/>
            <a:ext cx="21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新亚欧大陆桥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3200400"/>
            <a:ext cx="533520" cy="838080"/>
          </a:xfrm>
          <a:prstGeom prst="downArrow">
            <a:avLst>
              <a:gd name="adj1" fmla="val 50000"/>
              <a:gd name="adj2" fmla="val 39271"/>
            </a:avLst>
          </a:prstGeom>
          <a:solidFill>
            <a:srgbClr val="ff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457200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古代丝绸之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3920" y="457200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93080" y="4797360"/>
            <a:ext cx="215640" cy="287280"/>
          </a:xfrm>
          <a:prstGeom prst="ellipse">
            <a:avLst/>
          </a:prstGeom>
          <a:solidFill>
            <a:srgbClr val="0000ff">
              <a:alpha val="76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4116240"/>
            <a:ext cx="14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酒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5805360"/>
            <a:ext cx="8137440" cy="581400"/>
          </a:xfrm>
          <a:prstGeom prst="rect">
            <a:avLst/>
          </a:prstGeom>
          <a:solidFill>
            <a:srgbClr val="ff9900">
              <a:alpha val="90000"/>
            </a:srgbClr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丝绸之路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亚欧大陆桥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→神州七号载人飞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4400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f9a8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971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89720"/>
            <a:ext cx="950580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45472"/>
                </a:solidFill>
                <a:latin typeface="Times New Roman"/>
                <a:ea typeface="黑体"/>
              </a:rPr>
              <a:t> 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532720" cy="5214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985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95720" y="620640"/>
            <a:ext cx="3472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发现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罗马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废墟中的汉代绢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304160" y="24210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谢谢！</a:t>
            </a:r>
            <a:endParaRPr b="0" lang="en-US" sz="9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52880" y="765000"/>
            <a:ext cx="484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公元前一世纪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罗马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的皇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凯撒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在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次观看戏剧时身穿一件紫色的丝袍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全场的观众为之倾倒，中国丝绸深深地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吸引了欧洲人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丝绸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在欧洲是供不应求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价值与黄金等价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。当时许多商人来回奔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波在东西方之间，他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运送的商品主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就是丝绸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。于是，连通东西方的这条道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路就被称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丝绸之路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867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699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48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4356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 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丝路探秘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68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88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" y="413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0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095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2760" y="413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856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606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丝绸之路是在什么时候由谁开辟的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74320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丝绸之路起点在哪里？最远在哪里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在中国境内通过哪些地形区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经过哪些地方？现在属于哪个国家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在我国境内经过哪些城市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44000" y="3573360"/>
            <a:ext cx="387360" cy="360360"/>
          </a:xfrm>
          <a:custGeom>
            <a:avLst/>
            <a:gdLst>
              <a:gd name="textAreaLeft" fmla="*/ 22320 w 387360"/>
              <a:gd name="textAreaRight" fmla="*/ 365040 w 387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3217" h="21600">
                <a:moveTo>
                  <a:pt x="0" y="0"/>
                </a:moveTo>
                <a:lnTo>
                  <a:pt x="23217" y="0"/>
                </a:lnTo>
                <a:lnTo>
                  <a:pt x="23217" y="21600"/>
                </a:lnTo>
                <a:lnTo>
                  <a:pt x="0" y="21600"/>
                </a:lnTo>
                <a:close/>
              </a:path>
              <a:path fill="lightenLess" w="23217" h="21600">
                <a:moveTo>
                  <a:pt x="0" y="0"/>
                </a:moveTo>
                <a:lnTo>
                  <a:pt x="23217" y="0"/>
                </a:lnTo>
                <a:lnTo>
                  <a:pt x="21867" y="1350"/>
                </a:lnTo>
                <a:lnTo>
                  <a:pt x="1350" y="1350"/>
                </a:lnTo>
                <a:close/>
              </a:path>
              <a:path fill="darken" w="23217" h="21600">
                <a:moveTo>
                  <a:pt x="23217" y="0"/>
                </a:moveTo>
                <a:lnTo>
                  <a:pt x="23217" y="21600"/>
                </a:lnTo>
                <a:lnTo>
                  <a:pt x="21867" y="20250"/>
                </a:lnTo>
                <a:lnTo>
                  <a:pt x="21867" y="1350"/>
                </a:lnTo>
                <a:close/>
              </a:path>
              <a:path fill="darkenLess" w="23217" h="21600">
                <a:moveTo>
                  <a:pt x="2321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867" y="20250"/>
                </a:lnTo>
                <a:close/>
              </a:path>
              <a:path fill="lighten" w="2321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217" h="21600">
                <a:moveTo>
                  <a:pt x="11608" y="3800"/>
                </a:moveTo>
                <a:lnTo>
                  <a:pt x="14198" y="6425"/>
                </a:lnTo>
                <a:lnTo>
                  <a:pt x="14198" y="4675"/>
                </a:lnTo>
                <a:lnTo>
                  <a:pt x="15983" y="4675"/>
                </a:lnTo>
                <a:lnTo>
                  <a:pt x="15983" y="8210"/>
                </a:lnTo>
                <a:lnTo>
                  <a:pt x="18608" y="10800"/>
                </a:lnTo>
                <a:lnTo>
                  <a:pt x="16946" y="10800"/>
                </a:lnTo>
                <a:lnTo>
                  <a:pt x="16946" y="18028"/>
                </a:lnTo>
                <a:lnTo>
                  <a:pt x="6271" y="18028"/>
                </a:lnTo>
                <a:lnTo>
                  <a:pt x="6271" y="10800"/>
                </a:lnTo>
                <a:lnTo>
                  <a:pt x="4608" y="10800"/>
                </a:lnTo>
                <a:close/>
              </a:path>
              <a:path fill="darkenLess" w="23217" h="21600">
                <a:moveTo>
                  <a:pt x="14198" y="6425"/>
                </a:moveTo>
                <a:lnTo>
                  <a:pt x="14198" y="4675"/>
                </a:lnTo>
                <a:lnTo>
                  <a:pt x="15983" y="4675"/>
                </a:lnTo>
                <a:lnTo>
                  <a:pt x="15983" y="8210"/>
                </a:lnTo>
                <a:close/>
              </a:path>
              <a:path fill="darkenLess" w="23217" h="21600">
                <a:moveTo>
                  <a:pt x="10681" y="14318"/>
                </a:moveTo>
                <a:lnTo>
                  <a:pt x="12536" y="14318"/>
                </a:lnTo>
                <a:lnTo>
                  <a:pt x="12536" y="18028"/>
                </a:lnTo>
                <a:lnTo>
                  <a:pt x="16946" y="18028"/>
                </a:lnTo>
                <a:lnTo>
                  <a:pt x="16946" y="10800"/>
                </a:lnTo>
                <a:lnTo>
                  <a:pt x="6271" y="10800"/>
                </a:lnTo>
                <a:lnTo>
                  <a:pt x="6271" y="18028"/>
                </a:lnTo>
                <a:lnTo>
                  <a:pt x="10681" y="18028"/>
                </a:lnTo>
                <a:close/>
              </a:path>
            </a:pathLst>
          </a:custGeom>
          <a:solidFill>
            <a:srgbClr val="f9a815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7200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3640" y="1106640"/>
            <a:ext cx="43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学提纲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2276640"/>
            <a:ext cx="432000" cy="431640"/>
          </a:xfrm>
          <a:custGeom>
            <a:avLst/>
            <a:gdLst>
              <a:gd name="textAreaLeft" fmla="*/ 27000 w 432000"/>
              <a:gd name="textAreaRight" fmla="*/ 405000 w 43200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68" y="1350"/>
                </a:lnTo>
                <a:lnTo>
                  <a:pt x="1350" y="135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68" y="20250"/>
                </a:lnTo>
                <a:lnTo>
                  <a:pt x="20268" y="135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68" y="2025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18" h="21600">
                <a:moveTo>
                  <a:pt x="10809" y="3800"/>
                </a:moveTo>
                <a:lnTo>
                  <a:pt x="13399" y="6425"/>
                </a:lnTo>
                <a:lnTo>
                  <a:pt x="13399" y="4675"/>
                </a:lnTo>
                <a:lnTo>
                  <a:pt x="15184" y="4675"/>
                </a:lnTo>
                <a:lnTo>
                  <a:pt x="15184" y="8210"/>
                </a:lnTo>
                <a:lnTo>
                  <a:pt x="17809" y="10800"/>
                </a:lnTo>
                <a:lnTo>
                  <a:pt x="16146" y="10800"/>
                </a:lnTo>
                <a:lnTo>
                  <a:pt x="16146" y="18028"/>
                </a:lnTo>
                <a:lnTo>
                  <a:pt x="5471" y="18028"/>
                </a:lnTo>
                <a:lnTo>
                  <a:pt x="5471" y="10800"/>
                </a:lnTo>
                <a:lnTo>
                  <a:pt x="3809" y="10800"/>
                </a:lnTo>
                <a:close/>
              </a:path>
              <a:path fill="darkenLess" w="21618" h="21600">
                <a:moveTo>
                  <a:pt x="13399" y="6425"/>
                </a:moveTo>
                <a:lnTo>
                  <a:pt x="13399" y="4675"/>
                </a:lnTo>
                <a:lnTo>
                  <a:pt x="15184" y="4675"/>
                </a:lnTo>
                <a:lnTo>
                  <a:pt x="15184" y="8210"/>
                </a:lnTo>
                <a:close/>
              </a:path>
              <a:path fill="darkenLess" w="21618" h="21600">
                <a:moveTo>
                  <a:pt x="9881" y="14318"/>
                </a:moveTo>
                <a:lnTo>
                  <a:pt x="11736" y="14318"/>
                </a:lnTo>
                <a:lnTo>
                  <a:pt x="11736" y="18028"/>
                </a:lnTo>
                <a:lnTo>
                  <a:pt x="16146" y="18028"/>
                </a:lnTo>
                <a:lnTo>
                  <a:pt x="16146" y="10800"/>
                </a:lnTo>
                <a:lnTo>
                  <a:pt x="5471" y="10800"/>
                </a:lnTo>
                <a:lnTo>
                  <a:pt x="5471" y="18028"/>
                </a:lnTo>
                <a:lnTo>
                  <a:pt x="9881" y="18028"/>
                </a:lnTo>
                <a:close/>
              </a:path>
            </a:pathLst>
          </a:custGeom>
          <a:solidFill>
            <a:srgbClr val="f9a8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47840" y="10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0003" t="8743" r="19167" b="8907"/>
          <a:stretch/>
        </p:blipFill>
        <p:spPr>
          <a:xfrm flipH="1">
            <a:off x="761760" y="0"/>
            <a:ext cx="4732200" cy="4797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0" y="1052640"/>
            <a:ext cx="78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张      骞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5440" y="152280"/>
            <a:ext cx="911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8400" y="456120"/>
            <a:ext cx="9118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27960" y="3573360"/>
            <a:ext cx="5461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Arial"/>
                <a:ea typeface="黑体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55640" y="5084640"/>
            <a:ext cx="4629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走“丝路”的第一人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6019920"/>
            <a:ext cx="761760" cy="609480"/>
          </a:xfrm>
          <a:custGeom>
            <a:avLst/>
            <a:gdLst>
              <a:gd name="textAreaLeft" fmla="*/ 37800 w 761760"/>
              <a:gd name="textAreaRight" fmla="*/ 723960 w 76176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644" y="1350"/>
                </a:lnTo>
                <a:lnTo>
                  <a:pt x="1350" y="135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644" y="20250"/>
                </a:lnTo>
                <a:lnTo>
                  <a:pt x="25644" y="135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44" y="2025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94" h="21600">
                <a:moveTo>
                  <a:pt x="13497" y="3800"/>
                </a:moveTo>
                <a:lnTo>
                  <a:pt x="16087" y="6425"/>
                </a:lnTo>
                <a:lnTo>
                  <a:pt x="16087" y="4675"/>
                </a:lnTo>
                <a:lnTo>
                  <a:pt x="17872" y="4675"/>
                </a:lnTo>
                <a:lnTo>
                  <a:pt x="17872" y="8210"/>
                </a:lnTo>
                <a:lnTo>
                  <a:pt x="20497" y="10800"/>
                </a:lnTo>
                <a:lnTo>
                  <a:pt x="18834" y="10800"/>
                </a:lnTo>
                <a:lnTo>
                  <a:pt x="18834" y="18028"/>
                </a:lnTo>
                <a:lnTo>
                  <a:pt x="8159" y="18028"/>
                </a:lnTo>
                <a:lnTo>
                  <a:pt x="8159" y="10800"/>
                </a:lnTo>
                <a:lnTo>
                  <a:pt x="6497" y="10800"/>
                </a:lnTo>
                <a:close/>
              </a:path>
              <a:path fill="darkenLess" w="26994" h="21600">
                <a:moveTo>
                  <a:pt x="16087" y="6425"/>
                </a:moveTo>
                <a:lnTo>
                  <a:pt x="16087" y="4675"/>
                </a:lnTo>
                <a:lnTo>
                  <a:pt x="17872" y="4675"/>
                </a:lnTo>
                <a:lnTo>
                  <a:pt x="17872" y="8210"/>
                </a:lnTo>
                <a:close/>
              </a:path>
              <a:path fill="darkenLess" w="26994" h="21600">
                <a:moveTo>
                  <a:pt x="12569" y="14318"/>
                </a:moveTo>
                <a:lnTo>
                  <a:pt x="14424" y="14318"/>
                </a:lnTo>
                <a:lnTo>
                  <a:pt x="14424" y="18028"/>
                </a:lnTo>
                <a:lnTo>
                  <a:pt x="18834" y="18028"/>
                </a:lnTo>
                <a:lnTo>
                  <a:pt x="18834" y="10800"/>
                </a:lnTo>
                <a:lnTo>
                  <a:pt x="8159" y="10800"/>
                </a:lnTo>
                <a:lnTo>
                  <a:pt x="8159" y="18028"/>
                </a:lnTo>
                <a:lnTo>
                  <a:pt x="12569" y="18028"/>
                </a:lnTo>
                <a:close/>
              </a:path>
            </a:pathLst>
          </a:custGeom>
          <a:solidFill>
            <a:srgbClr val="f9a815">
              <a:alpha val="50000"/>
            </a:srgbClr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49920" y="380880"/>
            <a:ext cx="4079880" cy="78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他是一个冒险家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又是一个天才的外交家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同时又是一员战将，                           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真可谓中国历史上出类拔萃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人物也。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翦伯赞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699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95280" y="1125360"/>
            <a:ext cx="8305920" cy="472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620640"/>
            <a:ext cx="8305560" cy="46483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37520" y="3211560"/>
            <a:ext cx="1182600" cy="745920"/>
          </a:xfrm>
          <a:custGeom>
            <a:avLst/>
            <a:gdLst/>
            <a:ahLst/>
            <a:rect l="l" t="t" r="r" b="b"/>
            <a:pathLst>
              <a:path w="745" h="470">
                <a:moveTo>
                  <a:pt x="745" y="421"/>
                </a:moveTo>
                <a:cubicBezTo>
                  <a:pt x="717" y="416"/>
                  <a:pt x="687" y="416"/>
                  <a:pt x="660" y="407"/>
                </a:cubicBezTo>
                <a:cubicBezTo>
                  <a:pt x="568" y="377"/>
                  <a:pt x="673" y="365"/>
                  <a:pt x="562" y="393"/>
                </a:cubicBezTo>
                <a:cubicBezTo>
                  <a:pt x="512" y="470"/>
                  <a:pt x="514" y="468"/>
                  <a:pt x="422" y="450"/>
                </a:cubicBezTo>
                <a:cubicBezTo>
                  <a:pt x="398" y="426"/>
                  <a:pt x="379" y="411"/>
                  <a:pt x="365" y="379"/>
                </a:cubicBezTo>
                <a:cubicBezTo>
                  <a:pt x="345" y="334"/>
                  <a:pt x="337" y="254"/>
                  <a:pt x="309" y="211"/>
                </a:cubicBezTo>
                <a:cubicBezTo>
                  <a:pt x="290" y="183"/>
                  <a:pt x="272" y="154"/>
                  <a:pt x="253" y="126"/>
                </a:cubicBezTo>
                <a:cubicBezTo>
                  <a:pt x="234" y="98"/>
                  <a:pt x="197" y="89"/>
                  <a:pt x="169" y="70"/>
                </a:cubicBezTo>
                <a:cubicBezTo>
                  <a:pt x="155" y="61"/>
                  <a:pt x="142" y="47"/>
                  <a:pt x="126" y="42"/>
                </a:cubicBezTo>
                <a:cubicBezTo>
                  <a:pt x="98" y="33"/>
                  <a:pt x="70" y="23"/>
                  <a:pt x="42" y="14"/>
                </a:cubicBezTo>
                <a:cubicBezTo>
                  <a:pt x="28" y="9"/>
                  <a:pt x="0" y="0"/>
                  <a:pt x="0" y="0"/>
                </a:cubicBezTo>
              </a:path>
            </a:pathLst>
          </a:custGeom>
          <a:noFill/>
          <a:ln w="63360">
            <a:solidFill>
              <a:srgbClr val="99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03840" y="2854440"/>
            <a:ext cx="1500120" cy="372960"/>
          </a:xfrm>
          <a:custGeom>
            <a:avLst/>
            <a:gdLst/>
            <a:ahLst/>
            <a:rect l="l" t="t" r="r" b="b"/>
            <a:pathLst>
              <a:path w="945" h="235">
                <a:moveTo>
                  <a:pt x="945" y="211"/>
                </a:moveTo>
                <a:cubicBezTo>
                  <a:pt x="917" y="202"/>
                  <a:pt x="888" y="192"/>
                  <a:pt x="860" y="183"/>
                </a:cubicBezTo>
                <a:cubicBezTo>
                  <a:pt x="846" y="178"/>
                  <a:pt x="818" y="169"/>
                  <a:pt x="818" y="169"/>
                </a:cubicBezTo>
                <a:cubicBezTo>
                  <a:pt x="776" y="174"/>
                  <a:pt x="733" y="173"/>
                  <a:pt x="692" y="183"/>
                </a:cubicBezTo>
                <a:cubicBezTo>
                  <a:pt x="676" y="187"/>
                  <a:pt x="667" y="208"/>
                  <a:pt x="650" y="211"/>
                </a:cubicBezTo>
                <a:cubicBezTo>
                  <a:pt x="585" y="222"/>
                  <a:pt x="519" y="220"/>
                  <a:pt x="453" y="225"/>
                </a:cubicBezTo>
                <a:cubicBezTo>
                  <a:pt x="406" y="220"/>
                  <a:pt x="354" y="235"/>
                  <a:pt x="313" y="211"/>
                </a:cubicBezTo>
                <a:cubicBezTo>
                  <a:pt x="287" y="196"/>
                  <a:pt x="294" y="155"/>
                  <a:pt x="284" y="127"/>
                </a:cubicBezTo>
                <a:cubicBezTo>
                  <a:pt x="264" y="69"/>
                  <a:pt x="232" y="20"/>
                  <a:pt x="172" y="0"/>
                </a:cubicBezTo>
                <a:cubicBezTo>
                  <a:pt x="158" y="5"/>
                  <a:pt x="142" y="5"/>
                  <a:pt x="130" y="14"/>
                </a:cubicBezTo>
                <a:cubicBezTo>
                  <a:pt x="117" y="25"/>
                  <a:pt x="113" y="43"/>
                  <a:pt x="102" y="56"/>
                </a:cubicBezTo>
                <a:cubicBezTo>
                  <a:pt x="80" y="81"/>
                  <a:pt x="56" y="103"/>
                  <a:pt x="32" y="127"/>
                </a:cubicBezTo>
                <a:cubicBezTo>
                  <a:pt x="0" y="159"/>
                  <a:pt x="3" y="141"/>
                  <a:pt x="3" y="169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4560" y="3411360"/>
            <a:ext cx="446400" cy="312840"/>
          </a:xfrm>
          <a:custGeom>
            <a:avLst/>
            <a:gdLst/>
            <a:ahLst/>
            <a:rect l="l" t="t" r="r" b="b"/>
            <a:pathLst>
              <a:path w="281" h="197">
                <a:moveTo>
                  <a:pt x="281" y="0"/>
                </a:moveTo>
                <a:cubicBezTo>
                  <a:pt x="253" y="10"/>
                  <a:pt x="225" y="19"/>
                  <a:pt x="197" y="29"/>
                </a:cubicBezTo>
                <a:cubicBezTo>
                  <a:pt x="183" y="34"/>
                  <a:pt x="155" y="43"/>
                  <a:pt x="155" y="43"/>
                </a:cubicBezTo>
                <a:cubicBezTo>
                  <a:pt x="146" y="57"/>
                  <a:pt x="140" y="74"/>
                  <a:pt x="127" y="85"/>
                </a:cubicBezTo>
                <a:cubicBezTo>
                  <a:pt x="102" y="107"/>
                  <a:pt x="43" y="141"/>
                  <a:pt x="43" y="141"/>
                </a:cubicBezTo>
                <a:cubicBezTo>
                  <a:pt x="11" y="189"/>
                  <a:pt x="27" y="172"/>
                  <a:pt x="0" y="197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9880" y="3144960"/>
            <a:ext cx="1225440" cy="645840"/>
          </a:xfrm>
          <a:custGeom>
            <a:avLst/>
            <a:gdLst/>
            <a:ahLst/>
            <a:rect l="l" t="t" r="r" b="b"/>
            <a:pathLst>
              <a:path w="772" h="407">
                <a:moveTo>
                  <a:pt x="772" y="0"/>
                </a:moveTo>
                <a:cubicBezTo>
                  <a:pt x="744" y="9"/>
                  <a:pt x="716" y="19"/>
                  <a:pt x="688" y="28"/>
                </a:cubicBezTo>
                <a:cubicBezTo>
                  <a:pt x="674" y="33"/>
                  <a:pt x="646" y="42"/>
                  <a:pt x="646" y="42"/>
                </a:cubicBezTo>
                <a:cubicBezTo>
                  <a:pt x="637" y="56"/>
                  <a:pt x="626" y="69"/>
                  <a:pt x="618" y="84"/>
                </a:cubicBezTo>
                <a:cubicBezTo>
                  <a:pt x="611" y="97"/>
                  <a:pt x="613" y="115"/>
                  <a:pt x="604" y="126"/>
                </a:cubicBezTo>
                <a:cubicBezTo>
                  <a:pt x="566" y="173"/>
                  <a:pt x="469" y="176"/>
                  <a:pt x="421" y="183"/>
                </a:cubicBezTo>
                <a:cubicBezTo>
                  <a:pt x="407" y="192"/>
                  <a:pt x="390" y="198"/>
                  <a:pt x="379" y="211"/>
                </a:cubicBezTo>
                <a:cubicBezTo>
                  <a:pt x="370" y="223"/>
                  <a:pt x="372" y="240"/>
                  <a:pt x="365" y="253"/>
                </a:cubicBezTo>
                <a:cubicBezTo>
                  <a:pt x="349" y="285"/>
                  <a:pt x="289" y="357"/>
                  <a:pt x="266" y="365"/>
                </a:cubicBezTo>
                <a:cubicBezTo>
                  <a:pt x="238" y="374"/>
                  <a:pt x="210" y="384"/>
                  <a:pt x="182" y="393"/>
                </a:cubicBezTo>
                <a:cubicBezTo>
                  <a:pt x="168" y="398"/>
                  <a:pt x="140" y="407"/>
                  <a:pt x="140" y="407"/>
                </a:cubicBezTo>
                <a:cubicBezTo>
                  <a:pt x="131" y="393"/>
                  <a:pt x="125" y="376"/>
                  <a:pt x="112" y="365"/>
                </a:cubicBezTo>
                <a:cubicBezTo>
                  <a:pt x="87" y="343"/>
                  <a:pt x="28" y="309"/>
                  <a:pt x="28" y="309"/>
                </a:cubicBezTo>
                <a:cubicBezTo>
                  <a:pt x="12" y="261"/>
                  <a:pt x="24" y="277"/>
                  <a:pt x="0" y="253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49840" y="3768840"/>
            <a:ext cx="1271520" cy="603000"/>
          </a:xfrm>
          <a:custGeom>
            <a:avLst/>
            <a:gdLst/>
            <a:ahLst/>
            <a:rect l="l" t="t" r="r" b="b"/>
            <a:pathLst>
              <a:path w="801" h="380">
                <a:moveTo>
                  <a:pt x="801" y="0"/>
                </a:moveTo>
                <a:cubicBezTo>
                  <a:pt x="775" y="7"/>
                  <a:pt x="721" y="13"/>
                  <a:pt x="703" y="42"/>
                </a:cubicBezTo>
                <a:cubicBezTo>
                  <a:pt x="687" y="67"/>
                  <a:pt x="700" y="110"/>
                  <a:pt x="675" y="127"/>
                </a:cubicBezTo>
                <a:cubicBezTo>
                  <a:pt x="650" y="144"/>
                  <a:pt x="631" y="170"/>
                  <a:pt x="604" y="183"/>
                </a:cubicBezTo>
                <a:cubicBezTo>
                  <a:pt x="578" y="196"/>
                  <a:pt x="520" y="211"/>
                  <a:pt x="520" y="211"/>
                </a:cubicBezTo>
                <a:cubicBezTo>
                  <a:pt x="474" y="280"/>
                  <a:pt x="446" y="353"/>
                  <a:pt x="366" y="380"/>
                </a:cubicBezTo>
                <a:cubicBezTo>
                  <a:pt x="338" y="375"/>
                  <a:pt x="308" y="376"/>
                  <a:pt x="281" y="366"/>
                </a:cubicBezTo>
                <a:cubicBezTo>
                  <a:pt x="237" y="349"/>
                  <a:pt x="232" y="285"/>
                  <a:pt x="211" y="253"/>
                </a:cubicBezTo>
                <a:cubicBezTo>
                  <a:pt x="184" y="212"/>
                  <a:pt x="144" y="170"/>
                  <a:pt x="99" y="155"/>
                </a:cubicBezTo>
                <a:cubicBezTo>
                  <a:pt x="60" y="168"/>
                  <a:pt x="30" y="181"/>
                  <a:pt x="0" y="211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89400" y="2119320"/>
            <a:ext cx="758880" cy="1270080"/>
          </a:xfrm>
          <a:custGeom>
            <a:avLst/>
            <a:gdLst/>
            <a:ahLst/>
            <a:rect l="l" t="t" r="r" b="b"/>
            <a:pathLst>
              <a:path w="478" h="800">
                <a:moveTo>
                  <a:pt x="478" y="800"/>
                </a:moveTo>
                <a:cubicBezTo>
                  <a:pt x="455" y="795"/>
                  <a:pt x="429" y="798"/>
                  <a:pt x="408" y="786"/>
                </a:cubicBezTo>
                <a:cubicBezTo>
                  <a:pt x="393" y="778"/>
                  <a:pt x="391" y="757"/>
                  <a:pt x="380" y="744"/>
                </a:cubicBezTo>
                <a:cubicBezTo>
                  <a:pt x="367" y="729"/>
                  <a:pt x="352" y="716"/>
                  <a:pt x="338" y="702"/>
                </a:cubicBezTo>
                <a:cubicBezTo>
                  <a:pt x="314" y="633"/>
                  <a:pt x="295" y="576"/>
                  <a:pt x="281" y="505"/>
                </a:cubicBezTo>
                <a:cubicBezTo>
                  <a:pt x="276" y="454"/>
                  <a:pt x="274" y="402"/>
                  <a:pt x="267" y="351"/>
                </a:cubicBezTo>
                <a:cubicBezTo>
                  <a:pt x="251" y="231"/>
                  <a:pt x="166" y="161"/>
                  <a:pt x="71" y="98"/>
                </a:cubicBezTo>
                <a:cubicBezTo>
                  <a:pt x="48" y="63"/>
                  <a:pt x="19" y="37"/>
                  <a:pt x="0" y="0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81320" y="4214880"/>
            <a:ext cx="534960" cy="1517760"/>
          </a:xfrm>
          <a:custGeom>
            <a:avLst/>
            <a:gdLst/>
            <a:ahLst/>
            <a:rect l="l" t="t" r="r" b="b"/>
            <a:pathLst>
              <a:path w="337" h="956">
                <a:moveTo>
                  <a:pt x="337" y="0"/>
                </a:moveTo>
                <a:cubicBezTo>
                  <a:pt x="319" y="110"/>
                  <a:pt x="309" y="202"/>
                  <a:pt x="211" y="267"/>
                </a:cubicBezTo>
                <a:cubicBezTo>
                  <a:pt x="137" y="378"/>
                  <a:pt x="139" y="522"/>
                  <a:pt x="98" y="646"/>
                </a:cubicBezTo>
                <a:cubicBezTo>
                  <a:pt x="65" y="746"/>
                  <a:pt x="0" y="848"/>
                  <a:pt x="0" y="956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0040" y="1515960"/>
            <a:ext cx="1249200" cy="40176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253"/>
                </a:moveTo>
                <a:cubicBezTo>
                  <a:pt x="768" y="244"/>
                  <a:pt x="747" y="238"/>
                  <a:pt x="731" y="225"/>
                </a:cubicBezTo>
                <a:cubicBezTo>
                  <a:pt x="662" y="168"/>
                  <a:pt x="748" y="193"/>
                  <a:pt x="661" y="155"/>
                </a:cubicBezTo>
                <a:cubicBezTo>
                  <a:pt x="634" y="143"/>
                  <a:pt x="576" y="127"/>
                  <a:pt x="576" y="127"/>
                </a:cubicBezTo>
                <a:cubicBezTo>
                  <a:pt x="468" y="145"/>
                  <a:pt x="458" y="154"/>
                  <a:pt x="323" y="127"/>
                </a:cubicBezTo>
                <a:cubicBezTo>
                  <a:pt x="306" y="124"/>
                  <a:pt x="296" y="106"/>
                  <a:pt x="281" y="99"/>
                </a:cubicBezTo>
                <a:cubicBezTo>
                  <a:pt x="241" y="81"/>
                  <a:pt x="197" y="71"/>
                  <a:pt x="155" y="57"/>
                </a:cubicBezTo>
                <a:cubicBezTo>
                  <a:pt x="94" y="37"/>
                  <a:pt x="47" y="47"/>
                  <a:pt x="0" y="0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75040" y="4237200"/>
            <a:ext cx="2452680" cy="581040"/>
          </a:xfrm>
          <a:custGeom>
            <a:avLst/>
            <a:gdLst/>
            <a:ahLst/>
            <a:rect l="l" t="t" r="r" b="b"/>
            <a:pathLst>
              <a:path w="1545" h="366">
                <a:moveTo>
                  <a:pt x="1545" y="42"/>
                </a:moveTo>
                <a:cubicBezTo>
                  <a:pt x="1536" y="52"/>
                  <a:pt x="1525" y="60"/>
                  <a:pt x="1517" y="71"/>
                </a:cubicBezTo>
                <a:cubicBezTo>
                  <a:pt x="1507" y="84"/>
                  <a:pt x="1503" y="104"/>
                  <a:pt x="1489" y="113"/>
                </a:cubicBezTo>
                <a:cubicBezTo>
                  <a:pt x="1464" y="129"/>
                  <a:pt x="1404" y="141"/>
                  <a:pt x="1404" y="141"/>
                </a:cubicBezTo>
                <a:cubicBezTo>
                  <a:pt x="1385" y="136"/>
                  <a:pt x="1364" y="138"/>
                  <a:pt x="1348" y="127"/>
                </a:cubicBezTo>
                <a:cubicBezTo>
                  <a:pt x="1334" y="118"/>
                  <a:pt x="1334" y="94"/>
                  <a:pt x="1320" y="85"/>
                </a:cubicBezTo>
                <a:cubicBezTo>
                  <a:pt x="1295" y="69"/>
                  <a:pt x="1236" y="56"/>
                  <a:pt x="1236" y="56"/>
                </a:cubicBezTo>
                <a:cubicBezTo>
                  <a:pt x="1208" y="66"/>
                  <a:pt x="1177" y="69"/>
                  <a:pt x="1152" y="85"/>
                </a:cubicBezTo>
                <a:cubicBezTo>
                  <a:pt x="1138" y="94"/>
                  <a:pt x="1125" y="106"/>
                  <a:pt x="1109" y="113"/>
                </a:cubicBezTo>
                <a:cubicBezTo>
                  <a:pt x="1082" y="125"/>
                  <a:pt x="1025" y="141"/>
                  <a:pt x="1025" y="141"/>
                </a:cubicBezTo>
                <a:cubicBezTo>
                  <a:pt x="960" y="132"/>
                  <a:pt x="919" y="115"/>
                  <a:pt x="857" y="141"/>
                </a:cubicBezTo>
                <a:cubicBezTo>
                  <a:pt x="814" y="159"/>
                  <a:pt x="804" y="217"/>
                  <a:pt x="786" y="253"/>
                </a:cubicBezTo>
                <a:cubicBezTo>
                  <a:pt x="755" y="315"/>
                  <a:pt x="694" y="344"/>
                  <a:pt x="632" y="366"/>
                </a:cubicBezTo>
                <a:cubicBezTo>
                  <a:pt x="623" y="356"/>
                  <a:pt x="612" y="348"/>
                  <a:pt x="604" y="337"/>
                </a:cubicBezTo>
                <a:cubicBezTo>
                  <a:pt x="584" y="310"/>
                  <a:pt x="547" y="253"/>
                  <a:pt x="547" y="253"/>
                </a:cubicBezTo>
                <a:cubicBezTo>
                  <a:pt x="538" y="225"/>
                  <a:pt x="528" y="197"/>
                  <a:pt x="519" y="169"/>
                </a:cubicBezTo>
                <a:cubicBezTo>
                  <a:pt x="486" y="69"/>
                  <a:pt x="369" y="29"/>
                  <a:pt x="281" y="0"/>
                </a:cubicBezTo>
                <a:cubicBezTo>
                  <a:pt x="219" y="15"/>
                  <a:pt x="159" y="35"/>
                  <a:pt x="98" y="56"/>
                </a:cubicBezTo>
                <a:cubicBezTo>
                  <a:pt x="66" y="67"/>
                  <a:pt x="34" y="85"/>
                  <a:pt x="0" y="85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3213000"/>
            <a:ext cx="1339920" cy="1260720"/>
          </a:xfrm>
          <a:custGeom>
            <a:avLst/>
            <a:gdLst/>
            <a:ahLst/>
            <a:rect l="l" t="t" r="r" b="b"/>
            <a:pathLst>
              <a:path w="843" h="604">
                <a:moveTo>
                  <a:pt x="843" y="534"/>
                </a:moveTo>
                <a:cubicBezTo>
                  <a:pt x="787" y="539"/>
                  <a:pt x="731" y="541"/>
                  <a:pt x="675" y="548"/>
                </a:cubicBezTo>
                <a:cubicBezTo>
                  <a:pt x="604" y="557"/>
                  <a:pt x="535" y="590"/>
                  <a:pt x="464" y="604"/>
                </a:cubicBezTo>
                <a:cubicBezTo>
                  <a:pt x="431" y="599"/>
                  <a:pt x="395" y="603"/>
                  <a:pt x="365" y="590"/>
                </a:cubicBezTo>
                <a:cubicBezTo>
                  <a:pt x="350" y="583"/>
                  <a:pt x="349" y="560"/>
                  <a:pt x="337" y="548"/>
                </a:cubicBezTo>
                <a:cubicBezTo>
                  <a:pt x="325" y="536"/>
                  <a:pt x="309" y="529"/>
                  <a:pt x="295" y="519"/>
                </a:cubicBezTo>
                <a:cubicBezTo>
                  <a:pt x="269" y="441"/>
                  <a:pt x="214" y="377"/>
                  <a:pt x="169" y="309"/>
                </a:cubicBezTo>
                <a:cubicBezTo>
                  <a:pt x="145" y="273"/>
                  <a:pt x="136" y="219"/>
                  <a:pt x="113" y="182"/>
                </a:cubicBezTo>
                <a:cubicBezTo>
                  <a:pt x="106" y="171"/>
                  <a:pt x="92" y="165"/>
                  <a:pt x="84" y="154"/>
                </a:cubicBezTo>
                <a:cubicBezTo>
                  <a:pt x="64" y="127"/>
                  <a:pt x="47" y="98"/>
                  <a:pt x="28" y="70"/>
                </a:cubicBezTo>
                <a:cubicBezTo>
                  <a:pt x="14" y="49"/>
                  <a:pt x="11" y="22"/>
                  <a:pt x="0" y="0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2666880"/>
            <a:ext cx="596880" cy="389160"/>
          </a:xfrm>
          <a:custGeom>
            <a:avLst/>
            <a:gdLst/>
            <a:ahLst/>
            <a:rect l="l" t="t" r="r" b="b"/>
            <a:pathLst>
              <a:path w="305" h="211">
                <a:moveTo>
                  <a:pt x="295" y="211"/>
                </a:moveTo>
                <a:cubicBezTo>
                  <a:pt x="280" y="72"/>
                  <a:pt x="305" y="34"/>
                  <a:pt x="169" y="0"/>
                </a:cubicBezTo>
                <a:cubicBezTo>
                  <a:pt x="127" y="5"/>
                  <a:pt x="85" y="7"/>
                  <a:pt x="43" y="14"/>
                </a:cubicBezTo>
                <a:cubicBezTo>
                  <a:pt x="28" y="16"/>
                  <a:pt x="0" y="28"/>
                  <a:pt x="0" y="28"/>
                </a:cubicBezTo>
              </a:path>
            </a:pathLst>
          </a:custGeom>
          <a:noFill/>
          <a:ln w="633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-79200"/>
            <a:ext cx="56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重走古丝路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987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17080" y="3573360"/>
            <a:ext cx="576000" cy="50328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2924280"/>
            <a:ext cx="720720" cy="72072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1125360"/>
            <a:ext cx="1150920" cy="64800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土耳其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5157720"/>
            <a:ext cx="91440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4365720"/>
            <a:ext cx="7920000" cy="2288520"/>
          </a:xfrm>
          <a:prstGeom prst="rect">
            <a:avLst/>
          </a:prstGeom>
          <a:solidFill>
            <a:srgbClr val="ffcc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长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河西走廊——敦煌——分南北两路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北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玉门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发，经过西域、中亚，到达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西亚和欧洲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南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阳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发，经过西域、中亚，到达安息（波斯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今伊朗）和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大秦（今罗马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另一路则到达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印度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912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68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意大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03480" y="4221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伊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43480" y="443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阿富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56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印度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31840" y="39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997400">
            <a:off x="1403280" y="4652640"/>
            <a:ext cx="914400" cy="576360"/>
          </a:xfrm>
          <a:prstGeom prst="wedgeRoundRectCallout">
            <a:avLst>
              <a:gd name="adj1" fmla="val -67236"/>
              <a:gd name="adj2" fmla="val 143078"/>
              <a:gd name="adj3" fmla="val 1666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西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84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24200" y="29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76720" y="2851920"/>
            <a:ext cx="914400" cy="608040"/>
          </a:xfrm>
          <a:prstGeom prst="wedgeEllipseCallout">
            <a:avLst>
              <a:gd name="adj1" fmla="val -694"/>
              <a:gd name="adj2" fmla="val -13642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292428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中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95840" y="29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51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427640" y="2637000"/>
            <a:ext cx="914400" cy="607680"/>
          </a:xfrm>
          <a:prstGeom prst="wedgeEllipseCallout">
            <a:avLst>
              <a:gd name="adj1" fmla="val -694"/>
              <a:gd name="adj2" fmla="val -136425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81280" y="27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西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2924280"/>
            <a:ext cx="43164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敦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6560" y="39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56320" y="4500720"/>
            <a:ext cx="177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rot="21230400">
            <a:off x="6084000" y="4652640"/>
            <a:ext cx="3305520" cy="712800"/>
          </a:xfrm>
          <a:prstGeom prst="wedgeRectCallout">
            <a:avLst>
              <a:gd name="adj1" fmla="val 64041"/>
              <a:gd name="adj2" fmla="val -171902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51480" y="47973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塔克拉玛干沙漠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948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1557360"/>
            <a:ext cx="3024360" cy="1081080"/>
          </a:xfrm>
          <a:prstGeom prst="wedgeRectCallout">
            <a:avLst>
              <a:gd name="adj1" fmla="val -50263"/>
              <a:gd name="adj2" fmla="val 174814"/>
            </a:avLst>
          </a:pr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5148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69600" y="1844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黑体"/>
              </a:rPr>
              <a:t>帕米尔高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55897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800"/>
                </a:moveTo>
                <a:lnTo>
                  <a:pt x="13390" y="6425"/>
                </a:ln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lnTo>
                  <a:pt x="17800" y="10800"/>
                </a:lnTo>
                <a:lnTo>
                  <a:pt x="16138" y="10800"/>
                </a:lnTo>
                <a:lnTo>
                  <a:pt x="16138" y="18028"/>
                </a:lnTo>
                <a:lnTo>
                  <a:pt x="5463" y="18028"/>
                </a:lnTo>
                <a:lnTo>
                  <a:pt x="5463" y="10800"/>
                </a:lnTo>
                <a:lnTo>
                  <a:pt x="3800" y="10800"/>
                </a:lnTo>
                <a:close/>
              </a:path>
              <a:path fill="darkenLess" w="21600" h="21600">
                <a:moveTo>
                  <a:pt x="13390" y="6425"/>
                </a:moveTo>
                <a:lnTo>
                  <a:pt x="13390" y="4675"/>
                </a:lnTo>
                <a:lnTo>
                  <a:pt x="15175" y="4675"/>
                </a:lnTo>
                <a:lnTo>
                  <a:pt x="15175" y="8210"/>
                </a:lnTo>
                <a:close/>
              </a:path>
              <a:path fill="darkenLess" w="21600" h="21600">
                <a:moveTo>
                  <a:pt x="9873" y="14318"/>
                </a:moveTo>
                <a:lnTo>
                  <a:pt x="11728" y="14318"/>
                </a:lnTo>
                <a:lnTo>
                  <a:pt x="11728" y="18028"/>
                </a:lnTo>
                <a:lnTo>
                  <a:pt x="16138" y="18028"/>
                </a:lnTo>
                <a:lnTo>
                  <a:pt x="16138" y="10800"/>
                </a:lnTo>
                <a:lnTo>
                  <a:pt x="5463" y="10800"/>
                </a:lnTo>
                <a:lnTo>
                  <a:pt x="5463" y="18028"/>
                </a:lnTo>
                <a:lnTo>
                  <a:pt x="9873" y="18028"/>
                </a:lnTo>
                <a:close/>
              </a:path>
            </a:pathLst>
          </a:custGeom>
          <a:solidFill>
            <a:srgbClr val="f9a8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42800" y="1055520"/>
            <a:ext cx="18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8600" y="9032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996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00200" y="504720"/>
            <a:ext cx="448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敦煌莫高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93640" y="10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53352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迷人的敦煌飞天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1905120"/>
            <a:ext cx="6629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敦煌飞天是敦煌艺术的标志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只要看到优美的飞天，人们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就会想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敦煌莫高窟艺术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敦煌莫高窟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9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个洞窟，几乎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窟窟画有飞天。其数量之多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是全世界和中国佛教石窟寺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庙中，保存飞天最多的石窟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世界上最大的佛教艺术宝库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49528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           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5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08:51:03Z</dcterms:created>
  <dc:creator>Administrator</dc:creator>
  <dc:description/>
  <dc:language>en-US</dc:language>
  <cp:lastModifiedBy/>
  <dcterms:modified xsi:type="dcterms:W3CDTF">2015-08-11T03:43:27Z</dcterms:modified>
  <cp:revision>2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