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AF8-BB7C-472A-A7D4-49B7E65A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792-DA9E-48D4-B3F2-D3F31926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64A-2365-41B4-8E7E-EAB780F2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030-7451-4B75-907F-3C1CDE05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CB6-C5F2-41F7-A1EA-FC71DD4C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FF6-88D6-42CF-9212-DD98723C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6C3-455C-4CFC-80D6-DFF2C8F4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258-A0D0-45F7-8BDC-DF34BD27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84E-5DD6-425C-8159-B703E911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D66-81B1-4117-9809-BDDADFF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97C-D346-4908-BC56-044FDD5B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BB8-0A48-465B-992C-3AD36BCD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00CB-7B83-4899-BC01-2D0431B95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孙叔敖杀两头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：学习古文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你认为重要的、不理解的字上面写上注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根据注释理解课文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971640" y="112536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孙叔熬为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婴儿之时，出游，见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头蛇，杀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埋之。归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泣。其母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其故，叔熬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曰：“闻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见两头蛇者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死，向者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见之，恐去母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死也。”其母曰：“蛇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安在？”曰：“恐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人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见，杀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埋之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12536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孙叔熬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婴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时，出游，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头蛇，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埋之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泣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其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叔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曰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见两头蛇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死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见之，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死也。”其母曰：“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安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”曰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见，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埋之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971640" y="692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孙叔敖杀两头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26920" y="2060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课题中你知道课文讲了一件什么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971640" y="2997360"/>
            <a:ext cx="4824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孙叔敖为什么要杀两头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孙叔敖是怎么杀两头蛇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042920" y="692280"/>
            <a:ext cx="71294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给下列带点字注上拼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）                     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孙叔熬为婴儿之时             归而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解释带点字词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孙叔熬为婴儿之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其母问其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闻见两头蛇者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835280" y="60958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708360" y="4941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542680" y="206064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695040" y="3789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503400" y="213372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198320" y="3789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84360" y="692280"/>
            <a:ext cx="82087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孙叔敖杀两头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文章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觉得孙叔敖是一个怎样的人？       联系文章的内容谈谈你读文后的体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善良、为他人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02:38:32Z</dcterms:created>
  <dc:creator/>
  <dc:description/>
  <dc:language>en-US</dc:language>
  <cp:lastModifiedBy>dreamsummit</cp:lastModifiedBy>
  <dcterms:modified xsi:type="dcterms:W3CDTF">2015-03-02T09:15:4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0000000000001024120</vt:lpwstr>
  </property>
</Properties>
</file>