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174A-0E1B-4D87-A88C-E57D47FF0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7F79-F1D9-40FD-BA0F-869B190A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9A84-022E-4355-BC54-4ACA76C6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0882-9C20-4D93-92B3-B1C853592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E7EE-DD75-41C7-8770-FF4740B9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DA50-6D32-406D-BCA5-EB3A279F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B761-C6F9-4AA8-85FE-4BF48F15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C866-BD9B-4EA4-89EA-23BA443E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BEB1-B024-49D4-9440-B23887C9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37F2-8501-473A-A66C-B60A0DE2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2AAE-F123-431E-97DF-6570710F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A95C-94DD-444E-A6C4-27D95E74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3E38-55A0-4F1D-B6CF-D9D0DF2B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7781-77F4-47EA-B0BC-2F146AA0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2E4E-FB32-4BCD-9ACB-E8AF730A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A422-CCB2-40FC-9D20-67290825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29DF-2B11-467E-9F6A-70B583171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A245B-B4B1-4EC6-AB12-FDB5B312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072A3-D8A0-476A-93BB-3342AA7B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B46FB-55BC-43D9-86D1-F3870B6D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7DE28-00D8-414F-AB79-A038E65A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DB858-3520-439E-B0ED-B8403BC3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D1A6-1AF1-43AF-9A78-E2407A75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6C50A-2E12-4EB3-BF12-97D549EC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3AB5D-A881-4230-BBAA-E99EBFA8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6627E-7E55-4313-836F-615BD6EE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179B3-9F06-4031-BE57-7A5B0FF9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9A52E-54E7-4BE3-A256-1BBEF055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DD251-FF17-469D-B312-EBB5880E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7CACE-5712-425A-9156-3D6020D4A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134B1-E231-4B28-955B-CCAEE0584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701C2-6862-4C0C-97C7-48B14AA8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5F5E3-A1D5-446E-9862-669B2574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C5F3-3B5A-4EB5-B9AB-4AB58AB2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A63B6-18A7-429E-8495-993DAE1B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2D013-BEB5-4200-9305-3991F3D8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7D373-E0BD-4AED-B49F-6B6363F9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CAC01-360D-45F2-80EA-F3DF4799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6EDE1-C54F-4615-9B90-784310AB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0B82C-28D9-45DB-8511-D400BADE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4014C-50E3-410D-8ECC-29A0B9D3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2B635-C08E-40EE-9081-15B2ACB4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C66A6-84C8-47CA-8D92-DF2733337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6E119-38F0-4C2C-922D-1689B30C8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E397-8ECC-46F2-9573-31656508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34DB9-9679-404B-8D45-A31ACEFD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F967E-1AE6-4DDD-B5E3-73DE842E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84124-1B64-4BD0-8885-60DE3912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98D3E-DFEB-454A-88BF-30D7A1E3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8F685-710D-4808-9BEC-52D00AA9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3AC56-04CE-4482-B857-FB164B80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923BE-909A-4D69-97C1-4B8B1B7D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B9998-BDCB-4D52-A2E4-767954F0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035D1-0A5B-4EF9-B3FD-D50234B9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965FD-30C1-4A7C-93B8-B221D772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672C-8731-4AC9-92D5-8A732F61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8926F-8A20-4B9D-B04F-5FFF5530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A168-3D82-447E-977F-46B0CECA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2D45-EF8A-4C52-A5F0-A465950A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6D40-0C4D-410B-A9E5-65339232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F2B0-BE6E-46EB-82A9-798AE0EB6A4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859F-CD51-4E0E-B3A9-74F5C95A951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594B-BA34-4D10-A042-1D595B15079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29DF-A413-4BCB-B547-C8AE0D9CA84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86EF-442D-48CB-90EE-E4F06684FD6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aike.baidu.com/view/5223.htm" TargetMode="External"/><Relationship Id="rId2" Type="http://schemas.openxmlformats.org/officeDocument/2006/relationships/hyperlink" Target="http://baike.baidu.com/view/5082.htm" TargetMode="External"/><Relationship Id="rId3" Type="http://schemas.openxmlformats.org/officeDocument/2006/relationships/hyperlink" Target="http://baike.baidu.com/view/5787.htm" TargetMode="External"/><Relationship Id="rId4" Type="http://schemas.openxmlformats.org/officeDocument/2006/relationships/hyperlink" Target="http://baike.baidu.com/view/5586.htm" TargetMode="External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272880" y="77760"/>
            <a:ext cx="742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楷体"/>
                <a:ea typeface="楷体"/>
              </a:rPr>
              <a:t>15</a:t>
            </a:r>
            <a:r>
              <a:rPr b="1" lang="zh-CN" sz="4800" spc="-1" strike="noStrike">
                <a:solidFill>
                  <a:srgbClr val="ff0066"/>
                </a:solidFill>
                <a:latin typeface="楷体"/>
                <a:ea typeface="楷体"/>
              </a:rPr>
              <a:t>、童年读</a:t>
            </a:r>
            <a:r>
              <a:rPr b="1" lang="en-US" sz="4800" spc="-1" strike="noStrike">
                <a:solidFill>
                  <a:srgbClr val="ff0066"/>
                </a:solidFill>
                <a:latin typeface="楷体"/>
                <a:ea typeface="楷体"/>
              </a:rPr>
              <a:t>《</a:t>
            </a:r>
            <a:r>
              <a:rPr b="1" lang="zh-CN" sz="4800" spc="-1" strike="noStrike">
                <a:solidFill>
                  <a:srgbClr val="ff0066"/>
                </a:solidFill>
                <a:latin typeface="楷体"/>
                <a:ea typeface="楷体"/>
              </a:rPr>
              <a:t>水浒传</a:t>
            </a:r>
            <a:r>
              <a:rPr b="1" lang="en-US" sz="4800" spc="-1" strike="noStrike">
                <a:solidFill>
                  <a:srgbClr val="ff0066"/>
                </a:solidFill>
                <a:latin typeface="楷体"/>
                <a:ea typeface="楷体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990720" y="152280"/>
            <a:ext cx="80420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自由朗读文章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ff0066"/>
                </a:solidFill>
                <a:latin typeface="黑体"/>
              </a:rPr>
              <a:t>—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自然段并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我为什么想看《水浒传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从哪些词语可以看出作者爱听故事的？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标记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哪些句子让你感受到了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对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水浒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深深喜爱之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“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画出相关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AutoShape 3"/>
          <p:cNvCxnSpPr>
            <a:stCxn id="225" idx="3"/>
            <a:endCxn id="225" idx="3"/>
          </p:cNvCxnSpPr>
          <p:nvPr/>
        </p:nvCxnSpPr>
        <p:spPr>
          <a:xfrm>
            <a:off x="9032400" y="28382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7" name="AutoShape 4"/>
          <p:cNvCxnSpPr>
            <a:stCxn id="225" idx="3"/>
            <a:endCxn id="225" idx="3"/>
          </p:cNvCxnSpPr>
          <p:nvPr/>
        </p:nvCxnSpPr>
        <p:spPr>
          <a:xfrm>
            <a:off x="9032400" y="28382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" name="AutoShape 5"/>
          <p:cNvCxnSpPr>
            <a:stCxn id="225" idx="1"/>
            <a:endCxn id="225" idx="1"/>
          </p:cNvCxnSpPr>
          <p:nvPr/>
        </p:nvCxnSpPr>
        <p:spPr>
          <a:xfrm>
            <a:off x="990360" y="28382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9" name="AutoShape 6"/>
          <p:cNvCxnSpPr/>
          <p:nvPr/>
        </p:nvCxnSpPr>
        <p:spPr>
          <a:xfrm>
            <a:off x="2057400" y="5409720"/>
            <a:ext cx="991440" cy="1080"/>
          </a:xfrm>
          <a:prstGeom prst="straightConnector1">
            <a:avLst/>
          </a:prstGeom>
          <a:ln w="9360">
            <a:solidFill>
              <a:srgbClr val="ff0066"/>
            </a:solidFill>
            <a:miter/>
          </a:ln>
        </p:spPr>
      </p:cxnSp>
      <p:sp>
        <p:nvSpPr>
          <p:cNvPr id="230" name="Text Box 7"/>
          <p:cNvSpPr/>
          <p:nvPr/>
        </p:nvSpPr>
        <p:spPr>
          <a:xfrm>
            <a:off x="990720" y="1752480"/>
            <a:ext cx="72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（爱听故事、书本的封面吸引了我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304920" y="114300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候，我特别爱听故事。夏天晚上乘凉的时候，我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搬个小凳到禾场上，缠着邻居老大爷讲故事。老大爷看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许多旧小说，满肚子都是故事，什么程咬金三板斧啦，秦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宝卖马啦，我都爱听；武松打虎，更是百听不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3561840" y="380880"/>
            <a:ext cx="201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童年读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浒传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5"/>
          <p:cNvSpPr/>
          <p:nvPr/>
        </p:nvSpPr>
        <p:spPr>
          <a:xfrm>
            <a:off x="6553080" y="4800600"/>
            <a:ext cx="3124440" cy="838080"/>
          </a:xfrm>
          <a:prstGeom prst="wedgeRoundRectCallout">
            <a:avLst>
              <a:gd name="adj1" fmla="val -70467"/>
              <a:gd name="adj2" fmla="val -15511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以看出作者喜欢听《水浒传》等故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685800" y="4114800"/>
            <a:ext cx="563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（小时候听老大爷讲故事，初次接触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水浒传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就被深深吸引了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武松打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百听不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7"/>
          <p:cNvSpPr/>
          <p:nvPr/>
        </p:nvSpPr>
        <p:spPr>
          <a:xfrm>
            <a:off x="3505320" y="3886200"/>
            <a:ext cx="3276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2514600" y="1295280"/>
            <a:ext cx="9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8001000" y="1295280"/>
            <a:ext cx="4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380880" y="1981080"/>
            <a:ext cx="5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3429000" y="1981080"/>
            <a:ext cx="9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5562720" y="3505320"/>
            <a:ext cx="27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。。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304920" y="228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里有许多大人看的书，我好奇地拿几本来翻翻，看不懂就放下了。有四本摞在一起的书，每本的彩色封面上，都画着一个身材魁梧的大汉，一手按着老虎的头，一手抡起拳，向老虎猛砸下去。母亲告诉我，这四本书是一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浒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封面上画的就是武松打虎。我拿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浒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看，可那时我刚读一年级，哪里能看懂！我失望地合上了书本，把它收进抽屉里。我盼望自己快些长大，多认些字，能读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浒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有趣的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457200" y="2438280"/>
            <a:ext cx="7848720" cy="380880"/>
            <a:chOff x="457200" y="2438280"/>
            <a:chExt cx="7848720" cy="380880"/>
          </a:xfrm>
        </p:grpSpPr>
        <p:sp>
          <p:nvSpPr>
            <p:cNvPr id="244" name="Line 4"/>
            <p:cNvSpPr/>
            <p:nvPr/>
          </p:nvSpPr>
          <p:spPr>
            <a:xfrm>
              <a:off x="4724280" y="2438280"/>
              <a:ext cx="35816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5"/>
            <p:cNvSpPr/>
            <p:nvPr/>
          </p:nvSpPr>
          <p:spPr>
            <a:xfrm>
              <a:off x="457200" y="2819160"/>
              <a:ext cx="2438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AutoShape 6"/>
          <p:cNvSpPr/>
          <p:nvPr/>
        </p:nvSpPr>
        <p:spPr>
          <a:xfrm>
            <a:off x="5105520" y="2819520"/>
            <a:ext cx="2895480" cy="1600200"/>
          </a:xfrm>
          <a:prstGeom prst="cloudCallout">
            <a:avLst>
              <a:gd name="adj1" fmla="val 47861"/>
              <a:gd name="adj2" fmla="val 6190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此时的“我”在想些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7"/>
          <p:cNvSpPr/>
          <p:nvPr/>
        </p:nvSpPr>
        <p:spPr>
          <a:xfrm>
            <a:off x="3048120" y="2819520"/>
            <a:ext cx="53337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8"/>
          <p:cNvSpPr/>
          <p:nvPr/>
        </p:nvSpPr>
        <p:spPr>
          <a:xfrm>
            <a:off x="228600" y="3276720"/>
            <a:ext cx="3200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9"/>
          <p:cNvSpPr/>
          <p:nvPr/>
        </p:nvSpPr>
        <p:spPr>
          <a:xfrm>
            <a:off x="76320" y="3352680"/>
            <a:ext cx="3047760" cy="1067040"/>
          </a:xfrm>
          <a:prstGeom prst="wedgeRoundRectCallout">
            <a:avLst>
              <a:gd name="adj1" fmla="val 70365"/>
              <a:gd name="adj2" fmla="val -109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心情急切，希望早一点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水浒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2514600" y="4419720"/>
            <a:ext cx="4114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1828800" y="495288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（在家里找到一套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水浒传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看不懂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盼望能快些长大，多认些字，能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水浒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样有趣的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2"/>
          <p:cNvSpPr/>
          <p:nvPr/>
        </p:nvSpPr>
        <p:spPr>
          <a:xfrm>
            <a:off x="2209680" y="2438280"/>
            <a:ext cx="60984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3"/>
          <p:cNvSpPr/>
          <p:nvPr/>
        </p:nvSpPr>
        <p:spPr>
          <a:xfrm>
            <a:off x="4648320" y="2057400"/>
            <a:ext cx="60948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304920" y="3049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就在这以后不久，我家不幸失火，房屋全被烧毁，心爱的《水浒传》也被大火吞没了。我哭着要《水浒传》，直到妈妈答应再买一套的时候，我才破涕为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700200" y="285840"/>
            <a:ext cx="47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4"/>
          <p:cNvSpPr/>
          <p:nvPr/>
        </p:nvSpPr>
        <p:spPr>
          <a:xfrm>
            <a:off x="2286000" y="2057400"/>
            <a:ext cx="6477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5"/>
          <p:cNvSpPr/>
          <p:nvPr/>
        </p:nvSpPr>
        <p:spPr>
          <a:xfrm>
            <a:off x="533520" y="2590920"/>
            <a:ext cx="7315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6248520" y="3581280"/>
            <a:ext cx="3047760" cy="1219320"/>
          </a:xfrm>
          <a:prstGeom prst="wedgeRoundRectCallout">
            <a:avLst>
              <a:gd name="adj1" fmla="val -37759"/>
              <a:gd name="adj2" fmla="val -135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破涕为笑：停止哭泣，露出笑容。形容由悲伤转为高兴的样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152280" y="312408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（当心爱的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水浒传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被大火吞没后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哭着要《水浒传》直到妈妈答应再买一套的时候，我才破涕为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8"/>
          <p:cNvSpPr/>
          <p:nvPr/>
        </p:nvSpPr>
        <p:spPr>
          <a:xfrm>
            <a:off x="2666880" y="1447920"/>
            <a:ext cx="990720" cy="68580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228600" y="0"/>
            <a:ext cx="804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-3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段从这些词句可以看出作者想读《水浒传》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457200" y="1523880"/>
            <a:ext cx="757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、武松打虎，更是百听不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、我盼望自己快些长大，多认些字，能读《水浒传》这样有趣的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、我哭着要《水浒传》，直到妈妈答应再买一套的时候，我才破涕为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8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8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8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457200" y="533520"/>
            <a:ext cx="832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九岁时，我读四年级了，妈妈给我买来一套崭新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浒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我迫不及待地读起来。我被书中英雄人物的豪情壮举，生动曲折的故事情节吸引住了。尽管有些字还不认识，有些内容还不理解，我仍然津津有味地看下去。早上在晨曦中看，晚上在煤油灯下看，放学回来的路上，还坐在草地上看个没完。不到一星期，我就把全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浒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完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3"/>
          <p:cNvSpPr/>
          <p:nvPr/>
        </p:nvSpPr>
        <p:spPr>
          <a:xfrm>
            <a:off x="2971800" y="4191120"/>
            <a:ext cx="3200400" cy="1828800"/>
          </a:xfrm>
          <a:prstGeom prst="cloudCallout">
            <a:avLst>
              <a:gd name="adj1" fmla="val -43601"/>
              <a:gd name="adj2" fmla="val 699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想一想，你从哪些地方感受到了“我”的迫不及待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2133720" y="1676520"/>
            <a:ext cx="1295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1066680" y="3200400"/>
            <a:ext cx="3276720" cy="685800"/>
          </a:xfrm>
          <a:prstGeom prst="wedgeRoundRectCallout">
            <a:avLst>
              <a:gd name="adj1" fmla="val -2615"/>
              <a:gd name="adj2" fmla="val -2819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迫不及待：急迫得不容等待。形容急切之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533520" y="0"/>
            <a:ext cx="63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读课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-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段，我是怎么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水浒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？从哪一个词可以看出来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1981080" y="3200400"/>
            <a:ext cx="57913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8"/>
          <p:cNvGrpSpPr/>
          <p:nvPr/>
        </p:nvGrpSpPr>
        <p:grpSpPr>
          <a:xfrm>
            <a:off x="685800" y="2057400"/>
            <a:ext cx="7848720" cy="380880"/>
            <a:chOff x="685800" y="2057400"/>
            <a:chExt cx="7848720" cy="380880"/>
          </a:xfrm>
        </p:grpSpPr>
        <p:sp>
          <p:nvSpPr>
            <p:cNvPr id="270" name="Line 9"/>
            <p:cNvSpPr/>
            <p:nvPr/>
          </p:nvSpPr>
          <p:spPr>
            <a:xfrm>
              <a:off x="5639040" y="2057400"/>
              <a:ext cx="2895480" cy="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0"/>
            <p:cNvSpPr/>
            <p:nvPr/>
          </p:nvSpPr>
          <p:spPr>
            <a:xfrm>
              <a:off x="685800" y="2437920"/>
              <a:ext cx="6095880" cy="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11"/>
          <p:cNvGrpSpPr/>
          <p:nvPr/>
        </p:nvGrpSpPr>
        <p:grpSpPr>
          <a:xfrm>
            <a:off x="609480" y="2438280"/>
            <a:ext cx="8001000" cy="762120"/>
            <a:chOff x="609480" y="2438280"/>
            <a:chExt cx="8001000" cy="762120"/>
          </a:xfrm>
        </p:grpSpPr>
        <p:sp>
          <p:nvSpPr>
            <p:cNvPr id="273" name="Line 12"/>
            <p:cNvSpPr/>
            <p:nvPr/>
          </p:nvSpPr>
          <p:spPr>
            <a:xfrm>
              <a:off x="7162560" y="2438280"/>
              <a:ext cx="1447920" cy="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3"/>
            <p:cNvSpPr/>
            <p:nvPr/>
          </p:nvSpPr>
          <p:spPr>
            <a:xfrm>
              <a:off x="685440" y="2742840"/>
              <a:ext cx="7848360" cy="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4"/>
            <p:cNvSpPr/>
            <p:nvPr/>
          </p:nvSpPr>
          <p:spPr>
            <a:xfrm>
              <a:off x="609480" y="3200040"/>
              <a:ext cx="1143000" cy="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Oval 15"/>
          <p:cNvSpPr/>
          <p:nvPr/>
        </p:nvSpPr>
        <p:spPr>
          <a:xfrm>
            <a:off x="4191120" y="2286000"/>
            <a:ext cx="83808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6"/>
          <p:cNvSpPr/>
          <p:nvPr/>
        </p:nvSpPr>
        <p:spPr>
          <a:xfrm>
            <a:off x="1371600" y="2286000"/>
            <a:ext cx="83808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7"/>
          <p:cNvSpPr/>
          <p:nvPr/>
        </p:nvSpPr>
        <p:spPr>
          <a:xfrm>
            <a:off x="7010280" y="1905120"/>
            <a:ext cx="83844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8"/>
          <p:cNvSpPr/>
          <p:nvPr/>
        </p:nvSpPr>
        <p:spPr>
          <a:xfrm>
            <a:off x="3505320" y="1905120"/>
            <a:ext cx="83808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9"/>
          <p:cNvSpPr/>
          <p:nvPr/>
        </p:nvSpPr>
        <p:spPr>
          <a:xfrm>
            <a:off x="5410080" y="1523880"/>
            <a:ext cx="838440" cy="609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0"/>
          <p:cNvSpPr/>
          <p:nvPr/>
        </p:nvSpPr>
        <p:spPr>
          <a:xfrm>
            <a:off x="5562720" y="35053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2"/>
          <p:cNvSpPr/>
          <p:nvPr/>
        </p:nvSpPr>
        <p:spPr>
          <a:xfrm>
            <a:off x="4343400" y="2362320"/>
            <a:ext cx="1295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23"/>
          <p:cNvSpPr/>
          <p:nvPr/>
        </p:nvSpPr>
        <p:spPr>
          <a:xfrm>
            <a:off x="4952880" y="3505320"/>
            <a:ext cx="3276720" cy="1600200"/>
          </a:xfrm>
          <a:prstGeom prst="wedgeRoundRectCallout">
            <a:avLst>
              <a:gd name="adj1" fmla="val -37500"/>
              <a:gd name="adj2" fmla="val -1208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津：口水，唾液；津津：兴趣浓厚。形容对某事物兴味浓厚。 形容有滋味，有趣味。也形容兴趣浓厚的样子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06000" y="1523880"/>
            <a:ext cx="891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武松打虎的故事，虽然邻居大爷早就讲过，但毕竟讲得比较简单。书上的描写就细致多了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武松不管什么“三碗不过冈”，连喝十八碗酒；老虎的一扑、一掀、一剪；哨棒打断了，武松赤手空拳打虎；武松下冈时碰到身蒙虎皮的猎户等情节，都写得如闻其声，如见其人。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这一段，我反复读了好几遍。其他如鲁达拳打镇关西、吴用智取生辰纲、宋江三打祝家庄等等故事，都在我童年的心海中，激起了喜悦的浪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"/>
          <p:cNvSpPr/>
          <p:nvPr/>
        </p:nvSpPr>
        <p:spPr>
          <a:xfrm>
            <a:off x="5410080" y="5638680"/>
            <a:ext cx="3048120" cy="990720"/>
          </a:xfrm>
          <a:prstGeom prst="wedgeRoundRectCallout">
            <a:avLst>
              <a:gd name="adj1" fmla="val -37759"/>
              <a:gd name="adj2" fmla="val -12419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英雄人物的豪情壮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5334120" y="457200"/>
            <a:ext cx="1828800" cy="1676520"/>
          </a:xfrm>
          <a:prstGeom prst="wedgeRoundRectCallout">
            <a:avLst>
              <a:gd name="adj1" fmla="val 76564"/>
              <a:gd name="adj2" fmla="val 6827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一连串的动作描写体现故事情节的生动曲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7543800" y="2819520"/>
            <a:ext cx="457200" cy="75960"/>
            <a:chOff x="7543800" y="2819520"/>
            <a:chExt cx="457200" cy="75960"/>
          </a:xfrm>
        </p:grpSpPr>
        <p:sp>
          <p:nvSpPr>
            <p:cNvPr id="288" name="AutoShape 6"/>
            <p:cNvSpPr/>
            <p:nvPr/>
          </p:nvSpPr>
          <p:spPr>
            <a:xfrm>
              <a:off x="7543800" y="2819520"/>
              <a:ext cx="76320" cy="759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7"/>
            <p:cNvSpPr/>
            <p:nvPr/>
          </p:nvSpPr>
          <p:spPr>
            <a:xfrm>
              <a:off x="7924680" y="2819520"/>
              <a:ext cx="76320" cy="759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8"/>
          <p:cNvGrpSpPr/>
          <p:nvPr/>
        </p:nvGrpSpPr>
        <p:grpSpPr>
          <a:xfrm>
            <a:off x="1600200" y="3276720"/>
            <a:ext cx="457200" cy="75960"/>
            <a:chOff x="1600200" y="3276720"/>
            <a:chExt cx="457200" cy="75960"/>
          </a:xfrm>
        </p:grpSpPr>
        <p:sp>
          <p:nvSpPr>
            <p:cNvPr id="291" name="AutoShape 9"/>
            <p:cNvSpPr/>
            <p:nvPr/>
          </p:nvSpPr>
          <p:spPr>
            <a:xfrm>
              <a:off x="1600200" y="3276720"/>
              <a:ext cx="76320" cy="759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10"/>
            <p:cNvSpPr/>
            <p:nvPr/>
          </p:nvSpPr>
          <p:spPr>
            <a:xfrm>
              <a:off x="1981080" y="3276720"/>
              <a:ext cx="76320" cy="759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11"/>
          <p:cNvGrpSpPr/>
          <p:nvPr/>
        </p:nvGrpSpPr>
        <p:grpSpPr>
          <a:xfrm>
            <a:off x="914400" y="2819520"/>
            <a:ext cx="7772400" cy="532800"/>
            <a:chOff x="914400" y="2819520"/>
            <a:chExt cx="7772400" cy="532800"/>
          </a:xfrm>
        </p:grpSpPr>
        <p:sp>
          <p:nvSpPr>
            <p:cNvPr id="294" name="AutoShape 12"/>
            <p:cNvSpPr/>
            <p:nvPr/>
          </p:nvSpPr>
          <p:spPr>
            <a:xfrm>
              <a:off x="914400" y="3276360"/>
              <a:ext cx="76320" cy="759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13"/>
            <p:cNvSpPr/>
            <p:nvPr/>
          </p:nvSpPr>
          <p:spPr>
            <a:xfrm>
              <a:off x="8610480" y="2819520"/>
              <a:ext cx="76320" cy="759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Line 14"/>
          <p:cNvSpPr/>
          <p:nvPr/>
        </p:nvSpPr>
        <p:spPr>
          <a:xfrm>
            <a:off x="4343400" y="4114800"/>
            <a:ext cx="6094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5"/>
          <p:cNvGrpSpPr/>
          <p:nvPr/>
        </p:nvGrpSpPr>
        <p:grpSpPr>
          <a:xfrm>
            <a:off x="838080" y="4114800"/>
            <a:ext cx="8077320" cy="533520"/>
            <a:chOff x="838080" y="4114800"/>
            <a:chExt cx="8077320" cy="533520"/>
          </a:xfrm>
        </p:grpSpPr>
        <p:sp>
          <p:nvSpPr>
            <p:cNvPr id="298" name="Line 16"/>
            <p:cNvSpPr/>
            <p:nvPr/>
          </p:nvSpPr>
          <p:spPr>
            <a:xfrm>
              <a:off x="838080" y="4572000"/>
              <a:ext cx="73152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7"/>
            <p:cNvSpPr/>
            <p:nvPr/>
          </p:nvSpPr>
          <p:spPr>
            <a:xfrm>
              <a:off x="8305560" y="4114800"/>
              <a:ext cx="5335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8"/>
            <p:cNvSpPr/>
            <p:nvPr/>
          </p:nvSpPr>
          <p:spPr>
            <a:xfrm>
              <a:off x="838080" y="4648320"/>
              <a:ext cx="73152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9"/>
            <p:cNvSpPr/>
            <p:nvPr/>
          </p:nvSpPr>
          <p:spPr>
            <a:xfrm>
              <a:off x="8305560" y="4191120"/>
              <a:ext cx="60984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20"/>
          <p:cNvGrpSpPr/>
          <p:nvPr/>
        </p:nvGrpSpPr>
        <p:grpSpPr>
          <a:xfrm>
            <a:off x="0" y="152280"/>
            <a:ext cx="9144000" cy="1477080"/>
            <a:chOff x="0" y="152280"/>
            <a:chExt cx="9144000" cy="1477080"/>
          </a:xfrm>
        </p:grpSpPr>
        <p:sp>
          <p:nvSpPr>
            <p:cNvPr id="303" name="Text Box 21"/>
            <p:cNvSpPr/>
            <p:nvPr/>
          </p:nvSpPr>
          <p:spPr>
            <a:xfrm>
              <a:off x="0" y="152280"/>
              <a:ext cx="914400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品读第五自然段，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用“        ”标记出老虎进攻时一连串动作的词语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Group 22"/>
            <p:cNvGrpSpPr/>
            <p:nvPr/>
          </p:nvGrpSpPr>
          <p:grpSpPr>
            <a:xfrm>
              <a:off x="4572000" y="533520"/>
              <a:ext cx="457200" cy="75960"/>
              <a:chOff x="4572000" y="533520"/>
              <a:chExt cx="457200" cy="75960"/>
            </a:xfrm>
          </p:grpSpPr>
          <p:sp>
            <p:nvSpPr>
              <p:cNvPr id="305" name="AutoShape 23"/>
              <p:cNvSpPr/>
              <p:nvPr/>
            </p:nvSpPr>
            <p:spPr>
              <a:xfrm>
                <a:off x="4572000" y="533520"/>
                <a:ext cx="76320" cy="759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AutoShape 24"/>
              <p:cNvSpPr/>
              <p:nvPr/>
            </p:nvSpPr>
            <p:spPr>
              <a:xfrm>
                <a:off x="4952880" y="533520"/>
                <a:ext cx="76320" cy="759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30040" y="274680"/>
            <a:ext cx="87631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除了书本上介绍的故事，你还知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水浒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中有哪些有趣的故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林教头风雪山神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林教头大闹野猪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花和尚倒拔垂杨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武松大闹飞云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9" dur="2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4" dur="20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9" dur="2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4" dur="20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9" dur="20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" descr="未命名"/>
          <p:cNvPicPr/>
          <p:nvPr/>
        </p:nvPicPr>
        <p:blipFill>
          <a:blip r:embed="rId1"/>
          <a:stretch/>
        </p:blipFill>
        <p:spPr>
          <a:xfrm>
            <a:off x="0" y="1440"/>
            <a:ext cx="9144000" cy="693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0" y="190512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天分不高，当时成绩只是中等。在读了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浒传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其他课外书后，语文成绩提高很快，我的作文也经常被老师贴在墙上，供同学们观摩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5562720" y="4343400"/>
            <a:ext cx="3200400" cy="1828800"/>
          </a:xfrm>
          <a:prstGeom prst="cloudCallout">
            <a:avLst>
              <a:gd name="adj1" fmla="val 44990"/>
              <a:gd name="adj2" fmla="val 5390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童年的“我”读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水浒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有什么收获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"/>
          <p:cNvSpPr/>
          <p:nvPr/>
        </p:nvSpPr>
        <p:spPr>
          <a:xfrm>
            <a:off x="2895480" y="3962520"/>
            <a:ext cx="5334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5"/>
          <p:cNvSpPr/>
          <p:nvPr/>
        </p:nvSpPr>
        <p:spPr>
          <a:xfrm>
            <a:off x="0" y="4495680"/>
            <a:ext cx="5410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838080" y="5335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读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水浒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收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609480" y="21337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同学们，你们平常读课外书有什么收获呢？和你的学习伙伴说一说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9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5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77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770" fill="hold"/>
                                        <p:tgtEl>
                                          <p:spTgt spid="3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0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2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水浒书籍"/>
          <p:cNvPicPr/>
          <p:nvPr/>
        </p:nvPicPr>
        <p:blipFill>
          <a:blip r:embed="rId1"/>
          <a:stretch/>
        </p:blipFill>
        <p:spPr>
          <a:xfrm>
            <a:off x="5724360" y="1557360"/>
            <a:ext cx="2853000" cy="39495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380880" y="152280"/>
            <a:ext cx="5054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水浒传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的故事最初起源于北宋宣和年间，从南宋开始就成为了民间口头文学的主要题材。目前流传下来的根据说书人编成的话本中就有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青面兽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花和尚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武行者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等。元朝初年，出现了话本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大宋宣和遗事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，描述了晁盖、吴加亮（吴用）等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36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人的故事，初步具有了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水浒传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的故事梗概。元朝，元杂剧中还出现了一些水浒故事剧本。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水浒传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又名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忠义水浒传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》《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江湖豪客传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拓展学习"/>
          <p:cNvPicPr/>
          <p:nvPr/>
        </p:nvPicPr>
        <p:blipFill>
          <a:blip r:embed="rId1"/>
          <a:stretch/>
        </p:blipFill>
        <p:spPr>
          <a:xfrm>
            <a:off x="611280" y="1052640"/>
            <a:ext cx="1935000" cy="47772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3"/>
          <p:cNvSpPr/>
          <p:nvPr/>
        </p:nvSpPr>
        <p:spPr>
          <a:xfrm>
            <a:off x="1403280" y="177336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你知道这些水浒故事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4" descr="梁山好汉"/>
          <p:cNvPicPr/>
          <p:nvPr/>
        </p:nvPicPr>
        <p:blipFill>
          <a:blip r:embed="rId2"/>
          <a:stretch/>
        </p:blipFill>
        <p:spPr>
          <a:xfrm>
            <a:off x="2124000" y="2349360"/>
            <a:ext cx="5184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拓展学习"/>
          <p:cNvPicPr/>
          <p:nvPr/>
        </p:nvPicPr>
        <p:blipFill>
          <a:blip r:embed="rId1"/>
          <a:stretch/>
        </p:blipFill>
        <p:spPr>
          <a:xfrm>
            <a:off x="611280" y="1052640"/>
            <a:ext cx="1935000" cy="47772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3"/>
          <p:cNvSpPr/>
          <p:nvPr/>
        </p:nvSpPr>
        <p:spPr>
          <a:xfrm>
            <a:off x="1403280" y="177336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你知道这些水浒故事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4" descr="李逵闹东京"/>
          <p:cNvPicPr/>
          <p:nvPr/>
        </p:nvPicPr>
        <p:blipFill>
          <a:blip r:embed="rId2"/>
          <a:stretch/>
        </p:blipFill>
        <p:spPr>
          <a:xfrm>
            <a:off x="1908000" y="2349360"/>
            <a:ext cx="5257800" cy="34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1403280" y="177336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你知道这些水浒故事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3" descr="拓展学习"/>
          <p:cNvPicPr/>
          <p:nvPr/>
        </p:nvPicPr>
        <p:blipFill>
          <a:blip r:embed="rId1"/>
          <a:stretch/>
        </p:blipFill>
        <p:spPr>
          <a:xfrm>
            <a:off x="611280" y="1052640"/>
            <a:ext cx="1935000" cy="4777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武松打虎"/>
          <p:cNvPicPr/>
          <p:nvPr/>
        </p:nvPicPr>
        <p:blipFill>
          <a:blip r:embed="rId2"/>
          <a:stretch/>
        </p:blipFill>
        <p:spPr>
          <a:xfrm>
            <a:off x="2627280" y="2349360"/>
            <a:ext cx="446580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好读书不好读书，好读书不好读书。（徐文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读书好，好读书，读好书。（冰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609480" y="16765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ă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2286000" y="16765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3962520" y="16765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3505320" y="3962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5638680" y="1676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ă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2590920" y="39625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ă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"/>
          <p:cNvSpPr/>
          <p:nvPr/>
        </p:nvSpPr>
        <p:spPr>
          <a:xfrm>
            <a:off x="5410080" y="396252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ă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596880" y="16765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ă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2273400" y="16765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3"/>
          <p:cNvSpPr/>
          <p:nvPr/>
        </p:nvSpPr>
        <p:spPr>
          <a:xfrm>
            <a:off x="3949560" y="167652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4"/>
          <p:cNvSpPr/>
          <p:nvPr/>
        </p:nvSpPr>
        <p:spPr>
          <a:xfrm>
            <a:off x="3492360" y="3962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5"/>
          <p:cNvSpPr/>
          <p:nvPr/>
        </p:nvSpPr>
        <p:spPr>
          <a:xfrm>
            <a:off x="5626080" y="1676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ă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6"/>
          <p:cNvSpPr/>
          <p:nvPr/>
        </p:nvSpPr>
        <p:spPr>
          <a:xfrm>
            <a:off x="5397480" y="39625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ă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1532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读一本好书，就是和许多高尚的人谈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笛卡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少壮不努力，老大徒悲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更灯火五更鸡，正是男儿读书时。黑发不知勤学早，白首方悔读书迟 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真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读书要三到：心到、眼到、口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玉不琢、不成器，人不学、不知义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3675960" y="1447920"/>
            <a:ext cx="1790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楷体_GB2312"/>
              </a:rPr>
              <a:t>想看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  <a:ea typeface="楷体_GB2312"/>
              </a:rPr>
              <a:t>《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楷体_GB2312"/>
              </a:rPr>
              <a:t>水浒传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  <a:ea typeface="楷体_GB2312"/>
              </a:rPr>
              <a:t>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3675960" y="2879640"/>
            <a:ext cx="1790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楷体_GB2312"/>
              </a:rPr>
              <a:t>爱看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  <a:ea typeface="楷体_GB2312"/>
              </a:rPr>
              <a:t>《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楷体_GB2312"/>
              </a:rPr>
              <a:t>水浒传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  <a:ea typeface="楷体_GB2312"/>
              </a:rPr>
              <a:t>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3675960" y="4419720"/>
            <a:ext cx="1790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楷体_GB2312"/>
              </a:rPr>
              <a:t>感谢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  <a:ea typeface="楷体_GB2312"/>
              </a:rPr>
              <a:t>《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楷体_GB2312"/>
              </a:rPr>
              <a:t>水浒传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  <a:ea typeface="楷体_GB2312"/>
              </a:rPr>
              <a:t>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5"/>
          <p:cNvSpPr/>
          <p:nvPr/>
        </p:nvSpPr>
        <p:spPr>
          <a:xfrm>
            <a:off x="4572000" y="2057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6"/>
          <p:cNvSpPr/>
          <p:nvPr/>
        </p:nvSpPr>
        <p:spPr>
          <a:xfrm>
            <a:off x="4572000" y="3657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609480" y="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回顾一下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水浒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经历，并说说学了这篇课文你有什么收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77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6" dur="770" fill="hold"/>
                                        <p:tgtEl>
                                          <p:spTgt spid="3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8" dur="77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0" dur="77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1028880" y="20574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马达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湖南华容人。中国作家协会天津分会创委会第一届委员兼诗歌组长，中国寓言文学研究会副会长，中国屈原学会理事。编著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寓林折枝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庄子寓言选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列子寓言选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古代劝学寓言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新序译注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古代寓言名篇选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十二生肖寓言故事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新序说苑选译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寓言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幽默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笑话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中国忍术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劝忍百箴释评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等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余种寓言类图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76320" y="-196920"/>
            <a:ext cx="82296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作者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387180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  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1371600" y="2440080"/>
            <a:ext cx="3355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4416480" y="3108240"/>
            <a:ext cx="311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15.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童年读《水浒传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"/>
              </a:rPr>
              <a:t>课堂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读拼音，写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héng liáng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chōu tì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fēng miàn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jīn jīn yǒu wè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                 )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(         )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(             )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(         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zhǎn xī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tūn mò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lūn quá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chì shǒu kōng qu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(          )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(       )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(        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(                   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比一比，再组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乘（    ）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媒（   ）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猎（   ）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纲 （   ）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供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乖（    ）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煤（   ）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借（   ）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钢（   ）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拱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113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-74880" y="-360"/>
            <a:ext cx="92185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请给下面多音字注音，并组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）——         （   ）——         （   ）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难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{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供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{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）——          （   ）——         （   ）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、把下列的词语补充完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破（）为（）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百（）不（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身材（）（）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）情（）举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生（）曲（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（）（）有味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赤手（）（）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如（）其（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如（）其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685800" y="380880"/>
            <a:ext cx="327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施耐庵，名子安（一说名耳），又名肇瑞，字彦端，号耐庵。兴化白驹场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属江苏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祖籍泰州海陵县，住苏州阊门外施家巷，后迁居当时兴化县白驹场（今江苏省大丰市白驹镇）。中国古代著名作家，元末明初人，长篇古典小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浒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005"/>
          <p:cNvPicPr/>
          <p:nvPr/>
        </p:nvPicPr>
        <p:blipFill>
          <a:blip r:embed="rId1"/>
          <a:stretch/>
        </p:blipFill>
        <p:spPr>
          <a:xfrm>
            <a:off x="4040280" y="685800"/>
            <a:ext cx="4573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预习情况统计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、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腾博廉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涂一鸣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3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段健君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张   天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2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任欣怡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余英杰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孙    学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2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闻佳瑶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3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陈首阳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袁心怡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熊耀阳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3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罗梓淇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余子辉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朱建祥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李燮飞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朱家鸣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任雨婷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3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彭   浪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2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田宇彤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3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龚飞鸿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王子嵘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3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王子峥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2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张金选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方   瞄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4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郑祎琳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丁  昕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3  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罗佳琪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4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朱奕晖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朱奕凝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3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周梦如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潘金城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夏龚子建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4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沈傲宇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黄思迪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胡超杰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胡子叶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侯昕瑶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4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连梦怡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2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许文卓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2 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汪海若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涂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3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张宇悦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2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徐梦晗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陈诗琪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李天祥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刘晨麟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830556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四大名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三国演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者：（元末明初）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罗贯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水浒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者：（元末明初）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施耐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西游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者：（明）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吴承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红楼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者：（清）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曹雪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又名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头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风月宝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金陵十二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 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情僧录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金玉缘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楷体_GB2312"/>
              </a:rPr>
              <a:t>初读课文，整体感知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读通句子，读准生字。遇到长句子多读几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边读边想：课文写了几件事？哪几件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387360" y="108000"/>
            <a:ext cx="68515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838080" y="304920"/>
            <a:ext cx="624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文章的三个层次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289160" y="1641600"/>
            <a:ext cx="2063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2995560" y="1609560"/>
            <a:ext cx="378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"/>
              </a:rPr>
              <a:t>想看《水浒传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3048120" y="2819520"/>
            <a:ext cx="400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爱看《水浒传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3124080" y="3886200"/>
            <a:ext cx="412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"/>
              </a:rPr>
              <a:t>感谢《水浒传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30040" y="456840"/>
            <a:ext cx="327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你会读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秦  魁  梧  砸  屉  涕  崭  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肚  叔  猛  套  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豪  煤  赤  猎  纲  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多音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30040" y="762120"/>
            <a:ext cx="8685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</a:rPr>
              <a:t>ché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乘凉，乘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</a:rPr>
              <a:t>shè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乘之国 （古代称四匹马拉的车一辆 为一乘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</a:rPr>
              <a:t>zhuà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记，左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</a:rPr>
              <a:t>chuá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说，传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</a:rPr>
              <a:t>qǔ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歌曲，曲调，曲艺，曲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</a:rPr>
              <a:t>qū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曲解，曲折，曲直，曲意逢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</a:rPr>
              <a:t>gōng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，供求，供养，供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</a:rPr>
              <a:t>gòng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供认，供职，供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0040" y="456840"/>
            <a:ext cx="327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"/>
              </a:rPr>
              <a:t>你会读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7391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乘凉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失望    盼望    烧毁    吞没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观摩    崭新    抡拳    封面    猛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抽屉    晨曦    煤油    细致    哨棒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书籍    成绩   生辰纲     破涕为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百听不厌     身材魁梧    迫不及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豪情壮举     生动曲折    津津有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赤手空拳     如闻其声    如见其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9T17:50:16Z</dcterms:created>
  <dc:creator/>
  <dc:description/>
  <cp:keywords/>
  <dc:language>en-US</dc:language>
  <cp:lastModifiedBy>Administrator</cp:lastModifiedBy>
  <dcterms:modified xsi:type="dcterms:W3CDTF">2015-04-09T15:00:22Z</dcterms:modified>
  <cp:revision>8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  <property fmtid="{D5CDD505-2E9C-101B-9397-08002B2CF9AE}" pid="3" name="Version">
    <vt:r8>1</vt:r8>
  </property>
</Properties>
</file>