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C0D-923C-4DA8-A79B-DDA6B0EB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832-7B92-435C-8B1F-FA048ED5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213-9982-4F69-99F7-3A8A0A58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2B6-BFB6-459F-9954-145DE416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BD0-6245-4048-93E0-A81EE0AE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21A-77AB-4893-9E63-C967C3CA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DAA-16B5-48EE-9EEB-B4DF553E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7FB-7025-4083-8B02-3BFBE232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B8F-4D58-4A61-9F15-FE0D0E89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43A-6414-4D47-8E3C-95597CC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41B-93B0-4CA3-A866-D9CE8A2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635-3ED8-4615-B4BE-E15495E1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182F-B060-40E3-A5D3-E4E7367F5F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13  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有趣的班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0" y="380880"/>
            <a:ext cx="940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读课文，感悟班会的“趣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219320" y="15238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用自己喜欢的方式读课文，并勾画出文中你认为有趣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447920" y="28954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讨论：这次班会的“趣”体现在哪些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26920" y="304920"/>
          <a:ext cx="7632720" cy="6010200"/>
        </p:xfrm>
        <a:graphic>
          <a:graphicData uri="http://schemas.openxmlformats.org/drawingml/2006/table">
            <a:tbl>
              <a:tblPr/>
              <a:tblGrid>
                <a:gridCol w="1152720"/>
                <a:gridCol w="3529080"/>
                <a:gridCol w="2950920"/>
              </a:tblGrid>
              <a:tr h="72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31"/>
          <p:cNvSpPr/>
          <p:nvPr/>
        </p:nvSpPr>
        <p:spPr>
          <a:xfrm>
            <a:off x="1295280" y="30492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思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5943600" y="30492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2057400" y="10666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明像金箍棒似的书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856440" y="1143000"/>
            <a:ext cx="9118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 来 学 们 的 奇 思 妙 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5715000" y="10666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变大变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057400" y="17524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明会说话的钥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5715000" y="1676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自己说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2133720" y="2438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明像气球样的旅行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5651640" y="2421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悬在空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0"/>
          <p:cNvSpPr/>
          <p:nvPr/>
        </p:nvSpPr>
        <p:spPr>
          <a:xfrm>
            <a:off x="2209680" y="3276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明不怕摔的眼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1"/>
          <p:cNvSpPr/>
          <p:nvPr/>
        </p:nvSpPr>
        <p:spPr>
          <a:xfrm>
            <a:off x="5867280" y="314172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摔倒地上能自动弹到手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2268360" y="414972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马路安个拉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3"/>
          <p:cNvSpPr/>
          <p:nvPr/>
        </p:nvSpPr>
        <p:spPr>
          <a:xfrm>
            <a:off x="5580000" y="414972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随时打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3989160" y="54450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也想发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971640" y="4869000"/>
            <a:ext cx="9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33520" y="38088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读课文，体会句子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66680" y="914400"/>
            <a:ext cx="71629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发明，从来不拒绝那些奇思妙想的设想。只要敢于去想，即使实现不了也没什么要紧，重要的是锻炼我们突破条条框框的思维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994120" y="1897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971800" y="152388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5800" y="1523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句话告诉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大胆奇妙的设想虽然不一定会实现，但却能锻炼我们的思维能力。使我们的思想打破我们已知的规律定理的限制，把不可能的设想变为可能，科学上的发明创造往往源自于那些奇妙的想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42920" y="242100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分角色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以小组为单位，说说自己还知道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些发明创造也是源自奇思妙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12536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总结全文，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6320" y="1523880"/>
            <a:ext cx="7162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zh-CN" sz="6200" spc="-1" strike="noStrike">
                <a:solidFill>
                  <a:srgbClr val="ff0000"/>
                </a:solidFill>
                <a:latin typeface="Calibri"/>
              </a:rPr>
              <a:t>再见！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zh-CN" sz="6200" spc="-1" strike="noStrike">
                <a:solidFill>
                  <a:srgbClr val="ff0000"/>
                </a:solidFill>
                <a:latin typeface="Calibri"/>
              </a:rPr>
              <a:t>谢谢指导！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课件素材"/>
          <p:cNvPicPr/>
          <p:nvPr/>
        </p:nvPicPr>
        <p:blipFill>
          <a:blip r:embed="rId1"/>
          <a:stretch/>
        </p:blipFill>
        <p:spPr>
          <a:xfrm>
            <a:off x="6095880" y="4191120"/>
            <a:ext cx="2627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68360" y="162864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确读写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生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确读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邀、年幼、钱包、钥匙、旅行、动弹、拒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维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朗读课文，理解课文内容。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自学自悟，讨论交流，体会这次班会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感受童年的童真，童趣，激发热爱生活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11280" y="1268280"/>
            <a:ext cx="6337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体会这次班会的“趣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体会老师最后说的那段话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304560"/>
            <a:ext cx="8229600" cy="61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由读课文，把课文读通、读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能给课文标小节，圈出本课会认的生字，并给生字注音、组词。互相交流一下自学收获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能利用工具书或结合课文说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奇思妙想、特邀、年幼、专利、嘉宾、争先恐后、大汗淋漓、  海阔天空、稀奇古怪、条条框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词语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说说课文讲了一件什么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29680"/>
            <a:ext cx="8229600" cy="589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我能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yāo   zhì</a:t>
            </a:r>
            <a:r>
              <a:rPr b="0" lang="zh-CN" sz="4000" spc="-1" strike="noStrike">
                <a:solidFill>
                  <a:srgbClr val="ff6600"/>
                </a:solidFill>
                <a:latin typeface="Calibri"/>
              </a:rPr>
              <a:t>         </a:t>
            </a: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găo             yò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特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邀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制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作    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 搞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笑     年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 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qián       yào        l ǚ        xuá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钱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包    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匙   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旅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行   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悬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tán       j ù        shè              wé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弹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力  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拒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绝   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 设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想     思  </a:t>
            </a:r>
            <a:r>
              <a:rPr b="1" lang="zh-CN" sz="4000" spc="-1" strike="noStrike">
                <a:solidFill>
                  <a:srgbClr val="008000"/>
                </a:solidFill>
                <a:latin typeface="Calibri"/>
              </a:rPr>
              <a:t>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1747800" y="509760"/>
            <a:ext cx="28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我能理解词语意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3880" y="152388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特邀   年幼   专利     嘉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争先恐后    海阔天空  稀奇古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奇思妙想  条条框框   大汗淋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1476360" y="1484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666080" y="1143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66080" y="2008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51120" y="1092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鲜花）（新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47880" y="200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鲜为人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932000" y="162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292720" y="1484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581800" y="1339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511240" y="1987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685560" y="119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弹琴）（弹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685560" y="191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子弹）（弹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880920" y="3879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133200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1529640" y="35193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1602720" y="42400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534040" y="3521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锁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462400" y="416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钥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4860000" y="3716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5292720" y="3573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5510520" y="32846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5509440" y="4076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40008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钥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728760" y="40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汤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952200" y="5753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7"/>
          <p:cNvSpPr/>
          <p:nvPr/>
        </p:nvSpPr>
        <p:spPr>
          <a:xfrm>
            <a:off x="1332000" y="558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1600560" y="5319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1562760" y="6111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2529720" y="53211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提问）（提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2173680" y="6040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提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4860720" y="54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3"/>
          <p:cNvSpPr/>
          <p:nvPr/>
        </p:nvSpPr>
        <p:spPr>
          <a:xfrm>
            <a:off x="5219640" y="530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5510880" y="50846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5510880" y="5948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6685560" y="51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埋伏）（埋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6658200" y="595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埋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762120" y="533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1430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思考： 课文主要写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752480" y="24382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讲的是一次有趣的班会，同学们围绕“奇思妙想出发明” 纷纷畅谈自己的奇思妙想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四字词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9320" y="1905120"/>
            <a:ext cx="2133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争先恐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奇思妙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大汗淋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没完没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稀奇古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海阔天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条条框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657600" y="1905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20051010193901677"/>
          <p:cNvPicPr/>
          <p:nvPr/>
        </p:nvPicPr>
        <p:blipFill>
          <a:blip r:embed="rId1"/>
          <a:stretch/>
        </p:blipFill>
        <p:spPr>
          <a:xfrm>
            <a:off x="2819520" y="2438280"/>
            <a:ext cx="5238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4:15:26Z</dcterms:created>
  <dc:creator/>
  <dc:description/>
  <cp:keywords/>
  <dc:language>en-US</dc:language>
  <cp:lastModifiedBy>Administrator</cp:lastModifiedBy>
  <dcterms:modified xsi:type="dcterms:W3CDTF">2015-04-08T09:29:35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Version">
    <vt:r8>1</vt:r8>
  </property>
</Properties>
</file>