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1.wmf" ContentType="image/x-wmf"/>
  <Override PartName="/ppt/media/image12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523-0983-49C3-889C-A89F944A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9252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6880" y="4096080"/>
            <a:ext cx="9252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CABE-C841-45F0-AE45-F47508D8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7720" y="190512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6880" y="409608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7720" y="409608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9676-844D-42AC-AA55-9FD32FA5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2979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5280" y="1905120"/>
            <a:ext cx="2979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3680" y="1905120"/>
            <a:ext cx="2979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6880" y="4096080"/>
            <a:ext cx="2979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5280" y="4096080"/>
            <a:ext cx="2979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3680" y="4096080"/>
            <a:ext cx="2979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7DF-E159-44F9-91EB-64596BA6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9715-5F8D-4A4C-8E41-73A806BE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26880" y="1905120"/>
            <a:ext cx="9252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50DE-C3E3-4688-BDA5-37F06AF4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9252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497E-545D-467D-909D-F4FE889E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45147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7720" y="1905120"/>
            <a:ext cx="45147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EB5B-F411-4AFD-BC47-B98D36E8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A4AE-3F48-4E69-84F1-6868F46F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26880" y="609120"/>
            <a:ext cx="9252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8C9D-6116-43F3-BC9B-52E1057E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7720" y="1905120"/>
            <a:ext cx="45147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26880" y="409608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046C-AC48-42A2-AA29-27DF95F7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6880" y="1905120"/>
            <a:ext cx="9252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4089-A769-4AAD-9817-9FBEB711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45147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7720" y="190512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67720" y="409608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8F03-65EA-4277-8A21-BC10458C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67720" y="190512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26880" y="4096080"/>
            <a:ext cx="9252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EB56-A158-46EE-8BC2-E43354A0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9252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6880" y="4096080"/>
            <a:ext cx="9252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8450-7851-4167-A590-59E85251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67720" y="190512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26880" y="409608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7720" y="409608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3D7D-EA45-4273-973A-ABEDB3DE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2979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55280" y="1905120"/>
            <a:ext cx="2979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83680" y="1905120"/>
            <a:ext cx="2979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26880" y="4096080"/>
            <a:ext cx="2979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55280" y="4096080"/>
            <a:ext cx="2979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583680" y="4096080"/>
            <a:ext cx="2979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6D6E-CAE8-4B2C-87BE-BA9E5D1B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22E89-D9AC-41C0-B3D2-FFF17E29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26880" y="1905120"/>
            <a:ext cx="9252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0644F-80BE-4BD6-907D-E8F46B3D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9252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51A5D-9DE5-4FC2-AD1E-5FFDE2D5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45147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7720" y="1905120"/>
            <a:ext cx="45147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7483C-5694-42A6-B356-4F145EB8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72921-E498-4B44-A615-00FDDEB6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9252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8690-D92B-4BE0-A888-4C9EABA4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26880" y="609120"/>
            <a:ext cx="9252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3678A-3BA9-4F11-A076-B54268E3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7720" y="1905120"/>
            <a:ext cx="45147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26880" y="409608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B11C8-A664-4FFA-91CC-064F0ED2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45147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7720" y="190512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67720" y="409608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D4E98-AFF2-4AF2-B947-67B60CCC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7720" y="190512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26880" y="4096080"/>
            <a:ext cx="9252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7900A-F9D6-4A93-B05F-AE5AC92D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9252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6880" y="4096080"/>
            <a:ext cx="9252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113B7-45F7-4E5C-BB9C-21159578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7720" y="190512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26880" y="409608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67720" y="409608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D5A33-BE91-4739-99C3-F8F79872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2979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55280" y="1905120"/>
            <a:ext cx="2979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83680" y="1905120"/>
            <a:ext cx="2979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26880" y="4096080"/>
            <a:ext cx="2979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55280" y="4096080"/>
            <a:ext cx="2979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583680" y="4096080"/>
            <a:ext cx="2979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12134-CAEF-4EF2-BC61-65064DEA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DF77A-3F33-4C0D-99D5-F7EB6448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26880" y="1905120"/>
            <a:ext cx="92520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CBCA3-BB5F-458D-9A65-C1BC4BF7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9252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A5EA4-416F-4584-BD14-A3096763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45147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7720" y="1905120"/>
            <a:ext cx="45147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F11A-7225-48EB-A175-133E4392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45147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67720" y="1905120"/>
            <a:ext cx="45147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91826-130B-4A0A-ABED-39B0FCE3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6F94B-913E-4E65-AA13-F63E70D9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26880" y="609120"/>
            <a:ext cx="9252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ABBF8-4AF9-4C85-9319-CB3BCB9C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67720" y="1905120"/>
            <a:ext cx="45147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26880" y="409608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17EE0-E91E-4AC7-904A-4AAC657B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45147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67720" y="190512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067720" y="409608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7F393-6356-42A5-AA09-E3DA14F8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7720" y="190512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26880" y="4096080"/>
            <a:ext cx="9252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77828-ED0A-4820-A538-7852910E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9252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6880" y="4096080"/>
            <a:ext cx="9252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F6EDA-53F2-4BC3-BFDA-B8C99FE0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67720" y="190512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26880" y="409608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067720" y="409608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8AA6E-FFF2-462C-A9C7-716E1248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2979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455280" y="1905120"/>
            <a:ext cx="2979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583680" y="1905120"/>
            <a:ext cx="2979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26880" y="4096080"/>
            <a:ext cx="2979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455280" y="4096080"/>
            <a:ext cx="2979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583680" y="4096080"/>
            <a:ext cx="2979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B6935-34DF-4909-8DB5-E27542D2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35A0-5CAC-4CB4-B4C8-9CE0D1DA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880" y="609120"/>
            <a:ext cx="9252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B120-286F-4D2A-A89B-DA498BBD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7720" y="1905120"/>
            <a:ext cx="45147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6880" y="409608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21F-EA74-48D1-905B-51D300F8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45147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7720" y="190512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7720" y="409608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26C-DD9C-4E6F-8F65-6FB858B7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6880" y="190512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7720" y="1905120"/>
            <a:ext cx="45147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6880" y="4096080"/>
            <a:ext cx="92520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2E3-5726-4D9B-9BDE-63CB90C5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6880" y="1905120"/>
            <a:ext cx="9252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6880" y="6244920"/>
            <a:ext cx="247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9200" y="6244920"/>
            <a:ext cx="247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487A-203A-4088-8588-877E2EC9C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8474760" y="-102240"/>
            <a:ext cx="1162080" cy="22590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259000"/>
              <a:gd name="textAreaBottom" fmla="*/ 2259360 h 22590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7443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3040" y="1828800"/>
            <a:ext cx="833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48608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8527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788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3BEE-7FA0-452A-9FA3-118117F721F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8569080" y="-63000"/>
            <a:ext cx="1164960" cy="227304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273040"/>
              <a:gd name="textAreaBottom" fmla="*/ 2273400 h 227304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8526600" y="126360"/>
            <a:ext cx="1025640" cy="170208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702080"/>
              <a:gd name="textAreaBottom" fmla="*/ 1702440 h 170208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932480" cy="1246320"/>
            <a:chOff x="7920" y="5540400"/>
            <a:chExt cx="1932480" cy="1246320"/>
          </a:xfrm>
        </p:grpSpPr>
        <p:sp>
          <p:nvSpPr>
            <p:cNvPr id="50" name="Freeform 11"/>
            <p:cNvSpPr/>
            <p:nvPr/>
          </p:nvSpPr>
          <p:spPr>
            <a:xfrm>
              <a:off x="40680" y="5564160"/>
              <a:ext cx="1872720" cy="1030320"/>
            </a:xfrm>
            <a:custGeom>
              <a:avLst/>
              <a:gdLst>
                <a:gd name="textAreaLeft" fmla="*/ 0 w 1872720"/>
                <a:gd name="textAreaRight" fmla="*/ 1873080 w 1872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757160" y="5686560"/>
              <a:ext cx="122040" cy="2048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3480" y="5991120"/>
              <a:ext cx="1362240" cy="650880"/>
            </a:xfrm>
            <a:custGeom>
              <a:avLst/>
              <a:gdLst>
                <a:gd name="textAreaLeft" fmla="*/ 0 w 1362240"/>
                <a:gd name="textAreaRight" fmla="*/ 1362600 w 13622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21040" y="6045120"/>
              <a:ext cx="902880" cy="594000"/>
            </a:xfrm>
            <a:custGeom>
              <a:avLst/>
              <a:gdLst>
                <a:gd name="textAreaLeft" fmla="*/ 0 w 902880"/>
                <a:gd name="textAreaRight" fmla="*/ 903240 w 90288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833400" y="5607000"/>
              <a:ext cx="231840" cy="1922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101960" y="6608880"/>
              <a:ext cx="133920" cy="17784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65800" y="5726160"/>
              <a:ext cx="332280" cy="6080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148400" y="5699160"/>
              <a:ext cx="627480" cy="276120"/>
            </a:xfrm>
            <a:custGeom>
              <a:avLst/>
              <a:gdLst>
                <a:gd name="textAreaLeft" fmla="*/ 0 w 627480"/>
                <a:gd name="textAreaRight" fmla="*/ 627840 w 6274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95800" y="5862600"/>
              <a:ext cx="268200" cy="10656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932480" cy="1238400"/>
              <a:chOff x="7920" y="5540400"/>
              <a:chExt cx="193248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857160" y="5654880"/>
                <a:ext cx="942120" cy="1123920"/>
                <a:chOff x="857160" y="5654880"/>
                <a:chExt cx="942120" cy="112392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857160" y="5694480"/>
                  <a:ext cx="270360" cy="138240"/>
                </a:xfrm>
                <a:custGeom>
                  <a:avLst/>
                  <a:gdLst>
                    <a:gd name="textAreaLeft" fmla="*/ 0 w 270360"/>
                    <a:gd name="textAreaRight" fmla="*/ 270720 w 27036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92960" y="6567840"/>
                  <a:ext cx="196200" cy="210960"/>
                </a:xfrm>
                <a:custGeom>
                  <a:avLst/>
                  <a:gdLst>
                    <a:gd name="textAreaLeft" fmla="*/ 0 w 196200"/>
                    <a:gd name="textAreaRight" fmla="*/ 196560 w 196200"/>
                    <a:gd name="textAreaTop" fmla="*/ 0 h 210960"/>
                    <a:gd name="textAreaBottom" fmla="*/ 211320 h 21096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725480" y="5654880"/>
                  <a:ext cx="73800" cy="185760"/>
                </a:xfrm>
                <a:custGeom>
                  <a:avLst/>
                  <a:gdLst>
                    <a:gd name="textAreaLeft" fmla="*/ 0 w 73800"/>
                    <a:gd name="textAreaRight" fmla="*/ 74160 w 738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9960" y="5924520"/>
                <a:ext cx="1023120" cy="397080"/>
              </a:xfrm>
              <a:custGeom>
                <a:avLst/>
                <a:gdLst>
                  <a:gd name="textAreaLeft" fmla="*/ 0 w 1023120"/>
                  <a:gd name="textAreaRight" fmla="*/ 1023480 w 102312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46040" y="6168960"/>
                <a:ext cx="421560" cy="235080"/>
              </a:xfrm>
              <a:custGeom>
                <a:avLst/>
                <a:gdLst>
                  <a:gd name="textAreaLeft" fmla="*/ 0 w 421560"/>
                  <a:gd name="textAreaRight" fmla="*/ 421920 w 4215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970560" y="5842080"/>
                <a:ext cx="183960" cy="37764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932480" cy="1076400"/>
                <a:chOff x="7920" y="5540400"/>
                <a:chExt cx="193248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149480" y="6426360"/>
                  <a:ext cx="128880" cy="137880"/>
                </a:xfrm>
                <a:custGeom>
                  <a:avLst/>
                  <a:gdLst>
                    <a:gd name="textAreaLeft" fmla="*/ 0 w 128880"/>
                    <a:gd name="textAreaRight" fmla="*/ 129240 w 12888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400"/>
                  <a:ext cx="1447560" cy="698400"/>
                </a:xfrm>
                <a:custGeom>
                  <a:avLst/>
                  <a:gdLst>
                    <a:gd name="textAreaLeft" fmla="*/ 0 w 1447560"/>
                    <a:gd name="textAreaRight" fmla="*/ 1447560 w 1447560"/>
                    <a:gd name="textAreaTop" fmla="*/ 0 h 698400"/>
                    <a:gd name="textAreaBottom" fmla="*/ 698760 h 69840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81080" y="5985000"/>
                  <a:ext cx="137520" cy="264960"/>
                </a:xfrm>
                <a:custGeom>
                  <a:avLst/>
                  <a:gdLst>
                    <a:gd name="textAreaLeft" fmla="*/ 0 w 137520"/>
                    <a:gd name="textAreaRight" fmla="*/ 137880 w 13752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71120" y="5540400"/>
                  <a:ext cx="553320" cy="942840"/>
                </a:xfrm>
                <a:custGeom>
                  <a:avLst/>
                  <a:gdLst>
                    <a:gd name="textAreaLeft" fmla="*/ 0 w 553320"/>
                    <a:gd name="textAreaRight" fmla="*/ 553680 w 55332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92880" y="5794560"/>
                  <a:ext cx="164880" cy="39996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399960"/>
                    <a:gd name="textAreaBottom" fmla="*/ 400320 h 39996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63040" y="5762520"/>
                  <a:ext cx="335160" cy="21456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130760" y="5616720"/>
                  <a:ext cx="809640" cy="336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336600"/>
                    <a:gd name="textAreaBottom" fmla="*/ 336960 h 33660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231920" y="5724720"/>
                  <a:ext cx="420840" cy="136440"/>
                </a:xfrm>
                <a:custGeom>
                  <a:avLst/>
                  <a:gdLst>
                    <a:gd name="textAreaLeft" fmla="*/ 0 w 420840"/>
                    <a:gd name="textAreaRight" fmla="*/ 421200 w 42084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9404280" y="2116080"/>
            <a:ext cx="417240" cy="4308480"/>
            <a:chOff x="9404280" y="2116080"/>
            <a:chExt cx="41724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9404280" y="4159080"/>
              <a:ext cx="352080" cy="2265480"/>
            </a:xfrm>
            <a:custGeom>
              <a:avLst/>
              <a:gdLst>
                <a:gd name="textAreaLeft" fmla="*/ 360 w 352080"/>
                <a:gd name="textAreaRight" fmla="*/ 352800 w 35208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9469440" y="2116080"/>
              <a:ext cx="352080" cy="2592360"/>
            </a:xfrm>
            <a:custGeom>
              <a:avLst/>
              <a:gdLst>
                <a:gd name="textAreaLeft" fmla="*/ 360 w 352080"/>
                <a:gd name="textAreaRight" fmla="*/ 352800 w 35208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798680" y="-140040"/>
            <a:ext cx="2568960" cy="2354400"/>
            <a:chOff x="7798680" y="-140040"/>
            <a:chExt cx="2568960" cy="2354400"/>
          </a:xfrm>
        </p:grpSpPr>
        <p:grpSp>
          <p:nvGrpSpPr>
            <p:cNvPr id="80" name="Group 41"/>
            <p:cNvGrpSpPr/>
            <p:nvPr/>
          </p:nvGrpSpPr>
          <p:grpSpPr>
            <a:xfrm>
              <a:off x="7798680" y="-140040"/>
              <a:ext cx="2568960" cy="2354400"/>
              <a:chOff x="7798680" y="-140040"/>
              <a:chExt cx="2568960" cy="235440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9342000" y="1704600"/>
                <a:ext cx="98280" cy="4950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495000"/>
                  <a:gd name="textAreaBottom" fmla="*/ 495360 h 4950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798680" y="-140040"/>
                <a:ext cx="2568960" cy="2354400"/>
                <a:chOff x="7798680" y="-140040"/>
                <a:chExt cx="2568960" cy="235440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8547840" y="104040"/>
                  <a:ext cx="243000" cy="21456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700480" y="496080"/>
                  <a:ext cx="427320" cy="7531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753120"/>
                    <a:gd name="textAreaBottom" fmla="*/ 753480 h 7531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8385840" y="224280"/>
                  <a:ext cx="802440" cy="154368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543680"/>
                    <a:gd name="textAreaBottom" fmla="*/ 1544040 h 154368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8480880" y="-118080"/>
                  <a:ext cx="1204200" cy="2310480"/>
                </a:xfrm>
                <a:custGeom>
                  <a:avLst/>
                  <a:gdLst>
                    <a:gd name="textAreaLeft" fmla="*/ 0 w 1204200"/>
                    <a:gd name="textAreaRight" fmla="*/ 1204560 w 1204200"/>
                    <a:gd name="textAreaTop" fmla="*/ 0 h 2310480"/>
                    <a:gd name="textAreaBottom" fmla="*/ 2310840 h 231048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9118800" y="1414440"/>
                  <a:ext cx="268200" cy="20952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209520"/>
                    <a:gd name="textAreaBottom" fmla="*/ 209880 h 20952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9043920" y="1265400"/>
                  <a:ext cx="287280" cy="24732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47320"/>
                    <a:gd name="textAreaBottom" fmla="*/ 247680 h 24732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8582400" y="321840"/>
                  <a:ext cx="287280" cy="25236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52360"/>
                    <a:gd name="textAreaBottom" fmla="*/ 252720 h 25236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8519760" y="213480"/>
                  <a:ext cx="284040" cy="236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8375040" y="133200"/>
              <a:ext cx="720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6880" y="6091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26880" y="1905120"/>
            <a:ext cx="9252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326880" y="6244920"/>
            <a:ext cx="247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99200" y="6244920"/>
            <a:ext cx="247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8DC2-C4B5-4130-A1A5-1E7F246CA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2320" y="12600"/>
            <a:ext cx="9637560" cy="6780240"/>
          </a:xfrm>
          <a:custGeom>
            <a:avLst/>
            <a:gdLst>
              <a:gd name="textAreaLeft" fmla="*/ 0 w 9637560"/>
              <a:gd name="textAreaRight" fmla="*/ 9637920 w 963756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210960" y="235080"/>
            <a:ext cx="4103280" cy="1778040"/>
            <a:chOff x="210960" y="235080"/>
            <a:chExt cx="4103280" cy="1778040"/>
          </a:xfrm>
        </p:grpSpPr>
        <p:sp>
          <p:nvSpPr>
            <p:cNvPr id="171" name="Freeform 9"/>
            <p:cNvSpPr/>
            <p:nvPr/>
          </p:nvSpPr>
          <p:spPr>
            <a:xfrm>
              <a:off x="303480" y="281160"/>
              <a:ext cx="3866400" cy="1614600"/>
            </a:xfrm>
            <a:custGeom>
              <a:avLst/>
              <a:gdLst>
                <a:gd name="textAreaLeft" fmla="*/ 0 w 3866400"/>
                <a:gd name="textAreaRight" fmla="*/ 3866760 w 3866400"/>
                <a:gd name="textAreaTop" fmla="*/ 0 h 1614600"/>
                <a:gd name="textAreaBottom" fmla="*/ 1614960 h 161460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84760" y="414360"/>
              <a:ext cx="3859200" cy="1598760"/>
            </a:xfrm>
            <a:custGeom>
              <a:avLst/>
              <a:gdLst>
                <a:gd name="textAreaLeft" fmla="*/ 0 w 3859200"/>
                <a:gd name="textAreaRight" fmla="*/ 3859560 w 3859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814680" y="546120"/>
              <a:ext cx="2558880" cy="1459080"/>
            </a:xfrm>
            <a:custGeom>
              <a:avLst/>
              <a:gdLst>
                <a:gd name="textAreaLeft" fmla="*/ 0 w 2558880"/>
                <a:gd name="textAreaRight" fmla="*/ 2559240 w 2558880"/>
                <a:gd name="textAreaTop" fmla="*/ 0 h 1459080"/>
                <a:gd name="textAreaBottom" fmla="*/ 1459440 h 14590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210960" y="235080"/>
              <a:ext cx="4103280" cy="1716120"/>
              <a:chOff x="210960" y="235080"/>
              <a:chExt cx="410328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447360" y="1482840"/>
                <a:ext cx="364320" cy="339840"/>
              </a:xfrm>
              <a:custGeom>
                <a:avLst/>
                <a:gdLst>
                  <a:gd name="textAreaLeft" fmla="*/ 0 w 364320"/>
                  <a:gd name="textAreaRight" fmla="*/ 364680 w 364320"/>
                  <a:gd name="textAreaTop" fmla="*/ 0 h 339840"/>
                  <a:gd name="textAreaBottom" fmla="*/ 340200 h 339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210960" y="235080"/>
                <a:ext cx="4103280" cy="1716120"/>
              </a:xfrm>
              <a:custGeom>
                <a:avLst/>
                <a:gdLst>
                  <a:gd name="textAreaLeft" fmla="*/ 0 w 4103280"/>
                  <a:gd name="textAreaRight" fmla="*/ 4103640 w 410328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56200" y="250920"/>
                <a:ext cx="2898000" cy="974880"/>
              </a:xfrm>
              <a:custGeom>
                <a:avLst/>
                <a:gdLst>
                  <a:gd name="textAreaLeft" fmla="*/ 0 w 2898000"/>
                  <a:gd name="textAreaRight" fmla="*/ 2898360 w 2898000"/>
                  <a:gd name="textAreaTop" fmla="*/ 0 h 974880"/>
                  <a:gd name="textAreaBottom" fmla="*/ 975240 h 9748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702720" y="398520"/>
                <a:ext cx="390240" cy="650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454040" y="851040"/>
                <a:ext cx="1188000" cy="577800"/>
              </a:xfrm>
              <a:custGeom>
                <a:avLst/>
                <a:gdLst>
                  <a:gd name="textAreaLeft" fmla="*/ 0 w 1188000"/>
                  <a:gd name="textAreaRight" fmla="*/ 1188360 w 118800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8470080" y="4307400"/>
            <a:ext cx="1015200" cy="1181880"/>
            <a:chOff x="8470080" y="4307400"/>
            <a:chExt cx="1015200" cy="118188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8482320" y="4640040"/>
              <a:ext cx="998640" cy="5036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503640"/>
                <a:gd name="textAreaBottom" fmla="*/ 504000 h 5036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8458560" y="4616640"/>
              <a:ext cx="995400" cy="50220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8623800" y="4604400"/>
              <a:ext cx="660240" cy="45900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8470080" y="4307400"/>
              <a:ext cx="1015200" cy="1181880"/>
              <a:chOff x="8470080" y="4307400"/>
              <a:chExt cx="1015200" cy="118188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8580240" y="5058720"/>
                <a:ext cx="93960" cy="10476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8448120" y="4630320"/>
                <a:ext cx="1058760" cy="53568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535680"/>
                  <a:gd name="textAreaBottom" fmla="*/ 536040 h 53568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737920" y="4747320"/>
                <a:ext cx="749160" cy="29952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9228240" y="4549320"/>
                <a:ext cx="100080" cy="20304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845560" y="4749840"/>
                <a:ext cx="306360" cy="1792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76320" y="5054760"/>
            <a:ext cx="7375680" cy="728640"/>
          </a:xfrm>
          <a:custGeom>
            <a:avLst/>
            <a:gdLst>
              <a:gd name="textAreaLeft" fmla="*/ 0 w 7375680"/>
              <a:gd name="textAreaRight" fmla="*/ 7376040 w 737568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416480" y="1930320"/>
            <a:ext cx="963720" cy="381240"/>
          </a:xfrm>
          <a:custGeom>
            <a:avLst/>
            <a:gdLst>
              <a:gd name="textAreaLeft" fmla="*/ 0 w 963720"/>
              <a:gd name="textAreaRight" fmla="*/ 964080 w 9637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7443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43040" y="1828800"/>
            <a:ext cx="833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9417-331A-428F-94BF-6F0F192A008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685800" y="1447920"/>
            <a:ext cx="8516520" cy="2226240"/>
            <a:chOff x="685800" y="1447920"/>
            <a:chExt cx="8516520" cy="2226240"/>
          </a:xfrm>
        </p:grpSpPr>
        <p:pic>
          <p:nvPicPr>
            <p:cNvPr id="234" name="Picture 3" descr="图片6"/>
            <p:cNvPicPr/>
            <p:nvPr/>
          </p:nvPicPr>
          <p:blipFill>
            <a:blip r:embed="rId2"/>
            <a:stretch/>
          </p:blipFill>
          <p:spPr>
            <a:xfrm>
              <a:off x="685800" y="1447920"/>
              <a:ext cx="851652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4"/>
            <p:cNvSpPr/>
            <p:nvPr/>
          </p:nvSpPr>
          <p:spPr>
            <a:xfrm>
              <a:off x="850680" y="2361240"/>
              <a:ext cx="8090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       </a:t>
              </a:r>
              <a:r>
                <a:rPr b="0" lang="zh-CN" sz="4000" spc="-1" strike="noStrike">
                  <a:solidFill>
                    <a:srgbClr val="ff00ff"/>
                  </a:solidFill>
                  <a:latin typeface="Arial"/>
                  <a:ea typeface="黑体"/>
                </a:rPr>
                <a:t>欲速，则不达；见小利，则大事不成。</a:t>
              </a:r>
              <a:r>
                <a:rPr b="0" lang="en-US" sz="4000" spc="-1" strike="noStrike">
                  <a:solidFill>
                    <a:srgbClr val="ff00ff"/>
                  </a:solidFill>
                  <a:latin typeface="Arial"/>
                  <a:ea typeface="黑体"/>
                </a:rPr>
                <a:t>——《</a:t>
              </a:r>
              <a:r>
                <a:rPr b="0" lang="zh-CN" sz="4000" spc="-1" strike="noStrike">
                  <a:solidFill>
                    <a:srgbClr val="ff00ff"/>
                  </a:solidFill>
                  <a:latin typeface="Arial"/>
                  <a:ea typeface="黑体"/>
                </a:rPr>
                <a:t>论语</a:t>
              </a:r>
              <a:r>
                <a:rPr b="0" lang="en-US" sz="4000" spc="-1" strike="noStrike">
                  <a:solidFill>
                    <a:srgbClr val="ff00ff"/>
                  </a:solidFill>
                  <a:latin typeface="Arial"/>
                  <a:ea typeface="黑体"/>
                </a:rPr>
                <a:t>》</a:t>
              </a:r>
              <a:br>
                <a:rPr sz="4000"/>
              </a:b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36" name="Group 5"/>
          <p:cNvGrpSpPr/>
          <p:nvPr/>
        </p:nvGrpSpPr>
        <p:grpSpPr>
          <a:xfrm>
            <a:off x="577800" y="3962520"/>
            <a:ext cx="8584920" cy="1997280"/>
            <a:chOff x="577800" y="3962520"/>
            <a:chExt cx="8584920" cy="1997280"/>
          </a:xfrm>
        </p:grpSpPr>
        <p:sp>
          <p:nvSpPr>
            <p:cNvPr id="237" name="Rectangle 6"/>
            <p:cNvSpPr/>
            <p:nvPr/>
          </p:nvSpPr>
          <p:spPr>
            <a:xfrm>
              <a:off x="577800" y="4646880"/>
              <a:ext cx="8584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           </a:t>
              </a:r>
              <a:r>
                <a:rPr b="1" lang="zh-CN" sz="40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这是</a:t>
              </a:r>
              <a:r>
                <a:rPr b="1" lang="en-US" sz="40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《</a:t>
              </a:r>
              <a:r>
                <a:rPr b="1" lang="zh-CN" sz="40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论语</a:t>
              </a:r>
              <a:r>
                <a:rPr b="1" lang="en-US" sz="40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》</a:t>
              </a:r>
              <a:r>
                <a:rPr b="1" lang="zh-CN" sz="40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当中的一句话，你们能试着说说这句话是什么意思吗？</a:t>
              </a:r>
              <a:br>
                <a:rPr sz="4000"/>
              </a:b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8" name="Rectangle 7"/>
            <p:cNvSpPr/>
            <p:nvPr/>
          </p:nvSpPr>
          <p:spPr>
            <a:xfrm>
              <a:off x="1683720" y="3962520"/>
              <a:ext cx="68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▲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330120" y="914400"/>
            <a:ext cx="9245520" cy="5410080"/>
          </a:xfrm>
          <a:prstGeom prst="rect">
            <a:avLst/>
          </a:prstGeom>
          <a:gradFill rotWithShape="0">
            <a:gsLst>
              <a:gs pos="0">
                <a:srgbClr val="ff33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WordArt 3"/>
          <p:cNvSpPr txBox="1"/>
          <p:nvPr/>
        </p:nvSpPr>
        <p:spPr>
          <a:xfrm>
            <a:off x="2146320" y="1219320"/>
            <a:ext cx="33433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课文感知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65" name="Picture 4" descr="图片1"/>
          <p:cNvPicPr/>
          <p:nvPr/>
        </p:nvPicPr>
        <p:blipFill>
          <a:blip r:embed="rId1"/>
          <a:stretch/>
        </p:blipFill>
        <p:spPr>
          <a:xfrm>
            <a:off x="6191280" y="1066680"/>
            <a:ext cx="2889360" cy="121932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5"/>
          <p:cNvGrpSpPr/>
          <p:nvPr/>
        </p:nvGrpSpPr>
        <p:grpSpPr>
          <a:xfrm>
            <a:off x="990720" y="2819520"/>
            <a:ext cx="7841880" cy="1921680"/>
            <a:chOff x="990720" y="2819520"/>
            <a:chExt cx="7841880" cy="1921680"/>
          </a:xfrm>
        </p:grpSpPr>
        <p:sp>
          <p:nvSpPr>
            <p:cNvPr id="267" name="Rectangle 6"/>
            <p:cNvSpPr/>
            <p:nvPr/>
          </p:nvSpPr>
          <p:spPr>
            <a:xfrm>
              <a:off x="990720" y="3428280"/>
              <a:ext cx="7841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           </a:t>
              </a:r>
              <a:r>
                <a:rPr b="1" lang="zh-CN" sz="40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同学们，通过读课文，你能简要地叙述一下课文的主要内容吗？</a:t>
              </a:r>
              <a:br>
                <a:rPr sz="4000"/>
              </a:b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8" name="Rectangle 7"/>
            <p:cNvSpPr/>
            <p:nvPr/>
          </p:nvSpPr>
          <p:spPr>
            <a:xfrm>
              <a:off x="2096640" y="2819520"/>
              <a:ext cx="68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▲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330120" y="914400"/>
            <a:ext cx="9163080" cy="5410080"/>
          </a:xfrm>
          <a:prstGeom prst="rect">
            <a:avLst/>
          </a:prstGeom>
          <a:gradFill rotWithShape="0">
            <a:gsLst>
              <a:gs pos="0">
                <a:srgbClr val="993366">
                  <a:alpha val="3215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70" name="Picture 3" descr="2 拷贝"/>
          <p:cNvPicPr/>
          <p:nvPr/>
        </p:nvPicPr>
        <p:blipFill>
          <a:blip r:embed="rId1"/>
          <a:stretch/>
        </p:blipFill>
        <p:spPr>
          <a:xfrm>
            <a:off x="0" y="4648320"/>
            <a:ext cx="3508200" cy="1780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3 拷贝"/>
          <p:cNvPicPr/>
          <p:nvPr/>
        </p:nvPicPr>
        <p:blipFill>
          <a:blip r:embed="rId2"/>
          <a:stretch/>
        </p:blipFill>
        <p:spPr>
          <a:xfrm>
            <a:off x="8039160" y="4572000"/>
            <a:ext cx="18669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5"/>
          <p:cNvGrpSpPr/>
          <p:nvPr/>
        </p:nvGrpSpPr>
        <p:grpSpPr>
          <a:xfrm>
            <a:off x="1486080" y="2971800"/>
            <a:ext cx="3549240" cy="1295280"/>
            <a:chOff x="1486080" y="2971800"/>
            <a:chExt cx="3549240" cy="1295280"/>
          </a:xfrm>
        </p:grpSpPr>
        <p:sp>
          <p:nvSpPr>
            <p:cNvPr id="273" name="AutoShape 6"/>
            <p:cNvSpPr/>
            <p:nvPr/>
          </p:nvSpPr>
          <p:spPr>
            <a:xfrm>
              <a:off x="1486080" y="2971800"/>
              <a:ext cx="3549240" cy="1295280"/>
            </a:xfrm>
            <a:prstGeom prst="cloudCallout">
              <a:avLst>
                <a:gd name="adj1" fmla="val -38902"/>
                <a:gd name="adj2" fmla="val 74754"/>
              </a:avLst>
            </a:prstGeom>
            <a:gradFill rotWithShape="0">
              <a:gsLst>
                <a:gs pos="0">
                  <a:srgbClr val="ffef66">
                    <a:alpha val="56078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816200" y="3048120"/>
              <a:ext cx="288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      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景公有点太心急了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75" name="Group 8"/>
          <p:cNvGrpSpPr/>
          <p:nvPr/>
        </p:nvGrpSpPr>
        <p:grpSpPr>
          <a:xfrm>
            <a:off x="5118120" y="2819520"/>
            <a:ext cx="4061880" cy="1523880"/>
            <a:chOff x="5118120" y="2819520"/>
            <a:chExt cx="4061880" cy="1523880"/>
          </a:xfrm>
        </p:grpSpPr>
        <p:sp>
          <p:nvSpPr>
            <p:cNvPr id="276" name="AutoShape 9"/>
            <p:cNvSpPr/>
            <p:nvPr/>
          </p:nvSpPr>
          <p:spPr>
            <a:xfrm>
              <a:off x="5118120" y="2819520"/>
              <a:ext cx="4044960" cy="1523880"/>
            </a:xfrm>
            <a:prstGeom prst="cloudCallout">
              <a:avLst>
                <a:gd name="adj1" fmla="val 21384"/>
                <a:gd name="adj2" fmla="val 95939"/>
              </a:avLst>
            </a:prstGeom>
            <a:gradFill rotWithShape="0">
              <a:gsLst>
                <a:gs pos="0">
                  <a:srgbClr val="ffef66">
                    <a:alpha val="6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7" name="Text Box 10"/>
            <p:cNvSpPr/>
            <p:nvPr/>
          </p:nvSpPr>
          <p:spPr>
            <a:xfrm>
              <a:off x="5695920" y="2895840"/>
              <a:ext cx="348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       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景公关心丞相的病，以至心急得乱了方寸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78" name="Group 11"/>
          <p:cNvGrpSpPr/>
          <p:nvPr/>
        </p:nvGrpSpPr>
        <p:grpSpPr>
          <a:xfrm>
            <a:off x="907920" y="1447920"/>
            <a:ext cx="8007120" cy="1616760"/>
            <a:chOff x="907920" y="1447920"/>
            <a:chExt cx="8007120" cy="1616760"/>
          </a:xfrm>
        </p:grpSpPr>
        <p:sp>
          <p:nvSpPr>
            <p:cNvPr id="279" name="Rectangle 12"/>
            <p:cNvSpPr/>
            <p:nvPr/>
          </p:nvSpPr>
          <p:spPr>
            <a:xfrm>
              <a:off x="907920" y="1751760"/>
              <a:ext cx="8007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           </a:t>
              </a:r>
              <a:r>
                <a:rPr b="1" lang="zh-CN" sz="40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对于景公的做法，你想发表一下意见吗？</a:t>
              </a:r>
              <a:br>
                <a:rPr sz="4000"/>
              </a:b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0" name="Rectangle 13"/>
            <p:cNvSpPr/>
            <p:nvPr/>
          </p:nvSpPr>
          <p:spPr>
            <a:xfrm>
              <a:off x="2013840" y="1447920"/>
              <a:ext cx="68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▲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330120" y="914400"/>
            <a:ext cx="9245520" cy="5410080"/>
          </a:xfrm>
          <a:prstGeom prst="rect">
            <a:avLst/>
          </a:prstGeom>
          <a:gradFill rotWithShape="0">
            <a:gsLst>
              <a:gs pos="0">
                <a:srgbClr val="ff00ff">
                  <a:alpha val="48235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577800" y="1676520"/>
            <a:ext cx="8584920" cy="1007280"/>
            <a:chOff x="577800" y="1676520"/>
            <a:chExt cx="8584920" cy="1007280"/>
          </a:xfrm>
        </p:grpSpPr>
        <p:sp>
          <p:nvSpPr>
            <p:cNvPr id="283" name="Rectangle 4"/>
            <p:cNvSpPr/>
            <p:nvPr/>
          </p:nvSpPr>
          <p:spPr>
            <a:xfrm>
              <a:off x="577800" y="1980360"/>
              <a:ext cx="858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           </a:t>
              </a:r>
              <a:r>
                <a:rPr b="1" lang="zh-CN" sz="40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请同学们默读课文，画出反映景公心急的词句。 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4" name="Rectangle 5"/>
            <p:cNvSpPr/>
            <p:nvPr/>
          </p:nvSpPr>
          <p:spPr>
            <a:xfrm>
              <a:off x="1683720" y="1676520"/>
              <a:ext cx="68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▲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85" name="Group 6"/>
          <p:cNvGrpSpPr/>
          <p:nvPr/>
        </p:nvGrpSpPr>
        <p:grpSpPr>
          <a:xfrm>
            <a:off x="1981080" y="3048120"/>
            <a:ext cx="2822760" cy="703440"/>
            <a:chOff x="1981080" y="3048120"/>
            <a:chExt cx="2822760" cy="703440"/>
          </a:xfrm>
        </p:grpSpPr>
        <p:sp>
          <p:nvSpPr>
            <p:cNvPr id="286" name="Text Box 7"/>
            <p:cNvSpPr/>
            <p:nvPr/>
          </p:nvSpPr>
          <p:spPr>
            <a:xfrm>
              <a:off x="3099240" y="3048120"/>
              <a:ext cx="170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996600"/>
                  </a:solidFill>
                  <a:latin typeface="Arial"/>
                  <a:ea typeface="黑体"/>
                </a:rPr>
                <a:t>霍地站起来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7" name="Rectangle 8"/>
            <p:cNvSpPr/>
            <p:nvPr/>
          </p:nvSpPr>
          <p:spPr>
            <a:xfrm>
              <a:off x="1981080" y="3200400"/>
              <a:ext cx="7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6600"/>
                  </a:solidFill>
                  <a:latin typeface="Arial"/>
                  <a:ea typeface="楷体_GB2312"/>
                </a:rPr>
                <a:t>●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075400" y="3962520"/>
            <a:ext cx="2217960" cy="703440"/>
            <a:chOff x="2075400" y="3962520"/>
            <a:chExt cx="2217960" cy="703440"/>
          </a:xfrm>
        </p:grpSpPr>
        <p:sp>
          <p:nvSpPr>
            <p:cNvPr id="289" name="Text Box 10"/>
            <p:cNvSpPr/>
            <p:nvPr/>
          </p:nvSpPr>
          <p:spPr>
            <a:xfrm>
              <a:off x="2893320" y="396252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996600"/>
                  </a:solidFill>
                  <a:latin typeface="Arial"/>
                  <a:ea typeface="黑体"/>
                </a:rPr>
                <a:t>十分焦急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0" name="Rectangle 11"/>
            <p:cNvSpPr/>
            <p:nvPr/>
          </p:nvSpPr>
          <p:spPr>
            <a:xfrm>
              <a:off x="2075400" y="403884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6600"/>
                  </a:solidFill>
                  <a:latin typeface="Arial"/>
                  <a:ea typeface="楷体_GB2312"/>
                </a:rPr>
                <a:t>●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91" name="Group 12"/>
          <p:cNvGrpSpPr/>
          <p:nvPr/>
        </p:nvGrpSpPr>
        <p:grpSpPr>
          <a:xfrm>
            <a:off x="2075400" y="4800600"/>
            <a:ext cx="2801160" cy="703440"/>
            <a:chOff x="2075400" y="4800600"/>
            <a:chExt cx="2801160" cy="703440"/>
          </a:xfrm>
        </p:grpSpPr>
        <p:sp>
          <p:nvSpPr>
            <p:cNvPr id="292" name="Text Box 13"/>
            <p:cNvSpPr/>
            <p:nvPr/>
          </p:nvSpPr>
          <p:spPr>
            <a:xfrm>
              <a:off x="2476080" y="4800600"/>
              <a:ext cx="2400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996600"/>
                  </a:solidFill>
                  <a:latin typeface="Arial"/>
                  <a:ea typeface="黑体"/>
                </a:rPr>
                <a:t>心急如焚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2075400" y="495288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6600"/>
                  </a:solidFill>
                  <a:latin typeface="Arial"/>
                  <a:ea typeface="楷体_GB2312"/>
                </a:rPr>
                <a:t>●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28400" y="260280"/>
            <a:ext cx="1949400" cy="720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急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28760" y="1413000"/>
            <a:ext cx="873288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景公听了，急得</a:t>
            </a:r>
            <a:r>
              <a:rPr b="1" lang="zh-CN" sz="4000" spc="-1" strike="noStrike">
                <a:solidFill>
                  <a:srgbClr val="d60093"/>
                </a:solidFill>
                <a:latin typeface="Comic Sans MS"/>
              </a:rPr>
              <a:t>霍地站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起来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景公听了，急得站起来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Comic Sans MS"/>
              </a:rPr>
              <a:t>           </a:t>
            </a:r>
            <a:r>
              <a:rPr b="1" lang="zh-CN" sz="2800" spc="-1" strike="noStrike">
                <a:solidFill>
                  <a:srgbClr val="996600"/>
                </a:solidFill>
                <a:latin typeface="Comic Sans MS"/>
              </a:rPr>
              <a:t>霍地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:</a:t>
            </a:r>
            <a:r>
              <a:rPr b="1" lang="zh-CN" sz="2800" spc="-1" strike="noStrike">
                <a:solidFill>
                  <a:srgbClr val="996600"/>
                </a:solidFill>
                <a:latin typeface="Comic Sans MS"/>
              </a:rPr>
              <a:t>副词，表示动作突然发生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7600" y="333000"/>
            <a:ext cx="2808360" cy="93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十分焦急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7600" y="1557000"/>
            <a:ext cx="86360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景公十分焦急，</a:t>
            </a:r>
            <a:r>
              <a:rPr b="1" lang="zh-CN" sz="4000" spc="-1" strike="noStrike">
                <a:solidFill>
                  <a:srgbClr val="d60093"/>
                </a:solidFill>
                <a:latin typeface="Comic Sans MS"/>
              </a:rPr>
              <a:t>高声喊道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d60093"/>
                </a:solidFill>
                <a:latin typeface="Comic Sans MS"/>
              </a:rPr>
              <a:t>快快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准备好车良马，让驺子韩枢为我驾车，</a:t>
            </a:r>
            <a:r>
              <a:rPr b="1" lang="zh-CN" sz="4000" spc="-1" strike="noStrike">
                <a:solidFill>
                  <a:srgbClr val="d60093"/>
                </a:solidFill>
                <a:latin typeface="Comic Sans MS"/>
              </a:rPr>
              <a:t>火速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回去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533520" y="3962520"/>
            <a:ext cx="905004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邹子</a:t>
            </a:r>
            <a:r>
              <a:rPr b="1" lang="en-US" sz="2400" spc="-1" strike="noStrike">
                <a:solidFill>
                  <a:srgbClr val="9966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古代贵族骑马的侍从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97124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景公心急如焚，嫌驺子驾得太慢了，就</a:t>
            </a:r>
            <a:r>
              <a:rPr b="1" lang="zh-CN" sz="3600" spc="-1" strike="noStrike">
                <a:solidFill>
                  <a:srgbClr val="990033"/>
                </a:solidFill>
                <a:latin typeface="Comic Sans MS"/>
              </a:rPr>
              <a:t>夺过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缰绳，亲自赶起车来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楷体"/>
              </a:rPr>
              <a:t>景公心急如焚，嫌驺子驾得太慢了，就拿过缰绳，赶起车来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507960" y="260280"/>
            <a:ext cx="335448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Comic Sans MS"/>
              </a:rPr>
              <a:t>心急如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838080" y="4267080"/>
            <a:ext cx="73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996600"/>
                </a:solidFill>
                <a:latin typeface="Times New Roman"/>
              </a:rPr>
              <a:t>焚：烧；心急如焚：心里急得像火烧一样，形容非常着急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1760" y="4876560"/>
            <a:ext cx="842148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500"/>
            </a:br>
            <a:r>
              <a:rPr b="1" lang="en-US" sz="5500" spc="-1" strike="noStrike">
                <a:solidFill>
                  <a:srgbClr val="996600"/>
                </a:solidFill>
                <a:latin typeface="Comic Sans MS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他驾车驭马行了几百步，又</a:t>
            </a:r>
            <a:r>
              <a:rPr b="1" lang="zh-CN" sz="4000" spc="-1" strike="noStrike">
                <a:solidFill>
                  <a:srgbClr val="ff0066"/>
                </a:solidFill>
                <a:latin typeface="Comic Sans MS"/>
              </a:rPr>
              <a:t>嫌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马不努力向前，</a:t>
            </a:r>
            <a:r>
              <a:rPr b="1" lang="zh-CN" sz="4000" spc="-1" strike="noStrike">
                <a:solidFill>
                  <a:srgbClr val="ff0066"/>
                </a:solidFill>
                <a:latin typeface="Comic Sans MS"/>
              </a:rPr>
              <a:t>索性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弃车，自己徒步跑开了。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1240" y="249228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584280" y="549360"/>
            <a:ext cx="2887560" cy="9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Comic Sans MS"/>
              </a:rPr>
              <a:t>失去理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742680" y="1557000"/>
            <a:ext cx="84200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2819520" y="3352680"/>
            <a:ext cx="236520" cy="360360"/>
          </a:xfrm>
          <a:prstGeom prst="downArrow">
            <a:avLst>
              <a:gd name="adj1" fmla="val 50000"/>
              <a:gd name="adj2" fmla="val 3809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1676520" y="2514600"/>
            <a:ext cx="296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十分焦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AutoShape 6"/>
          <p:cNvSpPr/>
          <p:nvPr/>
        </p:nvSpPr>
        <p:spPr>
          <a:xfrm>
            <a:off x="2819520" y="4508640"/>
            <a:ext cx="234720" cy="431640"/>
          </a:xfrm>
          <a:prstGeom prst="downArrow">
            <a:avLst>
              <a:gd name="adj1" fmla="val 50000"/>
              <a:gd name="adj2" fmla="val 459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1676520" y="3789360"/>
            <a:ext cx="257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心急如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1676520" y="4797360"/>
            <a:ext cx="273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Times New Roman"/>
              </a:rPr>
              <a:t>失去理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4875120" y="24224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好车良马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5264280" y="1628640"/>
            <a:ext cx="335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4875120" y="371628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亲自驾车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4" name="AutoShape 12"/>
          <p:cNvSpPr/>
          <p:nvPr/>
        </p:nvSpPr>
        <p:spPr>
          <a:xfrm flipV="1">
            <a:off x="5967360" y="4365000"/>
            <a:ext cx="157320" cy="431640"/>
          </a:xfrm>
          <a:prstGeom prst="downArrow">
            <a:avLst>
              <a:gd name="adj1" fmla="val 50000"/>
              <a:gd name="adj2" fmla="val 685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4875120" y="4797360"/>
            <a:ext cx="304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徒步跑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AutoShape 14"/>
          <p:cNvSpPr/>
          <p:nvPr/>
        </p:nvSpPr>
        <p:spPr>
          <a:xfrm flipV="1">
            <a:off x="5967360" y="3225240"/>
            <a:ext cx="157320" cy="431640"/>
          </a:xfrm>
          <a:prstGeom prst="downArrow">
            <a:avLst>
              <a:gd name="adj1" fmla="val 50000"/>
              <a:gd name="adj2" fmla="val 685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7" name="Text Box 15"/>
          <p:cNvSpPr/>
          <p:nvPr/>
        </p:nvSpPr>
        <p:spPr>
          <a:xfrm>
            <a:off x="1905120" y="5867280"/>
            <a:ext cx="53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难道景公不知道徒步比骑马慢吗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Text Box 16"/>
          <p:cNvSpPr/>
          <p:nvPr/>
        </p:nvSpPr>
        <p:spPr>
          <a:xfrm>
            <a:off x="2301840" y="2060640"/>
            <a:ext cx="21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2590920" y="1066680"/>
            <a:ext cx="17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急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AutoShape 18"/>
          <p:cNvSpPr/>
          <p:nvPr/>
        </p:nvSpPr>
        <p:spPr>
          <a:xfrm>
            <a:off x="2819520" y="1930320"/>
            <a:ext cx="236520" cy="432000"/>
          </a:xfrm>
          <a:prstGeom prst="downArrow">
            <a:avLst>
              <a:gd name="adj1" fmla="val 50000"/>
              <a:gd name="adj2" fmla="val 45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2"/>
          <p:cNvGrpSpPr/>
          <p:nvPr/>
        </p:nvGrpSpPr>
        <p:grpSpPr>
          <a:xfrm>
            <a:off x="825480" y="2743200"/>
            <a:ext cx="8021160" cy="2302560"/>
            <a:chOff x="825480" y="2743200"/>
            <a:chExt cx="8021160" cy="2302560"/>
          </a:xfrm>
        </p:grpSpPr>
        <p:pic>
          <p:nvPicPr>
            <p:cNvPr id="322" name="Picture 3" descr="图片17"/>
            <p:cNvPicPr/>
            <p:nvPr/>
          </p:nvPicPr>
          <p:blipFill>
            <a:blip r:embed="rId1"/>
            <a:stretch/>
          </p:blipFill>
          <p:spPr>
            <a:xfrm>
              <a:off x="825480" y="2743200"/>
              <a:ext cx="8021160" cy="2254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4"/>
            <p:cNvGrpSpPr/>
            <p:nvPr/>
          </p:nvGrpSpPr>
          <p:grpSpPr>
            <a:xfrm>
              <a:off x="1038600" y="3505320"/>
              <a:ext cx="7511760" cy="1540440"/>
              <a:chOff x="1038600" y="3505320"/>
              <a:chExt cx="7511760" cy="1540440"/>
            </a:xfrm>
          </p:grpSpPr>
          <p:sp>
            <p:nvSpPr>
              <p:cNvPr id="324" name="Rectangle 5"/>
              <p:cNvSpPr/>
              <p:nvPr/>
            </p:nvSpPr>
            <p:spPr>
              <a:xfrm>
                <a:off x="1038600" y="3732840"/>
                <a:ext cx="7511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7a77"/>
                    </a:solidFill>
                    <a:latin typeface="Arial"/>
                    <a:ea typeface="楷体_GB2312"/>
                  </a:rPr>
                  <a:t>           </a:t>
                </a:r>
                <a:r>
                  <a:rPr b="0" lang="zh-CN" sz="4000" spc="-1" strike="noStrike">
                    <a:solidFill>
                      <a:srgbClr val="ff00ff"/>
                    </a:solidFill>
                    <a:latin typeface="Arial"/>
                    <a:ea typeface="黑体"/>
                  </a:rPr>
                  <a:t>我们遇事要冷静思考，选出最佳的解决办法。</a:t>
                </a:r>
                <a:br>
                  <a:rPr sz="4000"/>
                </a:br>
                <a:endParaRPr b="0" lang="en-US" sz="4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25" name="Rectangle 6"/>
              <p:cNvSpPr/>
              <p:nvPr/>
            </p:nvSpPr>
            <p:spPr>
              <a:xfrm>
                <a:off x="2370960" y="3505320"/>
                <a:ext cx="3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ff"/>
                    </a:solidFill>
                    <a:latin typeface="Arial"/>
                    <a:ea typeface="楷体_GB2312"/>
                  </a:rPr>
                  <a:t>●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WordArt 7"/>
          <p:cNvSpPr txBox="1"/>
          <p:nvPr/>
        </p:nvSpPr>
        <p:spPr>
          <a:xfrm>
            <a:off x="1238400" y="1447920"/>
            <a:ext cx="16714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小结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70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1" dur="1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-360" y="1412640"/>
            <a:ext cx="99061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齐景公在回程的过程中，四次急得从马车上跳下来，最后是边走边哭，导致车子比预计的晚了将近一天才到都城，晏子已经去世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进了晏子家，他伏在晏子的尸体上放声大哭，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先生不分白天黑夜规劝我，细小的过失也不放过。灾祸没落在我头上，却落在先生身上，齐国危险了，百姓将向谁去诉说啊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93680" y="189000"/>
            <a:ext cx="366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小资料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9" name="bg.wma" descr=""/>
          <p:cNvPicPr/>
          <p:nvPr/>
        </p:nvPicPr>
        <p:blipFill>
          <a:blip r:embed="rId1"/>
          <a:stretch/>
        </p:blipFill>
        <p:spPr>
          <a:xfrm>
            <a:off x="91440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308732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0902172323572ae99bb5885e08"/>
          <p:cNvPicPr/>
          <p:nvPr/>
        </p:nvPicPr>
        <p:blipFill>
          <a:blip r:embed="rId2"/>
          <a:srcRect l="0" t="0" r="-114" b="3555"/>
          <a:stretch/>
        </p:blipFill>
        <p:spPr>
          <a:xfrm>
            <a:off x="0" y="-150840"/>
            <a:ext cx="9918720" cy="66135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42680" y="260640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欲</a:t>
            </a:r>
            <a:r>
              <a:rPr b="1" lang="zh-CN" sz="9600" spc="-1" strike="noStrike">
                <a:solidFill>
                  <a:srgbClr val="003399"/>
                </a:solidFill>
                <a:latin typeface="Arial"/>
                <a:ea typeface="楷体_GB2312"/>
              </a:rPr>
              <a:t>速则不达</a:t>
            </a:r>
            <a:endParaRPr b="0" lang="en-US" sz="9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330120" y="914400"/>
            <a:ext cx="9245520" cy="5410080"/>
          </a:xfrm>
          <a:prstGeom prst="rect">
            <a:avLst/>
          </a:prstGeom>
          <a:gradFill rotWithShape="0">
            <a:gsLst>
              <a:gs pos="0">
                <a:srgbClr val="3366ff">
                  <a:alpha val="5215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WordArt 3"/>
          <p:cNvSpPr txBox="1"/>
          <p:nvPr/>
        </p:nvSpPr>
        <p:spPr>
          <a:xfrm>
            <a:off x="2971800" y="1523880"/>
            <a:ext cx="33433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探究道理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32" name="Group 4"/>
          <p:cNvGrpSpPr/>
          <p:nvPr/>
        </p:nvGrpSpPr>
        <p:grpSpPr>
          <a:xfrm>
            <a:off x="660240" y="2743200"/>
            <a:ext cx="8997840" cy="2531160"/>
            <a:chOff x="660240" y="2743200"/>
            <a:chExt cx="8997840" cy="2531160"/>
          </a:xfrm>
        </p:grpSpPr>
        <p:sp>
          <p:nvSpPr>
            <p:cNvPr id="333" name="Rectangle 5"/>
            <p:cNvSpPr/>
            <p:nvPr/>
          </p:nvSpPr>
          <p:spPr>
            <a:xfrm>
              <a:off x="660240" y="3961440"/>
              <a:ext cx="8997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           </a:t>
              </a:r>
              <a:r>
                <a:rPr b="1" lang="zh-CN" sz="4000" spc="-1" strike="noStrike">
                  <a:solidFill>
                    <a:srgbClr val="996600"/>
                  </a:solidFill>
                  <a:latin typeface="Arial"/>
                  <a:ea typeface="楷体_GB2312"/>
                </a:rPr>
                <a:t>同学们，景公是过于心急了，那么通过学习这则小故事，你能用自己的话或是从书中找出相关的语句，说一说文章要说明一个什么道理吗？</a:t>
              </a:r>
              <a:br>
                <a:rPr sz="4000"/>
              </a:b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4" name="Rectangle 6"/>
            <p:cNvSpPr/>
            <p:nvPr/>
          </p:nvSpPr>
          <p:spPr>
            <a:xfrm>
              <a:off x="1766160" y="2743200"/>
              <a:ext cx="68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996600"/>
                  </a:solidFill>
                  <a:latin typeface="Arial"/>
                  <a:ea typeface="楷体_GB2312"/>
                </a:rPr>
                <a:t>▲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9712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回顾课文内容，填一填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齐景公听到丞相晏婴病重后，有以下的反应，先是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，又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，然后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，最后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。体现了齐景公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的心情。齐景公最后没能很快回到都城是因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9712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回顾课文内容，填一填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齐景公听到丞相晏婴病重后，有以下的反应，先是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</a:rPr>
              <a:t>急得霍地站了起来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，又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</a:rPr>
              <a:t>焦急得高声喊人备车，让驺子韩枢驾车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，然后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</a:rPr>
              <a:t>心急如焚地夺过缰绳亲自驾车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，最后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</a:rPr>
              <a:t>急得索性弃车，徒步跑开了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。体现了齐景公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Comic Sans MS"/>
              </a:rPr>
              <a:t>急切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的心情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9712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回顾课文内容，填一填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齐景公最后没能很快回到都城是因为他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0000"/>
                </a:solidFill>
                <a:uFillTx/>
                <a:latin typeface="Comic Sans MS"/>
              </a:rPr>
              <a:t>欲速则不达。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2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330120" y="914400"/>
            <a:ext cx="9245520" cy="5410080"/>
          </a:xfrm>
          <a:prstGeom prst="rect">
            <a:avLst/>
          </a:prstGeom>
          <a:gradFill rotWithShape="0">
            <a:gsLst>
              <a:gs pos="0">
                <a:srgbClr val="ff9900">
                  <a:alpha val="45098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39" name="Group 3"/>
          <p:cNvGrpSpPr/>
          <p:nvPr/>
        </p:nvGrpSpPr>
        <p:grpSpPr>
          <a:xfrm>
            <a:off x="3054240" y="1600200"/>
            <a:ext cx="6026040" cy="2835720"/>
            <a:chOff x="3054240" y="1600200"/>
            <a:chExt cx="6026040" cy="2835720"/>
          </a:xfrm>
        </p:grpSpPr>
        <p:sp>
          <p:nvSpPr>
            <p:cNvPr id="340" name="Rectangle 4"/>
            <p:cNvSpPr/>
            <p:nvPr/>
          </p:nvSpPr>
          <p:spPr>
            <a:xfrm>
              <a:off x="3054240" y="1904040"/>
              <a:ext cx="60260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           </a:t>
              </a:r>
              <a:r>
                <a:rPr b="1" lang="zh-CN" sz="4000" spc="-1" strike="noStrike">
                  <a:solidFill>
                    <a:srgbClr val="996600"/>
                  </a:solidFill>
                  <a:latin typeface="Arial"/>
                  <a:ea typeface="楷体_GB2312"/>
                </a:rPr>
                <a:t>联系实际谈谈，自己对“欲速则不达”的理解，可以举生活中的例子说明自己的看法。</a:t>
              </a:r>
              <a:br>
                <a:rPr sz="4000"/>
              </a:b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1" name="Rectangle 5"/>
            <p:cNvSpPr/>
            <p:nvPr/>
          </p:nvSpPr>
          <p:spPr>
            <a:xfrm>
              <a:off x="4127400" y="1600200"/>
              <a:ext cx="115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996600"/>
                  </a:solidFill>
                  <a:latin typeface="Arial"/>
                  <a:ea typeface="楷体_GB2312"/>
                </a:rPr>
                <a:t>▲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342" name="Picture 6" descr="图片14 拷贝"/>
          <p:cNvPicPr/>
          <p:nvPr/>
        </p:nvPicPr>
        <p:blipFill>
          <a:blip r:embed="rId1"/>
          <a:stretch/>
        </p:blipFill>
        <p:spPr>
          <a:xfrm>
            <a:off x="247680" y="2286000"/>
            <a:ext cx="255888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9712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这几种做法，你赞成吗？为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斧子钝了，可是又想尽快砍柴回来，于是带着没有磨的斧子上山砍柴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跳绳比赛中，为了跳得多，摇绳的同学突然加快了速度，后面的同学推着前面的同学让快点进绳去跳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2"/>
          <p:cNvSpPr txBox="1"/>
          <p:nvPr/>
        </p:nvSpPr>
        <p:spPr>
          <a:xfrm>
            <a:off x="2724120" y="1295280"/>
            <a:ext cx="33433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理解古文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4141080" y="2513880"/>
            <a:ext cx="11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了解一些学习古文的方法。</a:t>
            </a:r>
            <a:br>
              <a:rPr sz="4000"/>
            </a:b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-160560" y="2512800"/>
            <a:ext cx="9488520" cy="3659400"/>
            <a:chOff x="-160560" y="2512800"/>
            <a:chExt cx="9488520" cy="3659400"/>
          </a:xfrm>
        </p:grpSpPr>
        <p:sp>
          <p:nvSpPr>
            <p:cNvPr id="347" name="Rectangle 5"/>
            <p:cNvSpPr/>
            <p:nvPr/>
          </p:nvSpPr>
          <p:spPr>
            <a:xfrm>
              <a:off x="742680" y="3504960"/>
              <a:ext cx="8585280" cy="2667240"/>
            </a:xfrm>
            <a:prstGeom prst="rect">
              <a:avLst/>
            </a:prstGeom>
            <a:gradFill rotWithShape="0">
              <a:gsLst>
                <a:gs pos="0">
                  <a:srgbClr val="ff00ff">
                    <a:alpha val="45098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348" name="Group 6"/>
            <p:cNvGrpSpPr/>
            <p:nvPr/>
          </p:nvGrpSpPr>
          <p:grpSpPr>
            <a:xfrm>
              <a:off x="-160560" y="2512800"/>
              <a:ext cx="9322920" cy="1948320"/>
              <a:chOff x="-160560" y="2512800"/>
              <a:chExt cx="9322920" cy="1948320"/>
            </a:xfrm>
          </p:grpSpPr>
          <p:grpSp>
            <p:nvGrpSpPr>
              <p:cNvPr id="349" name="Group 7"/>
              <p:cNvGrpSpPr/>
              <p:nvPr/>
            </p:nvGrpSpPr>
            <p:grpSpPr>
              <a:xfrm>
                <a:off x="907920" y="3504960"/>
                <a:ext cx="8254440" cy="703440"/>
                <a:chOff x="907920" y="3504960"/>
                <a:chExt cx="8254440" cy="703440"/>
              </a:xfrm>
            </p:grpSpPr>
            <p:sp>
              <p:nvSpPr>
                <p:cNvPr id="350" name="Text Box 8"/>
                <p:cNvSpPr/>
                <p:nvPr/>
              </p:nvSpPr>
              <p:spPr>
                <a:xfrm>
                  <a:off x="907920" y="3504960"/>
                  <a:ext cx="82544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7a77"/>
                      </a:solidFill>
                      <a:latin typeface="Arial"/>
                      <a:ea typeface="楷体_GB2312"/>
                    </a:rPr>
                    <a:t>           </a:t>
                  </a:r>
                  <a:r>
                    <a:rPr b="0" lang="zh-CN" sz="4000" spc="-1" strike="noStrike">
                      <a:solidFill>
                        <a:srgbClr val="cc3300"/>
                      </a:solidFill>
                      <a:latin typeface="Arial"/>
                      <a:ea typeface="黑体"/>
                    </a:rPr>
                    <a:t>读古文，可以先读熟，猜一猜文意，再对照译文理解。也可以一边看古文，一边对照译文，理解了文意再熟读。</a:t>
                  </a:r>
                  <a:endParaRPr b="0" lang="en-US" sz="40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51" name="Rectangle 9"/>
                <p:cNvSpPr/>
                <p:nvPr/>
              </p:nvSpPr>
              <p:spPr>
                <a:xfrm>
                  <a:off x="2169720" y="3504960"/>
                  <a:ext cx="4262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cc3300"/>
                      </a:solidFill>
                      <a:latin typeface="Arial"/>
                      <a:ea typeface="楷体_GB2312"/>
                    </a:rPr>
                    <a:t>●</a:t>
                  </a:r>
                  <a:endParaRPr b="0" lang="en-US" sz="32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52" name="Picture 10" descr="复件 1000810321_1_big1111"/>
              <p:cNvPicPr/>
              <p:nvPr/>
            </p:nvPicPr>
            <p:blipFill>
              <a:blip r:embed="rId1"/>
              <a:stretch/>
            </p:blipFill>
            <p:spPr>
              <a:xfrm rot="1606200">
                <a:off x="0" y="2895480"/>
                <a:ext cx="1981080" cy="1182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1476720" y="0"/>
            <a:ext cx="74314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欲速则不达 </a:t>
            </a: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韩非子</a:t>
            </a: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· 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外储说左上</a:t>
            </a: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》</a:t>
            </a:r>
            <a:r>
              <a:rPr b="1" lang="en-US" sz="4400" spc="-1" strike="noStrike">
                <a:solidFill>
                  <a:srgbClr val="007a77"/>
                </a:solidFill>
                <a:latin typeface="华文楷体"/>
                <a:ea typeface="华文楷体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7a77"/>
                </a:solidFill>
                <a:latin typeface="华文楷体"/>
                <a:ea typeface="华文楷体"/>
              </a:rPr>
              <a:t>    </a:t>
            </a:r>
            <a:r>
              <a:rPr b="1" lang="zh-CN" sz="4400" spc="-1" strike="noStrike">
                <a:solidFill>
                  <a:srgbClr val="007a77"/>
                </a:solidFill>
                <a:latin typeface="华文楷体"/>
                <a:ea typeface="华文楷体"/>
              </a:rPr>
              <a:t>齐景公游少海，传</a:t>
            </a:r>
            <a:r>
              <a:rPr b="1" lang="en-US" sz="4400" spc="-1" strike="noStrike">
                <a:solidFill>
                  <a:srgbClr val="007a77"/>
                </a:solidFill>
                <a:latin typeface="华文楷体"/>
                <a:ea typeface="华文楷体"/>
              </a:rPr>
              <a:t>(</a:t>
            </a:r>
            <a:r>
              <a:rPr b="1" lang="en-US" sz="4400" spc="-1" strike="noStrike">
                <a:solidFill>
                  <a:srgbClr val="ff3300"/>
                </a:solidFill>
                <a:latin typeface="华文楷体"/>
                <a:ea typeface="华文楷体"/>
              </a:rPr>
              <a:t>chuán</a:t>
            </a:r>
            <a:r>
              <a:rPr b="1" lang="en-US" sz="4400" spc="-1" strike="noStrike">
                <a:solidFill>
                  <a:srgbClr val="007a77"/>
                </a:solidFill>
                <a:latin typeface="华文楷体"/>
                <a:ea typeface="华文楷体"/>
              </a:rPr>
              <a:t>)</a:t>
            </a:r>
            <a:r>
              <a:rPr b="1" lang="zh-CN" sz="4400" spc="-1" strike="noStrike">
                <a:solidFill>
                  <a:srgbClr val="007a77"/>
                </a:solidFill>
                <a:latin typeface="华文楷体"/>
                <a:ea typeface="华文楷体"/>
              </a:rPr>
              <a:t>骑（</a:t>
            </a:r>
            <a:r>
              <a:rPr b="1" lang="en-US" sz="4400" spc="-1" strike="noStrike">
                <a:solidFill>
                  <a:srgbClr val="ff3300"/>
                </a:solidFill>
                <a:latin typeface="华文楷体"/>
                <a:ea typeface="华文楷体"/>
              </a:rPr>
              <a:t>jì</a:t>
            </a:r>
            <a:r>
              <a:rPr b="1" lang="zh-CN" sz="4400" spc="-1" strike="noStrike">
                <a:solidFill>
                  <a:srgbClr val="007a77"/>
                </a:solidFill>
                <a:latin typeface="华文楷体"/>
                <a:ea typeface="华文楷体"/>
              </a:rPr>
              <a:t>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华文楷体"/>
                <a:ea typeface="华文楷体"/>
              </a:rPr>
              <a:t>从中来谒（</a:t>
            </a:r>
            <a:r>
              <a:rPr b="1" lang="en-US" sz="4400" spc="-1" strike="noStrike">
                <a:solidFill>
                  <a:srgbClr val="ff3300"/>
                </a:solidFill>
                <a:latin typeface="华文楷体"/>
                <a:ea typeface="华文楷体"/>
              </a:rPr>
              <a:t>yè</a:t>
            </a:r>
            <a:r>
              <a:rPr b="1" lang="zh-CN" sz="4400" spc="-1" strike="noStrike">
                <a:solidFill>
                  <a:srgbClr val="007a77"/>
                </a:solidFill>
                <a:latin typeface="华文楷体"/>
                <a:ea typeface="华文楷体"/>
              </a:rPr>
              <a:t>）曰：“婴疾甚且死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华文楷体"/>
                <a:ea typeface="华文楷体"/>
              </a:rPr>
              <a:t>恐公后之。”景公遽（</a:t>
            </a:r>
            <a:r>
              <a:rPr b="1" lang="en-US" sz="4400" spc="-1" strike="noStrike">
                <a:solidFill>
                  <a:srgbClr val="ff3300"/>
                </a:solidFill>
                <a:latin typeface="华文楷体"/>
                <a:ea typeface="华文楷体"/>
              </a:rPr>
              <a:t>jù</a:t>
            </a:r>
            <a:r>
              <a:rPr b="1" lang="zh-CN" sz="4400" spc="-1" strike="noStrike">
                <a:solidFill>
                  <a:srgbClr val="007a77"/>
                </a:solidFill>
                <a:latin typeface="华文楷体"/>
                <a:ea typeface="华文楷体"/>
              </a:rPr>
              <a:t>）起，传骑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华文楷体"/>
                <a:ea typeface="华文楷体"/>
              </a:rPr>
              <a:t>又至景公曰：“趋驾烦且之乘（</a:t>
            </a:r>
            <a:r>
              <a:rPr b="1" lang="en-US" sz="4400" spc="-1" strike="noStrike">
                <a:solidFill>
                  <a:srgbClr val="ff3300"/>
                </a:solidFill>
                <a:latin typeface="华文楷体"/>
                <a:ea typeface="华文楷体"/>
              </a:rPr>
              <a:t>shèng</a:t>
            </a:r>
            <a:r>
              <a:rPr b="1" lang="zh-CN" sz="4400" spc="-1" strike="noStrike">
                <a:solidFill>
                  <a:srgbClr val="007a77"/>
                </a:solidFill>
                <a:latin typeface="华文楷体"/>
                <a:ea typeface="华文楷体"/>
              </a:rPr>
              <a:t>）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华文楷体"/>
                <a:ea typeface="华文楷体"/>
              </a:rPr>
              <a:t>使驺子韩枢御之。”行数百步，以驺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华文楷体"/>
                <a:ea typeface="华文楷体"/>
              </a:rPr>
              <a:t>为不疾，夺辔（</a:t>
            </a:r>
            <a:r>
              <a:rPr b="1" lang="en-US" sz="4400" spc="-1" strike="noStrike">
                <a:solidFill>
                  <a:srgbClr val="ff3300"/>
                </a:solidFill>
                <a:latin typeface="华文楷体"/>
                <a:ea typeface="华文楷体"/>
              </a:rPr>
              <a:t>pèi</a:t>
            </a:r>
            <a:r>
              <a:rPr b="1" lang="zh-CN" sz="4400" spc="-1" strike="noStrike">
                <a:solidFill>
                  <a:srgbClr val="007a77"/>
                </a:solidFill>
                <a:latin typeface="华文楷体"/>
                <a:ea typeface="华文楷体"/>
              </a:rPr>
              <a:t>）代之。御可数百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华文楷体"/>
                <a:ea typeface="华文楷体"/>
              </a:rPr>
              <a:t>步以马为不进，尽释车而走。</a:t>
            </a:r>
            <a:br>
              <a:rPr sz="4400"/>
            </a:b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欲速则不达 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韩非子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·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外储说左上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9252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齐景公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游少海，传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chuán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骑（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jì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）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从中来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谒（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yè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）曰：“婴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疾甚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且死，恐公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后之。”景公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遽（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jù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）起，传骑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又至。景公曰：“趋驾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烦且之乘（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hèng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），使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驺子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韩枢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御之。”行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数百步，以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驺为不疾，夺辔（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pèi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）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代之。御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可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数百步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以马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为不进，尽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释车而走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6880" y="311760"/>
            <a:ext cx="925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906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注释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楷体"/>
                <a:ea typeface="华文楷体"/>
              </a:rPr>
              <a:t>传骑</a:t>
            </a:r>
            <a:r>
              <a:rPr b="1" lang="en-US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—</a:t>
            </a:r>
            <a:r>
              <a:rPr b="1" lang="zh-CN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骑马传递公文的人。   </a:t>
            </a:r>
            <a:r>
              <a:rPr b="1" lang="zh-CN" sz="4000" spc="-1" strike="noStrike">
                <a:solidFill>
                  <a:srgbClr val="ff3300"/>
                </a:solidFill>
                <a:latin typeface="华文楷体"/>
                <a:ea typeface="华文楷体"/>
              </a:rPr>
              <a:t>谒</a:t>
            </a:r>
            <a:r>
              <a:rPr b="1" lang="en-US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—</a:t>
            </a:r>
            <a:r>
              <a:rPr b="1" lang="zh-CN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进见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楷体"/>
                <a:ea typeface="华文楷体"/>
              </a:rPr>
              <a:t>婴</a:t>
            </a:r>
            <a:r>
              <a:rPr b="1" lang="en-US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——</a:t>
            </a:r>
            <a:r>
              <a:rPr b="1" lang="zh-CN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齐国大夫晏婴。   </a:t>
            </a:r>
            <a:r>
              <a:rPr b="1" lang="zh-CN" sz="4000" spc="-1" strike="noStrike">
                <a:solidFill>
                  <a:srgbClr val="ff3300"/>
                </a:solidFill>
                <a:latin typeface="华文楷体"/>
                <a:ea typeface="华文楷体"/>
              </a:rPr>
              <a:t>疾甚</a:t>
            </a:r>
            <a:r>
              <a:rPr b="1" lang="en-US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—</a:t>
            </a:r>
            <a:r>
              <a:rPr b="1" lang="zh-CN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病重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楷体"/>
                <a:ea typeface="华文楷体"/>
              </a:rPr>
              <a:t>遽</a:t>
            </a:r>
            <a:r>
              <a:rPr b="1" lang="en-US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—</a:t>
            </a:r>
            <a:r>
              <a:rPr b="1" lang="zh-CN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急忙。             </a:t>
            </a:r>
            <a:r>
              <a:rPr b="1" lang="zh-CN" sz="4000" spc="-1" strike="noStrike">
                <a:solidFill>
                  <a:srgbClr val="ff3300"/>
                </a:solidFill>
                <a:latin typeface="华文楷体"/>
                <a:ea typeface="华文楷体"/>
              </a:rPr>
              <a:t>工趋</a:t>
            </a:r>
            <a:r>
              <a:rPr b="1" lang="en-US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—</a:t>
            </a:r>
            <a:r>
              <a:rPr b="1" lang="zh-CN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急速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楷体"/>
                <a:ea typeface="华文楷体"/>
              </a:rPr>
              <a:t>烦且</a:t>
            </a:r>
            <a:r>
              <a:rPr b="1" lang="en-US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—</a:t>
            </a:r>
            <a:r>
              <a:rPr b="1" lang="zh-CN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良马的名。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楷体"/>
                <a:ea typeface="华文楷体"/>
              </a:rPr>
              <a:t>乘</a:t>
            </a:r>
            <a:r>
              <a:rPr b="1" lang="en-US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—</a:t>
            </a:r>
            <a:r>
              <a:rPr b="1" lang="zh-CN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马拉的车</a:t>
            </a:r>
            <a:r>
              <a:rPr b="1" lang="en-US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(</a:t>
            </a:r>
            <a:r>
              <a:rPr b="1" lang="zh-CN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古代四匹马拉的车</a:t>
            </a:r>
            <a:r>
              <a:rPr b="1" lang="en-US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)</a:t>
            </a:r>
            <a:r>
              <a:rPr b="1" lang="zh-CN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。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楷体"/>
                <a:ea typeface="华文楷体"/>
              </a:rPr>
              <a:t>驺子</a:t>
            </a:r>
            <a:r>
              <a:rPr b="1" lang="en-US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—</a:t>
            </a:r>
            <a:r>
              <a:rPr b="1" lang="zh-CN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古代管车马的官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楷体"/>
                <a:ea typeface="华文楷体"/>
              </a:rPr>
              <a:t>辔</a:t>
            </a:r>
            <a:r>
              <a:rPr b="1" lang="en-US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—</a:t>
            </a:r>
            <a:r>
              <a:rPr b="1" lang="zh-CN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缰绳。     </a:t>
            </a:r>
            <a:r>
              <a:rPr b="1" lang="zh-CN" sz="4000" spc="-1" strike="noStrike">
                <a:solidFill>
                  <a:srgbClr val="ff3300"/>
                </a:solidFill>
                <a:latin typeface="华文楷体"/>
                <a:ea typeface="华文楷体"/>
              </a:rPr>
              <a:t>御</a:t>
            </a:r>
            <a:r>
              <a:rPr b="1" lang="en-US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—</a:t>
            </a:r>
            <a:r>
              <a:rPr b="1" lang="zh-CN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驾车。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楷体"/>
                <a:ea typeface="华文楷体"/>
              </a:rPr>
              <a:t>尽</a:t>
            </a:r>
            <a:r>
              <a:rPr b="1" lang="en-US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—</a:t>
            </a:r>
            <a:r>
              <a:rPr b="1" lang="zh-CN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终于。     </a:t>
            </a:r>
            <a:r>
              <a:rPr b="1" lang="zh-CN" sz="4000" spc="-1" strike="noStrike">
                <a:solidFill>
                  <a:srgbClr val="ff3300"/>
                </a:solidFill>
                <a:latin typeface="华文楷体"/>
                <a:ea typeface="华文楷体"/>
              </a:rPr>
              <a:t>释</a:t>
            </a:r>
            <a:r>
              <a:rPr b="1" lang="en-US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—</a:t>
            </a:r>
            <a:r>
              <a:rPr b="1" lang="zh-CN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放弃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52280" y="304920"/>
            <a:ext cx="678204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yì     chéng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华文楷体"/>
                <a:ea typeface="华文楷体"/>
              </a:rPr>
              <a:t>驿使    丞 相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28600" y="2057400"/>
            <a:ext cx="922032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yàn  yīng    hán   shū       zōu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晏   婴      韩   枢      驺 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0" y="4724280"/>
            <a:ext cx="990612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huò       jiāng             yù  mǎ       t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楷体"/>
                <a:ea typeface="华文楷体"/>
              </a:rPr>
              <a:t>霍地     缰 绳    恐怕   驭 马      徒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228600" y="34290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fén            dà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楷体"/>
                <a:ea typeface="华文楷体"/>
              </a:rPr>
              <a:t>心急如焚     危在旦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WordArt 6"/>
          <p:cNvSpPr txBox="1"/>
          <p:nvPr/>
        </p:nvSpPr>
        <p:spPr>
          <a:xfrm>
            <a:off x="5861160" y="609480"/>
            <a:ext cx="35496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我积累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330120" y="914400"/>
            <a:ext cx="9328320" cy="5410080"/>
          </a:xfrm>
          <a:prstGeom prst="rect">
            <a:avLst/>
          </a:prstGeom>
          <a:gradFill rotWithShape="0">
            <a:gsLst>
              <a:gs pos="0">
                <a:srgbClr val="ff9900">
                  <a:alpha val="58039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WordArt 3"/>
          <p:cNvSpPr txBox="1"/>
          <p:nvPr/>
        </p:nvSpPr>
        <p:spPr>
          <a:xfrm>
            <a:off x="2806560" y="1295280"/>
            <a:ext cx="33433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拓展延伸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577800" y="2514600"/>
            <a:ext cx="8832600" cy="1570680"/>
            <a:chOff x="577800" y="2514600"/>
            <a:chExt cx="8832600" cy="1570680"/>
          </a:xfrm>
        </p:grpSpPr>
        <p:sp>
          <p:nvSpPr>
            <p:cNvPr id="361" name="Rectangle 5"/>
            <p:cNvSpPr/>
            <p:nvPr/>
          </p:nvSpPr>
          <p:spPr>
            <a:xfrm>
              <a:off x="577800" y="2772360"/>
              <a:ext cx="8832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　       </a:t>
              </a:r>
              <a:r>
                <a:rPr b="1" lang="en-US" sz="4000" spc="-1" strike="noStrike">
                  <a:solidFill>
                    <a:srgbClr val="6600cc"/>
                  </a:solidFill>
                  <a:latin typeface="Arial"/>
                  <a:ea typeface="楷体_GB2312"/>
                </a:rPr>
                <a:t>1.</a:t>
              </a:r>
              <a:r>
                <a:rPr b="1" lang="zh-CN" sz="4000" spc="-1" strike="noStrike">
                  <a:solidFill>
                    <a:srgbClr val="6600cc"/>
                  </a:solidFill>
                  <a:latin typeface="Arial"/>
                  <a:ea typeface="楷体_GB2312"/>
                </a:rPr>
                <a:t>齐景公能很快地赶回都城吗？为什么？</a:t>
              </a:r>
              <a:br>
                <a:rPr sz="4000"/>
              </a:b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>
              <a:off x="1601280" y="2514600"/>
              <a:ext cx="68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cc"/>
                  </a:solidFill>
                  <a:latin typeface="Arial"/>
                  <a:ea typeface="楷体_GB2312"/>
                </a:rPr>
                <a:t>▲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63" name="Group 7"/>
          <p:cNvGrpSpPr/>
          <p:nvPr/>
        </p:nvGrpSpPr>
        <p:grpSpPr>
          <a:xfrm>
            <a:off x="495360" y="3718080"/>
            <a:ext cx="8915040" cy="2226240"/>
            <a:chOff x="495360" y="3718080"/>
            <a:chExt cx="8915040" cy="2226240"/>
          </a:xfrm>
        </p:grpSpPr>
        <p:sp>
          <p:nvSpPr>
            <p:cNvPr id="364" name="Rectangle 8"/>
            <p:cNvSpPr/>
            <p:nvPr/>
          </p:nvSpPr>
          <p:spPr>
            <a:xfrm>
              <a:off x="495360" y="4631400"/>
              <a:ext cx="8915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　        </a:t>
              </a:r>
              <a:r>
                <a:rPr b="1" lang="en-US" sz="4000" spc="-1" strike="noStrike">
                  <a:solidFill>
                    <a:srgbClr val="6600cc"/>
                  </a:solidFill>
                  <a:latin typeface="Arial"/>
                  <a:ea typeface="楷体_GB2312"/>
                </a:rPr>
                <a:t>2.</a:t>
              </a:r>
              <a:r>
                <a:rPr b="1" lang="zh-CN" sz="4000" spc="-1" strike="noStrike">
                  <a:solidFill>
                    <a:srgbClr val="6600cc"/>
                  </a:solidFill>
                  <a:latin typeface="Arial"/>
                  <a:ea typeface="楷体_GB2312"/>
                </a:rPr>
                <a:t>如果你是齐景公身边的一个侍从，当看到齐景公嫌马跑得不努力，自己下车步行时，你打算怎样说服他回到马车上去？</a:t>
              </a:r>
              <a:br>
                <a:rPr sz="4000"/>
              </a:b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5" name="Rectangle 9"/>
            <p:cNvSpPr/>
            <p:nvPr/>
          </p:nvSpPr>
          <p:spPr>
            <a:xfrm>
              <a:off x="1601280" y="3718080"/>
              <a:ext cx="68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cc"/>
                  </a:solidFill>
                  <a:latin typeface="Arial"/>
                  <a:ea typeface="楷体_GB2312"/>
                </a:rPr>
                <a:t>▲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981080" y="1295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驿使    丞相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981080" y="2438280"/>
            <a:ext cx="58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晏 婴   韩  枢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驺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609480" y="4800600"/>
            <a:ext cx="904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词语  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霍地  缰绳  恐怕  驭马   徒步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2856600" y="36576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心急如焚  危在旦夕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WordArt 6"/>
          <p:cNvSpPr txBox="1"/>
          <p:nvPr/>
        </p:nvSpPr>
        <p:spPr>
          <a:xfrm>
            <a:off x="5861160" y="609480"/>
            <a:ext cx="35496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我积累</a:t>
            </a:r>
            <a:endParaRPr b="1" lang="en-US" sz="18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495360" y="1295280"/>
            <a:ext cx="13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官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360360" y="2438280"/>
            <a:ext cx="13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人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495360" y="365760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成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51920"/>
            <a:ext cx="9906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华文楷体"/>
                <a:ea typeface="华文楷体"/>
              </a:rPr>
              <a:t>驿使：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古代传递政府文书的人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华文楷体"/>
                <a:ea typeface="华文楷体"/>
              </a:rPr>
              <a:t>驺子：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古代给贵族掌管车马的人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华文楷体"/>
                <a:ea typeface="华文楷体"/>
              </a:rPr>
              <a:t>驭马：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驱马行进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华文楷体"/>
                <a:ea typeface="华文楷体"/>
              </a:rPr>
              <a:t>危在旦夕：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早晨和晚上，形容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间短。形容危险就在眼前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0" y="3808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楷体"/>
                <a:ea typeface="华文楷体"/>
              </a:rPr>
              <a:t>心急如焚：</a:t>
            </a:r>
            <a:r>
              <a:rPr b="1" lang="zh-CN" sz="6000" spc="-1" strike="noStrike">
                <a:solidFill>
                  <a:srgbClr val="007a77"/>
                </a:solidFill>
                <a:latin typeface="华文楷体"/>
                <a:ea typeface="华文楷体"/>
              </a:rPr>
              <a:t>心里急得像火烧一样。形容非常着急。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楷体"/>
                <a:ea typeface="华文楷体"/>
              </a:rPr>
              <a:t>霍地：</a:t>
            </a:r>
            <a:r>
              <a:rPr b="1" lang="zh-CN" sz="6000" spc="-1" strike="noStrike">
                <a:solidFill>
                  <a:srgbClr val="007a77"/>
                </a:solidFill>
                <a:latin typeface="华文楷体"/>
                <a:ea typeface="华文楷体"/>
              </a:rPr>
              <a:t>动作突然发生，形容很快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楷体"/>
                <a:ea typeface="华文楷体"/>
              </a:rPr>
              <a:t>恐怕：</a:t>
            </a:r>
            <a:r>
              <a:rPr b="1" lang="zh-CN" sz="6000" spc="-1" strike="noStrike">
                <a:solidFill>
                  <a:srgbClr val="007a77"/>
                </a:solidFill>
                <a:latin typeface="华文楷体"/>
                <a:ea typeface="华文楷体"/>
              </a:rPr>
              <a:t>表示估计并担心 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20085131339223"/>
          <p:cNvPicPr/>
          <p:nvPr/>
        </p:nvPicPr>
        <p:blipFill>
          <a:blip r:embed="rId1">
            <a:grayscl/>
          </a:blip>
          <a:stretch/>
        </p:blipFill>
        <p:spPr>
          <a:xfrm>
            <a:off x="6858000" y="762120"/>
            <a:ext cx="2676600" cy="41907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702000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华文楷体"/>
                <a:ea typeface="华文楷体"/>
              </a:rPr>
              <a:t>晏婴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前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7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－前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0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字仲，谥平，习惯上多称平仲，又称晏子，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春秋后期一位重要的政治家、思想家、外交家。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晏婴头脑机敏，能言善辩，竭力拯救内忧外患的齐国。在对外斗争中，他捍卫了齐国的国格和国威。十分有名的就是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晏子使楚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故事。而且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晏子辅佐齐国三代国君长达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50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，所以，君臣之间的感情十分深厚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bg.wma" descr=""/>
          <p:cNvPicPr/>
          <p:nvPr/>
        </p:nvPicPr>
        <p:blipFill>
          <a:blip r:embed="rId2"/>
          <a:stretch/>
        </p:blipFill>
        <p:spPr>
          <a:xfrm>
            <a:off x="2362320" y="4952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308732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齐景公"/>
          <p:cNvPicPr/>
          <p:nvPr/>
        </p:nvPicPr>
        <p:blipFill>
          <a:blip r:embed="rId1"/>
          <a:srcRect l="0" t="0" r="-98" b="3842"/>
          <a:stretch/>
        </p:blipFill>
        <p:spPr>
          <a:xfrm>
            <a:off x="577800" y="457200"/>
            <a:ext cx="3224160" cy="52754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"/>
          <p:cNvSpPr/>
          <p:nvPr/>
        </p:nvSpPr>
        <p:spPr>
          <a:xfrm>
            <a:off x="3276720" y="0"/>
            <a:ext cx="662940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7a77"/>
                </a:solidFill>
                <a:latin typeface="华文楷体"/>
                <a:ea typeface="华文楷体"/>
              </a:rPr>
              <a:t>齐景公，原名姜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华文楷体"/>
                <a:ea typeface="华文楷体"/>
              </a:rPr>
              <a:t>   </a:t>
            </a:r>
            <a:r>
              <a:rPr b="1" lang="zh-CN" sz="4400" spc="-1" strike="noStrike">
                <a:solidFill>
                  <a:srgbClr val="007a77"/>
                </a:solidFill>
                <a:latin typeface="华文楷体"/>
                <a:ea typeface="华文楷体"/>
              </a:rPr>
              <a:t>杵臼，齐庄公的异母弟，在位时有名相晏婴辅政。景公喜欢打猎，箭法却不高明，</a:t>
            </a:r>
            <a:r>
              <a:rPr b="1" lang="zh-CN" sz="4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晏子劝谏他，齐景公能接受劝谏，</a:t>
            </a:r>
            <a:r>
              <a:rPr b="1" lang="zh-CN" sz="4400" spc="-1" strike="noStrike">
                <a:solidFill>
                  <a:srgbClr val="007a77"/>
                </a:solidFill>
                <a:latin typeface="华文楷体"/>
                <a:ea typeface="华文楷体"/>
              </a:rPr>
              <a:t>在位</a:t>
            </a:r>
            <a:r>
              <a:rPr b="1" lang="en-US" sz="4400" spc="-1" strike="noStrike">
                <a:solidFill>
                  <a:srgbClr val="007a77"/>
                </a:solidFill>
                <a:latin typeface="华文楷体"/>
                <a:ea typeface="华文楷体"/>
              </a:rPr>
              <a:t>58</a:t>
            </a:r>
            <a:r>
              <a:rPr b="1" lang="zh-CN" sz="4400" spc="-1" strike="noStrike">
                <a:solidFill>
                  <a:srgbClr val="007a77"/>
                </a:solidFill>
                <a:latin typeface="华文楷体"/>
                <a:ea typeface="华文楷体"/>
              </a:rPr>
              <a:t>年，国内治安相对稳定，是齐国执政最长的一位国君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914400" y="60948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一次，齐景公到东海之滨游玩。突然，一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驿（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ì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）使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从都城飞马赶来，向景公报告说：“丞相晏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(yàn)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婴病重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危在旦夕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，请大王火速赶回，否则恐怕难以见上最后一面了。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景公听了，急得霍地站起来。这时，又一个驿使飞马而至，催请景公速回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景公十分焦急，高声喊道 ：“快快准备好车良马，让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驺（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zōu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）子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韩枢（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shū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）为我驾车，火速回去！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驺子驾车跑了大约几百步，景公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心急如焚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，嫌驺子驾得太慢了，就夺过缰绳，亲自赶起车来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他驾车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驭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(yù)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马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行了几百步，又嫌马不努力向前，索性弃车，自己徒步跑开了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1T05:32:31Z</dcterms:created>
  <dc:creator>Administrator</dc:creator>
  <dc:description/>
  <dc:language>en-US</dc:language>
  <cp:lastModifiedBy/>
  <dcterms:modified xsi:type="dcterms:W3CDTF">2015-08-11T05:36:05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