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24D-9313-462D-8C9F-B1D6A08F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60A-5BE1-42A9-AAFB-9E430984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7DC-2D5E-4AF0-94F8-907012EC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597-7771-4A00-957C-4DDBB9C8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DA2-9804-4D88-80DA-5989CBA9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B4B-EF77-4F85-AEC1-CBE5E158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251-D8F0-445F-9FB1-230FBF84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DD0-753D-4A0C-B9A1-DC1E4B85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4CC-8AF8-49E9-9ED7-DD885C48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B8C-0C62-478B-9329-A9220ADA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429-8C5C-423A-AAE1-F0AD7FF4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FD6-5708-4DCC-A8BB-699EA3A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30CE-1B1B-44FA-8C79-83B479BEB3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80520" y="685800"/>
            <a:ext cx="30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﹡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云海日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476440" y="1828800"/>
            <a:ext cx="41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●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导入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●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识字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●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课文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●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9" action="ppaction://hlinksldjump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6680" y="1467000"/>
            <a:ext cx="88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东方开始发亮了。一大片白光从夜幕的边沿泛出，远山近岭现出了模糊的轮廓。我们看见北面山谷中明晃晃、光闪闪的一片，似乎是放在深山空谷中的亮闪闪的大镜子，又如无边无涯的白茫茫的水面。那就是云海。只见云雾像棉絮，似轻纱，飞来荡去，盘旋缭绕在山峰间。山峰时隐时现，变幻无穷，云浪上下翻滚着，一会儿像万马奔腾，一会儿又似帆樯林立，光怪陆离，景象万千，把黄山点染得有几分仙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7010280" y="373392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8534520" y="373392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28600" y="41148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505320" y="4267080"/>
            <a:ext cx="3429000" cy="1828800"/>
          </a:xfrm>
          <a:prstGeom prst="cloudCallout">
            <a:avLst>
              <a:gd name="adj1" fmla="val -43564"/>
              <a:gd name="adj2" fmla="val 6718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你从哪些语句中感受到了云海的神奇、韵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941560" y="1447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光怪陆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41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景物万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033720" y="5526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云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031000" y="5526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日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28600" y="762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们正看得出神，忽然风把云块向我们推来，越来越近，简直伸手可捉。当一朵云飘到我身边时，我真想迈步跨上去。可是它一到脚下，又被山石撞破了。看着这云流山动的景色，仿佛置身梦幻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大家凝视着东方，静等日出。这时，清风习习，云烟袅袅，松涛阵阵，人语轻轻，多么别有风味的气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会儿，朝霞像一个俊美的小姑娘，从黎明的白幕后飘了出来。抖开了她的新装：橙红艳丽，缤纷灿烂，像一幅悬挂在天边的织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914400" y="22860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941560" y="1447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光怪陆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941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景物万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033720" y="5526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云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031000" y="5526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日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41560" y="4861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置身梦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28600" y="9651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蓦地，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交接处绽露出一个红色光点。一瞬间，红点又变成了圆弧，弯弯的，像美女的红唇。圆弧很快上升，变成半圆、大半圆。最后，在五彩缤纷的朝霞簇拥下，一轮晶莹剔透的胭脂色的朝阳腾空而出，在橙黄色的天幕上徐徐上升，像一个悬挂在天空的玛瑙盘，鲜红欲滴，艳丽无比。这时朝霞渐渐隐去，浓雾霎时变得稀薄了。太阳脱下了美丽的红衫，换上了金碧辉煌的新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瞬息万变的景色，看得我们眼花缭乱，心神飞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5638680" y="13716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828800" y="175248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609480" y="213372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1523880" y="2133720"/>
            <a:ext cx="1067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3124080" y="28195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4419720" y="4267080"/>
            <a:ext cx="3352680" cy="1828800"/>
          </a:xfrm>
          <a:prstGeom prst="cloudCallout">
            <a:avLst>
              <a:gd name="adj1" fmla="val 50143"/>
              <a:gd name="adj2" fmla="val 5937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看看作者是怎样描写日出时的变化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941560" y="1447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光怪陆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998960" y="1447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光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98960" y="2362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圆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941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景物万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998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半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941560" y="4861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置身梦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075280" y="48610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玛瑙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075280" y="38862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半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033720" y="5526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云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031000" y="5526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日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798560" y="1828800"/>
            <a:ext cx="566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明晃晃　　光闪闪　　　清风习习　云烟袅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98560" y="3429000"/>
            <a:ext cx="566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白茫茫　　亮闪闪　　　松涛阵阵　人语轻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qí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崎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qū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岖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kuò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357660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廓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04"/>
          <p:cNvPicPr/>
          <p:nvPr/>
        </p:nvPicPr>
        <p:blipFill>
          <a:blip r:embed="rId1"/>
          <a:stretch/>
        </p:blipFill>
        <p:spPr>
          <a:xfrm>
            <a:off x="406440" y="609480"/>
            <a:ext cx="8329680" cy="5500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282560" y="624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黄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kuà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跨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lí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黎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chénɡ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橙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bī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缤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ǐ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锦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zhà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绽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hú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弧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tī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剔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07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1912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4282560" y="6172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黄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4282560" y="6172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黄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06"/>
          <p:cNvPicPr/>
          <p:nvPr/>
        </p:nvPicPr>
        <p:blipFill>
          <a:blip r:embed="rId1"/>
          <a:stretch/>
        </p:blipFill>
        <p:spPr>
          <a:xfrm>
            <a:off x="209520" y="457200"/>
            <a:ext cx="872496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282560" y="624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黄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02"/>
          <p:cNvPicPr/>
          <p:nvPr/>
        </p:nvPicPr>
        <p:blipFill>
          <a:blip r:embed="rId1"/>
          <a:stretch/>
        </p:blipFill>
        <p:spPr>
          <a:xfrm>
            <a:off x="266760" y="380880"/>
            <a:ext cx="86104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131720" y="6095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黄山云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1"/>
          <p:cNvPicPr/>
          <p:nvPr/>
        </p:nvPicPr>
        <p:blipFill>
          <a:blip r:embed="rId1"/>
          <a:stretch/>
        </p:blipFill>
        <p:spPr>
          <a:xfrm>
            <a:off x="419040" y="533520"/>
            <a:ext cx="83059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66680" y="2438280"/>
            <a:ext cx="88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在黄山流连的几天里，最使我难忘的，是观看云海和日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看日出须得早起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钟不到，我们就沿着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岖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山路登上清凉台。原以为是到得最早的，哪知许多人为了看日出，几乎一夜没睡。这时，清凉台上早已站满了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024440" y="304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海日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1828800" y="28195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80880" y="990720"/>
            <a:ext cx="3048120" cy="838080"/>
          </a:xfrm>
          <a:prstGeom prst="wedgeRoundRectCallout">
            <a:avLst>
              <a:gd name="adj1" fmla="val -1300"/>
              <a:gd name="adj2" fmla="val 111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流连：留恋不止，舍不得离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7238880" y="3200400"/>
            <a:ext cx="167652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6324480" y="1371600"/>
            <a:ext cx="2590920" cy="838080"/>
          </a:xfrm>
          <a:prstGeom prst="wedgeRoundRectCallout">
            <a:avLst>
              <a:gd name="adj1" fmla="val 4351"/>
              <a:gd name="adj2" fmla="val 111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崎岖：形容山路不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66680" y="1390680"/>
            <a:ext cx="88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东方开始发亮了。一大片白光从夜幕的边沿泛出，远山近岭现出了模糊的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u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我们看见北面山谷中明晃晃、光闪闪的一片，似乎是放在深山空谷中的亮闪闪的大镜子，又如无边无涯的白茫茫的水面。那就是云海。只见云雾像棉絮，似轻纱，飞来荡去，盘旋缭绕在山峰间。山峰时隐时现，变幻无穷，云浪上下翻滚着，一会儿像万马奔腾，一会儿又似帆樯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iá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林立，光怪陆离，景象万千，把黄山点染得有几分仙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6477120" y="3657600"/>
            <a:ext cx="7617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5562720" y="4572000"/>
            <a:ext cx="3200400" cy="838080"/>
          </a:xfrm>
          <a:prstGeom prst="wedgeRoundRectCallout">
            <a:avLst>
              <a:gd name="adj1" fmla="val -6597"/>
              <a:gd name="adj2" fmla="val -1490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帆樯：船上挂帆的杆子，借指船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838080" y="4038480"/>
            <a:ext cx="12956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990720" y="4343400"/>
            <a:ext cx="3200400" cy="838080"/>
          </a:xfrm>
          <a:prstGeom prst="wedgeRoundRectCallout">
            <a:avLst>
              <a:gd name="adj1" fmla="val -34375"/>
              <a:gd name="adj2" fmla="val -75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光怪陆离：形容现象奇异，色彩繁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2280" y="736560"/>
            <a:ext cx="88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们正看得出神，忽然风把云块向我们推来，越来越近，简直伸手可捉。当一朵云飘到我身边时，我真想迈步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u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上去。可是它一到脚下，又被山石撞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uà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破了。看着这云流山动的景色，仿佛置身梦幻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大家凝视着东方，静等日出。这时，清风习习，云烟袅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niǎ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袅，松涛阵阵，人语轻轻，多么别有风味的气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会儿，朝霞像一个俊美的小姑娘，从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明的白幕后飘了出来。抖开了她的新装：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é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红艳丽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缤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纷灿烂，像一幅悬挂在天边的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ǐ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119376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蓦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地，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交接处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露出一个红色光点。一瞬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hù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间，红点又变成了圆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弯弯的，像美女的红唇。圆弧很快上升，变成半圆、大半圆。最后，在五彩缤纷的朝霞簇拥下，一轮晶莹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透的胭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ā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脂色的朝阳腾空而出，在橙黄色的天幕上徐徐上升，像一个悬挂在天空的玛瑙盘，鲜红欲滴，艳丽无比。这时朝霞渐渐隐去，浓雾霎时变得稀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ó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太阳脱下了美丽的红衫，换上了金碧辉煌的新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瞬息万变的景色，看得我们眼花缭乱，心神飞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1143000" y="1600200"/>
            <a:ext cx="167652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295280" y="533520"/>
            <a:ext cx="2362320" cy="457200"/>
          </a:xfrm>
          <a:prstGeom prst="wedgeRoundRectCallout">
            <a:avLst>
              <a:gd name="adj1" fmla="val -29370"/>
              <a:gd name="adj2" fmla="val 9201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蓦地：突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838080" y="2743200"/>
            <a:ext cx="12956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5334120" y="152280"/>
            <a:ext cx="3200400" cy="838440"/>
          </a:xfrm>
          <a:prstGeom prst="wedgeRoundRectCallout">
            <a:avLst>
              <a:gd name="adj1" fmla="val -143351"/>
              <a:gd name="adj2" fmla="val 214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五彩缤纷：泛指多种颜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1371600" y="4572000"/>
            <a:ext cx="13716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914400" y="4876920"/>
            <a:ext cx="2895480" cy="990360"/>
          </a:xfrm>
          <a:prstGeom prst="wedgeRoundRectCallout">
            <a:avLst>
              <a:gd name="adj1" fmla="val -2629"/>
              <a:gd name="adj2" fmla="val -754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瞬息万变：形容极短的时间内变化快而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5181480" y="4572000"/>
            <a:ext cx="121932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4572000" y="5486400"/>
            <a:ext cx="3733920" cy="762120"/>
          </a:xfrm>
          <a:prstGeom prst="wedgeRoundRectCallout">
            <a:avLst>
              <a:gd name="adj1" fmla="val -16157"/>
              <a:gd name="adj2" fmla="val -161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眼花缭乱：眼睛看见复杂纷繁的东西而感到迷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66680" y="1892160"/>
            <a:ext cx="88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在黄山流连的几天里，最使我难忘的，是观看云海和日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看日出须得早起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钟不到，我们就沿着崎岖的山路登上清凉台。原以为是到得最早的，哪知许多人为了看日出，几乎一夜没睡。这时，清凉台上早已站满了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024440" y="304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海日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8T09:32:56Z</dcterms:modified>
  <cp:revision>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