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5.gif" ContentType="image/gif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1.jpeg" ContentType="image/jpeg"/>
  <Override PartName="/ppt/media/image17.gif" ContentType="image/gif"/>
  <Override PartName="/ppt/media/image13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4.jpeg" ContentType="image/jpeg"/>
  <Override PartName="/ppt/media/image18.jpeg" ContentType="image/jpe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6D3-0F8F-4A44-B9E5-467F9E2E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55D-82D7-493A-B8A0-1C565D76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A58-86DA-4E98-B950-A2164720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9B9-3886-4F41-9407-C417F038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D014-7321-4894-BBC5-9D71EF9D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46B-F067-4E98-922E-2AF16083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0B3-E122-4F82-B543-B8A8E676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834-6631-4342-A672-F8264D18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E6D1-08AC-4D0C-A283-7D695737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DEF-C5C0-4FA3-B5FA-0B1083DC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E04-7C5C-4E71-8F39-21114A44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CB4-77B1-48F0-8170-6251DBF7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2337-C138-4F11-8320-AACDE0BA86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37280" y="1341360"/>
            <a:ext cx="31064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</a:rPr>
              <a:t>梅雨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9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（长春版）四年级语文下册 第三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700280"/>
            <a:ext cx="5977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课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四年级语文课堂教学中，先学后教，互助合作教学策略的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9001080" cy="662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12720" y="765000"/>
            <a:ext cx="7775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自学指导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者依次看到了哪些景色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对这些景色作者是怎样描写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找一找近看梅雨瀑的句子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在近看梅雨潭的描写中，请找出你认为最美的句子，并说说美在哪里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小组合作完成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近看</a:t>
            </a: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梅雨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77336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岩面与草丛</a:t>
            </a: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708280"/>
            <a:ext cx="4643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从湿润中透出几分油油的绿意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443700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瀑布</a:t>
            </a: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521172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似乎分外地响了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9079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微云</a:t>
            </a: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9079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流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84720" y="260280"/>
            <a:ext cx="4699080" cy="626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3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312840"/>
            <a:ext cx="9144000" cy="74138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那瀑布从上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40464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那瀑布从上面冲下，仿佛已被扯成大小的几绺儿；不复是一幅整齐而平滑的布。岩上有许多棱角；瀑流经过时，作急剧的撞击，便飞花碎玉般乱溅了。那 溅着的水花，晶莹而多芒；远望去，像一朵朵小小的白梅，微雨似的纷纷落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5373720"/>
            <a:ext cx="63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4038480" cy="6264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00720" y="260280"/>
            <a:ext cx="42195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0" y="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瀑流撞击溅起水花</a:t>
            </a: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27664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远望</a:t>
            </a: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象一朵朵小小的白梅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微雨似的纷纷落着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2720" y="836640"/>
            <a:ext cx="39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飞花碎玉般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晶莹而多芒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508464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4508640"/>
            <a:ext cx="23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动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45086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撞、溅、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530208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（水花轻快飞舞飘落，动态美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820000" y="6524640"/>
            <a:ext cx="324000" cy="333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943080" cy="465300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3" name="chimes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342900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瀑布</a:t>
            </a: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9280" y="357336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从上面冲下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仿佛已被扯成大小的几绺儿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;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复是一幅整齐而平滑的布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566100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动词</a:t>
            </a: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80000" y="566100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冲、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555040" y="0"/>
            <a:ext cx="588960" cy="981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700360" y="26028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4" name="chimes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3286080"/>
            <a:ext cx="4233600" cy="345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50920" y="44280"/>
            <a:ext cx="4319640" cy="3241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500720" y="189000"/>
            <a:ext cx="45129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3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 flipH="1">
            <a:off x="2123280" y="4653000"/>
            <a:ext cx="716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-312840"/>
            <a:ext cx="9144000" cy="7989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260280"/>
            <a:ext cx="914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1" lang="zh-CN" sz="5400" spc="-1" strike="noStrike" u="sng">
                <a:solidFill>
                  <a:srgbClr val="ff00ff"/>
                </a:solidFill>
                <a:uFillTx/>
                <a:latin typeface="Arial"/>
              </a:rPr>
              <a:t>仿佛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一只苍鹰展着翼翅浮    在天宇中一般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1" lang="zh-CN" sz="5400" spc="-1" strike="noStrike" u="sng">
                <a:solidFill>
                  <a:srgbClr val="ff00ff"/>
                </a:solidFill>
                <a:uFillTx/>
                <a:latin typeface="Arial"/>
              </a:rPr>
              <a:t>像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半个环儿拥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、便飞花碎玉</a:t>
            </a:r>
            <a:r>
              <a:rPr b="1" lang="zh-CN" sz="5400" spc="-1" strike="noStrike" u="sng">
                <a:solidFill>
                  <a:srgbClr val="ff00ff"/>
                </a:solidFill>
                <a:uFillTx/>
                <a:latin typeface="Arial"/>
              </a:rPr>
              <a:t>般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乱溅着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、微雨</a:t>
            </a:r>
            <a:r>
              <a:rPr b="1" lang="zh-CN" sz="5400" spc="-1" strike="noStrike" u="sng">
                <a:solidFill>
                  <a:srgbClr val="ff00ff"/>
                </a:solidFill>
                <a:uFillTx/>
                <a:latin typeface="Arial"/>
              </a:rPr>
              <a:t>似的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纷纷落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320760" y="6202440"/>
            <a:ext cx="993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黑体"/>
                <a:ea typeface="黑体"/>
              </a:rPr>
              <a:t>（灵活运用词语会使文章更加生动、精彩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2720" y="549360"/>
            <a:ext cx="82072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当堂训练、达标测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梅雨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作者是（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者是在什么季节游览的？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者从山边远看瀑布的样子到走近梅雨亭近看瀑布，这种以地点转换的方式描写景 物的方法，我们称之为（            ）法，这样描写，使文章则显得层次分明，条理清晰。此外作者还运用了（            ）和（           ）的观察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1700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Arial"/>
              </a:rPr>
              <a:t>朱自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36000" y="2205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秋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4437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移步换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5589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由远及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从上到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96720" y="1413000"/>
            <a:ext cx="7417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学习愉快</a:t>
            </a:r>
            <a:endParaRPr b="0" lang="en-US" sz="96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作者抓住特点运用比喻、拟人等修辞手法具体描绘的方法，感受梅雨潭独具特色的美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作者观察景物、描写景物的方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移步换景、由远及近、从上到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有感情地朗读课文，体会文本优美的词语，积累语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117360"/>
            <a:ext cx="8812440" cy="6623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1125360"/>
            <a:ext cx="69850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自学指导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作者此时的观察点是在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他观察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你是从哪些词语或句子看出来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小组合作完成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211640" y="83664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山边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远看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2520" y="18320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观察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41760" y="18320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梅雨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观察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2708280"/>
            <a:ext cx="46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声音</a:t>
            </a: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哗哗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3573360"/>
            <a:ext cx="46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样子</a:t>
            </a: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白而发亮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象一条带子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27640" y="512136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狭长飘逸</a:t>
            </a:r>
            <a:r>
              <a:rPr b="1" lang="en-US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洁白鲜亮</a:t>
            </a:r>
            <a:r>
              <a:rPr b="1" lang="en-US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259840" y="0"/>
            <a:ext cx="884160" cy="1197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4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08000" y="117360"/>
            <a:ext cx="8929800" cy="662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907920"/>
            <a:ext cx="69120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自学指导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作者此时的观察点又是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他观察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亭、瀑、潭的关系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“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对着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面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句型描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作者是怎样描写梅雨亭的呢？谁能找到相关的句子读一读。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小组合作完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-233280"/>
            <a:ext cx="4905360" cy="71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47640" y="3860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观察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393372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梅雨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99800" y="5013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观察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2360" y="4654440"/>
            <a:ext cx="4896000" cy="34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正对着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   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下面是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900920" y="0"/>
            <a:ext cx="1243080" cy="141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700360" y="189000"/>
            <a:ext cx="4572000" cy="3809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92360" y="4726080"/>
            <a:ext cx="49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梅雨亭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梅雨瀑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梅雨亭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梅雨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4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435640" y="3645000"/>
            <a:ext cx="3527280" cy="271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16000" y="26028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梅雨亭</a:t>
            </a: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1413000"/>
            <a:ext cx="367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4400" spc="-1" strike="noStrike" u="sng">
                <a:solidFill>
                  <a:srgbClr val="00cc00"/>
                </a:solidFill>
                <a:uFillTx/>
                <a:latin typeface="楷体_GB2312"/>
                <a:ea typeface="楷体_GB2312"/>
              </a:rPr>
              <a:t>距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突出一角的岩石上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上下空空的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仿佛一只苍鹰展着翼翅</a:t>
            </a:r>
            <a:r>
              <a:rPr b="1" lang="zh-CN" sz="4400" spc="-1" strike="noStrike" u="sng">
                <a:solidFill>
                  <a:srgbClr val="00cc00"/>
                </a:solidFill>
                <a:uFillTx/>
                <a:latin typeface="楷体_GB2312"/>
                <a:ea typeface="楷体_GB2312"/>
              </a:rPr>
              <a:t>浮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天宇中一般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64000" y="260280"/>
            <a:ext cx="3529080" cy="282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203640" y="0"/>
            <a:ext cx="1908000" cy="1557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61920" y="5645160"/>
            <a:ext cx="36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（梅雨亭位置奇妙，险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5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23:46:17Z</dcterms:created>
  <dc:creator> </dc:creator>
  <dc:description> </dc:description>
  <dc:language>en-US</dc:language>
  <cp:lastModifiedBy>MC SYSTEM</cp:lastModifiedBy>
  <dcterms:modified xsi:type="dcterms:W3CDTF">2013-06-22T11:56:56Z</dcterms:modified>
  <cp:revision>11</cp:revision>
  <dc:subject> 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  <property fmtid="{D5CDD505-2E9C-101B-9397-08002B2CF9AE}" pid="3" name="NXTAG2">
    <vt:lpwstr>0008008611000000000001024120</vt:lpwstr>
  </property>
</Properties>
</file>