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65D5-8D2A-4CF8-BE1D-B3CABD1C6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464-D503-471E-BB2F-43B19468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04AD-2684-475A-840E-C52BF8215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B64E-67E4-4E3B-AF8A-E6065FDE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CF8B-CABA-4410-A079-836FA293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F577-A7EC-4D8F-B036-DA1B382D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551D-BA5D-41BF-94F4-45BB14500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B38C-C330-4EAF-93C2-1A94A0AB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A65-E2F0-415A-9A88-E4692835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6D8-54D7-485D-A102-EDA752AF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D3E1-69C1-4E80-A298-91590FA3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5566-77D0-4D2A-A255-031EBDD6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7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95F7-27CD-4D41-858B-8EBFDC0766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-3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长春版小学语文第八册第七板块</a:t>
            </a:r>
            <a:br>
              <a:rPr sz="4400"/>
            </a:br>
            <a:br>
              <a:rPr sz="3600"/>
            </a:b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《爱美的梅花鹿》</a:t>
            </a:r>
            <a:br>
              <a:rPr sz="3600"/>
            </a:br>
            <a:br>
              <a:rPr sz="3600"/>
            </a:br>
            <a:br>
              <a:rPr sz="2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A1_582"/>
          <p:cNvPicPr/>
          <p:nvPr/>
        </p:nvPicPr>
        <p:blipFill>
          <a:blip r:embed="rId1"/>
          <a:stretch/>
        </p:blipFill>
        <p:spPr>
          <a:xfrm>
            <a:off x="3419640" y="2421000"/>
            <a:ext cx="211932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15920"/>
            <a:ext cx="9144000" cy="67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不急于离开了，要好好看看自己美丽的样子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: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 “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嗬，这身黄色皮衣油亮亮的，上面的斑点雪白雪白的，这一定是世界上最好看的外套了！我的身段那么匀称，简直可以做模特儿啦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梅花鹿美滋滋地想着，又看看头上的角，更是赞不绝口：“嘿，我的角枝枝杈杈的，精美别致，好像美丽的珊瑚！若是像猴子那样顶一个毛茸茸的秃瓢儿，真羞死人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梅花鹿久久地站在那里，自我欣赏，自我陶醉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忽然，一阵轻风吹过，池水泛起了涟漪。梅花鹿不由自主地看到了自己的双腿，不禁撅起嘴，皱起了眉头：“唉，这四条腿真是美中不足，有点太干巴了，那雪花一样的斑点也少得可怜。若是它更美丽些，我不就可以当个最好的芭蕾舞演员了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梅花鹿开始抱怨起自己的腿来了，没精打采地正要离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74872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就在狮子</a:t>
            </a:r>
            <a:r>
              <a:rPr b="1" lang="zh-CN" sz="8800" spc="-1" strike="noStrike">
                <a:solidFill>
                  <a:srgbClr val="000000"/>
                </a:solidFill>
                <a:latin typeface="Arial"/>
              </a:rPr>
              <a:t>灰心丧气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，不想再追的时候，梅花鹿的角却被一簇高高的丛枝挂住了，怎么挣也挣不开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“唉，我真糊涂！我原来讨厌的四条腿，跑起来那样有力，可以救我的性命，而我赞美的角却如此不争气，今天是丧命在它手上了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A1_582"/>
          <p:cNvPicPr/>
          <p:nvPr/>
        </p:nvPicPr>
        <p:blipFill>
          <a:blip r:embed="rId1"/>
          <a:stretch/>
        </p:blipFill>
        <p:spPr>
          <a:xfrm>
            <a:off x="6804000" y="260280"/>
            <a:ext cx="2119320" cy="28148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39640" y="404640"/>
            <a:ext cx="662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ff"/>
                </a:solidFill>
                <a:latin typeface="黑体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这篇寓言故事告诉我们一个道理：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漂亮的东西不一定实用，最可珍惜的东西往往是朴素无华的。所以，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实用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也是一种美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6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7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赞不绝口   不由自主  美中不足   无精打采朴素无华   精美别致    糊涂      芭蕾     匀称    陶醉      皱眉     距离      哭泣      埋怨     一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W020090930662239467155"/>
          <p:cNvPicPr/>
          <p:nvPr/>
        </p:nvPicPr>
        <p:blipFill>
          <a:blip r:embed="rId1"/>
          <a:stretch/>
        </p:blipFill>
        <p:spPr>
          <a:xfrm>
            <a:off x="2700360" y="3357720"/>
            <a:ext cx="6443640" cy="35002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89100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“嗬，这身黄色皮衣油亮亮的，上面的斑点雪白雪白的，这一定是世界上最好看的外套了！我的身段那么匀称，简直可以做模特儿啦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>
            <a:off x="7020000" y="1916280"/>
            <a:ext cx="936720" cy="0"/>
          </a:xfrm>
          <a:prstGeom prst="line">
            <a:avLst/>
          </a:prstGeom>
          <a:ln w="381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7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　“嘿，我的角枝枝杈杈的，精美别致，好像美丽的珊瑚！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3"/>
          <p:cNvGrpSpPr/>
          <p:nvPr/>
        </p:nvGrpSpPr>
        <p:grpSpPr>
          <a:xfrm>
            <a:off x="4751280" y="1557360"/>
            <a:ext cx="4392360" cy="5300280"/>
            <a:chOff x="4751280" y="1557360"/>
            <a:chExt cx="4392360" cy="5300280"/>
          </a:xfrm>
        </p:grpSpPr>
        <p:pic>
          <p:nvPicPr>
            <p:cNvPr id="49" name="Picture 4" descr="366d0532af3c1faea9018ec3"/>
            <p:cNvPicPr/>
            <p:nvPr/>
          </p:nvPicPr>
          <p:blipFill>
            <a:blip r:embed="rId1"/>
            <a:stretch/>
          </p:blipFill>
          <p:spPr>
            <a:xfrm>
              <a:off x="4751280" y="5336640"/>
              <a:ext cx="4392360" cy="15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icture 5" descr="0GAK402-0"/>
            <p:cNvPicPr/>
            <p:nvPr/>
          </p:nvPicPr>
          <p:blipFill>
            <a:blip r:embed="rId2"/>
            <a:stretch/>
          </p:blipFill>
          <p:spPr>
            <a:xfrm>
              <a:off x="4751280" y="1557360"/>
              <a:ext cx="4107960" cy="170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6" descr="12297412174684773027766672474"/>
            <p:cNvPicPr/>
            <p:nvPr/>
          </p:nvPicPr>
          <p:blipFill>
            <a:blip r:embed="rId3"/>
            <a:stretch/>
          </p:blipFill>
          <p:spPr>
            <a:xfrm>
              <a:off x="4751280" y="3435480"/>
              <a:ext cx="4251960" cy="1706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2" name="Picture 7" descr="200862203226208"/>
          <p:cNvPicPr/>
          <p:nvPr/>
        </p:nvPicPr>
        <p:blipFill>
          <a:blip r:embed="rId4"/>
          <a:stretch/>
        </p:blipFill>
        <p:spPr>
          <a:xfrm>
            <a:off x="0" y="1557360"/>
            <a:ext cx="4716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wps_clip_image-5729"/>
          <p:cNvPicPr/>
          <p:nvPr/>
        </p:nvPicPr>
        <p:blipFill>
          <a:blip r:embed="rId1"/>
          <a:stretch/>
        </p:blipFill>
        <p:spPr>
          <a:xfrm>
            <a:off x="468360" y="2349360"/>
            <a:ext cx="3959280" cy="4319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wps_clip_image-5791"/>
          <p:cNvPicPr/>
          <p:nvPr/>
        </p:nvPicPr>
        <p:blipFill>
          <a:blip r:embed="rId2"/>
          <a:stretch/>
        </p:blipFill>
        <p:spPr>
          <a:xfrm>
            <a:off x="4284720" y="2349360"/>
            <a:ext cx="4859280" cy="4508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4304520" y="55897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金梅海報美工字體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468000" y="549000"/>
            <a:ext cx="8496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若是像猴子那样顶一个毛茸茸的秃瓢儿，真羞死人了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5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5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新宋体"/>
                <a:ea typeface="新宋体"/>
              </a:rPr>
              <a:t>“</a:t>
            </a:r>
            <a:r>
              <a:rPr b="1" lang="zh-CN" sz="8000" spc="-1" strike="noStrike">
                <a:solidFill>
                  <a:srgbClr val="000000"/>
                </a:solidFill>
                <a:latin typeface="新宋体"/>
                <a:ea typeface="新宋体"/>
              </a:rPr>
              <a:t>嘿</a:t>
            </a:r>
            <a:r>
              <a:rPr b="1" lang="zh-CN" sz="6000" spc="-1" strike="noStrike">
                <a:solidFill>
                  <a:srgbClr val="000000"/>
                </a:solidFill>
                <a:latin typeface="新宋体"/>
                <a:ea typeface="新宋体"/>
              </a:rPr>
              <a:t>，我的角枝枝杈杈的，精美别致，好像美丽的珊瑚！若是像猴子那样顶一个毛茸茸的秃瓢儿，真羞死人了。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16000" y="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32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900" spc="-1" strike="noStrike">
                <a:solidFill>
                  <a:srgbClr val="000000"/>
                </a:solidFill>
                <a:latin typeface="Arial"/>
              </a:rPr>
              <a:t>涟漪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C:\Users\Administrator\AppData\Roaming\Tencent\Users\809194935\QQ\WinTemp\RichOle\RX1@2QMH8Y$3I(~5ATYFVZT.png"/>
          <p:cNvPicPr/>
          <p:nvPr/>
        </p:nvPicPr>
        <p:blipFill>
          <a:blip r:embed="rId1"/>
          <a:stretch/>
        </p:blipFill>
        <p:spPr>
          <a:xfrm>
            <a:off x="500040" y="2500200"/>
            <a:ext cx="809640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179280" y="0"/>
            <a:ext cx="874872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忽然，一阵轻风吹过，池水泛起了涟漪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梅花鹿不由自主地看到了自己的双腿，不禁撅起嘴，皱起了眉头：“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唉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这四条腿真是美中不足，有点太干巴了，那雪花一样的斑点也少得可怜。若是它更美丽些，我不就可以当个最好的芭蕾舞演员了吗？”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梅花鹿开始抱怨起自己的腿来了，没精打采地正要离开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55640" y="764640"/>
            <a:ext cx="7796160" cy="575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欣     赏                                                     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4336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抱     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cp:keywords/>
  <dc:language>en-US</dc:language>
  <cp:lastModifiedBy>Administrator</cp:lastModifiedBy>
  <dcterms:modified xsi:type="dcterms:W3CDTF">2016-12-22T06:38:58Z</dcterms:modified>
  <cp:revision>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4405000000000001024120</vt:lpwstr>
  </property>
</Properties>
</file>