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amera.wav" ContentType="audio/x-wav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E8E-CBC5-4A59-B09A-D35997DB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971-2317-4586-9151-ECDB31EF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5E2-8335-44B9-B73E-B6DEBDC9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DF1-920D-40CC-9921-856BA64B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CC96-1555-457B-9FAE-6D6161C2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56A7-1D15-4FD2-A09B-51E2CED6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C8FE-02B4-41B5-A625-ECE67652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A606-FC5F-4B65-A944-B2971C00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FFDB-2252-4512-B011-8DEEAEF3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3BAF-3250-4EC5-9CCE-C05E02D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18F-D79B-4005-8E1E-9AC27FC9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D83-B355-496E-BB2E-3A4EDB63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71E2-19EE-47F2-969F-A104629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856D-E707-447F-9E02-7FBA66EC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BE64-337F-43DC-B3C6-74018D83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1BDF-C6B5-47AB-BD1C-BA49251D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6154-433A-4C55-AFA7-8E0A9315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746-C555-4FD1-9B1A-FA4DD648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956-F828-4316-A27D-4A789D6B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F9D-5F6B-40BD-954C-686ECBD3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951-4BA9-4B18-AF03-87250E2B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3F6-D310-4921-B432-EE58EA77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5B8-5868-424B-A006-EF57CD0A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D21-7566-47CD-A214-33B94641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C246-6941-4FCB-A346-AEE2AF6F95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116E-E758-47FC-B808-5C07F75DAB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《望天门山》</a:t>
            </a:r>
            <a:br>
              <a:rPr sz="4000"/>
            </a:b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李白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4764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天门中断楚江开，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碧水东流至此回。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两岸青山相对出，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孤帆一片日边来。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31080" y="6364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古诗是我国文化宝库里的一多奇葩，而李白只是其中一颗璀璨的明星，还有很多诗人和他们的诗歌也很有名，千古流传，等着你们去欣赏，去诵读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会写“断、楚、孤、帆”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个字。了解诗句的主要意思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正确、流利、有感情地朗读古诗，背诵古诗。默写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望天门山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通过朗读感悟，感受诗中描写的景物，体会诗人热爱祖国河山的感情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920" y="-17640"/>
            <a:ext cx="9109080" cy="6845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16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想象，领悟诗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54160" y="2421000"/>
            <a:ext cx="6400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 Rounded MT Bold"/>
              </a:rPr>
              <a:t>板画天门山。这是</a:t>
            </a:r>
            <a:r>
              <a:rPr b="0" lang="en-US" sz="3200" spc="-1" strike="noStrike">
                <a:solidFill>
                  <a:srgbClr val="33cc33"/>
                </a:solidFill>
                <a:latin typeface="Arial Rounded MT Bold"/>
              </a:rPr>
              <a:t>——</a:t>
            </a:r>
            <a:r>
              <a:rPr b="0" lang="zh-CN" sz="3200" spc="-1" strike="noStrike">
                <a:solidFill>
                  <a:srgbClr val="33cc33"/>
                </a:solidFill>
                <a:latin typeface="Arial Rounded MT Bold"/>
              </a:rPr>
              <a:t>？天门天门，顾名思义就是天上的门，可见</a:t>
            </a:r>
            <a:r>
              <a:rPr b="0" lang="en-US" sz="3200" spc="-1" strike="noStrike">
                <a:solidFill>
                  <a:srgbClr val="33cc33"/>
                </a:solidFill>
                <a:latin typeface="Arial Rounded MT Bold"/>
              </a:rPr>
              <a:t>——</a:t>
            </a:r>
            <a:r>
              <a:rPr b="0" lang="zh-CN" sz="3200" spc="-1" strike="noStrike">
                <a:solidFill>
                  <a:srgbClr val="33cc33"/>
                </a:solidFill>
                <a:latin typeface="Arial Rounded MT Bold"/>
              </a:rPr>
              <a:t>？能用“天门山真什么”来说说吗？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高、俊秀、险</a:t>
            </a:r>
            <a:r>
              <a:rPr b="0" lang="en-US" sz="3200" spc="-1" strike="noStrike">
                <a:solidFill>
                  <a:srgbClr val="ff3300"/>
                </a:solidFill>
                <a:latin typeface="Arial Rounded MT Bold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　　　　</a:t>
            </a:r>
            <a:r>
              <a:rPr b="0" lang="zh-CN" sz="3200" spc="-1" strike="noStrike">
                <a:solidFill>
                  <a:srgbClr val="33cc33"/>
                </a:solidFill>
                <a:latin typeface="Arial Rounded MT Bold"/>
              </a:rPr>
              <a:t>是呀，难怪诗人写到天门山犹如被江水冲击而隔断似的，这么雄伟这么有气势，大自然真是鬼斧神工哪！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0"/>
            <a:ext cx="2881440" cy="117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17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626560" y="185040"/>
            <a:ext cx="1443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amera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板画江水回旋、向北流。老师画的是什么？（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水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）怎样的水？（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碧水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）碧水还可以说什么水？（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清清的水、绿绿的水、干净的水</a:t>
            </a: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）这样的水流到天门山的时候，由于山势的阻挡，产生回旋，转向北流了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2114640"/>
            <a:ext cx="4038480" cy="2833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amera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在，你的眼前仿佛浮现出什么画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你仿佛听到了什么？（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水狠狠地、猛烈地撞击岩石，发出哗哗、很响的、震耳欲聋的声音</a:t>
            </a:r>
            <a:r>
              <a:rPr b="0" lang="en-US" sz="3200" spc="-1" strike="noStrike">
                <a:solidFill>
                  <a:srgbClr val="ff3300"/>
                </a:solidFill>
                <a:latin typeface="Arial Rounded MT Bold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大自然的景色真是秀丽神奇！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悟诗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首句以天门山与长江的关系，反衬天门山气势的雄峻险要。诗人采用侧面烘托的艺术手法，渲染长江洪流的湍急与威力，进而反衬出天门山的壮丽奇观。次句暗示了天门山雄视一切、镇慑洪流的威力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碧水东流至此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碧水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写出了长江流水之澄清 ，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东流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是写长江总的流向 ，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回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字力度很强，极富动态美，既写出了长江到天门山处江水曲折回荡、漩涡丛生的奇险和壮美，又突现了天门山一段江水流向的陡然转变。正是从一个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回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字中，我们才更加深刻地领会出天门山扼江回流的雄伟气势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句是正面刻划天门山的山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两岸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指出了天门山与长江的关系 。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相对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二字，恰到好处地表现出天门山隔江兀立、崖峭如削、对峙如门、巧夺天工的雄姿，给人以只可仰观的高峻感。一个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出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字，出神入化，化静为动，令人感到郁郁葱葱的天门山生机盎然，更增添了画面的动态美感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末句是诗人顺着天门山远眺一幅远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孤帆一片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是想以背景的单纯突现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孤帆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之高大 。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日边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写出了长江远景浩瀚迷茫，给人留下了广阔的想象空间，而一个“来”字，又给远景注入了活泼新鲜的色彩和血液 ，使画面顿显活跃，具有不断变幻的美感。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3:11:08Z</dcterms:created>
  <dc:creator/>
  <dc:description/>
  <dc:language>en-US</dc:language>
  <cp:lastModifiedBy>LENOVO User</cp:lastModifiedBy>
  <cp:lastPrinted>1899-12-30T00:00:00Z</cp:lastPrinted>
  <dcterms:modified xsi:type="dcterms:W3CDTF">2013-06-22T11:59:16Z</dcterms:modified>
  <cp:revision>2</cp:revision>
  <dc:subject/>
  <dc:title>《望天门山》 李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6202000000000001024120</vt:lpwstr>
  </property>
</Properties>
</file>