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81E-8240-4C44-8430-2C971E75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024-F32C-4C02-9CC6-1A909396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F17-2724-403A-92CE-52F07EA7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FAF-0ABA-4CAB-9C05-1460D6B1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913-1AA1-4D39-8C2D-882C582F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B99-598D-47A9-8F7E-514283AB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DA9-68EE-471B-AEAA-742B7543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AE3-57AC-448A-833A-BA548658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61A-4B06-49CE-8A1A-F63E7EE8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533-35E5-4F16-B1DA-794E6BB2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43D-619C-42C1-BAB8-498C4CB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5AE-AD13-4991-8CE9-60A35E25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EA85-28B1-47E9-96CE-25467185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.png"/><Relationship Id="rId3" Type="http://schemas.openxmlformats.org/officeDocument/2006/relationships/slide" Target="slide10.xml"/><Relationship Id="rId4" Type="http://schemas.openxmlformats.org/officeDocument/2006/relationships/slide" Target="slide22.xml"/><Relationship Id="rId5" Type="http://schemas.openxmlformats.org/officeDocument/2006/relationships/slide" Target="slide13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>
            <a:hlinkClick r:id="rId1" action="ppaction://hlinksldjump"/>
          </p:cNvPr>
          <p:cNvSpPr/>
          <p:nvPr/>
        </p:nvSpPr>
        <p:spPr>
          <a:xfrm>
            <a:off x="1042920" y="1197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一撮      趿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11280" y="3860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踱步    一塌糊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005617193654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24000" y="14842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人蓄着一撮短而硬的小胡子，一双棕褐色的眼睛深陷在眼窝里 ，长着一头蓬乱的灰白头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24000" y="4221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女孩望着老人，只见他穿的衣服又肥又长，整个人就像裹在一张大被单里，脚下趿拉着一双卧室里穿的拖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98100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人蓄着一撮短而硬的小胡子，一双棕褐色的眼睛深陷在眼窝里 ，长着一头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蓬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灰白头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95280" y="3429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女孩望着老人，只见他穿的衣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又肥又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整个人就像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一张大被单里，脚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趿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一双卧室里穿的拖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900000" y="3789360"/>
            <a:ext cx="721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嘿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这个人简直就是从我的童话故事书里走出来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0061211125026617"/>
          <p:cNvPicPr/>
          <p:nvPr/>
        </p:nvPicPr>
        <p:blipFill>
          <a:blip r:embed="rId2"/>
          <a:stretch/>
        </p:blipFill>
        <p:spPr>
          <a:xfrm>
            <a:off x="0" y="0"/>
            <a:ext cx="3995640" cy="35481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752472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04920" y="11430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50920" y="1268280"/>
            <a:ext cx="889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9640" y="1484280"/>
            <a:ext cx="81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工作室很大，到处摆着书架和书，屋子中间摆着一张办公桌，桌上的东西乱得一塌糊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79280" y="620640"/>
            <a:ext cx="8785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爱因斯坦在科学史上贡献巨大，创造了一个史无前例奇迹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爱因斯坦获得了诺贝尔物理学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，爱因斯坦完成了开创物理学新纪元的论文，可以说是“石破天惊，前无古人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Arial"/>
              </a:rPr>
              <a:t>全球定位系统之所以能将物体的位置精确到米，正是根据爱因斯坦的相对论对地球卫星发出的信号进行了修正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对光子的研究为人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后发现激光奠定了基础。目前激光广泛应用于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激光打印机的多种产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826920" y="33336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父亲听后兴奋地说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孩子，你今天撞着了当今世界上最伟大的人。他是爱因斯坦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7667640" y="6093000"/>
            <a:ext cx="971640" cy="765000"/>
          </a:xfrm>
          <a:custGeom>
            <a:avLst/>
            <a:gdLst>
              <a:gd name="textAreaLeft" fmla="*/ 49320 w 971640"/>
              <a:gd name="textAreaRight" fmla="*/ 922320 w 971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7432" h="21600">
                <a:moveTo>
                  <a:pt x="0" y="0"/>
                </a:moveTo>
                <a:lnTo>
                  <a:pt x="27432" y="0"/>
                </a:lnTo>
                <a:lnTo>
                  <a:pt x="27432" y="21600"/>
                </a:lnTo>
                <a:lnTo>
                  <a:pt x="0" y="21600"/>
                </a:lnTo>
                <a:close/>
              </a:path>
              <a:path fill="lightenLess" w="27432" h="21600">
                <a:moveTo>
                  <a:pt x="0" y="0"/>
                </a:moveTo>
                <a:lnTo>
                  <a:pt x="27432" y="0"/>
                </a:lnTo>
                <a:lnTo>
                  <a:pt x="26032" y="1400"/>
                </a:lnTo>
                <a:lnTo>
                  <a:pt x="1400" y="1400"/>
                </a:lnTo>
                <a:close/>
              </a:path>
              <a:path fill="darken" w="27432" h="21600">
                <a:moveTo>
                  <a:pt x="27432" y="0"/>
                </a:moveTo>
                <a:lnTo>
                  <a:pt x="27432" y="21600"/>
                </a:lnTo>
                <a:lnTo>
                  <a:pt x="26032" y="20200"/>
                </a:lnTo>
                <a:lnTo>
                  <a:pt x="26032" y="1400"/>
                </a:lnTo>
                <a:close/>
              </a:path>
              <a:path fill="darkenLess" w="27432" h="21600">
                <a:moveTo>
                  <a:pt x="27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32" y="20200"/>
                </a:lnTo>
                <a:close/>
              </a:path>
              <a:path fill="lighten" w="27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55640" y="3500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噢，他只讲对了一半，我是爱因斯坦，但并不伟大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304920" y="11430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4000" y="119700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一边埋头走路，一边像是在思考着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仍是衣衫不整，仍是一面踱步一面埋头沉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95280" y="1700280"/>
            <a:ext cx="83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知识要善于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考，思考，再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就是靠这个方法成为科学家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759636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0" y="26780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了这话，爱因斯坦那深陷的眼窝里突然放射出温柔的目光，他低头看了看自己的装束，两手一摊，肩膀一耸，冲小姑娘做了个鬼脸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说得对，我是不会对付衣服鞋子这类玩意儿，但愿你肯教我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还不简单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将平日妈妈教给她的穿戴要领一口气全说了出来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记住吗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问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许能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200772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了这话，爱因斯坦那深陷的眼窝里突然放射出温柔的目光，他低头看了看自己的装束，两手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肩膀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耸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冲小姑娘做了个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鬼脸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说得对，我是不会对付衣服鞋子这类玩意儿，但愿你肯教我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这还不简单！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女孩将平日妈妈教给她的穿戴要领一口气全说了出来。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能记住吗？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她问。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也许能。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8532720" y="6381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74312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908000" y="76500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116000" y="2060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547640" y="213372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用于形容毛发。 </a:t>
            </a: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zu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聚起 </a:t>
            </a: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cu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116440" y="4508640"/>
            <a:ext cx="46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老人蓄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一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短而硬的小胡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067280" y="1125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u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5263560" y="109224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620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楷体_GB2312"/>
              </a:rPr>
              <a:t>第二天，女孩又遇上了那老人。他仍是衣衫不整，仍是一面踱步一面埋头沉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先生，你好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楷体_GB2312"/>
              </a:rPr>
              <a:t>小姑娘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我父亲说你是最伟大的爱因斯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噢，他只讲对了一半，我是爱因斯坦，但并不伟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”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我说也是嘛，瞧你，穿衣服还不会呢，怎么谈得上伟大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50920" y="4211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听了这话，爱因斯坦那深陷的眼窝里突然放射出温柔的目光，他低头看了看自己的装束，两手一摊，肩膀一耸，冲小姑娘做了个鬼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说得对，我是不会对付衣服鞋子这类玩意儿，但愿你肯教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还不简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女孩将平日妈妈教给她的穿戴要领一口气全说了出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能记住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她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也许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6948360" y="6021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324000" y="27734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从此，小姑娘每天放学回家，都要到爱因斯坦的工作室坐坐。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，小姑娘的母亲在街上遇到了爱因斯坦，她好奇地问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教授，我女儿跟您在一起时，你们都谈些啥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教我怎样穿戴，怎样放东西和布置房间。我呢，什么也帮不了她，只好教她做数学作业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7308720" y="6021360"/>
            <a:ext cx="1224000" cy="836640"/>
          </a:xfrm>
          <a:custGeom>
            <a:avLst/>
            <a:gdLst>
              <a:gd name="textAreaLeft" fmla="*/ 54000 w 1224000"/>
              <a:gd name="textAreaRight" fmla="*/ 1170000 w 122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1596" h="21600">
                <a:moveTo>
                  <a:pt x="0" y="0"/>
                </a:moveTo>
                <a:lnTo>
                  <a:pt x="31596" y="0"/>
                </a:lnTo>
                <a:lnTo>
                  <a:pt x="31596" y="21600"/>
                </a:lnTo>
                <a:lnTo>
                  <a:pt x="0" y="21600"/>
                </a:lnTo>
                <a:close/>
              </a:path>
              <a:path fill="lightenLess" w="31596" h="21600">
                <a:moveTo>
                  <a:pt x="0" y="0"/>
                </a:moveTo>
                <a:lnTo>
                  <a:pt x="31596" y="0"/>
                </a:lnTo>
                <a:lnTo>
                  <a:pt x="30196" y="1400"/>
                </a:lnTo>
                <a:lnTo>
                  <a:pt x="1400" y="1400"/>
                </a:lnTo>
                <a:close/>
              </a:path>
              <a:path fill="darken" w="31596" h="21600">
                <a:moveTo>
                  <a:pt x="31596" y="0"/>
                </a:moveTo>
                <a:lnTo>
                  <a:pt x="31596" y="21600"/>
                </a:lnTo>
                <a:lnTo>
                  <a:pt x="30196" y="20200"/>
                </a:lnTo>
                <a:lnTo>
                  <a:pt x="30196" y="1400"/>
                </a:lnTo>
                <a:close/>
              </a:path>
              <a:path fill="darkenLess" w="31596" h="21600">
                <a:moveTo>
                  <a:pt x="31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6" y="20200"/>
                </a:lnTo>
                <a:close/>
              </a:path>
              <a:path fill="lighten" w="31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04920" y="11430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1197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一边埋头走路，一边像是在思考着什么。冷不丁被小姑娘一撞，他抬起头，友好地冲女孩一笑：“对不起，小姑娘，是我不小心。”说完，又低头向前走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1042920" y="119700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一撮      趿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11280" y="3860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踱步    一塌糊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508720" y="3357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t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80820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84360" y="333360"/>
            <a:ext cx="78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嘿    呵    呢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噢     嘛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3141720"/>
            <a:ext cx="86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这个人简直就是从我的童话故事书里走出来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说也是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嘛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瞧你，穿衣服还不会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怎么谈得上伟大？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540360" y="1700280"/>
            <a:ext cx="767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蓬乱   深陷    衣衫不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温柔   裹着    埋头沉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540360" y="1700280"/>
            <a:ext cx="767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蓬乱   深陷    衣衫不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温柔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裹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着   埋头沉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6122" t="10502" r="6160" b="9538"/>
          <a:stretch/>
        </p:blipFill>
        <p:spPr>
          <a:xfrm>
            <a:off x="2916360" y="1484280"/>
            <a:ext cx="309564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3733" t="0" r="0" b="0"/>
          <a:stretch/>
        </p:blipFill>
        <p:spPr>
          <a:xfrm>
            <a:off x="2916360" y="2781360"/>
            <a:ext cx="3686040" cy="25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3132000" y="1596960"/>
            <a:ext cx="2592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0.00399 -0.15718 E">
                                      <p:cBhvr>
                                        <p:cTn id="4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33333E-006 L 0.00312 0.08889 E">
                                      <p:cBhvr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04920" y="11430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79280" y="414972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，你今天撞着了当今世界上最伟大的人。他是爱因斯坦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4000" y="0"/>
            <a:ext cx="849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这个连衣服也穿不整齐的人，怎么能是“最伟大的人”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我说也是嘛，瞧你，穿衣服还不会呢，怎么谈得上伟大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in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04920" y="11430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162864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爱因斯坦是不是一个伟大的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>
            <a:hlinkClick r:id="rId3" action="ppaction://hlinksldjump"/>
          </p:cNvPr>
          <p:cNvSpPr/>
          <p:nvPr/>
        </p:nvSpPr>
        <p:spPr>
          <a:xfrm>
            <a:off x="133200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>
            <a:hlinkClick r:id="rId4" action="ppaction://hlinksldjump"/>
          </p:cNvPr>
          <p:cNvSpPr/>
          <p:nvPr/>
        </p:nvSpPr>
        <p:spPr>
          <a:xfrm>
            <a:off x="262728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>
            <a:hlinkClick r:id="rId5" action="ppaction://hlinksldjump"/>
          </p:cNvPr>
          <p:cNvSpPr/>
          <p:nvPr/>
        </p:nvSpPr>
        <p:spPr>
          <a:xfrm>
            <a:off x="3924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>
            <a:hlinkClick r:id="rId6" action="ppaction://hlinksldjump"/>
          </p:cNvPr>
          <p:cNvSpPr/>
          <p:nvPr/>
        </p:nvSpPr>
        <p:spPr>
          <a:xfrm>
            <a:off x="529272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>
            <a:hlinkClick r:id="rId7" action="ppaction://hlinksldjump"/>
          </p:cNvPr>
          <p:cNvSpPr/>
          <p:nvPr/>
        </p:nvSpPr>
        <p:spPr>
          <a:xfrm>
            <a:off x="651672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52472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2:23:52Z</dcterms:created>
  <dc:creator>微软用户</dc:creator>
  <dc:description/>
  <dc:language>en-US</dc:language>
  <cp:lastModifiedBy>Administrator</cp:lastModifiedBy>
  <dcterms:modified xsi:type="dcterms:W3CDTF">2016-03-10T01:18:00Z</dcterms:modified>
  <cp:revision>31</cp:revision>
  <dc:subject/>
  <dc:title>幻灯片 1</dc:title>
</cp:coreProperties>
</file>