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A4FE-F8FC-40E1-AE5D-E259D397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105-A5E0-4809-B6FF-07008DD2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35F32-D4D4-4E0A-AF9F-E0D0C7E9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E2083-DBEF-4AF6-A5A8-1F6A958F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817D8-0AEC-403C-B934-333B26A6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BCCE6-0033-4D7C-A8D5-59E92B47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FF94E-1221-4D22-A0BD-264C775E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AE6A5-FA3A-4668-8666-23B4D008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E49B0-7F66-441F-A4D0-59ABF697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F966C-8A95-4CC2-8F09-D26B524C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181FD-4102-48FE-A14D-3758CC86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2E935-11AE-496E-ABB6-7D298179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58E-4C95-4581-975F-98FD943E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AD87B-6F05-4914-AC19-14D539A5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F5B7D-106F-419A-98A5-E02A5476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67084-BFC1-49D8-BB70-044B3C53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B0402-AC20-4B75-9D9E-8021A474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91780-9E67-4347-B9BC-5AAAB441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7AA26-8950-42FF-AA93-8F03B985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B0B24-425A-4B74-AE2A-2C469788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98D54-1CC1-4C4A-8CAB-F218A00A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8FB91-439D-4E41-949E-34B259C2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50F1C-A241-4ED4-A2B3-3D8FC744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056-CD2B-49C7-9EAB-E7A8CB05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87C1B-7013-400D-97E7-EB703A93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1EA89-0E23-4AC9-8B24-07650767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5339E-8EA7-4A1A-82C2-16B1A988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DBAD9-7F51-4E14-A81F-831B1580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ACF5A-80EF-4385-86F5-C05C16AE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9F9F8-577D-4FF3-810C-39B3ECAE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694CF-CD55-49FC-A032-B4CD2142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A9E44-F042-4268-BC92-7D51D986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9E21A-0BB5-4115-8932-E5848320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8AEF7-0D4C-4C6E-8D91-727EAA5D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DEAF-6ABA-4DFF-A58B-1303CDDA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BBCD9-6FFE-40AC-82F1-4FDAA79D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3F244-CB3C-44F5-956A-FE72B209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77A2F-8244-49B8-9BB5-E548D41A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66925-3BEF-47CD-901D-93B07704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125A7-438B-4122-8C26-4C585627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4901A-56E4-43BD-9455-1C004B7D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53B14-8623-40AF-AD3C-4EBFDC69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44ACC-6595-4167-BA18-1890D019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96A72-3B4C-43FD-8BFF-F55470DD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6B68F-626B-4FB3-B835-DA479940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6D25-DAC8-4D39-9EA5-125A1FC7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EBD5A-4E0E-4D46-9BBB-645C7581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E6AF8-C3A1-4AED-A287-B8D80A2B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941E3-CDD1-4AF2-99C5-73648783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409E5-AB3F-461B-B2CB-E7AFA9CB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650CC-98E1-4C6B-834C-06CE2389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E902D-7C77-42EA-92B5-5F2E8597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4F7DA-D7FC-44D2-8CE4-42270232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69822-7D3A-49AE-9CF1-4D36ACD6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85B51-FBB2-4877-B82A-23AC805F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B4158-B712-461B-9137-E841715E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8FDC-F796-440B-B2E2-0A9A88F1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ACCF8-63A7-4C64-B4C1-B25E99D4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79FC7-1D66-4A9A-88C8-5BADC2AC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886B1-108C-4434-9823-2A6661D4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EF5E5-5023-4E7F-BEC8-B1E42B9B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FB8336-CCFB-4B29-8068-F4CD1054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F8A72-49B6-45F0-AF45-C450A455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3250F-4492-4D05-BEB1-F0489F9B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9F4705-B6E1-4779-B847-AF5A46B8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12DD87-B871-42CD-8ECD-BFD751CB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EB7728-5838-45FB-9FFD-FAB0394F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09C3-967D-49E4-AEC9-F509B943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ADFDDD-9D7A-4653-903F-F293D66E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D099B5-1C1C-460C-9B9E-DA18D194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533E20-C63E-4A1F-8531-EA682453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EB4D03-D571-4574-BE09-025BD3C7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01CBA8-D204-4F14-9759-CA79681C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690BA4-79A3-4939-A864-967C631B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C28BB8-B055-4B4E-AF54-5BACDD7A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859CA5-C5DD-4CC2-8EF0-7430699F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6F7BDC-3197-4402-A8F7-E162CE41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B904-B214-46DF-B5AF-F3F0C8C3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893F-50D0-4DA9-BA6D-E8732D2D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729C-2A26-416F-B1CA-C70693D6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8DE-8686-484E-8093-50D4F52E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DC9B-C155-479E-93CE-4C8B8CB0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3DBC-73A5-448F-8907-141C03B9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92C3-B68C-4FF8-85E9-E7C69E2D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6958-3A65-41BC-9AC9-70DC05EC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9EDD-A7D9-416C-83A7-2005DE8B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C831A-5844-42DA-8FDD-2F40244F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F5D7F-65CC-406E-905E-6A7FC34B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1556E-8A94-463C-A49C-8E5B23D5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8B4EE-4FF6-4E69-9850-6F14DF0C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77F5C-9C26-4705-A0CA-2BF6CED6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8EF-7183-4D79-BF18-3E1B3233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3158F-640A-4995-B936-BB9F4290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AFCF9-D352-4CBC-A43D-86C740E6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73893-7A73-4342-B765-86F8E794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604A4-C2ED-4711-A395-02AE564A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8B3BF-FA2A-4E07-9ABF-D32F01C2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2A850-ACBE-45BF-B4F1-7FA25C03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C8180-9195-4B90-913F-4E5DBEC6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271F7-54D3-44CC-836C-BDB22657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D52A5-D1E5-4D17-9B6E-16573B13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B3D19-1C1C-4F72-A18B-25EC4DBA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464-7E41-442F-9BDA-540E56AD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33DAF-2672-40A2-99B9-76DC7398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60CBE-A605-4461-A297-AFE13F5B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63C18-1837-459D-AFDC-C73E1E90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52488-EDF9-41B3-9980-A9F4EEA9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D7153-1AB2-4D35-A3B4-A13C74E5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3E5DF-55CD-498F-A9A2-AD17EE12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2F951-14C0-4DCA-8925-9F3CE3A9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DCCF5-E2B5-4185-AB31-978442C6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B0E62-9480-4EF8-B38D-165B47D9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EC4EE-F583-4161-8767-1140A795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D54E-7320-4BAE-84D4-03ACADA0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1A2AC-D059-4F70-969A-ED025AAB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406FD-155F-419F-993C-DF6CA4E9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25185-AAEB-4CB9-AFB4-CF9E4A5B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C42F0-597F-4B7B-8481-110DD9D7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572B6-9FDA-4E76-B097-A426F467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CBA14-47C1-4AE3-9DD9-6B60907E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97CC4-18E3-409E-8B57-CF2DADC8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58933-77CE-4B3A-BC16-54D918CE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2C4FF-C56D-471A-861B-B6DAB69E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BCAF1-B09E-4E1D-B230-FFC07717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740-27AF-4661-B969-0ADF85B7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4815D-EEDF-4729-959F-43E9335B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B07A4-3F23-401F-91A2-F035B351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88747-632C-4427-BD51-A7D08BC0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A74AB-4EC3-49EC-9D29-C29DF1DD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BB0C3-5A1C-4604-BAD7-679701C6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59957-C515-4146-952E-C80DDAC5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6C2A2-D462-4850-8829-71B2FBAB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4F8D3-EABB-4891-A42D-D5690DE0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8131C-880E-4943-A99D-2E4ED638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9CA6C-978C-4104-80C0-F19D0052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EE5-611C-4D4C-8B14-F55967C2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14273-B8D7-41BE-9CF3-35CB3780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2D587-0768-4E33-A21E-F9B12203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F2D3C-03AF-435F-8C51-D4917754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B1ACD-15B3-49AB-B106-37201B52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EA5C3-1CB6-4151-A144-DE0B7446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1957A-F925-4701-B69C-E63D5927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9BCB9-066E-4980-9459-A301BF04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C9189-DFFD-4B47-B18D-98E39F26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5C9F0-3951-4954-A7B4-DD22F6A4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68910-BC18-4923-A565-4DEC2043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79A-98DB-419D-89C4-DD0E18EF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D283C-48F9-4DBE-B5C9-2E31DF5F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1AB31-145A-42A6-A9BF-9D300B67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A4B16-B3BF-4EF3-88FB-165B2529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0B63F-CB92-4E1B-913F-831A7CFC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28E87-0B67-4AD9-AFE3-059A85E7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C72C8-3B4C-4653-9B5B-344278D6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E56E8-D588-40E6-B5C1-9B14F38E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F4B7D-5A86-428F-9B62-15CF7363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16311-EE47-4DB1-818A-05852B5A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E672E-BCA0-4DDF-965D-ACEC831E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46D-A5D0-498B-B3CA-B91E8122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F8DC3-D9C3-497A-96AD-70B41E7D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1E034-07A5-4388-B27A-A761AC09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B0FD6-2601-4DD6-962B-7246BAB1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7B700-5017-4828-98F5-4B9D29D9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35FC1-8CCD-477A-BFA6-6EFEA206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D4C12-31E6-4567-8944-E9827764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99D2F-DCCF-4CC2-8E5B-E993EB7C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C45EC-9134-40DA-8805-23D64E34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1972D-46A0-4F41-B26C-7914C144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68333-D4A5-447B-9C3F-A30D7F57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6478-4A20-4558-A256-30EEAEF8B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798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799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802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8276-D626-4608-9A3B-0944919831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40F7-9C99-4DF8-94CA-086B60BD9AA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6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8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8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86" name="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87" name="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89" name="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7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272F-CF20-4FF8-9870-FDEE332311C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40" name="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44" name="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9" name=""/>
          <p:cNvGrpSpPr/>
          <p:nvPr/>
        </p:nvGrpSpPr>
        <p:grpSpPr>
          <a:xfrm>
            <a:off x="7794720" y="4317840"/>
            <a:ext cx="981360" cy="1160640"/>
            <a:chOff x="7794720" y="4317840"/>
            <a:chExt cx="981360" cy="1160640"/>
          </a:xfrm>
        </p:grpSpPr>
        <p:sp>
          <p:nvSpPr>
            <p:cNvPr id="950" name="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7794720" y="4317840"/>
              <a:ext cx="981360" cy="1160640"/>
              <a:chOff x="7794720" y="4317840"/>
              <a:chExt cx="981360" cy="1160640"/>
            </a:xfrm>
          </p:grpSpPr>
          <p:sp>
            <p:nvSpPr>
              <p:cNvPr id="954" name=""/>
              <p:cNvSpPr/>
              <p:nvPr/>
            </p:nvSpPr>
            <p:spPr>
              <a:xfrm rot="7320000">
                <a:off x="7916760" y="506052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7320000">
                <a:off x="775584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32DC-DB7C-4519-997F-EADC257689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BD3A-589A-4111-B5D5-FC8C86B409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2722-4198-4D0C-8B77-ABCC9F3BD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6560-FD86-4537-8492-7EE6E1E8DE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8AF6-204F-476B-8F50-D4A6FD6175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9907-DA5A-450B-AF26-175ACF8F7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4838-7B75-4BB8-AC34-20AC750B5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19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20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2ED1-9BB1-4A91-93EA-E6A2922DF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22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23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24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6A23-0AD6-436A-AA79-2518B7EB0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365D-83DA-4419-960C-12ACDC6EFD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 txBox="1"/>
          <p:nvPr/>
        </p:nvSpPr>
        <p:spPr>
          <a:xfrm>
            <a:off x="2197080" y="2133720"/>
            <a:ext cx="4680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秉笔直书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Text Box 2"/>
          <p:cNvSpPr/>
          <p:nvPr/>
        </p:nvSpPr>
        <p:spPr>
          <a:xfrm>
            <a:off x="1258920" y="1197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e12c4"/>
                </a:solidFill>
                <a:latin typeface="Arial"/>
                <a:ea typeface="黑体"/>
              </a:rPr>
              <a:t>研读句子，学习交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3"/>
          <p:cNvSpPr/>
          <p:nvPr/>
        </p:nvSpPr>
        <p:spPr>
          <a:xfrm>
            <a:off x="1042920" y="1844640"/>
            <a:ext cx="7058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句：太史伯说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只有一个脑袋，如果你叫我颠倒是非，我情愿不要这个脑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理解了伯说的按照事实写历史是太史的本分后，全班同学一起齐读这一句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体会伯为了说实话宁肯牺牲自己的那种毫不畏惧的精神，感悟人物性格的秉直，敢于直言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Box 2"/>
          <p:cNvSpPr/>
          <p:nvPr/>
        </p:nvSpPr>
        <p:spPr>
          <a:xfrm>
            <a:off x="900000" y="1197000"/>
            <a:ext cx="74898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体会理解太史仲的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太史仲面不改色，冷笑着回答：“我只怕不忠实，可不怕死。你就是把我也杀了，难道还能把所有的人都杀了吗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思考问题：太史伯就因为说真话而被崔杼杀害了，仲还敢这么说，难道他就不怕死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（通过“面不改色”“冷笑”体会他的毫不畏惧，感悟人物特点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Text Box 2"/>
          <p:cNvSpPr/>
          <p:nvPr/>
        </p:nvSpPr>
        <p:spPr>
          <a:xfrm>
            <a:off x="755640" y="1197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隶书"/>
              </a:rPr>
              <a:t>研读句子，学习交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3"/>
          <p:cNvSpPr/>
          <p:nvPr/>
        </p:nvSpPr>
        <p:spPr>
          <a:xfrm>
            <a:off x="826920" y="198900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面的三位太史都已经被崔杼杀害了，这时候第四位太史季他又是如何做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太史季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当然爱惜性命。但倘若贪生怕死，就失了我的本分，不如尽了本分，然后去死。但您也要明白，就是我不写，天下还有写的人。您只能不许我写，却不能改变事实。您越是杀害史官，越显出您心虚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250920" y="622440"/>
            <a:ext cx="1873080" cy="57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962280" y="1598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崔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641400" y="162864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华文行楷"/>
                <a:ea typeface="华文行楷"/>
              </a:rPr>
              <a:t>残暴、易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890640" y="2708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太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365640" y="2781360"/>
            <a:ext cx="325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华文行楷"/>
                <a:ea typeface="华文行楷"/>
              </a:rPr>
              <a:t>刚正不阿   秉笔直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18120" y="407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楷体"/>
              </a:rPr>
              <a:t>秉笔直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821480" y="49370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实事求是，诚实地记录或书写真实的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/>
          </p:nvPr>
        </p:nvSpPr>
        <p:spPr>
          <a:xfrm>
            <a:off x="826920" y="1412640"/>
            <a:ext cx="7490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讨论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崔杼都已经杀了太史伯了，为什么仲、叔和季还要誓死按照事实写历史呢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他们这样做是否值得呢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人最重要的是生命，但太史就是真实的记录历史的人，必须说真话、写真事，还历史以真实比个人的性命还要重要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  <a:ea typeface="隶书"/>
              </a:rPr>
              <a:t>拓展延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99640" y="2517480"/>
            <a:ext cx="74883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ee12c4"/>
                </a:solidFill>
                <a:latin typeface="宋体"/>
              </a:rPr>
              <a:t>同学们，你们还知道哪一位太史的故事呢？有兴趣的同学课后可以通过查阅资料去了解一下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记录    蛮横    隐瞒   颠倒是非   情愿   权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职位     面不改色    冷笑    忠实    畏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屈服    贪生怕死    企图    倘若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当然爱惜生命。但倘若贪生怕死，就失了我的本分，不如尽了本分，然后去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250920" y="622440"/>
            <a:ext cx="1368360" cy="57456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237320" y="1809720"/>
            <a:ext cx="1538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国君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相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太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竹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700360" y="2276640"/>
            <a:ext cx="647640" cy="144360"/>
          </a:xfrm>
          <a:prstGeom prst="rightArrow">
            <a:avLst>
              <a:gd name="adj1" fmla="val 50000"/>
              <a:gd name="adj2" fmla="val 112157"/>
            </a:avLst>
          </a:prstGeom>
          <a:solidFill>
            <a:srgbClr val="e1f4ff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334120" y="2057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古代的国家统治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700360" y="2997360"/>
            <a:ext cx="647640" cy="144360"/>
          </a:xfrm>
          <a:prstGeom prst="rightArrow">
            <a:avLst>
              <a:gd name="adj1" fmla="val 50000"/>
              <a:gd name="adj2" fmla="val 112157"/>
            </a:avLst>
          </a:prstGeom>
          <a:solidFill>
            <a:srgbClr val="e1f4ff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64040" y="2805120"/>
            <a:ext cx="239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古代国家的官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也叫丞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700360" y="3860640"/>
            <a:ext cx="647640" cy="144720"/>
          </a:xfrm>
          <a:prstGeom prst="rightArrow">
            <a:avLst>
              <a:gd name="adj1" fmla="val 50000"/>
              <a:gd name="adj2" fmla="val 111878"/>
            </a:avLst>
          </a:prstGeom>
          <a:solidFill>
            <a:srgbClr val="e1f4ff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279400" y="3641760"/>
            <a:ext cx="16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古代官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负责国家文书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天文历法、记录历史事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700360" y="5589720"/>
            <a:ext cx="647640" cy="144360"/>
          </a:xfrm>
          <a:prstGeom prst="rightArrow">
            <a:avLst>
              <a:gd name="adj1" fmla="val 50000"/>
              <a:gd name="adj2" fmla="val 112157"/>
            </a:avLst>
          </a:prstGeom>
          <a:solidFill>
            <a:srgbClr val="e1f4ff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506560" y="5373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古代用来写字的竹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250920" y="622440"/>
            <a:ext cx="1368360" cy="57456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1100160" y="1809720"/>
            <a:ext cx="1127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伯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124000" y="2924280"/>
            <a:ext cx="71928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1f4ff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203640" y="220500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古代兄弟排行称谓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古代以伯、仲、叔、季来表示兄弟间的排行顺序：伯为老大，仲为老二，叔为老三，季排行最小。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根据句子划线部分的意思写词语。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11280" y="1268280"/>
            <a:ext cx="8913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伯仲叔都因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无所畏惧地、真实地、公正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记录历史事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被崔杼杀了。（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三位史官都没有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把对的说成错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把错的说成对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（        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太史仲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脸上不改变颜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回答了崔杼的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549760" y="1628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秉笔直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924360" y="3429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颠倒是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405080" y="5157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面不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1532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管在任何场合，他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总能从容不迫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理直气壮地说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         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无论在任何时候，他总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刚强正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从不迎合奉承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        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四位史官不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为了生命而害怕死亡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对别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毫不关心、置之不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570560" y="922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义正词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694400" y="27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刚正不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970200" y="436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贪生怕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332000" y="544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无动于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250920" y="622440"/>
            <a:ext cx="1873080" cy="5745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962280" y="1598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崔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707280" y="1628640"/>
            <a:ext cx="389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华文行楷"/>
                <a:ea typeface="华文行楷"/>
              </a:rPr>
              <a:t>谋杀国君</a:t>
            </a:r>
            <a:r>
              <a:rPr b="1" lang="en-US" sz="4000" spc="-1" strike="noStrike">
                <a:solidFill>
                  <a:srgbClr val="003300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3300"/>
                </a:solidFill>
                <a:latin typeface="华文行楷"/>
                <a:ea typeface="华文行楷"/>
              </a:rPr>
              <a:t>独揽大权</a:t>
            </a:r>
            <a:r>
              <a:rPr b="1" lang="en-US" sz="4000" spc="-1" strike="noStrike">
                <a:solidFill>
                  <a:srgbClr val="003300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华文行楷"/>
                <a:ea typeface="华文行楷"/>
              </a:rPr>
              <a:t>让太史们歪曲事实记录历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820800" y="3933720"/>
            <a:ext cx="138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历史事实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崔杼要求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270240" y="3860640"/>
            <a:ext cx="193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楷体"/>
                <a:ea typeface="华文楷体"/>
              </a:rPr>
              <a:t>崔杼谋杀国君光</a:t>
            </a:r>
            <a:r>
              <a:rPr b="0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292560" y="4437000"/>
            <a:ext cx="193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楷体"/>
                <a:ea typeface="华文楷体"/>
              </a:rPr>
              <a:t>先君是害病死的</a:t>
            </a:r>
            <a:r>
              <a:rPr b="0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012000" y="4076640"/>
            <a:ext cx="215640" cy="865080"/>
          </a:xfrm>
          <a:custGeom>
            <a:avLst/>
            <a:gdLst>
              <a:gd name="textAreaLeft" fmla="*/ 0 w 215640"/>
              <a:gd name="textAreaRight" fmla="*/ 77760 w 21564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6809760" y="4100400"/>
            <a:ext cx="13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颠倒是非</a:t>
            </a:r>
            <a:r>
              <a:rPr b="0" lang="en-US" sz="1600" spc="-1" strike="noStrike">
                <a:solidFill>
                  <a:srgbClr val="ff0066"/>
                </a:solidFill>
                <a:latin typeface="华文楷体"/>
                <a:ea typeface="华文楷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 Box 2"/>
          <p:cNvSpPr/>
          <p:nvPr/>
        </p:nvSpPr>
        <p:spPr>
          <a:xfrm>
            <a:off x="1042920" y="2133720"/>
            <a:ext cx="66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太史伯、仲、叔和季这四个人的职务的职责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他们是怎样做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他们为什么这样做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画出重点词语和句子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3"/>
          <p:cNvSpPr/>
          <p:nvPr/>
        </p:nvSpPr>
        <p:spPr>
          <a:xfrm>
            <a:off x="1116000" y="1341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隶书"/>
              </a:rPr>
              <a:t>再读课文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 Box 2"/>
          <p:cNvSpPr/>
          <p:nvPr/>
        </p:nvSpPr>
        <p:spPr>
          <a:xfrm>
            <a:off x="826920" y="1125360"/>
            <a:ext cx="79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交流感悟：太史伯说的两句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3"/>
          <p:cNvSpPr/>
          <p:nvPr/>
        </p:nvSpPr>
        <p:spPr>
          <a:xfrm>
            <a:off x="900000" y="1268280"/>
            <a:ext cx="691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句：太史伯听了崔杼的话，严肃地说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按照事实写历史，是史官的本分，岂能隐瞒真相，颠倒是非呢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充分的读句子，读出反问的语气，感悟反问句表达意思的力度，以及所表达的意思。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点体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意思，同学们说说每个人根据不同的工作岗位，都要遵守些什么本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（感受太史必须说真话，记录真实的历史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0:49:42Z</dcterms:created>
  <dc:creator>Administrator</dc:creator>
  <dc:description/>
  <dc:language>en-US</dc:language>
  <cp:lastModifiedBy/>
  <dcterms:modified xsi:type="dcterms:W3CDTF">2015-08-11T05:58:3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