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938-39B7-4AA3-9922-EDB9F79F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F2E-E3D3-4A09-8DA6-7E12608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B27-6A0C-4580-AD79-1EE8C96D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C7D-31C7-48C1-89A1-A70925E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AF7-7349-4F85-8CF7-71F7F4F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ED3-20C3-4D4C-9B42-008A27D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5F2-69B7-42B0-B12E-02C0436D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01C-E454-415F-92A5-C577941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BDE-9CCD-4819-BBA8-3F41C4E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935-D9C8-487D-9740-EEDB866F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4F7-201D-4F5F-9A54-F4760DC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B2E-79BD-4FCA-8DC8-A722DB2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ECB4-C8A0-414A-A24A-B95BD4F5D0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i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钓鱼的启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765000"/>
            <a:ext cx="7988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愿意放走鲈鱼吗？从哪儿看出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1480" y="24922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“爸爸！”詹姆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叫起来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“可哪儿能钓到这么大的鱼呀！”儿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声抗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4437000"/>
            <a:ext cx="8569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使劲地闭上眼睛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脑中一片空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373720"/>
            <a:ext cx="70930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詹姆斯的心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分悲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549360"/>
            <a:ext cx="84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为什么不愿意放走鲈鱼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177336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是他见过的最大的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63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不是翻车鱼，而是一条大鲈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57336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条大鲈鱼足有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公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365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是他花了两个小时才钓上来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1989000"/>
            <a:ext cx="71640" cy="3240360"/>
          </a:xfrm>
          <a:custGeom>
            <a:avLst/>
            <a:gdLst>
              <a:gd name="textAreaLeft" fmla="*/ 45720 w 71640"/>
              <a:gd name="textAreaRight" fmla="*/ 72000 w 7164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02840" y="2133720"/>
            <a:ext cx="16426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内心诱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18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詹姆斯向四周望去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月光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个垂钓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条船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当然也就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个人会知道这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33360"/>
            <a:ext cx="842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除了以上诱惑外，小詹姆斯还有什么理由不放走鲈鱼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402840" y="2133720"/>
            <a:ext cx="16426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外在诱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404640"/>
            <a:ext cx="835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这样不想放，并且还有机会不放走鲈鱼，可是他为什么最后会放走得之不易的鲈鱼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2492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孩子，你得把它放回水里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3429000"/>
            <a:ext cx="65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你还会钓到别的鱼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4292640"/>
            <a:ext cx="65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父亲再没有说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5589720"/>
            <a:ext cx="65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詹姆斯知道没有商量的余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2565360"/>
            <a:ext cx="144360" cy="23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281880" y="2421000"/>
            <a:ext cx="13993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态度明确坚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820000" cy="4941720"/>
          </a:xfrm>
          <a:prstGeom prst="rect">
            <a:avLst/>
          </a:prstGeom>
          <a:blipFill rotWithShape="0">
            <a:blip r:embed="rId3">
              <a:alphaModFix amt="40000"/>
            </a:blip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他使劲地闭上眼睛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脑中一片空白。他深深地吸了一口气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睁开了眼睛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弯下了腰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小心翼翼地把鱼钓从那大鱼的嘴上摘下来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双手捧起这条沉甸甸、还在不停扭动着的大鱼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吃力地把它放入水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那条大鱼的身体在水中嗖地一摆就消失了，詹姆斯的心中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十分悲哀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詹姆斯的心理变化历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钓到鱼时：紧张、激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鱼时：“爸爸！”――不情愿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哪儿能钓到这么大的鱼呀！”――抗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34280" y="42210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鱼后：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悲哀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爸坚决要詹姆斯放掉那条大鱼这件事为什么值得“骄傲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父亲以明确坚决的态度指引“我”战胜了诱惑，渡过了道德的难关，所以，“我”以自己的父亲而骄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292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同时“我”又为自己战胜诱惑而坚守规则而骄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主要告诉了我们什么道理？（启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349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遵守规则不应该靠别人监督，而需要自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076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遵守规则必须严格，不能强调“特殊情况”通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德问题虽然只是一个简单的正确或错误的问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实施起来却有一定的难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别是当你面对着很大和诱惑的时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人们从小受到像把钓到的大鲈鱼放回湖中这样严格的教育的话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就会获得道德实践的勇气和力量。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衡量真正的品德，是看他在知道没有人发觉的时候做些什么。—孟德斯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1816920"/>
            <a:ext cx="25459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勿以恶小而为之，勿以善小而不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4160" y="2923560"/>
            <a:ext cx="2490480" cy="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君子坦荡荡，小人长戚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499920"/>
            <a:ext cx="8642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君子之修身，内正其心，外正其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宋）欧阳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72880" y="4652280"/>
            <a:ext cx="2806920" cy="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背信则名不达。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1440" y="5300280"/>
            <a:ext cx="2806920" cy="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无忠信，不可立于世。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876280"/>
            <a:ext cx="82090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如失去了诚实，也就失去了一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黎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73440" y="333360"/>
            <a:ext cx="92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鲈鱼味道鲜美，是餐桌上的美味佳肴；鲈鱼生性凶猛，活动能力大。所以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鲈鱼历来是钓鱼者追逐的对象，也是他们难以得到的捕获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6121440" cy="3575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84360" y="3238560"/>
            <a:ext cx="68389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哪几自然段写了钓鱼的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从钓鱼中得到了什么启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42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课文可以分为几段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父亲是个钓鱼高手，小詹姆斯从不愿放过任何一个跟父亲一起钓鱼的机会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”这句话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9640" y="2852280"/>
            <a:ext cx="6913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明小詹姆斯酷爱钓鱼，是个钓鱼爱好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91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詹姆斯是不是钓鱼高手呢？从哪儿看出来的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熟练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将鱼钩甩向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他马上意识到那是个大家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他深吸一口气使自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镇静下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慢慢地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那个大家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家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终于被溜得筋疲力尽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了，詹姆斯开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慢慢地收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月亮渐渐地爬出来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银色的水面不断地泛起静静的波纹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月亮渐渐地爬出来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银色的水面不断地泛起静静的波纹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的天哪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足有１０公斤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他见过的最大的鱼。詹姆斯尽力压抑住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紧张和激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心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仔细地观看自己的战利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他发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翻车鱼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而是一条大鲈鱼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508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通过这句话，你知道小詹姆斯的心情是什么样的？从哪看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404640"/>
            <a:ext cx="47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公斤的大鲈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后来又把鲈鱼放了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3644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离允许钓鲈鱼的时间还差两个小时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4:25:31Z</dcterms:created>
  <dc:creator>番茄花园</dc:creator>
  <dc:description/>
  <dc:language>en-US</dc:language>
  <cp:lastModifiedBy>微软用户</cp:lastModifiedBy>
  <dcterms:modified xsi:type="dcterms:W3CDTF">2013-12-15T08:00:33Z</dcterms:modified>
  <cp:revision>62</cp:revision>
  <dc:subject/>
  <dc:title>PowerPoint 演示文稿</dc:title>
</cp:coreProperties>
</file>