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.gif" ContentType="image/gif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camera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0BE-0525-47F4-9FEF-227E3969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F64-7A9C-4D01-810B-3B1DF80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3D1-0074-4EC2-A2F1-6856AB8E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A35-8D98-41BB-B85F-DD3C1E7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FA1-0628-4CE3-8B28-375EEC2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0B-AA82-46A9-BFC0-7AD3B3A5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EF7-023B-4BB0-9C95-DD8A1076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04A-C960-4035-8C4F-87CA1F3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780-D79D-4D1E-8E8B-1A288F87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5EB-7F5A-45C9-877A-EE93B7A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BFD-1C15-41B6-A79E-C2A5F42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8FC-B07E-4B5A-9B12-B65DAAF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B95-257B-4879-9A9E-BC8D4E652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56982898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124000" y="1341360"/>
            <a:ext cx="4572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独坐敬亭山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Picture 4" descr="2007530_0e4623e9c81a05b1a99405c239f1f574"/>
          <p:cNvPicPr/>
          <p:nvPr/>
        </p:nvPicPr>
        <p:blipFill>
          <a:blip r:embed="rId2"/>
          <a:stretch/>
        </p:blipFill>
        <p:spPr>
          <a:xfrm>
            <a:off x="7812000" y="6165720"/>
            <a:ext cx="804960" cy="446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176520" y="2852640"/>
            <a:ext cx="137844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唐      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8101080" y="6237360"/>
            <a:ext cx="792000" cy="387360"/>
          </a:xfrm>
          <a:custGeom>
            <a:avLst/>
            <a:gdLst>
              <a:gd name="textAreaLeft" fmla="*/ 24840 w 792000"/>
              <a:gd name="textAreaRight" fmla="*/ 767160 w 79200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44143" h="21600">
                <a:moveTo>
                  <a:pt x="0" y="0"/>
                </a:moveTo>
                <a:lnTo>
                  <a:pt x="44143" y="0"/>
                </a:lnTo>
                <a:lnTo>
                  <a:pt x="44143" y="21600"/>
                </a:lnTo>
                <a:lnTo>
                  <a:pt x="0" y="21600"/>
                </a:lnTo>
                <a:close/>
              </a:path>
              <a:path fill="lightenLess" w="44143" h="21600">
                <a:moveTo>
                  <a:pt x="0" y="0"/>
                </a:moveTo>
                <a:lnTo>
                  <a:pt x="44143" y="0"/>
                </a:lnTo>
                <a:lnTo>
                  <a:pt x="42743" y="1400"/>
                </a:lnTo>
                <a:lnTo>
                  <a:pt x="1400" y="1400"/>
                </a:lnTo>
                <a:close/>
              </a:path>
              <a:path fill="darken" w="44143" h="21600">
                <a:moveTo>
                  <a:pt x="44143" y="0"/>
                </a:moveTo>
                <a:lnTo>
                  <a:pt x="44143" y="21600"/>
                </a:lnTo>
                <a:lnTo>
                  <a:pt x="42743" y="20200"/>
                </a:lnTo>
                <a:lnTo>
                  <a:pt x="42743" y="1400"/>
                </a:lnTo>
                <a:close/>
              </a:path>
              <a:path fill="darkenLess" w="44143" h="21600">
                <a:moveTo>
                  <a:pt x="44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43" y="20200"/>
                </a:lnTo>
                <a:close/>
              </a:path>
              <a:path fill="lighten" w="44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43" h="21600">
                <a:moveTo>
                  <a:pt x="15065" y="7301"/>
                </a:moveTo>
                <a:lnTo>
                  <a:pt x="15979" y="7301"/>
                </a:lnTo>
                <a:lnTo>
                  <a:pt x="16362" y="7667"/>
                </a:lnTo>
                <a:lnTo>
                  <a:pt x="25570" y="7667"/>
                </a:lnTo>
                <a:lnTo>
                  <a:pt x="26127" y="8224"/>
                </a:lnTo>
                <a:lnTo>
                  <a:pt x="26127" y="8772"/>
                </a:lnTo>
                <a:lnTo>
                  <a:pt x="27972" y="8772"/>
                </a:lnTo>
                <a:lnTo>
                  <a:pt x="28338" y="8224"/>
                </a:lnTo>
                <a:lnTo>
                  <a:pt x="29078" y="8224"/>
                </a:lnTo>
                <a:lnTo>
                  <a:pt x="29078" y="13376"/>
                </a:lnTo>
                <a:lnTo>
                  <a:pt x="28338" y="13376"/>
                </a:lnTo>
                <a:lnTo>
                  <a:pt x="27972" y="12828"/>
                </a:lnTo>
                <a:lnTo>
                  <a:pt x="26127" y="12828"/>
                </a:lnTo>
                <a:lnTo>
                  <a:pt x="26127" y="14107"/>
                </a:lnTo>
                <a:lnTo>
                  <a:pt x="16544" y="14107"/>
                </a:lnTo>
                <a:lnTo>
                  <a:pt x="16544" y="9877"/>
                </a:lnTo>
                <a:lnTo>
                  <a:pt x="16362" y="9877"/>
                </a:lnTo>
                <a:lnTo>
                  <a:pt x="15979" y="10243"/>
                </a:lnTo>
                <a:lnTo>
                  <a:pt x="15065" y="102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700360" y="476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独坐敬亭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50920" y="1773360"/>
            <a:ext cx="345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众鸟高飞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云独去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看两不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有敬亭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19640" y="134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61240" y="1773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所有鸟儿都飞向高空，直到看不见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03640" y="256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天空中仅剩的一片白云也慢悠悠地独自悠闲地飘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132000" y="37162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我静静地凝视着敬亭山，感觉敬亭山也看着我，我们互相对视总也看不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987640" y="4653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此时此刻我忘记了其他的一切，心中只有敬亭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935280" y="111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自己的话说说句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484360" y="60930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"/>
          <p:cNvSpPr/>
          <p:nvPr/>
        </p:nvSpPr>
        <p:spPr>
          <a:xfrm>
            <a:off x="826920" y="1700280"/>
            <a:ext cx="64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755640" y="2708280"/>
            <a:ext cx="6476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1332000" y="4653000"/>
            <a:ext cx="17272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51211102857965"/>
          <p:cNvPicPr/>
          <p:nvPr/>
        </p:nvPicPr>
        <p:blipFill>
          <a:blip r:embed="rId1"/>
          <a:stretch/>
        </p:blipFill>
        <p:spPr>
          <a:xfrm>
            <a:off x="179280" y="606600"/>
            <a:ext cx="8785440" cy="5918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57320" y="2420640"/>
            <a:ext cx="76183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鸟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鸟儿们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飞尽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都飞远了（孤帆远影碧空尽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孤云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一片白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独去闲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独自飘来飘去悠闲自在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961720" y="157464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众鸟高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尽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，孤云独去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闲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55640" y="4653000"/>
            <a:ext cx="7120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这两句诗句中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03280" y="522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（李白很孤单、寂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006325177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560" y="3933360"/>
            <a:ext cx="7488360" cy="230364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诗概意：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天上几只鸟儿向远处飞去，直到看不见影子；天上的那片云也悠闲地飘向远方。我看着山，山看着我，怎么看也不觉得满足。只有敬亭山才是我最知心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118040" y="1419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相看两不厌，只有敬亭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16000" y="2133720"/>
            <a:ext cx="7362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相看：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对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厌：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和敬亭山对看总不感到满足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1692360" y="0"/>
            <a:ext cx="61722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独坐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敬亭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140360" y="1413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唐：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971800" y="2276640"/>
            <a:ext cx="447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众鸟高飞尽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971800" y="3267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孤云独去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71800" y="4410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相看两不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971800" y="5400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只有敬亭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5715000" y="449568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715000" y="563868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huangshan 7"/>
          <p:cNvPicPr/>
          <p:nvPr/>
        </p:nvPicPr>
        <p:blipFill>
          <a:blip r:embed="rId1"/>
          <a:stretch/>
        </p:blipFill>
        <p:spPr>
          <a:xfrm>
            <a:off x="6375240" y="1295280"/>
            <a:ext cx="2841840" cy="556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huangshan 8"/>
          <p:cNvPicPr/>
          <p:nvPr/>
        </p:nvPicPr>
        <p:blipFill>
          <a:blip r:embed="rId2"/>
          <a:stretch/>
        </p:blipFill>
        <p:spPr>
          <a:xfrm>
            <a:off x="0" y="1371600"/>
            <a:ext cx="297180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Line 12"/>
          <p:cNvSpPr/>
          <p:nvPr/>
        </p:nvSpPr>
        <p:spPr>
          <a:xfrm>
            <a:off x="4267080" y="1219320"/>
            <a:ext cx="1905120" cy="0"/>
          </a:xfrm>
          <a:prstGeom prst="line">
            <a:avLst/>
          </a:prstGeom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0"/>
            <a:ext cx="533520" cy="457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大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8305920" y="0"/>
            <a:ext cx="838080" cy="380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0" y="189000"/>
            <a:ext cx="2843280" cy="1368360"/>
          </a:xfrm>
          <a:prstGeom prst="wedgeEllipseCallout">
            <a:avLst>
              <a:gd name="adj1" fmla="val 42185"/>
              <a:gd name="adj2" fmla="val 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独一人坐着（欣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amera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011111fa1560626b18404"/>
          <p:cNvPicPr/>
          <p:nvPr/>
        </p:nvPicPr>
        <p:blipFill>
          <a:blip r:embed="rId1"/>
          <a:stretch/>
        </p:blipFill>
        <p:spPr>
          <a:xfrm>
            <a:off x="15840" y="549360"/>
            <a:ext cx="4959360" cy="594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787640" y="0"/>
            <a:ext cx="4105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背景】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 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五绝作于天宝十二载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秋游宣州时，距他被迫于天宝三载离开长安已有整整十年时间了。长期飘泊生活，使李白饱尝了人间辛酸滋味，看透了世态炎凉，从而加深了对现实的不满，增添了孤寂之感。此诗通过写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坐敬亭山的情趣及敬亭山的景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抒发了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怀才不遇而产生的孤独与寂寞的感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也是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投身到大自然的怀抱，以山为伴，寻找安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真实写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-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571680" y="-60480"/>
            <a:ext cx="8001000" cy="5616720"/>
            <a:chOff x="571680" y="-60480"/>
            <a:chExt cx="8001000" cy="5616720"/>
          </a:xfrm>
        </p:grpSpPr>
        <p:sp>
          <p:nvSpPr>
            <p:cNvPr id="116" name="Rectangle 4"/>
            <p:cNvSpPr/>
            <p:nvPr/>
          </p:nvSpPr>
          <p:spPr>
            <a:xfrm>
              <a:off x="571680" y="-60480"/>
              <a:ext cx="8001000" cy="56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571680" y="-6048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4140360" y="476280"/>
            <a:ext cx="4679640" cy="5975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学习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读好题目、了解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看注释、想画面，理解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反复品读、体会感情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tp021-03-1"/>
          <p:cNvPicPr/>
          <p:nvPr/>
        </p:nvPicPr>
        <p:blipFill>
          <a:blip r:embed="rId1"/>
          <a:stretch/>
        </p:blipFill>
        <p:spPr>
          <a:xfrm>
            <a:off x="324000" y="404640"/>
            <a:ext cx="3816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yijiangnan"/>
          <p:cNvPicPr/>
          <p:nvPr/>
        </p:nvPicPr>
        <p:blipFill>
          <a:blip r:embed="rId1"/>
          <a:srcRect l="6558" t="0" r="2642" b="13254"/>
          <a:stretch/>
        </p:blipFill>
        <p:spPr>
          <a:xfrm>
            <a:off x="3708360" y="333360"/>
            <a:ext cx="5496120" cy="62643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"/>
          <p:cNvGrpSpPr/>
          <p:nvPr/>
        </p:nvGrpSpPr>
        <p:grpSpPr>
          <a:xfrm>
            <a:off x="181080" y="95400"/>
            <a:ext cx="3816000" cy="6476760"/>
            <a:chOff x="181080" y="95400"/>
            <a:chExt cx="3816000" cy="6476760"/>
          </a:xfrm>
        </p:grpSpPr>
        <p:pic>
          <p:nvPicPr>
            <p:cNvPr id="48" name="Picture 4" descr="Bj_042"/>
            <p:cNvPicPr/>
            <p:nvPr/>
          </p:nvPicPr>
          <p:blipFill>
            <a:blip r:embed="rId2"/>
            <a:stretch/>
          </p:blipFill>
          <p:spPr>
            <a:xfrm>
              <a:off x="181080" y="95400"/>
              <a:ext cx="3816000" cy="64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WordArt 5"/>
            <p:cNvSpPr txBox="1"/>
            <p:nvPr/>
          </p:nvSpPr>
          <p:spPr>
            <a:xfrm rot="5400000">
              <a:off x="-531360" y="2025000"/>
              <a:ext cx="4245480" cy="1825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1" strike="noStrike">
                  <a:ln cap="sq" w="12600">
                    <a:solidFill>
                      <a:srgbClr val="eaeaea"/>
                    </a:solidFill>
                    <a:miter/>
                  </a:ln>
                  <a:solidFill>
                    <a:srgbClr val="6666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李白</a:t>
              </a:r>
              <a:endParaRPr b="1" lang="en-US" sz="60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6666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图片1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5184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李白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701-762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），字太白，号青莲居士，唐代伟大的浪漫主义诗人。其诗风雄奇豪放，想象丰富，音律和谐多变。开创了浪漫主义诗歌的新高峰。被称为“诗仙”，与杜甫并称“李杜”。他写了大量歌颂祖国河山、揭露社会黑暗和蔑视权贵的诗歌。他的诗对后人有深远的影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11280" y="98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作者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53" name="Picture 5" descr="李白"/>
          <p:cNvPicPr/>
          <p:nvPr/>
        </p:nvPicPr>
        <p:blipFill>
          <a:blip r:embed="rId2"/>
          <a:stretch/>
        </p:blipFill>
        <p:spPr>
          <a:xfrm>
            <a:off x="5651640" y="1773360"/>
            <a:ext cx="2781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2619095880,1358838063&amp;gp=28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44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 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5280" y="54936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=2619095880,1358838063&amp;gp=28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410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 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人西辞黄鹤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花三月下扬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帆远影碧空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见长江天际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5280" y="549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鹤楼送孟浩然之广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独坐敬亭山 诗画"/>
          <p:cNvPicPr/>
          <p:nvPr/>
        </p:nvPicPr>
        <p:blipFill>
          <a:blip r:embed="rId1"/>
          <a:stretch/>
        </p:blipFill>
        <p:spPr>
          <a:xfrm>
            <a:off x="2844720" y="836640"/>
            <a:ext cx="604836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 rot="5400000">
            <a:off x="-977760" y="3288960"/>
            <a:ext cx="4537080" cy="927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独坐敬亭山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700360" y="4005360"/>
            <a:ext cx="5194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：独自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敬亭山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：山名。在今安徽省宣州市郊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5121110245631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32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思考：此时的李白坐在敬亭山上看到些什么？他又在想些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ShockwaveFlash1"/>
          <p:cNvGraphicFramePr/>
          <p:nvPr/>
        </p:nvGraphicFramePr>
        <p:xfrm>
          <a:off x="108000" y="1440"/>
          <a:ext cx="900108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40"/>
                    <a:ext cx="900108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48000" y="3499920"/>
            <a:ext cx="316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众鸟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高飞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尽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孤云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独去闲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。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相看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两不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厌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只有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敬亭山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755640" y="907920"/>
            <a:ext cx="21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诗歌朗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540680" y="2681280"/>
            <a:ext cx="72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ff"/>
                </a:solidFill>
                <a:latin typeface="Arial"/>
                <a:ea typeface="楷体_GB2312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29040" y="1916280"/>
            <a:ext cx="1552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独坐敬亭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李白3"/>
          <p:cNvPicPr/>
          <p:nvPr/>
        </p:nvPicPr>
        <p:blipFill>
          <a:blip r:embed="rId1"/>
          <a:srcRect l="23180" t="0" r="0" b="249"/>
          <a:stretch/>
        </p:blipFill>
        <p:spPr>
          <a:xfrm>
            <a:off x="6161040" y="1844640"/>
            <a:ext cx="2658960" cy="38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904"/>
          <p:cNvPicPr/>
          <p:nvPr/>
        </p:nvPicPr>
        <p:blipFill>
          <a:blip r:embed="rId2"/>
          <a:stretch/>
        </p:blipFill>
        <p:spPr>
          <a:xfrm>
            <a:off x="539640" y="1916280"/>
            <a:ext cx="2668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Microsoft</cp:lastModifiedBy>
  <dcterms:modified xsi:type="dcterms:W3CDTF">2015-01-22T04:12:3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