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E855-A1E8-40B3-8135-C20AABA66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2C5D-2C42-446D-9BA8-75CE65EC7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CA1A-E4A4-42FA-978C-EA92A1E44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9BA1-4BBA-4F00-B3FE-0875B4E6E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23F1-8295-4874-BAC5-938790B5A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0F79-5B07-4D77-860D-5DB69109C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8180-2775-4265-A09C-B03D7AE49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8CB1-8D6A-4375-8968-70DF44915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E4DD-4FED-4E44-B44B-869C420F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1EA0-95F9-4B6F-8956-B95693D2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2CB6-0435-4481-B2CD-01D6F2A3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04EC-53F3-436A-8D9F-2EFC2C31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3C2B-2014-4391-9153-026AC0B8B45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121920" y="380880"/>
            <a:ext cx="286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 多梦的季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228600" y="4343400"/>
            <a:ext cx="106668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●</a:t>
            </a:r>
            <a:r>
              <a:rPr b="0" lang="zh-CN" sz="20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  <a:hlinkClick r:id="rId3" action="ppaction://hlinksldjump"/>
              </a:rPr>
              <a:t>识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●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●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2027160" y="2041560"/>
            <a:ext cx="5057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哼着　　繁茂　　　　雏鹰　　遨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2027160" y="3429000"/>
            <a:ext cx="5057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哗哗　　旋涡　　　　谜语　　沉默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练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3779640" y="1523880"/>
            <a:ext cx="98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）只是太阳惊奇，我们有了沉默的白天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3779640" y="3108240"/>
            <a:ext cx="98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）只是月亮发现，我们有了多梦的夜晚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3871800" y="1981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  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2853360" y="990720"/>
            <a:ext cx="343728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校园到小小的家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家到也不很大的校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走着一条很熟很熟的路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哼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hēnɡ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着一天天长大的童年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眼看着小树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伸展着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  <a:hlinkClick r:id="rId3" action="ppaction://hlinksldjump"/>
              </a:rPr>
              <a:t>繁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á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茂的树叶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眼看着雏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hú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  <a:hlinkClick r:id="rId4" action="ppaction://hlinksldjump"/>
              </a:rPr>
              <a:t>鹰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yīnɡ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独自去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遨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áo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游蓝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可还是昨天的那个孩子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还是昨天的那张娃娃脸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3909960" y="228600"/>
            <a:ext cx="132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多梦的季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6"/>
          <p:cNvSpPr/>
          <p:nvPr/>
        </p:nvSpPr>
        <p:spPr>
          <a:xfrm>
            <a:off x="3048120" y="3581280"/>
            <a:ext cx="16761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0" y="1981080"/>
            <a:ext cx="2286000" cy="1143000"/>
          </a:xfrm>
          <a:prstGeom prst="wedgeRoundRectCallout">
            <a:avLst>
              <a:gd name="adj1" fmla="val 85555"/>
              <a:gd name="adj2" fmla="val 6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繁茂：指树的枝叶长得繁密茂盛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8"/>
          <p:cNvSpPr/>
          <p:nvPr/>
        </p:nvSpPr>
        <p:spPr>
          <a:xfrm>
            <a:off x="3048120" y="3962520"/>
            <a:ext cx="16761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9"/>
          <p:cNvSpPr/>
          <p:nvPr/>
        </p:nvSpPr>
        <p:spPr>
          <a:xfrm>
            <a:off x="6248520" y="2743200"/>
            <a:ext cx="2286000" cy="838080"/>
          </a:xfrm>
          <a:prstGeom prst="wedgeRoundRectCallout">
            <a:avLst>
              <a:gd name="adj1" fmla="val -108263"/>
              <a:gd name="adj2" fmla="val 7481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雏鹰：幼小的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0"/>
          <p:cNvSpPr/>
          <p:nvPr/>
        </p:nvSpPr>
        <p:spPr>
          <a:xfrm>
            <a:off x="3048120" y="4343400"/>
            <a:ext cx="15238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1"/>
          <p:cNvSpPr/>
          <p:nvPr/>
        </p:nvSpPr>
        <p:spPr>
          <a:xfrm>
            <a:off x="6477120" y="4343400"/>
            <a:ext cx="2286000" cy="838080"/>
          </a:xfrm>
          <a:prstGeom prst="wedgeRoundRectCallout">
            <a:avLst>
              <a:gd name="adj1" fmla="val -129513"/>
              <a:gd name="adj2" fmla="val -52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傲游：漫游、游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识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2947680" y="479520"/>
            <a:ext cx="3216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大意味着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曾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énɡ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站在岸上问水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河水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哗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huā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哗地赶路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留下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旋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xuá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涡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wō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串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曾躺在山上问云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云朵无声地飘来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又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mí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一样地飘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是太阳惊奇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有了沉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默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mò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的白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是月亮发现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有了多梦的夜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5"/>
          <p:cNvSpPr/>
          <p:nvPr/>
        </p:nvSpPr>
        <p:spPr>
          <a:xfrm>
            <a:off x="3048120" y="1981080"/>
            <a:ext cx="19810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6"/>
          <p:cNvSpPr/>
          <p:nvPr/>
        </p:nvSpPr>
        <p:spPr>
          <a:xfrm>
            <a:off x="6705720" y="2438280"/>
            <a:ext cx="2286000" cy="1143000"/>
          </a:xfrm>
          <a:prstGeom prst="wedgeRoundRectCallout">
            <a:avLst>
              <a:gd name="adj1" fmla="val -114097"/>
              <a:gd name="adj2" fmla="val -8777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旋涡：本课指水流动时形成的旋涡形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8"/>
          <p:cNvSpPr/>
          <p:nvPr/>
        </p:nvSpPr>
        <p:spPr>
          <a:xfrm>
            <a:off x="3581280" y="4191120"/>
            <a:ext cx="6858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9"/>
          <p:cNvSpPr/>
          <p:nvPr/>
        </p:nvSpPr>
        <p:spPr>
          <a:xfrm>
            <a:off x="5715000" y="4648320"/>
            <a:ext cx="2133720" cy="533160"/>
          </a:xfrm>
          <a:prstGeom prst="wedgeRoundRectCallout">
            <a:avLst>
              <a:gd name="adj1" fmla="val -111532"/>
              <a:gd name="adj2" fmla="val -1309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沉默：不说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3674520" y="1905120"/>
            <a:ext cx="1826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校园到小小的家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家到也不很大的校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走着一条很熟很熟的路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哼着一天天长大的童年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2819880" y="914400"/>
            <a:ext cx="2558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校园到小小的家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家到也不很大的校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走着一条很熟很熟的路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哼着一天天长大的童年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眼看着小树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伸展着繁茂的树叶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眼看着雏鹰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独自去遨游蓝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可还是昨天的那个孩子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还是昨天的那张娃娃脸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909960" y="228600"/>
            <a:ext cx="132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多梦的季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4"/>
          <p:cNvSpPr/>
          <p:nvPr/>
        </p:nvSpPr>
        <p:spPr>
          <a:xfrm>
            <a:off x="3276720" y="2057400"/>
            <a:ext cx="19047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5867280" y="914400"/>
            <a:ext cx="2590920" cy="1828800"/>
          </a:xfrm>
          <a:prstGeom prst="cloudCallout">
            <a:avLst>
              <a:gd name="adj1" fmla="val 55759"/>
              <a:gd name="adj2" fmla="val 60763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“很熟很熟的路”是指哪条路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6"/>
          <p:cNvSpPr/>
          <p:nvPr/>
        </p:nvSpPr>
        <p:spPr>
          <a:xfrm>
            <a:off x="3048120" y="3124080"/>
            <a:ext cx="6094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7"/>
          <p:cNvSpPr/>
          <p:nvPr/>
        </p:nvSpPr>
        <p:spPr>
          <a:xfrm>
            <a:off x="3048120" y="3505320"/>
            <a:ext cx="15238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8"/>
          <p:cNvSpPr/>
          <p:nvPr/>
        </p:nvSpPr>
        <p:spPr>
          <a:xfrm>
            <a:off x="3048120" y="3886200"/>
            <a:ext cx="5331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9"/>
          <p:cNvSpPr/>
          <p:nvPr/>
        </p:nvSpPr>
        <p:spPr>
          <a:xfrm>
            <a:off x="3048120" y="4267080"/>
            <a:ext cx="12189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0"/>
          <p:cNvSpPr/>
          <p:nvPr/>
        </p:nvSpPr>
        <p:spPr>
          <a:xfrm>
            <a:off x="2057400" y="4648320"/>
            <a:ext cx="6858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1"/>
          <p:cNvSpPr/>
          <p:nvPr/>
        </p:nvSpPr>
        <p:spPr>
          <a:xfrm>
            <a:off x="3048120" y="4648320"/>
            <a:ext cx="5331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2"/>
          <p:cNvSpPr/>
          <p:nvPr/>
        </p:nvSpPr>
        <p:spPr>
          <a:xfrm>
            <a:off x="4572000" y="4952880"/>
            <a:ext cx="6094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课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5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1919520" y="156204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小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3672000" y="156204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枝叶繁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1919520" y="304020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雏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3672000" y="304020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独自遨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1919520" y="438156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我们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3672000" y="438156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还是娃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2"/>
          <p:cNvSpPr/>
          <p:nvPr/>
        </p:nvSpPr>
        <p:spPr>
          <a:xfrm>
            <a:off x="5867280" y="3581280"/>
            <a:ext cx="2590920" cy="1676520"/>
          </a:xfrm>
          <a:prstGeom prst="cloudCallout">
            <a:avLst>
              <a:gd name="adj1" fmla="val 57412"/>
              <a:gd name="adj2" fmla="val 6032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作者看到这些景象，想到了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3322800" y="479520"/>
            <a:ext cx="2009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大意味着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曾站在岸上问水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河水哗哗地赶路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留下旋涡串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曾躺在山上问云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云朵无声地飘来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又谜一样地飘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是太阳惊奇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有了沉默的白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是月亮发现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有了多梦的夜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"/>
          <p:cNvSpPr/>
          <p:nvPr/>
        </p:nvSpPr>
        <p:spPr>
          <a:xfrm>
            <a:off x="2819520" y="914400"/>
            <a:ext cx="2286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4"/>
          <p:cNvSpPr/>
          <p:nvPr/>
        </p:nvSpPr>
        <p:spPr>
          <a:xfrm>
            <a:off x="5867280" y="457200"/>
            <a:ext cx="2590920" cy="1752480"/>
          </a:xfrm>
          <a:prstGeom prst="cloudCallout">
            <a:avLst>
              <a:gd name="adj1" fmla="val 60356"/>
              <a:gd name="adj2" fmla="val 5987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你觉得长大意味着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"/>
          <p:cNvSpPr/>
          <p:nvPr/>
        </p:nvSpPr>
        <p:spPr>
          <a:xfrm>
            <a:off x="4038480" y="4191120"/>
            <a:ext cx="6098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5562720" y="3809880"/>
            <a:ext cx="3200400" cy="2057400"/>
          </a:xfrm>
          <a:prstGeom prst="cloudCallout">
            <a:avLst>
              <a:gd name="adj1" fmla="val 53620"/>
              <a:gd name="adj2" fmla="val 4359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“沉默”是什么意思？你觉得这句诗中的“沉默”指的是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7"/>
          <p:cNvSpPr/>
          <p:nvPr/>
        </p:nvSpPr>
        <p:spPr>
          <a:xfrm>
            <a:off x="3581280" y="7391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8"/>
          <p:cNvSpPr/>
          <p:nvPr/>
        </p:nvSpPr>
        <p:spPr>
          <a:xfrm>
            <a:off x="3962520" y="4952880"/>
            <a:ext cx="6858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1"/>
          <p:cNvSpPr/>
          <p:nvPr/>
        </p:nvSpPr>
        <p:spPr>
          <a:xfrm>
            <a:off x="0" y="2590920"/>
            <a:ext cx="3048120" cy="1958760"/>
          </a:xfrm>
          <a:prstGeom prst="cloudCallout">
            <a:avLst>
              <a:gd name="adj1" fmla="val -41666"/>
              <a:gd name="adj2" fmla="val 53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这里的“多梦”是什么意思？你认为小作者会梦见些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3674520" y="1905120"/>
            <a:ext cx="1826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校园到小小的家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家到也不很大的校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走着一条很熟很熟的路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哼着一天天长大的童年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1919520" y="156204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小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3672000" y="156204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枝叶繁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919520" y="304020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雏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672000" y="304020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独自傲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1919520" y="438156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我们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3672000" y="438156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还是娃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8"/>
          <p:cNvSpPr/>
          <p:nvPr/>
        </p:nvSpPr>
        <p:spPr>
          <a:xfrm>
            <a:off x="5302080" y="1676520"/>
            <a:ext cx="228600" cy="3276360"/>
          </a:xfrm>
          <a:custGeom>
            <a:avLst/>
            <a:gdLst>
              <a:gd name="textAreaLeft" fmla="*/ 0 w 228600"/>
              <a:gd name="textAreaRight" fmla="*/ 82440 w 228600"/>
              <a:gd name="textAreaTop" fmla="*/ 85320 h 3276360"/>
              <a:gd name="textAreaBottom" fmla="*/ 3191040 h 32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6218280" y="2765520"/>
            <a:ext cx="1095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渴望独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盼望长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Administrator</cp:lastModifiedBy>
  <dcterms:modified xsi:type="dcterms:W3CDTF">2015-04-07T07:34:44Z</dcterms:modified>
  <cp:revision>8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