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EE6-C4A2-473C-BDAA-FED0F698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4CD-650E-4CF6-BFBC-1F7DC4E0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C30-2957-417F-A34A-760CE3D3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278-E384-4048-B533-A89BDE6A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D46-295B-4F65-9D09-15C9D137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1D3-6D44-4DFD-834F-72193490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733-E10E-4136-9D3E-439686D3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C13-B817-4792-8E8C-B0D87648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ED0-EDE3-4D18-8CC7-C536EDCA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162-1816-472B-A69C-25BFB314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0AC-F7E6-48A9-BC00-4CD54EC5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397-BEB1-4750-9A6A-C8173835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1964-52CE-451C-B234-51554A784C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" Target="slide4.xml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4.jpeg"/><Relationship Id="rId15" Type="http://schemas.openxmlformats.org/officeDocument/2006/relationships/image" Target="../media/image12.jpeg"/><Relationship Id="rId16" Type="http://schemas.openxmlformats.org/officeDocument/2006/relationships/image" Target="../media/image13.png"/><Relationship Id="rId17" Type="http://schemas.openxmlformats.org/officeDocument/2006/relationships/image" Target="../media/image4.jpe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09680" y="160020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.</a:t>
            </a: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词两首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这首歌中的“我”指的是什么人，他的心情怎么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者在歌词中描写了几部分内容，表达了作者怎样的情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画出这首歌词反复出现的词语，说说每次出现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74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九一八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反复出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表明这个日子对东北人民是何等刻骨铭心，这是国家的耻辱，这是民族的耻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0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流浪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反复出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既写出了流浪时间之长，又表明了流亡者的无助与无奈，同时也是在控诉日本法西斯的残暴和国民党政府的不抵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哪年哪月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反复出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表达了期盼回乡的感情以及驱逐日寇的决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人们能甘愿受日本侵略者的欺侮吗？人们是如何进行反抗的？我们接着来学习《保卫黄河》这首歌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9167" t="6666" r="8334" b="10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286000" y="2133720"/>
            <a:ext cx="3429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保卫黄河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rcRect l="9167" t="6666" r="8334" b="10001"/>
          <a:stretch/>
        </p:blipFill>
        <p:spPr>
          <a:xfrm>
            <a:off x="0" y="7632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362320" y="2209680"/>
            <a:ext cx="3485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保卫黄河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76320" y="76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6320" y="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9144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7"/>
          <a:srcRect l="9167" t="6666" r="8334" b="10001"/>
          <a:stretch/>
        </p:blipFill>
        <p:spPr>
          <a:xfrm>
            <a:off x="0" y="0"/>
            <a:ext cx="9296280" cy="716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438280" y="1905120"/>
            <a:ext cx="3429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latin typeface="宋体"/>
              </a:rPr>
              <a:t>保卫黄河</a:t>
            </a:r>
            <a:endParaRPr b="1" lang="en-US" sz="1800" spc="1" strike="noStrike">
              <a:ln w="0">
                <a:noFill/>
              </a:ln>
              <a:blipFill rotWithShape="0">
                <a:blip r:embed="rId19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xit" presetID="55">
                                  <p:stCondLst>
                                    <p:cond delay="1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0"/>
                            </p:stCondLst>
                            <p:childTnLst>
                              <p:par>
                                <p:cTn id="74" nodeType="afterEffect" fill="hold" presetClass="entr" presetID="23" presetSubtype="16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0"/>
                            </p:stCondLst>
                            <p:childTnLst>
                              <p:par>
                                <p:cTn id="79" nodeType="afterEffect" fill="hold" presetClass="entr" presetID="23" presetSubtype="1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0"/>
                            </p:stCondLst>
                            <p:childTnLst>
                              <p:par>
                                <p:cTn id="84" nodeType="afterEffect" fill="hold" presetClass="entr" presetID="23" presetSubtype="1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0"/>
                            </p:stCondLst>
                            <p:childTnLst>
                              <p:par>
                                <p:cTn id="89" nodeType="afterEffect" fill="hold" presetClass="entr" presetID="23" presetSubtype="1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0000"/>
                            </p:stCondLst>
                            <p:childTnLst>
                              <p:par>
                                <p:cTn id="94" nodeType="afterEffect" fill="hold" presetClass="entr" presetID="23" presetSubtype="16" repeatCount="4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2000"/>
                            </p:stCondLst>
                            <p:childTnLst>
                              <p:par>
                                <p:cTn id="99" nodeType="afterEffect" fill="hold" presetClass="entr" presetID="23" presetSubtype="1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20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8045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    保卫黄河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风在吼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马在叫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黄河在咆哮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黄河在咆哮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河西山冈万丈高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河东、河北高粱熟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山丛中抗日英雄真不少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青纱帐里游击健儿逞英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端起了土枪、洋枪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挥动着大刀、长矛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保卫家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保卫黄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保卫华北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保卫全中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    保卫黄河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风在吼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马在叫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黄河在咆哮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黄河在咆哮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河西山冈万丈高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河东、河北高粱熟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1523880"/>
            <a:ext cx="304920" cy="3733920"/>
          </a:xfrm>
          <a:custGeom>
            <a:avLst/>
            <a:gdLst>
              <a:gd name="textAreaLeft" fmla="*/ 0 w 304920"/>
              <a:gd name="textAreaRight" fmla="*/ 110160 w 30492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819520"/>
            <a:ext cx="167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写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6019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黄河在咆哮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!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为什么反复两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5638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表达黄河在危急之中，即中华民族在危急之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万山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抗日英雄真不少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青纱帐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里游击健儿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逞英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端起了土枪、洋枪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挥动着大刀、长矛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保卫家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保卫黄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保卫华北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保卫全中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60642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这些红色字的意思，你理解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5627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这一部分写出了什么，表达了作者怎样的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者在歌词中描写了什么？表达了作者的什么情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煤矿    高粱    同胞    衰老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悲惨    抛弃    宝藏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漫山遍野    欢聚一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青纱帐    游击健儿    逞英豪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长矛    咆哮    山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惨      帐      矛      冈      咆　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矿      抛      哮　  逞　   煤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粱　  衰　   挥　  弃　   豪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8001" t="5334" r="8001" b="4002"/>
          <a:stretch/>
        </p:blipFill>
        <p:spPr>
          <a:xfrm>
            <a:off x="0" y="0"/>
            <a:ext cx="9144000" cy="76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9714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    松花江上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我的家在东北松花江上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那里有森林、煤矿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还有那漫山遍野的大豆、高粱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我的家在东北松花江上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那里有我的同胞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还有那衰老的爹娘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9714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九一八”、“九一八”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从那个悲惨的时候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脱离了我的家乡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抛弃那无尽的宝藏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流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流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整日价在关内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流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哪年哪月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才能够回到我那可爱的故乡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哪年哪月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才能够收回我那无尽的宝藏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爹娘啊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爹娘啊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什么时候，才能够欢聚一堂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歌中唱的事情发生在什么时候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12408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了解“九一八”吗事变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819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93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夜，在日本关东军安排下，铁道“守备队”炸毁沈阳柳条湖附近日本修筑的南满铁路路轨，并栽赃嫁祸于中国军队。日军以此为借口，炮轰沈阳北大营，是为“九一八事变”。次日，日军侵占沈阳，又陆续侵占了东北三省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93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，东北全境沦陷。此后，日本在中国东北建立了伪满洲国傀儡政权，开始了对东北人民长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之久的奴役和殖民统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11T12:25:2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