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8B6-E2F0-4572-87EA-212029EE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479-7417-4035-9B7B-16720DC0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70F-7860-412D-B8ED-8F76F808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29AD-C503-4DB2-B15D-DC9A8025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9D8B-CBCB-43FB-A851-DC320AB7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3E26-F3AF-4DB1-88C0-741287DB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1A73-01AF-469A-8BFF-C08492AF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E57A-0791-4C8F-A16C-29F489BA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5712-7836-45CF-8CFC-A63A9FE6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C246-CB64-4CC2-831B-C63DC107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003B-7DC4-4601-A56F-46A1E80B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46B-26B1-477B-B292-1A6B775F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40CA-3C20-4437-8250-15A01DA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47B5-8FED-4D5C-9F55-82C883DF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014A-F46F-4373-B937-4ACCE24B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6BA8-03D4-49A3-97EE-817F6A0C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6D17-821F-42CB-B375-3EE9DBE1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564-2AC6-444F-9E40-14FD58CA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C12-F38A-4023-AACF-EC1EC076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855-F209-4AFF-86DF-69B5638D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368-6346-45A2-8ACB-FE6D625C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94A-81D4-499A-B312-66D37EE4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61F-6AD4-47CA-80D4-E01B4C6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2AD-FEC9-4BA1-9E2D-C8E8C0D7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0311-56E7-46D2-9D9D-5DB0A1746D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C758-7047-4B48-82D4-892D7D477CA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2560" y="549000"/>
            <a:ext cx="7778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寒夜的灯光</a:t>
            </a:r>
            <a:endParaRPr b="0" lang="en-US" sz="4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71280" y="2349360"/>
            <a:ext cx="6264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作者【英】莫里斯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杰布森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529"/>
          <p:cNvPicPr/>
          <p:nvPr/>
        </p:nvPicPr>
        <p:blipFill>
          <a:blip r:embed="rId1"/>
          <a:stretch/>
        </p:blipFill>
        <p:spPr>
          <a:xfrm>
            <a:off x="-317520" y="-1533600"/>
            <a:ext cx="12679560" cy="9059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619200" y="709560"/>
            <a:ext cx="62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2 </a:t>
            </a:r>
            <a:r>
              <a:rPr b="0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、你对这位医生有什么感受？默读课文，画出相关的语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6720" y="1917720"/>
            <a:ext cx="65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）“我开着车上路了，窗外寒风呼呼地吼叫着。”“这一带，每年都有人因为夜里遇到麻烦在车里冻僵。”在如此恶劣的条件下，医生毅然出诊，说明了什么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9640" y="4365720"/>
            <a:ext cx="806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2600" spc="-1" strike="noStrike">
                <a:solidFill>
                  <a:srgbClr val="ff3300"/>
                </a:solidFill>
                <a:latin typeface="黑体"/>
                <a:ea typeface="黑体"/>
              </a:rPr>
              <a:t>）“这时候，外面下大雪了……说不定深夜还会有人来求诊。”既然回家不方便，医生为什么坚持要走，从这儿你感受到了什么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187280" y="5877000"/>
            <a:ext cx="48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齐读课文最后一自然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3"/>
          <p:cNvPicPr/>
          <p:nvPr/>
        </p:nvPicPr>
        <p:blipFill>
          <a:blip r:embed="rId1"/>
          <a:stretch/>
        </p:blipFill>
        <p:spPr>
          <a:xfrm>
            <a:off x="0" y="-527040"/>
            <a:ext cx="9901080" cy="7423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4160" y="404640"/>
            <a:ext cx="88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读句子，试着换种说法，句子的意思不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78000" y="1311120"/>
            <a:ext cx="69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“平时，一入夜荒野总是漆黑一片，因为那时农家用电是很节约的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96720" y="2276640"/>
            <a:ext cx="47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414a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414a"/>
                </a:solidFill>
                <a:latin typeface="黑体"/>
                <a:ea typeface="黑体"/>
              </a:rPr>
              <a:t>因为那时农家用电是很节约的，所以平时一入荒野总是漆黑一片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66640" y="368604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“那么复杂的乡村夜路，我怎能认得回去的路呢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84360" y="4941720"/>
            <a:ext cx="569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414a"/>
                </a:solidFill>
                <a:latin typeface="Times New Roman"/>
                <a:ea typeface="黑体"/>
              </a:rPr>
              <a:t>那么复杂的路，我不能认得回去的路</a:t>
            </a:r>
            <a:r>
              <a:rPr b="0" lang="zh-CN" sz="2400" spc="-1" strike="noStrike">
                <a:solidFill>
                  <a:srgbClr val="ff414a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481"/>
          <p:cNvPicPr/>
          <p:nvPr/>
        </p:nvPicPr>
        <p:blipFill>
          <a:blip r:embed="rId1"/>
          <a:stretch/>
        </p:blipFill>
        <p:spPr>
          <a:xfrm>
            <a:off x="-3486240" y="-165240"/>
            <a:ext cx="13141440" cy="7051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324000" y="54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华康布丁体W12(P)"/>
              </a:rPr>
              <a:t>同学们，我们从课文中体会到了人与人之间的相互关爱。那么，在你的身边发生过哪些充满关爱的故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67"/>
          <p:cNvPicPr/>
          <p:nvPr/>
        </p:nvPicPr>
        <p:blipFill>
          <a:blip r:embed="rId1"/>
          <a:stretch/>
        </p:blipFill>
        <p:spPr>
          <a:xfrm>
            <a:off x="-2116080" y="-163440"/>
            <a:ext cx="11277720" cy="7049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95280" y="18464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康布丁体W12(P)"/>
                <a:ea typeface="华康布丁体W12(P)"/>
              </a:rPr>
              <a:t>读一读，写一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828720" y="292572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小镇     诊所     婴儿     荒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徐徐     冻僵     复杂     多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致意     熄灭     哀鸣     孤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780000" y="3068640"/>
            <a:ext cx="193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260360" y="2637000"/>
            <a:ext cx="74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260360" y="256536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zhè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zhě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yīng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h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863640" y="3645000"/>
            <a:ext cx="72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x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      jiāng                  zā                    y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817560" y="4802040"/>
            <a:ext cx="74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zhì                     xī                     āi                     gū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577"/>
          <p:cNvPicPr/>
          <p:nvPr/>
        </p:nvPicPr>
        <p:blipFill>
          <a:blip r:embed="rId1"/>
          <a:stretch/>
        </p:blipFill>
        <p:spPr>
          <a:xfrm>
            <a:off x="-388800" y="-163440"/>
            <a:ext cx="11066400" cy="7192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01520" y="412920"/>
            <a:ext cx="915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Spilt Ink"/>
                <a:ea typeface="方正卡通简体"/>
              </a:rPr>
              <a:t>课文告诉了我们一件什么事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96720" y="198900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一位加拿大医生在寒冷的夜晚冒着生命危险出诊。沿途的农家用一路的灯光指引，深深打动了寒夜里出诊的医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645"/>
          <p:cNvPicPr/>
          <p:nvPr/>
        </p:nvPicPr>
        <p:blipFill>
          <a:blip r:embed="rId1"/>
          <a:stretch/>
        </p:blipFill>
        <p:spPr>
          <a:xfrm>
            <a:off x="-1036800" y="-90360"/>
            <a:ext cx="11395080" cy="7119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070520" y="148608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99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990000"/>
                </a:solidFill>
                <a:latin typeface="黑体"/>
                <a:ea typeface="黑体"/>
              </a:rPr>
              <a:t>、寒夜是冷的，而寒夜的灯光却让作者“浑身充满温暖和力量”。默读课文，找出描写灯光的句子，体会作者的心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546"/>
          <p:cNvPicPr/>
          <p:nvPr/>
        </p:nvPicPr>
        <p:blipFill>
          <a:blip r:embed="rId1"/>
          <a:stretch/>
        </p:blipFill>
        <p:spPr>
          <a:xfrm>
            <a:off x="-1687680" y="-93600"/>
            <a:ext cx="11247480" cy="7020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468360" y="549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“平时， 一入夜荒野总是漆黑一片，因为那时农家用电是很节约的。今夜却如那位农民说的，沿途农家全都把灯开亮了。一路的灯光指引着我，使我顺利到了那个求医的人家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“车子开了一会儿，我发觉恐惧和忧虑是多余的。沿途农家的灯都依然开着，那通明闪亮的灯光仿佛在朝我致意，人们用他们的灯光送我前行。我的汽车每驶过一家，灯光随后就熄灭，而前面的灯光还在等待着我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7020000" y="6310440"/>
            <a:ext cx="25236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7380360" y="6308640"/>
            <a:ext cx="360360" cy="3603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7885080" y="6308640"/>
            <a:ext cx="358920" cy="360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8388360" y="6381720"/>
            <a:ext cx="216000" cy="2872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20"/>
          <p:cNvPicPr/>
          <p:nvPr/>
        </p:nvPicPr>
        <p:blipFill>
          <a:blip r:embed="rId1"/>
          <a:stretch/>
        </p:blipFill>
        <p:spPr>
          <a:xfrm>
            <a:off x="-1832040" y="-93600"/>
            <a:ext cx="12082680" cy="7549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324000" y="260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“平时，一入夜荒野总是漆黑一片，因为那时农家用灯是很节约的……一路的灯光指引着我，使我顺利到了那个求医的人家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20560" y="2013120"/>
            <a:ext cx="69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①</a:t>
            </a:r>
            <a:r>
              <a:rPr b="0" lang="zh-TW" sz="2800" spc="-1" strike="noStrike">
                <a:solidFill>
                  <a:srgbClr val="800000"/>
                </a:solidFill>
                <a:latin typeface="黑体"/>
                <a:ea typeface="黑体"/>
              </a:rPr>
              <a:t>荒野的夜与平时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9640" y="256536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</a:t>
            </a:r>
            <a:r>
              <a:rPr b="0" lang="zh-CN" sz="2600" spc="-1" strike="noStrike">
                <a:solidFill>
                  <a:srgbClr val="cc3300"/>
                </a:solidFill>
                <a:latin typeface="Times New Roman"/>
                <a:ea typeface="黑体"/>
              </a:rPr>
              <a:t>平时：漆黑一片，此时：一路灯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9640" y="3141720"/>
            <a:ext cx="82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平时节俭的农民为谁亮起了一路灯光？此时，医生的感受又会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84360" y="4221000"/>
            <a:ext cx="260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39640" y="4292640"/>
            <a:ext cx="55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③</a:t>
            </a:r>
            <a:r>
              <a:rPr b="0" lang="zh-TW" sz="2800" spc="-1" strike="noStrike">
                <a:solidFill>
                  <a:srgbClr val="800000"/>
                </a:solidFill>
                <a:latin typeface="黑体"/>
                <a:ea typeface="黑体"/>
              </a:rPr>
              <a:t>从这灯光中，你感受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9640" y="4869000"/>
            <a:ext cx="547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</a:t>
            </a:r>
            <a:r>
              <a:rPr b="0" lang="zh-CN" sz="2600" spc="-1" strike="noStrike">
                <a:solidFill>
                  <a:srgbClr val="cc3300"/>
                </a:solidFill>
                <a:latin typeface="Times New Roman"/>
                <a:ea typeface="黑体"/>
              </a:rPr>
              <a:t>农民们乐于助人的精神令人感动，使人感到无限的温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8172360" y="6093000"/>
            <a:ext cx="432000" cy="36036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351"/>
          <p:cNvPicPr/>
          <p:nvPr/>
        </p:nvPicPr>
        <p:blipFill>
          <a:blip r:embed="rId1"/>
          <a:stretch/>
        </p:blipFill>
        <p:spPr>
          <a:xfrm>
            <a:off x="-28440" y="1197000"/>
            <a:ext cx="9134280" cy="5715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79280" y="333360"/>
            <a:ext cx="849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 2 ) 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车子开了一会儿，我发觉恐惧和忧虑是多余的……但是，我绝不感到孤独，那种感觉就像在黑夜中望见灯塔一样，我浑身充满温暖和力量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310760" y="249228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5019"/>
                </a:solidFill>
                <a:latin typeface="黑体"/>
                <a:ea typeface="黑体"/>
              </a:rPr>
              <a:t>①“</a:t>
            </a:r>
            <a:r>
              <a:rPr b="0" lang="zh-CN" sz="2800" spc="-1" strike="noStrike">
                <a:solidFill>
                  <a:srgbClr val="235019"/>
                </a:solidFill>
                <a:latin typeface="黑体"/>
                <a:ea typeface="黑体"/>
              </a:rPr>
              <a:t>我”的恐惧和忧虑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55640" y="3017880"/>
            <a:ext cx="7850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  “</a:t>
            </a:r>
            <a:r>
              <a:rPr b="1" lang="zh-CN" sz="2600" spc="-1" strike="noStrike">
                <a:solidFill>
                  <a:srgbClr val="006600"/>
                </a:solidFill>
                <a:latin typeface="黑体"/>
                <a:ea typeface="黑体"/>
              </a:rPr>
              <a:t>我壮着胆子……驶离这户人家。”“每年都有人因为夜里遇到麻烦在车里冻僵。那么复杂的乡村夜路，我怎能认得回去的路呢？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52440" y="4363920"/>
            <a:ext cx="796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35019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235019"/>
                </a:solidFill>
                <a:latin typeface="黑体"/>
                <a:ea typeface="黑体"/>
              </a:rPr>
              <a:t>作者为什么说“恐惧和忧虑是多余的”</a:t>
            </a:r>
            <a:r>
              <a:rPr b="0" lang="zh-CN" sz="2800" spc="-1" strike="noStrike">
                <a:solidFill>
                  <a:srgbClr val="235019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7453440" y="5734080"/>
            <a:ext cx="431640" cy="35892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16"/>
          <p:cNvPicPr/>
          <p:nvPr/>
        </p:nvPicPr>
        <p:blipFill>
          <a:blip r:embed="rId1"/>
          <a:stretch/>
        </p:blipFill>
        <p:spPr>
          <a:xfrm>
            <a:off x="-30240" y="0"/>
            <a:ext cx="11168280" cy="6983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③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而前面的灯光还在等待着我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.....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里的省略号省略了什么内容？有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84360" y="1270080"/>
            <a:ext cx="7993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灯光为“我”而亮，每一家的灯光在“我”的汽车驶过后熄灭，而新的灯光还在前方照亮着“我”前进的路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省略号省略了循环往复的过程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9640" y="314172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④</a:t>
            </a:r>
            <a:r>
              <a:rPr b="1" lang="zh-TW" sz="2800" spc="-1" strike="noStrike">
                <a:solidFill>
                  <a:srgbClr val="ffffff"/>
                </a:solidFill>
                <a:latin typeface="黑体"/>
                <a:ea typeface="黑体"/>
              </a:rPr>
              <a:t>此时医生有什么感受？你能用课文中的话说说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12720" y="4292640"/>
            <a:ext cx="61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“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但是，我绝不感到孤独，那种感觉就像在黑夜中望见灯塔一样，我浑身充满温暖和力量。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5724360" y="6308640"/>
            <a:ext cx="505080" cy="43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396720" y="260280"/>
            <a:ext cx="828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12720" y="476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⑤</a:t>
            </a:r>
            <a:r>
              <a:rPr b="0" lang="zh-CN" sz="2800" spc="-1" strike="noStrike">
                <a:solidFill>
                  <a:srgbClr val="003300"/>
                </a:solidFill>
                <a:latin typeface="黑体"/>
                <a:ea typeface="黑体"/>
              </a:rPr>
              <a:t>再次亮起的灯光与文中第一次亮起的灯光有什么不同？你感受到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00000" y="1989000"/>
            <a:ext cx="676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00"/>
                </a:solidFill>
                <a:latin typeface="Times New Roman"/>
                <a:ea typeface="黑体"/>
              </a:rPr>
              <a:t>       </a:t>
            </a:r>
            <a:r>
              <a:rPr b="1" lang="zh-CN" sz="2600" spc="-1" strike="noStrike">
                <a:solidFill>
                  <a:srgbClr val="006600"/>
                </a:solidFill>
                <a:latin typeface="Times New Roman"/>
                <a:ea typeface="黑体"/>
              </a:rPr>
              <a:t>灯光的再次闪烁，为医生指明方向，使我们感受到一种无私的友谊，温暖的关怀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84360" y="364500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让我们带着自己的感受齐读这两段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4861080" y="5950080"/>
            <a:ext cx="431640" cy="36036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6:30Z</dcterms:created>
  <dc:creator/>
  <dc:description/>
  <cp:keywords/>
  <dc:language>en-US</dc:language>
  <cp:lastModifiedBy>Administrator</cp:lastModifiedBy>
  <cp:lastPrinted>1899-12-30T00:00:00Z</cp:lastPrinted>
  <dcterms:modified xsi:type="dcterms:W3CDTF">2015-04-07T14:01:58Z</dcterms:modified>
  <cp:revision>4</cp:revision>
  <dc:subject/>
  <dc:title>7、寒夜的灯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