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8C79-AE1D-4721-B688-93666A353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C1A6-3779-47F5-9F3E-2701D46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29CD-71E6-41C0-A5C5-263667A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A44A-0865-44B2-BE6C-CF2A2ADC9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D645-D5D0-40B5-81D7-8D2DC15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473B-3406-494F-9474-D5CF83BC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3BC6-8BD4-44D7-A6B4-109AAB55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DED3-B2CF-49A6-80D0-FC8EF9C0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011A-D0EB-48DB-BE45-42CC68D3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C2DD-9578-4B32-A942-F2CAF16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68F3-BF16-439C-B0F3-F1AD3CE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8CEF-7788-48F9-89C9-B04BD8ED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7E6-B0D5-40ED-BAB3-5093AC4C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12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3300"/>
                </a:solidFill>
                <a:latin typeface="Arial"/>
                <a:ea typeface="隶书"/>
              </a:rPr>
              <a:t>和时间赛跑</a:t>
            </a:r>
            <a:br>
              <a:rPr sz="7700"/>
            </a:b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小学语文（散文）02-5"/>
          <p:cNvPicPr/>
          <p:nvPr/>
        </p:nvPicPr>
        <p:blipFill>
          <a:blip r:embed="rId1"/>
          <a:stretch/>
        </p:blipFill>
        <p:spPr>
          <a:xfrm>
            <a:off x="1143000" y="108900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971640" y="2276640"/>
            <a:ext cx="7345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◎ 课文中有很多含义深刻的语句，如“光阴似箭，日月如梭”，认真体会，然后抄下来，背一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826920" y="0"/>
            <a:ext cx="7128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光阴似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：时光像箭一样飞快的溜掉，比喻时光易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日月如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：日与月的交替像织布的梭一样快，比喻时光易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20060111175006493"/>
          <p:cNvPicPr/>
          <p:nvPr/>
        </p:nvPicPr>
        <p:blipFill>
          <a:blip r:embed="rId1"/>
          <a:stretch/>
        </p:blipFill>
        <p:spPr>
          <a:xfrm>
            <a:off x="8753400" y="66628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26920" y="141120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以后的日子里，“我”有没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白爸爸说的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读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547560"/>
            <a:ext cx="9144000" cy="57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洗手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日子从水盆里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吃饭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日子从饭碗里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默默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便从凝然的双眼前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觉察他去的匆匆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伸出手遮挽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他又从遮挽着的手边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黑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躺在床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他便伶伶俐俐地从我身边垮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我脚边飞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3320" y="-1315800"/>
            <a:ext cx="667800" cy="9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有时间里的事物，都永远不会回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684360" y="90792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712960" y="15238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、流利地朗读课文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2205000"/>
            <a:ext cx="7967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☆ 课文写了“我”和时间赛跑的哪几件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00000" y="3429000"/>
            <a:ext cx="7086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☆ 找出课文中所有表示时间的词句，并说说课文中的哪个句子最能表达“我”和时间赛跑的体会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20060111175006493"/>
          <p:cNvPicPr/>
          <p:nvPr/>
        </p:nvPicPr>
        <p:blipFill>
          <a:blip r:embed="rId1"/>
          <a:stretch/>
        </p:blipFill>
        <p:spPr>
          <a:xfrm>
            <a:off x="8753400" y="66628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68360" y="2582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的二十年里，我因此受益无穷。虽然我知道人永远跑不过时间，但是可以比原来快跑一步。如果加把劲，有时可以快好几步。那几步虽然很小很小，用途却很大很大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69600" y="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跑赢了时间，有什么深刻的体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0920" y="189000"/>
            <a:ext cx="83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虽然明天还会有新的太阳，但永远不会有今天的太阳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20060111175006493"/>
          <p:cNvPicPr/>
          <p:nvPr/>
        </p:nvPicPr>
        <p:blipFill>
          <a:blip r:embed="rId1"/>
          <a:stretch/>
        </p:blipFill>
        <p:spPr>
          <a:xfrm>
            <a:off x="8532720" y="66628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0" y="29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思是：时间虽然永远存在，但是过去的时间永远也会不来了。虽然明天的太阳还会照常升起，但这个太阳却是新的一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11"/>
          <p:cNvPicPr/>
          <p:nvPr/>
        </p:nvPicPr>
        <p:blipFill>
          <a:blip r:embed="rId1"/>
          <a:stretch/>
        </p:blipFill>
        <p:spPr>
          <a:xfrm>
            <a:off x="2166840" y="0"/>
            <a:ext cx="480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11600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段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—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：写外祖母去世使我认识到时间和时间里的事物，都永远不会回来，让人可怕可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段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：“我”感受到时间的流逝，常做和时间比赛的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段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—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：写抓紧时间和时间赛跑，使“我”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我们明白了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明白了一个道理：凡事只要坚持不懈，一定能成功！我们要珍惜时间，和时间赛跑才会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843280" y="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读 读 写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赛           疼爱           忧愁            安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穿梭           虽然           狂  奔            赢  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暑假           利益           贫穷            即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隐若现             悲哀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12720" y="981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2484720" y="909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4692240" y="981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7669440" y="98100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0240" y="2421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2607840" y="234936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645080" y="22780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u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7238160" y="227808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156960" y="3573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3133800" y="35733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5222520" y="3573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i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7658280" y="357336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181080" y="501336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4345920" y="4941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0" y="836640"/>
            <a:ext cx="914400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重开日，人无再少年。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关汉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间，每天得到的都是二十四小时，可是一天的时间给勤勉的人带来智慧的力量，给懒散的人只能留下一生的悔恨。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鲁   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阴似箭催人老，日月如梭赶少年。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许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闲，白了少年头，空悲切。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岳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1116000" y="189000"/>
            <a:ext cx="8458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日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日复今日，       今日何其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日又不为，       此事何时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人生百年几今日，今日不为真可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若言姑待明朝至，明朝又有明朝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为君聊赋今日诗，努力请从今日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1116000" y="189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明日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明日复明日，       明日何其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我生待明日，       万事皆蹉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世人若被明日累，春去秋来老将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朝看水东流，       暮看日西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百年明日能几何？请君听我明日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0"/>
            <a:ext cx="93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虽然我知道人永远跑不过时间，但是可以比原来跑快一步，如果加把劲，有时可以快好几步。那几步虽然很小很小，用作却很大很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060111175006493"/>
          <p:cNvPicPr/>
          <p:nvPr/>
        </p:nvPicPr>
        <p:blipFill>
          <a:blip r:embed="rId1"/>
          <a:stretch/>
        </p:blipFill>
        <p:spPr>
          <a:xfrm>
            <a:off x="8753400" y="6467400"/>
            <a:ext cx="390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95280" y="33336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假若你一直和时间赛跑，你就可以成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0060111175006493"/>
          <p:cNvPicPr/>
          <p:nvPr/>
        </p:nvPicPr>
        <p:blipFill>
          <a:blip r:embed="rId1"/>
          <a:stretch/>
        </p:blipFill>
        <p:spPr>
          <a:xfrm>
            <a:off x="8753400" y="6662880"/>
            <a:ext cx="39060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84360" y="620640"/>
            <a:ext cx="77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　　太阳他有脚啊，轻轻悄悄地挪移了；我也茫茫然跟着旋转。于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洗手的时候，日子从水盆里过去；吃饭的时候，日子从饭碗里过去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95280" y="333360"/>
            <a:ext cx="87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4720" y="1268280"/>
            <a:ext cx="73785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默默时，便从凝然的双眼前过去。我觉察他去的匆匆了，伸出手遮挽时，他又从遮挽着的手边过去，天黑时，我躺在床上，他便伶伶俐俐地从我身上跨过，从我脚边飞去了。等我睁开眼和太阳再见，这算又溜走了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20060111175006493"/>
          <p:cNvPicPr/>
          <p:nvPr/>
        </p:nvPicPr>
        <p:blipFill>
          <a:blip r:embed="rId1"/>
          <a:stretch/>
        </p:blipFill>
        <p:spPr>
          <a:xfrm>
            <a:off x="8753400" y="6662880"/>
            <a:ext cx="39060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9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931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少壮不努力，老大徒伤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花有重开日，人无再少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9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640" y="475920"/>
            <a:ext cx="691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日之计在于晨，一年之计在于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黑发不知勤学早，白首方悔读书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所有时间里的事物，都不会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295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这个谜比“一寸光阴一寸金，寸金难买寸光阴”还让我感到可怕，比“光阴似箭，日月如梭”更让我有一种说不出的滋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虽然明天还会有新的太阳，但永远不会有今天的太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、假若你一直都和时间赛跑，你就可以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282924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8880" y="69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86120" y="147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忧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101600" y="1413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36736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忧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86120" y="247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101600" y="2421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36736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劝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86120" y="355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101600" y="3500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367360" y="3571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186120" y="471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假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1101600" y="4653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3673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假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320880" y="5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5818680" y="14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6734160" y="1341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799992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818680" y="240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6734160" y="2349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99992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5703840" y="348768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持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6804000" y="34290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885080" y="350028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间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569628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673416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799992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暂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5766120" y="551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疼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6681960" y="5457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7947360" y="5529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嫌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86120" y="564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1101600" y="5589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2367360" y="566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练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写出下列词语的近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忧伤（   ） 哀痛（   ） 持续（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欺骗（   ） 狂奔（   ） 假若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将下列词语和相应的解释划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忧伤               悲伤、悲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哀痛               使心情安适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慰               忧愁伤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狂奔               比喻时间流逝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阴似箭日月如梭   迅速地奔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用给出的词语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虽然明天还会有新的太阳，但永远不会有今天的太阳了。（虽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他们知道与其欺骗我说外祖母睡着了，还不如对我说实话：外祖母永远不会回来了。（与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26920" y="134136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因外祖母去世而悲伤不已，后来听了爸爸的一席话，看到太阳落山、鸟儿飞行等自然现象，明白了为什么要珍惜时间；并在和时间赛跑的经历中，体会到了应该怎样珍惜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了这篇课文，想想课文讲了哪些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32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07e7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207e7"/>
                </a:solidFill>
                <a:latin typeface="楷体_GB2312"/>
                <a:ea typeface="楷体_GB2312"/>
              </a:rPr>
              <a:t>、作者通过和时间赛跑明白了什么道理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假若你一直和时间赛跑，你就（    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71640" y="5157720"/>
            <a:ext cx="312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可以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215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默读课文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-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），思考是什么原因使“我”要和时间赛跑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时，“我”的心情是怎样的？画出重点词句，写下自己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clock"/>
          <p:cNvPicPr/>
          <p:nvPr/>
        </p:nvPicPr>
        <p:blipFill>
          <a:blip r:embed="rId1"/>
          <a:stretch/>
        </p:blipFill>
        <p:spPr>
          <a:xfrm>
            <a:off x="324000" y="333360"/>
            <a:ext cx="2158920" cy="2089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14600" y="91440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我因为外祖母的去世而感到无比（     ），听了爸爸的话，我有一种说不出的（    ）。看到时间过得那么快，我心里多么（     ），于是我下定决心和时间赛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24360" y="1484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悲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27640" y="2781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滋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51280" y="400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着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时间里的事物，都永远不会回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207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7e7"/>
                </a:solidFill>
                <a:latin typeface="Arial"/>
                <a:ea typeface="楷体_GB2312"/>
              </a:rPr>
              <a:t>你的昨天过去了，它就永远变成昨天，你再也不能回到昨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1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1403"/>
                </a:solidFill>
                <a:latin typeface="Arial"/>
                <a:ea typeface="楷体_GB2312"/>
              </a:rPr>
              <a:t>爸爸以前和你一样小，现在再也不能回到你这么小的童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509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09cb"/>
                </a:solidFill>
                <a:latin typeface="Arial"/>
                <a:ea typeface="楷体_GB2312"/>
              </a:rPr>
              <a:t>有一天你会长大，你也会像外祖母一样老，有一天你度过了你的所有时间，也会像外祖母一样永远不能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509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564000" y="5661000"/>
            <a:ext cx="40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去不复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57080" y="211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爸爸等于给我说了一个谜。这个谜比“                  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         ”，还让我感到可怕，比“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”更让我有一种说不出的滋味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68360" y="105264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寸光阴一寸金，寸金难买寸光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光阴似箭，日月如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0" y="0"/>
            <a:ext cx="932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寸光阴一寸金，寸金难买寸光阴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思是告诫人们要珍惜时间。有人觉得这种说法有点奇怪，光阴怎么能用尺寸来计算呢？其实，古人的确是用尺寸来计算时间的。他们在阳光下竖起一根竹竿，竹竿便有了影子。随着太阳的移动，竹竿的影子也在一分一寸一尺地移动。古人就用这种方法来测量时间的长短，所以就有分阴、寸阴的说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8:08:24Z</dcterms:created>
  <dc:creator>Administrator</dc:creator>
  <dc:description/>
  <dc:language>en-US</dc:language>
  <cp:lastModifiedBy/>
  <dcterms:modified xsi:type="dcterms:W3CDTF">2015-08-11T03:59:59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