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229-737A-4FFB-B6A9-9B2DD3F0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67BD-2FEB-4B66-ADE5-AE117A31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9DDC-101E-4958-9B27-A2B637B9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7DB7-2719-420F-9D9F-04A38D6C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9C2B-F5C5-4DD3-B245-A573D6E7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4285-EDA7-40DF-B4E9-BF76980E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05A7-03F3-49A9-92A4-935DC2C5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8E11-B873-4A6D-A333-D84027A1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2A88-0FDC-4CDA-A47B-FC0F6B12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EE08-595B-4265-BB68-F9408D9E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AFBA-FA02-4A3B-B3B4-6090A543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F5F2-629A-4089-AF3E-03E2217A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A9B3-0C76-4C64-9603-72D276A7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C994-1B9B-4679-89B6-74F88691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8233-D85C-47A5-BC2C-B887F320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DCC7-1492-4FED-B5C1-03F64CAE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35FC-4830-4F8D-AFD6-FE2E021A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8E6-0424-4189-9AFA-81300438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898F-FEE5-4601-BCE5-35A50B4B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2B7F-D339-4CA7-9B13-914ACA6D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5BF-76FE-41F2-910B-3D623A81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7B1-C0B4-486E-BA39-16341181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A414-1E34-4801-99B6-200F3B0F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BDED-8412-47F3-A7F9-21156AB5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2781-0E51-4893-B88F-9F246C9E7FB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DBF5-E7F3-49F8-A38A-6FBEE39BE80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77120" cy="4114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4114800"/>
            <a:ext cx="6477120" cy="2743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50600" y="0"/>
            <a:ext cx="2782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米芾学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ahoma"/>
              </a:rPr>
              <a:t>                       </a:t>
            </a:r>
            <a:r>
              <a:rPr b="1" lang="zh-CN" sz="3600" spc="-1" strike="noStrike">
                <a:solidFill>
                  <a:srgbClr val="cc00ff"/>
                </a:solidFill>
                <a:latin typeface="Tahoma"/>
              </a:rPr>
              <a:t>授课教师：许艳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19320" y="762120"/>
            <a:ext cx="914400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Arial"/>
              </a:rPr>
              <a:t>初读课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8195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ahoma"/>
              </a:rPr>
              <a:t>自由读文，说一说课文主要讲了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13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）私塾先生是怎样教米芾学写字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685800"/>
            <a:ext cx="350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Tahoma"/>
              </a:rPr>
              <a:t>我会思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0481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）秀才又是怎样教米芾学写字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800600"/>
            <a:ext cx="8153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609588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4876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）秀才的办法巧妙在哪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9625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）米芾得到秀才的纸后是怎样做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58672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）你觉得米芾是一个怎样的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213372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学写字不只是动笔，还要动心，不但要观其形，而且要悟其神，心领神会，才能写好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68580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Tahoma"/>
              </a:rPr>
              <a:t>朗读体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3880" y="114300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762120"/>
            <a:ext cx="533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Tahoma"/>
              </a:rPr>
              <a:t>我还有问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8195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）秀才为什么不直接告诉米芾学书法的窍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4956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）米芾成了著名的画家和书法家，他为什么还一直把五两纹银放在案头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289548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你的字写得漂亮吗？请你也用秀才说的窍门练练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68580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Tahoma"/>
              </a:rPr>
              <a:t>作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4-04T03:03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