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WordArt 3" descr=""/>
          <p:cNvPicPr/>
          <p:nvPr/>
        </p:nvPicPr>
        <p:blipFill>
          <a:blip r:embed="rId1"/>
          <a:stretch/>
        </p:blipFill>
        <p:spPr>
          <a:xfrm>
            <a:off x="1517760" y="1547640"/>
            <a:ext cx="5999040" cy="263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258920" y="1989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快速阅读课文，用自己的话说说课文主要讲了一个什么故事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90720" y="106668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19280" y="155736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看看课文一共分为几部分，请给每一部分加上小标题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chatu2"/>
          <p:cNvPicPr/>
          <p:nvPr/>
        </p:nvPicPr>
        <p:blipFill>
          <a:blip r:embed="rId1"/>
          <a:stretch/>
        </p:blipFill>
        <p:spPr>
          <a:xfrm>
            <a:off x="798480" y="723960"/>
            <a:ext cx="8040600" cy="5662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238880" y="990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游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238880" y="1720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读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238880" y="2482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掩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238880" y="3244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斗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238880" y="4006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潜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7238880" y="4768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脱险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yl"/>
          <p:cNvPicPr/>
          <p:nvPr/>
        </p:nvPicPr>
        <p:blipFill>
          <a:blip r:embed="rId1"/>
          <a:stretch/>
        </p:blipFill>
        <p:spPr>
          <a:xfrm>
            <a:off x="968400" y="755640"/>
            <a:ext cx="4268880" cy="5396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5076720" y="12682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游泳技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148360" y="199872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读书明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05440" y="2770200"/>
            <a:ext cx="30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掩护大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005440" y="3522600"/>
            <a:ext cx="30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勇斗日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005440" y="4284720"/>
            <a:ext cx="30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跳水潜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148360" y="504684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脱险得胜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hatu1"/>
          <p:cNvPicPr/>
          <p:nvPr/>
        </p:nvPicPr>
        <p:blipFill>
          <a:blip r:embed="rId1"/>
          <a:stretch/>
        </p:blipFill>
        <p:spPr>
          <a:xfrm>
            <a:off x="865080" y="704880"/>
            <a:ext cx="5870520" cy="53989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1"/>
          <p:cNvSpPr txBox="1"/>
          <p:nvPr/>
        </p:nvSpPr>
        <p:spPr>
          <a:xfrm>
            <a:off x="7277040" y="1154160"/>
            <a:ext cx="12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雨来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WordArt 12"/>
          <p:cNvSpPr txBox="1"/>
          <p:nvPr/>
        </p:nvSpPr>
        <p:spPr>
          <a:xfrm>
            <a:off x="7191360" y="4610160"/>
            <a:ext cx="12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英雄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WordArt 13"/>
          <p:cNvSpPr txBox="1"/>
          <p:nvPr/>
        </p:nvSpPr>
        <p:spPr>
          <a:xfrm>
            <a:off x="7521480" y="2752560"/>
            <a:ext cx="100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宋体"/>
              </a:rPr>
              <a:t>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87280" y="1847880"/>
            <a:ext cx="676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是中国人，我们爱自己的祖国”这句话在课文中一共出现几次，分别是在什么情况下出现的，作者为什么要多次强调这句话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507960" y="784080"/>
            <a:ext cx="285912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360360" y="1484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根据小标题的提示，回顾课文内容，在小组内开展讲故事比赛，做好组内打分，并参加班级抽签讲故事比赛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95280" y="357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条件的同学可以阅读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英雄雨来的故事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书，写写读后随笔，在小组中交流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2803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66720" y="2938320"/>
            <a:ext cx="784872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芦花开的时候，远远望去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（黄绿的）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苇上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（好像）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盖了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（一层厚厚的）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白雪。风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吹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（鹅毛般的）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苇絮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（就飘飘悠悠地）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飞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（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来），（把这几十家）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小房屋都罩在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（柔软的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ahoma"/>
                <a:ea typeface="楷体_GB2312"/>
              </a:rPr>
              <a:t>芦花里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826920" y="549360"/>
            <a:ext cx="7417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（一）默读第一段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雨来住的那个村子为什么叫芦花村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读读芦花村的景色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雨来的游泳本领怎样？从哪里看出来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9880" y="2189160"/>
            <a:ext cx="8190000" cy="41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默读第二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来上夜校的原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夜校受到怎么样的教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雨来产生什么影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我们来读读以下的句子</a:t>
            </a:r>
            <a:r>
              <a:rPr b="1" lang="en-US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感受一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720" y="1566720"/>
            <a:ext cx="8290080" cy="22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我们是中国人，我们爱自己的祖国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我们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是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中国人，我们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爱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自己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Calibri"/>
              </a:rPr>
              <a:t>祖国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小英雄雨来 插图 01"/>
          <p:cNvPicPr/>
          <p:nvPr/>
        </p:nvPicPr>
        <p:blipFill>
          <a:blip r:embed="rId1"/>
          <a:stretch/>
        </p:blipFill>
        <p:spPr>
          <a:xfrm>
            <a:off x="654120" y="641520"/>
            <a:ext cx="7705800" cy="5790960"/>
          </a:xfrm>
          <a:prstGeom prst="rect">
            <a:avLst/>
          </a:prstGeom>
          <a:ln w="0">
            <a:noFill/>
          </a:ln>
        </p:spPr>
      </p:pic>
      <p:sp>
        <p:nvSpPr>
          <p:cNvPr id="38" name="Oval 4"/>
          <p:cNvSpPr/>
          <p:nvPr/>
        </p:nvSpPr>
        <p:spPr>
          <a:xfrm>
            <a:off x="378000" y="831960"/>
            <a:ext cx="296208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5008320"/>
            <a:ext cx="7772400" cy="771480"/>
          </a:xfrm>
          <a:prstGeom prst="rect">
            <a:avLst/>
          </a:prstGeom>
          <a:solidFill>
            <a:srgbClr val="eeece1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彩云"/>
                <a:ea typeface="华文彩云"/>
              </a:rPr>
              <a:t>哄骗   利诱   威胁   毒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（三）默读第三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这一段中又讲了什么事？雨来做了什么？结果怎么样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（四）默读第四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鬼子对雨来使用了哪些卑劣手段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3804840"/>
            <a:ext cx="8637480" cy="25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露出满口金牙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鬼脸    糖    金戒指    抽出刀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劈    扭    拉    打    揪    拧    撞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4680" y="1620720"/>
            <a:ext cx="82645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课文中哪些词句把鬼子哄骗、利诱、威胁、毒打雨来的丑态形象地勾画出来了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507960" y="725400"/>
            <a:ext cx="26290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u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637920"/>
            <a:ext cx="828036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Calibri"/>
              </a:rPr>
              <a:t>哪些词语体现雨来在鬼子面前表现得坚强不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575160"/>
            <a:ext cx="77184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雨来为什么能在鬼子面前表现得这样勇敢坚强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07800" y="517356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们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国人，我们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己的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祖国。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WordArt 6" descr=""/>
          <p:cNvPicPr/>
          <p:nvPr/>
        </p:nvPicPr>
        <p:blipFill>
          <a:blip r:embed="rId1"/>
          <a:stretch/>
        </p:blipFill>
        <p:spPr>
          <a:xfrm>
            <a:off x="603360" y="1968480"/>
            <a:ext cx="7370640" cy="1414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0,8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0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0,8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0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Organization Chart 29"/>
          <p:cNvGrpSpPr/>
          <p:nvPr/>
        </p:nvGrpSpPr>
        <p:grpSpPr>
          <a:xfrm>
            <a:off x="392040" y="1200240"/>
            <a:ext cx="8389440" cy="4156560"/>
            <a:chOff x="392040" y="1200240"/>
            <a:chExt cx="8389440" cy="4156560"/>
          </a:xfrm>
        </p:grpSpPr>
        <p:cxnSp>
          <p:nvCxnSpPr>
            <p:cNvPr id="126" name="_s1028"/>
            <p:cNvCxnSpPr>
              <a:stCxn id="127" idx="0"/>
              <a:endCxn id="128" idx="2"/>
            </p:cNvCxnSpPr>
            <p:nvPr/>
          </p:nvCxnSpPr>
          <p:spPr>
            <a:xfrm flipV="1">
              <a:off x="7522920" y="3797640"/>
              <a:ext cx="3960" cy="52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29"/>
            <p:cNvCxnSpPr>
              <a:stCxn id="130" idx="0"/>
              <a:endCxn id="131" idx="2"/>
            </p:cNvCxnSpPr>
            <p:nvPr/>
          </p:nvCxnSpPr>
          <p:spPr>
            <a:xfrm flipV="1">
              <a:off x="4586400" y="3797640"/>
              <a:ext cx="3960" cy="52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30"/>
            <p:cNvCxnSpPr>
              <a:stCxn id="133" idx="0"/>
              <a:endCxn id="134" idx="2"/>
            </p:cNvCxnSpPr>
            <p:nvPr/>
          </p:nvCxnSpPr>
          <p:spPr>
            <a:xfrm flipV="1">
              <a:off x="1649880" y="3797640"/>
              <a:ext cx="3960" cy="52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031"/>
            <p:cNvCxnSpPr>
              <a:stCxn id="128" idx="0"/>
              <a:endCxn id="136" idx="2"/>
            </p:cNvCxnSpPr>
            <p:nvPr/>
          </p:nvCxnSpPr>
          <p:spPr>
            <a:xfrm flipV="1" rot="16200000">
              <a:off x="5794560" y="1029960"/>
              <a:ext cx="520200" cy="2936880"/>
            </a:xfrm>
            <a:prstGeom prst="bentConnector3">
              <a:avLst>
                <a:gd name="adj1" fmla="val 22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032"/>
            <p:cNvCxnSpPr>
              <a:stCxn id="131" idx="0"/>
              <a:endCxn id="136" idx="2"/>
            </p:cNvCxnSpPr>
            <p:nvPr/>
          </p:nvCxnSpPr>
          <p:spPr>
            <a:xfrm flipV="1">
              <a:off x="4586400" y="2238480"/>
              <a:ext cx="3960" cy="52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33"/>
            <p:cNvCxnSpPr>
              <a:stCxn id="134" idx="0"/>
              <a:endCxn id="136" idx="2"/>
            </p:cNvCxnSpPr>
            <p:nvPr/>
          </p:nvCxnSpPr>
          <p:spPr>
            <a:xfrm flipH="1" flipV="1" rot="5400000">
              <a:off x="2858400" y="1030320"/>
              <a:ext cx="520200" cy="2936880"/>
            </a:xfrm>
            <a:prstGeom prst="bentConnector3">
              <a:avLst>
                <a:gd name="adj1" fmla="val 22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1034"/>
            <p:cNvSpPr/>
            <p:nvPr/>
          </p:nvSpPr>
          <p:spPr>
            <a:xfrm>
              <a:off x="3328200" y="1200240"/>
              <a:ext cx="2516760" cy="1038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3300"/>
                  </a:solidFill>
                  <a:latin typeface="Tahoma"/>
                  <a:ea typeface="隶书"/>
                </a:rPr>
                <a:t>小英雄雨来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_s1035"/>
            <p:cNvSpPr/>
            <p:nvPr/>
          </p:nvSpPr>
          <p:spPr>
            <a:xfrm>
              <a:off x="392040" y="2759040"/>
              <a:ext cx="2516760" cy="1038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ahoma"/>
                  <a:ea typeface="宋体"/>
                </a:rPr>
                <a:t>一、望着妈妈笑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_s1036"/>
            <p:cNvSpPr/>
            <p:nvPr/>
          </p:nvSpPr>
          <p:spPr>
            <a:xfrm>
              <a:off x="3328200" y="2759040"/>
              <a:ext cx="2516760" cy="1038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ahoma"/>
                  <a:ea typeface="宋体"/>
                </a:rPr>
                <a:t>二、我们爱自己的祖国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_s1037"/>
            <p:cNvSpPr/>
            <p:nvPr/>
          </p:nvSpPr>
          <p:spPr>
            <a:xfrm>
              <a:off x="6264720" y="2759040"/>
              <a:ext cx="2516760" cy="1038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ahoma"/>
                  <a:ea typeface="宋体"/>
                </a:rPr>
                <a:t>三、把缸挪回到原处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392040" y="4317840"/>
              <a:ext cx="2516760" cy="1038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ff3300"/>
                  </a:solidFill>
                  <a:latin typeface="Tahoma"/>
                  <a:ea typeface="宋体"/>
                </a:rPr>
                <a:t>四、什么也没看见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_s1039"/>
            <p:cNvSpPr/>
            <p:nvPr/>
          </p:nvSpPr>
          <p:spPr>
            <a:xfrm>
              <a:off x="3328200" y="4317840"/>
              <a:ext cx="2516760" cy="1038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ff3300"/>
                  </a:solidFill>
                  <a:latin typeface="Tahoma"/>
                  <a:ea typeface="宋体"/>
                </a:rPr>
                <a:t>五、有志不在年高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_s1040"/>
            <p:cNvSpPr/>
            <p:nvPr/>
          </p:nvSpPr>
          <p:spPr>
            <a:xfrm>
              <a:off x="6264720" y="4317840"/>
              <a:ext cx="2516760" cy="10389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ff3300"/>
                  </a:solidFill>
                  <a:latin typeface="Tahoma"/>
                  <a:ea typeface="宋体"/>
                </a:rPr>
                <a:t>六、雨来没有死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图片1"/>
          <p:cNvPicPr/>
          <p:nvPr/>
        </p:nvPicPr>
        <p:blipFill>
          <a:blip r:embed="rId1"/>
          <a:stretch/>
        </p:blipFill>
        <p:spPr>
          <a:xfrm>
            <a:off x="1249200" y="696960"/>
            <a:ext cx="6834240" cy="5199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图片2"/>
          <p:cNvPicPr/>
          <p:nvPr/>
        </p:nvPicPr>
        <p:blipFill>
          <a:blip r:embed="rId1"/>
          <a:stretch/>
        </p:blipFill>
        <p:spPr>
          <a:xfrm>
            <a:off x="1000080" y="755640"/>
            <a:ext cx="7104240" cy="5322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图片7"/>
          <p:cNvPicPr/>
          <p:nvPr/>
        </p:nvPicPr>
        <p:blipFill>
          <a:blip r:embed="rId1"/>
          <a:stretch/>
        </p:blipFill>
        <p:spPr>
          <a:xfrm>
            <a:off x="861840" y="681120"/>
            <a:ext cx="3673800" cy="2612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图片7"/>
          <p:cNvPicPr/>
          <p:nvPr/>
        </p:nvPicPr>
        <p:blipFill>
          <a:blip r:embed="rId2"/>
          <a:stretch/>
        </p:blipFill>
        <p:spPr>
          <a:xfrm>
            <a:off x="4782960" y="654120"/>
            <a:ext cx="3230640" cy="262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图片7"/>
          <p:cNvPicPr/>
          <p:nvPr/>
        </p:nvPicPr>
        <p:blipFill>
          <a:blip r:embed="rId3"/>
          <a:stretch/>
        </p:blipFill>
        <p:spPr>
          <a:xfrm>
            <a:off x="863640" y="3352680"/>
            <a:ext cx="3657600" cy="2616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图片74"/>
          <p:cNvPicPr/>
          <p:nvPr/>
        </p:nvPicPr>
        <p:blipFill>
          <a:blip r:embed="rId4"/>
          <a:stretch/>
        </p:blipFill>
        <p:spPr>
          <a:xfrm>
            <a:off x="4797360" y="3324240"/>
            <a:ext cx="3287880" cy="2658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2" descr="图片8"/>
          <p:cNvPicPr/>
          <p:nvPr/>
        </p:nvPicPr>
        <p:blipFill>
          <a:blip r:embed="rId1"/>
          <a:stretch/>
        </p:blipFill>
        <p:spPr>
          <a:xfrm>
            <a:off x="1001880" y="3470400"/>
            <a:ext cx="3301920" cy="255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图片8"/>
          <p:cNvPicPr/>
          <p:nvPr/>
        </p:nvPicPr>
        <p:blipFill>
          <a:blip r:embed="rId2"/>
          <a:stretch/>
        </p:blipFill>
        <p:spPr>
          <a:xfrm>
            <a:off x="4552920" y="3471840"/>
            <a:ext cx="3529080" cy="255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图片8"/>
          <p:cNvPicPr/>
          <p:nvPr/>
        </p:nvPicPr>
        <p:blipFill>
          <a:blip r:embed="rId3"/>
          <a:stretch/>
        </p:blipFill>
        <p:spPr>
          <a:xfrm>
            <a:off x="973080" y="641520"/>
            <a:ext cx="3289320" cy="2759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1" descr="图片8"/>
          <p:cNvPicPr/>
          <p:nvPr/>
        </p:nvPicPr>
        <p:blipFill>
          <a:blip r:embed="rId4"/>
          <a:stretch/>
        </p:blipFill>
        <p:spPr>
          <a:xfrm>
            <a:off x="4538520" y="673200"/>
            <a:ext cx="3614760" cy="2698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4" descr="图片9"/>
          <p:cNvPicPr/>
          <p:nvPr/>
        </p:nvPicPr>
        <p:blipFill>
          <a:blip r:embed="rId1"/>
          <a:stretch/>
        </p:blipFill>
        <p:spPr>
          <a:xfrm>
            <a:off x="577800" y="630360"/>
            <a:ext cx="3675240" cy="541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图片9"/>
          <p:cNvPicPr/>
          <p:nvPr/>
        </p:nvPicPr>
        <p:blipFill>
          <a:blip r:embed="rId2"/>
          <a:stretch/>
        </p:blipFill>
        <p:spPr>
          <a:xfrm>
            <a:off x="4368960" y="614520"/>
            <a:ext cx="3892320" cy="5402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6" descr="图片10"/>
          <p:cNvPicPr/>
          <p:nvPr/>
        </p:nvPicPr>
        <p:blipFill>
          <a:blip r:embed="rId1"/>
          <a:stretch/>
        </p:blipFill>
        <p:spPr>
          <a:xfrm>
            <a:off x="816120" y="743040"/>
            <a:ext cx="3252600" cy="2597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图片10"/>
          <p:cNvPicPr/>
          <p:nvPr/>
        </p:nvPicPr>
        <p:blipFill>
          <a:blip r:embed="rId2"/>
          <a:stretch/>
        </p:blipFill>
        <p:spPr>
          <a:xfrm>
            <a:off x="4314960" y="758880"/>
            <a:ext cx="3508200" cy="2566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图片10"/>
          <p:cNvPicPr/>
          <p:nvPr/>
        </p:nvPicPr>
        <p:blipFill>
          <a:blip r:embed="rId3"/>
          <a:stretch/>
        </p:blipFill>
        <p:spPr>
          <a:xfrm>
            <a:off x="831960" y="3481560"/>
            <a:ext cx="3209760" cy="259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9" descr="图片10"/>
          <p:cNvPicPr/>
          <p:nvPr/>
        </p:nvPicPr>
        <p:blipFill>
          <a:blip r:embed="rId4"/>
          <a:stretch/>
        </p:blipFill>
        <p:spPr>
          <a:xfrm>
            <a:off x="4309920" y="3457440"/>
            <a:ext cx="3497400" cy="2575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yingxiio28"/>
          <p:cNvPicPr/>
          <p:nvPr/>
        </p:nvPicPr>
        <p:blipFill>
          <a:blip r:embed="rId1"/>
          <a:stretch/>
        </p:blipFill>
        <p:spPr>
          <a:xfrm>
            <a:off x="990720" y="1020600"/>
            <a:ext cx="3300120" cy="23385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yingxiio29"/>
          <p:cNvPicPr/>
          <p:nvPr/>
        </p:nvPicPr>
        <p:blipFill>
          <a:blip r:embed="rId2"/>
          <a:stretch/>
        </p:blipFill>
        <p:spPr>
          <a:xfrm>
            <a:off x="5043600" y="1019160"/>
            <a:ext cx="3352680" cy="2362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0" descr="yingxiongyulai1"/>
          <p:cNvPicPr/>
          <p:nvPr/>
        </p:nvPicPr>
        <p:blipFill>
          <a:blip r:embed="rId3"/>
          <a:stretch/>
        </p:blipFill>
        <p:spPr>
          <a:xfrm>
            <a:off x="1000080" y="3579840"/>
            <a:ext cx="3276720" cy="2668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yingxiongyulai2"/>
          <p:cNvPicPr/>
          <p:nvPr/>
        </p:nvPicPr>
        <p:blipFill>
          <a:blip r:embed="rId4"/>
          <a:stretch/>
        </p:blipFill>
        <p:spPr>
          <a:xfrm>
            <a:off x="5052960" y="3581280"/>
            <a:ext cx="3352680" cy="266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"/>
          <p:cNvSpPr/>
          <p:nvPr/>
        </p:nvSpPr>
        <p:spPr>
          <a:xfrm>
            <a:off x="507960" y="826920"/>
            <a:ext cx="286236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49200" y="2570400"/>
            <a:ext cx="837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在课文中，我们认识了小英雄雨来，被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的爱国精神和坚强意志所感动，所以我们要记住这位小英雄。课后请大家从以下的作业中任选两项完成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）阅读“资料袋”，了解战争给人民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特别是儿童带来的伤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）阅读管桦的中篇小说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小英雄雨来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04920" y="1752480"/>
            <a:ext cx="883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73080" y="2205000"/>
            <a:ext cx="7410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把小英雄雨来的故事讲给你的朋友听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小英雄雨来 插图 02"/>
          <p:cNvPicPr/>
          <p:nvPr/>
        </p:nvPicPr>
        <p:blipFill>
          <a:blip r:embed="rId1"/>
          <a:stretch/>
        </p:blipFill>
        <p:spPr>
          <a:xfrm>
            <a:off x="463680" y="684360"/>
            <a:ext cx="81723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228600" y="82224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我们是中国人，我们爱自己的祖国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28600" y="18892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雨来没理他，脚下像踩着风，一直朝后院跑去。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356544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滴一滴的血滴下来，溅在课本那几行字上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8600" y="516564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有志不在年高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95280" y="2884320"/>
            <a:ext cx="9217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看到课题后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想知道什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由朗读读课文，说说课文讲了雨来的哪几件事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什么称雨来是小英雄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7" descr="阅读思考"/>
          <p:cNvPicPr/>
          <p:nvPr/>
        </p:nvPicPr>
        <p:blipFill>
          <a:blip r:embed="rId1"/>
          <a:stretch/>
        </p:blipFill>
        <p:spPr>
          <a:xfrm>
            <a:off x="5316480" y="987480"/>
            <a:ext cx="2463840" cy="176040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507960" y="812880"/>
            <a:ext cx="281628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"/>
          <p:cNvGrpSpPr/>
          <p:nvPr/>
        </p:nvGrpSpPr>
        <p:grpSpPr>
          <a:xfrm>
            <a:off x="2449440" y="776160"/>
            <a:ext cx="2057400" cy="2606760"/>
            <a:chOff x="2449440" y="776160"/>
            <a:chExt cx="2057400" cy="2606760"/>
          </a:xfrm>
        </p:grpSpPr>
        <p:pic>
          <p:nvPicPr>
            <p:cNvPr id="52" name="Picture 4" descr="tzg"/>
            <p:cNvPicPr/>
            <p:nvPr/>
          </p:nvPicPr>
          <p:blipFill>
            <a:blip r:embed="rId1"/>
            <a:stretch/>
          </p:blipFill>
          <p:spPr>
            <a:xfrm>
              <a:off x="2449440" y="9626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2528280" y="7761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Group 3"/>
          <p:cNvGrpSpPr/>
          <p:nvPr/>
        </p:nvGrpSpPr>
        <p:grpSpPr>
          <a:xfrm>
            <a:off x="309600" y="3429000"/>
            <a:ext cx="2057400" cy="2606760"/>
            <a:chOff x="309600" y="3429000"/>
            <a:chExt cx="2057400" cy="2606760"/>
          </a:xfrm>
        </p:grpSpPr>
        <p:pic>
          <p:nvPicPr>
            <p:cNvPr id="55" name="Picture 4" descr="tzg"/>
            <p:cNvPicPr/>
            <p:nvPr/>
          </p:nvPicPr>
          <p:blipFill>
            <a:blip r:embed="rId2"/>
            <a:stretch/>
          </p:blipFill>
          <p:spPr>
            <a:xfrm>
              <a:off x="309600" y="36154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"/>
            <p:cNvSpPr/>
            <p:nvPr/>
          </p:nvSpPr>
          <p:spPr>
            <a:xfrm>
              <a:off x="388440" y="34290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" name="Group 3"/>
          <p:cNvGrpSpPr/>
          <p:nvPr/>
        </p:nvGrpSpPr>
        <p:grpSpPr>
          <a:xfrm>
            <a:off x="2489040" y="3425760"/>
            <a:ext cx="2057400" cy="2606760"/>
            <a:chOff x="2489040" y="3425760"/>
            <a:chExt cx="2057400" cy="2606760"/>
          </a:xfrm>
        </p:grpSpPr>
        <p:pic>
          <p:nvPicPr>
            <p:cNvPr id="58" name="Picture 4" descr="tzg"/>
            <p:cNvPicPr/>
            <p:nvPr/>
          </p:nvPicPr>
          <p:blipFill>
            <a:blip r:embed="rId3"/>
            <a:stretch/>
          </p:blipFill>
          <p:spPr>
            <a:xfrm>
              <a:off x="2489040" y="36122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5"/>
            <p:cNvSpPr/>
            <p:nvPr/>
          </p:nvSpPr>
          <p:spPr>
            <a:xfrm>
              <a:off x="2567880" y="34257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" name="Group 3"/>
          <p:cNvGrpSpPr/>
          <p:nvPr/>
        </p:nvGrpSpPr>
        <p:grpSpPr>
          <a:xfrm>
            <a:off x="4603680" y="3413160"/>
            <a:ext cx="2057400" cy="2606760"/>
            <a:chOff x="4603680" y="3413160"/>
            <a:chExt cx="2057400" cy="2606760"/>
          </a:xfrm>
        </p:grpSpPr>
        <p:pic>
          <p:nvPicPr>
            <p:cNvPr id="61" name="Picture 4" descr="tzg"/>
            <p:cNvPicPr/>
            <p:nvPr/>
          </p:nvPicPr>
          <p:blipFill>
            <a:blip r:embed="rId4"/>
            <a:stretch/>
          </p:blipFill>
          <p:spPr>
            <a:xfrm>
              <a:off x="4603680" y="35996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5"/>
            <p:cNvSpPr/>
            <p:nvPr/>
          </p:nvSpPr>
          <p:spPr>
            <a:xfrm>
              <a:off x="4682520" y="34131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" name="Group 3"/>
          <p:cNvGrpSpPr/>
          <p:nvPr/>
        </p:nvGrpSpPr>
        <p:grpSpPr>
          <a:xfrm>
            <a:off x="6751800" y="3381480"/>
            <a:ext cx="2057400" cy="2606400"/>
            <a:chOff x="6751800" y="3381480"/>
            <a:chExt cx="2057400" cy="2606400"/>
          </a:xfrm>
        </p:grpSpPr>
        <p:pic>
          <p:nvPicPr>
            <p:cNvPr id="64" name="Picture 4" descr="tzg"/>
            <p:cNvPicPr/>
            <p:nvPr/>
          </p:nvPicPr>
          <p:blipFill>
            <a:blip r:embed="rId5"/>
            <a:stretch/>
          </p:blipFill>
          <p:spPr>
            <a:xfrm>
              <a:off x="6751800" y="356796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5"/>
            <p:cNvSpPr/>
            <p:nvPr/>
          </p:nvSpPr>
          <p:spPr>
            <a:xfrm>
              <a:off x="6830640" y="338148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" name="Group 3"/>
          <p:cNvGrpSpPr/>
          <p:nvPr/>
        </p:nvGrpSpPr>
        <p:grpSpPr>
          <a:xfrm>
            <a:off x="6734160" y="766800"/>
            <a:ext cx="2057400" cy="2606760"/>
            <a:chOff x="6734160" y="766800"/>
            <a:chExt cx="2057400" cy="2606760"/>
          </a:xfrm>
        </p:grpSpPr>
        <p:pic>
          <p:nvPicPr>
            <p:cNvPr id="67" name="Picture 4" descr="tzg"/>
            <p:cNvPicPr/>
            <p:nvPr/>
          </p:nvPicPr>
          <p:blipFill>
            <a:blip r:embed="rId6"/>
            <a:stretch/>
          </p:blipFill>
          <p:spPr>
            <a:xfrm>
              <a:off x="6734160" y="9532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5"/>
            <p:cNvSpPr/>
            <p:nvPr/>
          </p:nvSpPr>
          <p:spPr>
            <a:xfrm>
              <a:off x="6813000" y="7668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" name="Group 3"/>
          <p:cNvGrpSpPr/>
          <p:nvPr/>
        </p:nvGrpSpPr>
        <p:grpSpPr>
          <a:xfrm>
            <a:off x="4584600" y="793800"/>
            <a:ext cx="2057400" cy="2606760"/>
            <a:chOff x="4584600" y="793800"/>
            <a:chExt cx="2057400" cy="2606760"/>
          </a:xfrm>
        </p:grpSpPr>
        <p:pic>
          <p:nvPicPr>
            <p:cNvPr id="70" name="Picture 4" descr="tzg"/>
            <p:cNvPicPr/>
            <p:nvPr/>
          </p:nvPicPr>
          <p:blipFill>
            <a:blip r:embed="rId7"/>
            <a:stretch/>
          </p:blipFill>
          <p:spPr>
            <a:xfrm>
              <a:off x="4584600" y="9802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5"/>
            <p:cNvSpPr/>
            <p:nvPr/>
          </p:nvSpPr>
          <p:spPr>
            <a:xfrm>
              <a:off x="4663440" y="7938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" name="Group 3"/>
          <p:cNvGrpSpPr/>
          <p:nvPr/>
        </p:nvGrpSpPr>
        <p:grpSpPr>
          <a:xfrm>
            <a:off x="314280" y="790560"/>
            <a:ext cx="2057400" cy="2606760"/>
            <a:chOff x="314280" y="790560"/>
            <a:chExt cx="2057400" cy="2606760"/>
          </a:xfrm>
        </p:grpSpPr>
        <p:pic>
          <p:nvPicPr>
            <p:cNvPr id="73" name="Picture 4" descr="tzg"/>
            <p:cNvPicPr/>
            <p:nvPr/>
          </p:nvPicPr>
          <p:blipFill>
            <a:blip r:embed="rId8"/>
            <a:stretch/>
          </p:blipFill>
          <p:spPr>
            <a:xfrm>
              <a:off x="314280" y="9770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5"/>
            <p:cNvSpPr/>
            <p:nvPr/>
          </p:nvSpPr>
          <p:spPr>
            <a:xfrm>
              <a:off x="393120" y="7905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5" name="Text Box 26"/>
          <p:cNvSpPr/>
          <p:nvPr/>
        </p:nvSpPr>
        <p:spPr>
          <a:xfrm>
            <a:off x="652320" y="1276200"/>
            <a:ext cx="15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絮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2827440" y="3944880"/>
            <a:ext cx="15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劫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576360" y="3898800"/>
            <a:ext cx="15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糠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2708280" y="1285920"/>
            <a:ext cx="15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脊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4869000" y="1327320"/>
            <a:ext cx="15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姥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7058160" y="1254240"/>
            <a:ext cx="15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槛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7070760" y="3921120"/>
            <a:ext cx="15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吆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4888080" y="3975120"/>
            <a:ext cx="15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谎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477720" y="950760"/>
            <a:ext cx="8006040" cy="170208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晋察冀边区：晋，山西省简称；察，察哈尔省（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1952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年撤销，分别并入河北、山西两省）简称；冀，河北省简称。晋察冀边区是我军抗日根据地之一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门槛：门框下部挨着地面的横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鸡冠花：一种草本植物，开的花形状像鸡冠，通常为红色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63120"/>
            <a:ext cx="8229600" cy="586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晌（ｓｈ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ǎ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ɡ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午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晌午就是中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劫难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抢劫，抢夺。劫难是遭受灾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趔趄（ｌｉ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è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ｑｉ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趔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是身子歪歪斜斜的，脚步不稳的样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漩涡（ｘｕ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á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ｎｗ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ō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漩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是水流时产生的螺旋形，在江、河里都可看到有漩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有志者不在年高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志气不在于年纪大，指人贵在有志，不能凭年龄大小在衡量，只要有志气，年轻也能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优异成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推推搡搡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搡，猛推。就是使劲推的样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嘟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嘟嘟囔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就是心里不高兴，有气，嘟起嘴，叽叽咕咕自言自语地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cken君</cp:lastModifiedBy>
  <dcterms:modified xsi:type="dcterms:W3CDTF">2017-11-14T09:42:38Z</dcterms:modified>
  <cp:revision>1507</cp:revision>
  <dc:subject/>
  <dc:title>幻灯片 1</dc:title>
</cp:coreProperties>
</file>