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5393-E716-4993-8B70-B940AE74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C51-7F79-4162-BEA3-B832DF8A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412D-6CFD-46D3-8D60-63EF739A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5992-3E8B-43B0-9544-46642673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175F-0102-4413-BAE7-FEE17388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452-7DCA-4B9F-9378-7941773A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D6DD-193F-40B0-B62E-8747BB0C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5A1-4038-47D7-81D9-F7997FE3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E110-2597-44F7-8E3D-93C5D9A5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92D-0321-4FAB-A937-AF6C0483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CC7-2DE3-43AB-AC42-2A66B53B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7B2-F587-46B4-8924-02195721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4E4A-1D26-4DC9-BCFD-FE27E60D7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aike.baidu.com/view/56069.htm" TargetMode="External"/><Relationship Id="rId3" Type="http://schemas.openxmlformats.org/officeDocument/2006/relationships/hyperlink" Target="http://baike.baidu.com/view/36940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8136000" cy="5373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2050920" y="2962440"/>
            <a:ext cx="468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古诗二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0128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寻隐者不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7640" y="1773360"/>
            <a:ext cx="4608360" cy="31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贾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松下／问／童子，（满怀期望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言师／采药／去。（感到失望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在／此／山中，（又有了希望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云深／不知／处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无可奈何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5076720" y="2347920"/>
            <a:ext cx="3743280" cy="36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苍松下，我询问了年少的学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师傅已经采药去了山中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还对我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在这座大山里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山中云雾缭绕，不知道他的行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619280" y="5516640"/>
            <a:ext cx="3097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朗诵体会感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274680" y="105228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所见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 袁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28"/>
          <p:cNvSpPr/>
          <p:nvPr/>
        </p:nvSpPr>
        <p:spPr>
          <a:xfrm>
            <a:off x="4427640" y="1484280"/>
            <a:ext cx="4465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牧童：指放牛的孩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振：振荡。说明牧童的  歌声嘹亮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林樾：树阴。樾：指道旁成阴的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⑷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欲：想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⑸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捕：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⑹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鸣：叫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7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忽然：突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闭口：闭住嘴不说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24000" y="2349360"/>
            <a:ext cx="41036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牧童／骑／黄牛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歌声／振／林樾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意欲／捕／鸣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忽然／闭口／立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首诗的特点是寓问于答。“松下问童子”，必有所问，而这里把问话省略了，只从童子所答“师采药去”这四个字而可想见当时松下所问是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师往何处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接着又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“采药在何处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一问句省掉，而以“只在此山中”的童子答辞，把问句隐括在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后一句“云深不知处”，又是童子答复对方采药究竟在山前、山后、山顶、山脚的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明明三番问答，至少须六句方能表达的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贾岛采用了以答句包赅问句的手法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简为二十字。这种“推敲”就不在一字一句间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81080" y="1268280"/>
            <a:ext cx="37432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所见</a:t>
            </a:r>
            <a:br>
              <a:rPr sz="40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袁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2447640" cy="30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牧童骑黄牛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　　歌声振林樾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　　意欲捕鸣蝉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　　忽然闭口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4536720" y="20606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牧童骑在黄牛背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948640" y="27082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嘹亮的歌声在林中回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781440" y="33577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忽然想要捕捉树上鸣叫的知了，就马上停止唱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852720" y="4365720"/>
            <a:ext cx="44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声不响地站立在树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赏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】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771560"/>
            <a:ext cx="822960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野外林阴道上，一位小牧童骑在黄牛背上缓缓而来。也不知有什么开心事儿，他一路行一路唱，唱得好脆好响，整个树林都被他惊动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忽然，歌声停下来，小牧童脊背挺直，嘴巴紧闭，两眼凝望着高高的树梢。“知了，知了，知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树上，一只蝉儿也在扯开嗓门，自鸣得意地唱呢。正是它把小牧童吸引住了，他真想将蝉儿捉到手呢！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45224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情景，全被诗人看在眼里，写进诗中。诗人先写小牧童的动态，那高坐牛背、大声唱歌的派头，何等散漫、放肆；后写小牧童的静态，那屏住呼吸，眼望鸣蝉的神情，又是多么专注啊！这从动到静的变化，写得既突然又自然，把小牧童天真烂漫、好奇多事的形象，刻画得活灵活现。至于下一步的动静，小牧童怎样捕蝉，捕到没有，诗人没有写，留给读者自己去想象吧。 很棒的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1e71f72465de83314c088ddd"/>
          <p:cNvPicPr/>
          <p:nvPr/>
        </p:nvPicPr>
        <p:blipFill>
          <a:blip r:embed="rId2"/>
          <a:stretch/>
        </p:blipFill>
        <p:spPr>
          <a:xfrm>
            <a:off x="-14400" y="1128600"/>
            <a:ext cx="79567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28" descr="JDI3CBF1Z[RRF~~JI``@QO9"/>
          <p:cNvPicPr/>
          <p:nvPr/>
        </p:nvPicPr>
        <p:blipFill>
          <a:blip r:embed="rId2"/>
          <a:stretch/>
        </p:blipFill>
        <p:spPr>
          <a:xfrm>
            <a:off x="971640" y="1565280"/>
            <a:ext cx="712944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750960" y="1386000"/>
            <a:ext cx="7675560" cy="5499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89%YOQ)(Y)4ZUEL@JIM{9$4"/>
          <p:cNvPicPr/>
          <p:nvPr/>
        </p:nvPicPr>
        <p:blipFill>
          <a:blip r:embed="rId3"/>
          <a:stretch/>
        </p:blipFill>
        <p:spPr>
          <a:xfrm>
            <a:off x="2050920" y="2120760"/>
            <a:ext cx="3745080" cy="2532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560" y="813960"/>
            <a:ext cx="51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生字词学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2360" y="1268280"/>
            <a:ext cx="43909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寻隐者不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9280" y="3141360"/>
            <a:ext cx="5616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贾岛     童子　言师</a:t>
            </a:r>
            <a:br>
              <a:rPr sz="4000"/>
            </a:b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          不知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98920" y="1135080"/>
            <a:ext cx="30254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所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76360" y="2547720"/>
            <a:ext cx="66960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牧童      骑　　振林樾　　　　　　　　　　　　　　　　　　　　　　　　　　　　　　　　　　　　　　　　　　　　　　　　　　　　意欲    捕鸣蝉　　闭口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$CP}93F80_$VI@L}1Q5(2$4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92360" y="1483920"/>
            <a:ext cx="47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寻隐者不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80000" y="2491920"/>
            <a:ext cx="52560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贾岛</a:t>
            </a:r>
            <a:br>
              <a:rPr sz="4400"/>
            </a:br>
            <a:br>
              <a:rPr sz="18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松下问童子，</a:t>
            </a:r>
            <a:br>
              <a:rPr sz="44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言师采药去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只在此山中，</a:t>
            </a:r>
            <a:br>
              <a:rPr sz="44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云深不知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57120" y="206064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隐者：古代指不肯做官而隐居在山野之间的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不遇：没有见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童子：小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言：回答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云深：指山上云雾缭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635280" y="1915920"/>
            <a:ext cx="5051520" cy="30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贾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779—84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唐代诗人，字浪仙。早年出家为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号无本，后还俗。贾岛的创作态度极为严肃认真，常反复斟酌，是以苦吟而著名的诗人。其主要作品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李凝幽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剑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f392492cf89b83dc8a1399d2"/>
          <p:cNvPicPr/>
          <p:nvPr/>
        </p:nvPicPr>
        <p:blipFill>
          <a:blip r:embed="rId2"/>
          <a:stretch/>
        </p:blipFill>
        <p:spPr>
          <a:xfrm>
            <a:off x="324000" y="1197000"/>
            <a:ext cx="29764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00000" y="2060280"/>
            <a:ext cx="7344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寻隐者不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我国唐代著名诗人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贾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创作的一首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五言绝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遣词通俗清丽，是一篇难得的简练诗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2:43:52Z</dcterms:created>
  <dc:creator/>
  <dc:description/>
  <dc:language>en-US</dc:language>
  <cp:lastModifiedBy>China User</cp:lastModifiedBy>
  <dcterms:modified xsi:type="dcterms:W3CDTF">2017-10-26T14:14:01Z</dcterms:modified>
  <cp:revision>18</cp:revision>
  <dc:subject/>
  <dc:title>寻隐者不遇 </dc:title>
</cp:coreProperties>
</file>