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WordArt 7"/>
          <p:cNvSpPr txBox="1"/>
          <p:nvPr/>
        </p:nvSpPr>
        <p:spPr>
          <a:xfrm>
            <a:off x="2104920" y="1668600"/>
            <a:ext cx="4594320" cy="1352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大拇指汤姆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37" name="Picture 8" descr="未命名"/>
          <p:cNvPicPr/>
          <p:nvPr/>
        </p:nvPicPr>
        <p:blipFill>
          <a:blip r:embed="rId1"/>
          <a:stretch/>
        </p:blipFill>
        <p:spPr>
          <a:xfrm>
            <a:off x="1434960" y="2401920"/>
            <a:ext cx="5178600" cy="345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7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受作者想象力的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奇特与大胆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2"/>
          <p:cNvSpPr txBox="1"/>
          <p:nvPr/>
        </p:nvSpPr>
        <p:spPr>
          <a:xfrm>
            <a:off x="2643120" y="2924280"/>
            <a:ext cx="3857760" cy="101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汤姆的身世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默林很同情他们。他暗暗施展法力，让农夫的妻子生了个跟他丈夫的大拇指差不多大的小男孩儿。夫妇俩很喜爱这个孩子，给他取名为大拇指汤姆。几年过去了，汤姆一点儿也不见长大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50520"/>
            <a:ext cx="8229600" cy="557676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楷体_GB2312"/>
              </a:rPr>
              <a:t>谁能从这一段感受到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楷体_GB2312"/>
              </a:rPr>
              <a:t>者想象的奇特与大胆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2"/>
          <p:cNvSpPr txBox="1"/>
          <p:nvPr/>
        </p:nvSpPr>
        <p:spPr>
          <a:xfrm>
            <a:off x="2340000" y="2133720"/>
            <a:ext cx="4619520" cy="20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汤姆的经历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3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Calibri"/>
                <a:ea typeface="楷体_GB2312"/>
              </a:rPr>
              <a:t>快速浏览课文，找出汤姆有哪些神奇的经历？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920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根据课文内容填写下列表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763640" y="2208240"/>
          <a:ext cx="5832720" cy="3338640"/>
        </p:xfrm>
        <a:graphic>
          <a:graphicData uri="http://schemas.openxmlformats.org/drawingml/2006/table">
            <a:tbl>
              <a:tblPr/>
              <a:tblGrid>
                <a:gridCol w="1871640"/>
                <a:gridCol w="2016360"/>
                <a:gridCol w="194472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历险原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历险过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怎样获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木匠  汤姆"/>
          <p:cNvPicPr/>
          <p:nvPr/>
        </p:nvPicPr>
        <p:blipFill>
          <a:blip r:embed="rId1"/>
          <a:stretch/>
        </p:blipFill>
        <p:spPr>
          <a:xfrm>
            <a:off x="1476360" y="723960"/>
            <a:ext cx="6335640" cy="5576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汤姆 牛"/>
          <p:cNvPicPr/>
          <p:nvPr/>
        </p:nvPicPr>
        <p:blipFill>
          <a:blip r:embed="rId1"/>
          <a:stretch/>
        </p:blipFill>
        <p:spPr>
          <a:xfrm>
            <a:off x="611280" y="665280"/>
            <a:ext cx="777708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乌鸦3"/>
          <p:cNvPicPr/>
          <p:nvPr/>
        </p:nvPicPr>
        <p:blipFill>
          <a:blip r:embed="rId1"/>
          <a:srcRect l="0" t="0" r="0" b="9179"/>
          <a:stretch/>
        </p:blipFill>
        <p:spPr>
          <a:xfrm>
            <a:off x="539640" y="666720"/>
            <a:ext cx="8064720" cy="5362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2"/>
          <p:cNvSpPr/>
          <p:nvPr/>
        </p:nvSpPr>
        <p:spPr>
          <a:xfrm>
            <a:off x="343080" y="735120"/>
            <a:ext cx="2676240" cy="520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一、情景导入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Rectangle 5"/>
          <p:cNvSpPr/>
          <p:nvPr/>
        </p:nvSpPr>
        <p:spPr>
          <a:xfrm>
            <a:off x="318960" y="2720520"/>
            <a:ext cx="843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同学们，我们本单元已经学习了三篇童话，我们知道了童话故事不仅有趣，还给我们讲道理，受到启迪。童话还有许多作用呢，需要我们用心去感受。今天，我们再一次走进童话世界，感受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大拇指汤姆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给我们带来的神奇。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大嘴鱼"/>
          <p:cNvPicPr/>
          <p:nvPr/>
        </p:nvPicPr>
        <p:blipFill>
          <a:blip r:embed="rId1"/>
          <a:stretch/>
        </p:blipFill>
        <p:spPr>
          <a:xfrm>
            <a:off x="971640" y="692280"/>
            <a:ext cx="7272360" cy="53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汤姆因为太小，遇到了很多危险。他的经历也可以用一个字来概括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就是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险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但每次都能神奇的化解，非常幸运。你能用一个四字词语来概括吗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有惊无险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化险为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逢凶化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752400"/>
            <a:ext cx="8229600" cy="564984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  <a:ea typeface="楷体_GB2312"/>
              </a:rPr>
              <a:t>汤姆站在国王的餐桌上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  <a:ea typeface="楷体_GB2312"/>
              </a:rPr>
              <a:t>向周围的人鞠躬问好，还跳起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  <a:ea typeface="楷体_GB2312"/>
              </a:rPr>
              <a:t>了舞。大家的肚子都笑疼了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  <a:ea typeface="楷体_GB2312"/>
              </a:rPr>
              <a:t>从此，汤姆便成了国王的玩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  <a:ea typeface="楷体_GB2312"/>
              </a:rPr>
              <a:t>偶，非常受宠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大拇指汤姆 插图 03"/>
          <p:cNvPicPr/>
          <p:nvPr/>
        </p:nvPicPr>
        <p:blipFill>
          <a:blip r:embed="rId1"/>
          <a:stretch/>
        </p:blipFill>
        <p:spPr>
          <a:xfrm>
            <a:off x="363600" y="598320"/>
            <a:ext cx="8461440" cy="5675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3680" y="620280"/>
            <a:ext cx="8548920" cy="55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  <a:ea typeface="楷体_GB2312"/>
              </a:rPr>
              <a:t>此后，汤姆住在王宫里。他每月都要回父母的小屋一趟，给他们讲王宫里的故事，逗他们开心。农夫和他的妻子很为自己的儿子骄傲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大拇指汤姆 插图 04"/>
          <p:cNvPicPr/>
          <p:nvPr/>
        </p:nvPicPr>
        <p:blipFill>
          <a:blip r:embed="rId1"/>
          <a:stretch/>
        </p:blipFill>
        <p:spPr>
          <a:xfrm>
            <a:off x="390600" y="685800"/>
            <a:ext cx="8318520" cy="568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78960"/>
            <a:ext cx="8229600" cy="565020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alibri"/>
                <a:ea typeface="楷体_GB2312"/>
              </a:rPr>
              <a:t>农夫和他的妻子为什么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alibri"/>
                <a:ea typeface="楷体_GB2312"/>
              </a:rPr>
              <a:t>自己的儿子感到骄傲？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666360"/>
            <a:ext cx="8229600" cy="57214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农夫和他的妻子为什么</a:t>
            </a:r>
            <a:r>
              <a:rPr b="1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能     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自己的儿子骄傲？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Calibri"/>
                <a:ea typeface="楷体_GB2312"/>
              </a:rPr>
              <a:t>体会童话故事所蕴含的思想感情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但是他们不会想到，这一切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是因为多年前他们款待过一个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不相识的乞丐。是他们的</a:t>
            </a:r>
            <a:r>
              <a:rPr b="1" lang="zh-CN" sz="4400" spc="-1" strike="noStrike">
                <a:solidFill>
                  <a:srgbClr val="ff0066"/>
                </a:solidFill>
                <a:latin typeface="Calibri"/>
                <a:ea typeface="楷体_GB2312"/>
              </a:rPr>
              <a:t>善良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给自己带来了幸福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57200" y="1460520"/>
            <a:ext cx="8359920" cy="44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读课文，初步了解课文的内容，思考课文写了一件什么事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画出带有生字的词语和不理解的词语，并联系上下文、查字典理解词语的意思。标出自然段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1680120" y="772560"/>
            <a:ext cx="508320" cy="642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二、自主学习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WordArt 3"/>
          <p:cNvSpPr txBox="1"/>
          <p:nvPr/>
        </p:nvSpPr>
        <p:spPr>
          <a:xfrm>
            <a:off x="324000" y="2924280"/>
            <a:ext cx="9324720" cy="838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善良可以给人带来幸福！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79320"/>
            <a:ext cx="8229600" cy="557712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回顾课文善良的人都有谁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农夫和他的妻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魔法师墨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国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694800"/>
            <a:ext cx="8229600" cy="57214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楷体_GB2312"/>
              </a:rPr>
              <a:t>人与人之间需要善良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楷体_GB2312"/>
              </a:rPr>
              <a:t>因为善良会给人带来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楷体_GB2312"/>
              </a:rPr>
              <a:t>福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822240" y="2109960"/>
            <a:ext cx="7645320" cy="18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255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想一想，汤姆还可能会发生什么惊险的事？与同学交流交流。</a:t>
            </a:r>
            <a:endParaRPr b="1" lang="en-US" sz="9600" spc="1" strike="noStrike">
              <a:ln w="255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9080" y="696960"/>
            <a:ext cx="3425760" cy="642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五、拓展延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4" descr="未命名"/>
          <p:cNvPicPr/>
          <p:nvPr/>
        </p:nvPicPr>
        <p:blipFill>
          <a:blip r:embed="rId3"/>
          <a:stretch/>
        </p:blipFill>
        <p:spPr>
          <a:xfrm>
            <a:off x="2843280" y="4222800"/>
            <a:ext cx="3190680" cy="2324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724040"/>
            <a:ext cx="8229600" cy="473544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对魔术师说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对国王说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对父母说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220480" y="644400"/>
            <a:ext cx="484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Comic Sans MS"/>
              </a:rPr>
              <a:t>如果你就是小汤姆，当得知是因为父母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Comic Sans MS"/>
              </a:rPr>
              <a:t>的善良之举获得了今天的幸福时，你想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Comic Sans MS"/>
              </a:rPr>
              <a:t>对大家说些什么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442800" y="2621880"/>
            <a:ext cx="832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Comic Sans MS"/>
              </a:rPr>
              <a:t>拇  姆  褴  褛  婚   剖   宠   款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WordArt 3"/>
          <p:cNvSpPr txBox="1"/>
          <p:nvPr/>
        </p:nvSpPr>
        <p:spPr>
          <a:xfrm>
            <a:off x="708120" y="706320"/>
            <a:ext cx="17622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1741"/>
                <a:gd name="adj2" fmla="val -31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我会读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338440" y="1788480"/>
            <a:ext cx="111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ōu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390600" y="3735360"/>
            <a:ext cx="822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拇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指  汤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姆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  衣衫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褴褛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 结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婚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趁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机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妖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精  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倒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出   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厨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师  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剖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开   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鞠躬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受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宠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哭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肿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一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趟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逗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笑  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款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待   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善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526320" y="1838160"/>
            <a:ext cx="10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ǔ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450800" y="1836720"/>
            <a:ext cx="9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ǔ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2424240" y="1852560"/>
            <a:ext cx="9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án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3510000" y="18637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ǚ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4280040" y="1890720"/>
            <a:ext cx="105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ūn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6372360" y="1527120"/>
            <a:ext cx="141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hǒn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7746840" y="1789200"/>
            <a:ext cx="116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kuǎn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7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Calibri"/>
              </a:rPr>
              <a:t>理解词语</a:t>
            </a:r>
            <a:r>
              <a:rPr b="0" lang="zh-CN" sz="4400" spc="-1" strike="noStrike">
                <a:solidFill>
                  <a:srgbClr val="ff3300"/>
                </a:solidFill>
                <a:latin typeface="Calibri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093760"/>
            <a:ext cx="82296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大拇指   衣衫褴褛   结婚   又踢又踹妖精     倒出     剖开    鞠躬    受宠 款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大拇指汤姆01"/>
          <p:cNvPicPr/>
          <p:nvPr/>
        </p:nvPicPr>
        <p:blipFill>
          <a:blip r:embed="rId1"/>
          <a:stretch/>
        </p:blipFill>
        <p:spPr>
          <a:xfrm>
            <a:off x="223920" y="658800"/>
            <a:ext cx="8528040" cy="58849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97000" y="1876320"/>
            <a:ext cx="855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—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介绍了汤姆离奇的身世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化妆成乞丐的魔法师墨林悄悄施展法力，使热情款待他的农家夫妇有了一个和丈夫的大拇指一样大的儿子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260280" y="654120"/>
            <a:ext cx="3210120" cy="642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三、合作交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—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汤姆在几番危险神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奇的经历之后来到了王宫，成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受国王宠爱的玩偶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大拇指汤姆 插图 03"/>
          <p:cNvPicPr/>
          <p:nvPr/>
        </p:nvPicPr>
        <p:blipFill>
          <a:blip r:embed="rId1"/>
          <a:stretch/>
        </p:blipFill>
        <p:spPr>
          <a:xfrm>
            <a:off x="6140520" y="422748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—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国王让汤姆带金币回家看望父母，汤姆每月都回家看望父母，成为了父母的骄傲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大拇指汤姆 插图 04"/>
          <p:cNvPicPr/>
          <p:nvPr/>
        </p:nvPicPr>
        <p:blipFill>
          <a:blip r:embed="rId1"/>
          <a:stretch/>
        </p:blipFill>
        <p:spPr>
          <a:xfrm>
            <a:off x="3235320" y="414036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465280"/>
            <a:ext cx="8143920" cy="393696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化妆成乞丐的魔法师悄悄施展法力，使热情款待他的农家夫妇有了一个和丈夫大拇指一样大的儿子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—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汤姆。汤姆在一番神奇的经历之后，得到了国王的宠爱，他使得农家夫妇很开心，也很自豪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678320" y="679320"/>
            <a:ext cx="389520" cy="642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四、展示提升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320840" y="1771560"/>
            <a:ext cx="63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说说课文讲了一件什么事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dc:language>en-US</dc:language>
  <cp:lastModifiedBy>china</cp:lastModifiedBy>
  <dcterms:modified xsi:type="dcterms:W3CDTF">2017-11-06T14:40:42Z</dcterms:modified>
  <cp:revision>1506</cp:revision>
  <dc:subject/>
  <dc:title>幻灯片 1</dc:title>
</cp:coreProperties>
</file>