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FCCE50-D1A8-425D-A390-C1A5ABD8466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77B872-BEFA-42FD-8643-EAA608CB5F6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D610-F80C-48FD-AC8D-DE27F9DBE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E20-844E-4793-924C-104B24FF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96A5-8FAD-440B-88F8-5748164F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DE1C-3EAA-4282-8CC9-DCD10066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BAC-B0B1-462E-A66E-2EFB1D17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93C-9BFE-4292-881E-D50AA116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89D-DBF1-4F90-AE6C-F1390FE4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D575-6F05-488A-A0CE-69BF2EF52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8FC-4A1D-4507-97B8-A630CE1E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A3E-6313-435A-B7B5-8B92F8F1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50C-A7AB-4080-AA31-01A37B1F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A1A-B2CE-4F21-BAB7-FE0C4595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DB800-976B-4E7C-A596-EC4E61B573C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1895400" y="2146320"/>
            <a:ext cx="5353200" cy="332100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朝三暮四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3850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4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635040" y="2212920"/>
            <a:ext cx="220356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977760" y="352728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篇文言文讲了狙公给猴子喂食橡实的故事。告诫人们要注重实际，防止被花言巧语所蒙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961920" y="280368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篇文言文讲了一件什么事？从中你学到了什么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狙公喂猴子的方法前后有什么变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1197000" y="3209760"/>
            <a:ext cx="72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狙公喂猴子橡实，起初想让猴子每天早晨吃三个橡实，晚上吃四个；后来让猴子早晨吃四个，晚上吃三个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猴子的情绪前后有什么变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039680" y="27939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猴子刚开始很生气（众狙皆怒），后来非常高兴（众狙皆悦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狙公没有增加食物的数量，却让猴子情绪大变，你从中明白了什么道理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1066680" y="3054240"/>
            <a:ext cx="70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我明白了要注重实际，防止被骗的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在成语“朝三暮四”的意思与文中的“朝三暮四”的意思相比，有了怎样的变化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1"/>
          <p:cNvSpPr/>
          <p:nvPr/>
        </p:nvSpPr>
        <p:spPr>
          <a:xfrm>
            <a:off x="1144440" y="2801880"/>
            <a:ext cx="72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则寓言故事中原来“朝三暮四”的意义是揭露狙公愚弄猴子的骗术，告诫人们要注重实际，防止被花言巧语所蒙骗。现在“朝三暮四”被引申为反复无常，用来谴（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ǎn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）责那种说话、办事经常变卦，不负责任的人或者行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26"/>
          <p:cNvSpPr/>
          <p:nvPr/>
        </p:nvSpPr>
        <p:spPr>
          <a:xfrm>
            <a:off x="1869120" y="2643120"/>
            <a:ext cx="48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暮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2895480" y="2487600"/>
            <a:ext cx="90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狙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左大括号 6"/>
          <p:cNvSpPr/>
          <p:nvPr/>
        </p:nvSpPr>
        <p:spPr>
          <a:xfrm>
            <a:off x="2468520" y="2543040"/>
            <a:ext cx="335160" cy="2581560"/>
          </a:xfrm>
          <a:custGeom>
            <a:avLst/>
            <a:gdLst>
              <a:gd name="textAreaLeft" fmla="*/ 214200 w 335160"/>
              <a:gd name="textAreaRight" fmla="*/ 335520 w 335160"/>
              <a:gd name="textAreaTop" fmla="*/ 8640 h 2581560"/>
              <a:gd name="textAreaBottom" fmla="*/ 2572920 h 258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7"/>
                  <a:pt x="10800" y="234"/>
                </a:cubicBezTo>
                <a:lnTo>
                  <a:pt x="10800" y="10566"/>
                </a:lnTo>
                <a:cubicBezTo>
                  <a:pt x="10800" y="10683"/>
                  <a:pt x="5400" y="10800"/>
                  <a:pt x="0" y="10800"/>
                </a:cubicBezTo>
                <a:cubicBezTo>
                  <a:pt x="5400" y="10800"/>
                  <a:pt x="10800" y="10917"/>
                  <a:pt x="10800" y="11034"/>
                </a:cubicBezTo>
                <a:lnTo>
                  <a:pt x="10800" y="21366"/>
                </a:lnTo>
                <a:cubicBezTo>
                  <a:pt x="10800" y="21483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4950000" y="3579840"/>
            <a:ext cx="100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怒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左大括号 24"/>
          <p:cNvSpPr/>
          <p:nvPr/>
        </p:nvSpPr>
        <p:spPr>
          <a:xfrm flipH="1">
            <a:off x="5608800" y="2543040"/>
            <a:ext cx="218880" cy="2581560"/>
          </a:xfrm>
          <a:custGeom>
            <a:avLst/>
            <a:gdLst>
              <a:gd name="textAreaLeft" fmla="*/ 140040 w 218880"/>
              <a:gd name="textAreaRight" fmla="*/ 219240 w 218880"/>
              <a:gd name="textAreaTop" fmla="*/ 5400 h 2581560"/>
              <a:gd name="textAreaBottom" fmla="*/ 2576160 h 2581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7"/>
                  <a:pt x="10800" y="153"/>
                </a:cubicBezTo>
                <a:lnTo>
                  <a:pt x="10800" y="10647"/>
                </a:lnTo>
                <a:cubicBezTo>
                  <a:pt x="10800" y="10724"/>
                  <a:pt x="5400" y="10800"/>
                  <a:pt x="0" y="10800"/>
                </a:cubicBezTo>
                <a:cubicBezTo>
                  <a:pt x="5400" y="10800"/>
                  <a:pt x="10800" y="10877"/>
                  <a:pt x="10800" y="10953"/>
                </a:cubicBezTo>
                <a:lnTo>
                  <a:pt x="10800" y="21447"/>
                </a:lnTo>
                <a:cubicBezTo>
                  <a:pt x="10800" y="2152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4950000" y="2487600"/>
            <a:ext cx="850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众猴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8"/>
          <p:cNvSpPr/>
          <p:nvPr/>
        </p:nvSpPr>
        <p:spPr>
          <a:xfrm>
            <a:off x="4950000" y="4705200"/>
            <a:ext cx="76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黑体"/>
                <a:ea typeface="黑体"/>
              </a:rPr>
              <a:t>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9"/>
          <p:cNvSpPr/>
          <p:nvPr/>
        </p:nvSpPr>
        <p:spPr>
          <a:xfrm>
            <a:off x="3129480" y="470520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朝四暮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3130200" y="3579840"/>
            <a:ext cx="851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965a"/>
                </a:solidFill>
                <a:latin typeface="黑体"/>
                <a:ea typeface="黑体"/>
              </a:rPr>
              <a:t>朝三暮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26"/>
          <p:cNvSpPr/>
          <p:nvPr/>
        </p:nvSpPr>
        <p:spPr>
          <a:xfrm>
            <a:off x="6206400" y="3178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注重实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防止被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6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7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8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30" name="直接箭头连接符 2"/>
          <p:cNvCxnSpPr/>
          <p:nvPr/>
        </p:nvCxnSpPr>
        <p:spPr>
          <a:xfrm>
            <a:off x="4312800" y="3795480"/>
            <a:ext cx="63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直接箭头连接符 21"/>
          <p:cNvCxnSpPr/>
          <p:nvPr/>
        </p:nvCxnSpPr>
        <p:spPr>
          <a:xfrm>
            <a:off x="4312800" y="4952520"/>
            <a:ext cx="63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则寓言故事写的是狙公喂猴子橡实的总数没有变，只是分配方式有所变化，猴子们就转怒为喜的事，揭露了狙公愚弄猴子的骗术，以此告诫人们要注重实际，防止被花言巧语所蒙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4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8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9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矩形 1"/>
          <p:cNvSpPr/>
          <p:nvPr/>
        </p:nvSpPr>
        <p:spPr>
          <a:xfrm>
            <a:off x="1152360" y="2322360"/>
            <a:ext cx="705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掩耳盗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范氏之亡也，百姓有得钟者，欲负而走，则钟大不可负；以锤毁之，钟况然有声。恐人闻之而夺己也，遽掩其耳。恶人闻之，可也；恶己自闻之，悖也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1" descr="http://s6.sinaimg.cn/bmiddle/49a01391951bb87626de5"/>
          <p:cNvPicPr/>
          <p:nvPr/>
        </p:nvPicPr>
        <p:blipFill>
          <a:blip r:embed="rId1"/>
          <a:stretch/>
        </p:blipFill>
        <p:spPr>
          <a:xfrm>
            <a:off x="996840" y="2443320"/>
            <a:ext cx="7338960" cy="2842920"/>
          </a:xfrm>
          <a:prstGeom prst="rect">
            <a:avLst/>
          </a:prstGeom>
          <a:ln w="0">
            <a:noFill/>
          </a:ln>
        </p:spPr>
      </p:pic>
      <p:sp>
        <p:nvSpPr>
          <p:cNvPr id="144" name="矩形 1"/>
          <p:cNvSpPr/>
          <p:nvPr/>
        </p:nvSpPr>
        <p:spPr>
          <a:xfrm>
            <a:off x="1042920" y="3179880"/>
            <a:ext cx="7234200" cy="6426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画蛇著足无处用，两鬓霜白趋埃尘。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感春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韩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5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46" name="圆角矩形 6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国学诵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893880" y="2681280"/>
            <a:ext cx="740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背诵课文，注意文言文的读法，感受祖国语言的丰富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白“朝三暮四”的寓意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"/>
          <p:cNvSpPr/>
          <p:nvPr/>
        </p:nvSpPr>
        <p:spPr>
          <a:xfrm>
            <a:off x="1677240" y="2095560"/>
            <a:ext cx="18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自相矛盾的故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1265400" y="2644920"/>
            <a:ext cx="705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楚国有一个卖矛和盾的人，见人就推销他的矛是世界上最尖利的矛，没有穿不透的东西；一会儿又向人推销他的盾是世界上最坚硬的盾，没有什么东西能戳穿它。人群中有人问他用他的矛戳他的盾，结果会怎样，他窘迫得答不上话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6"/>
          <p:cNvGrpSpPr/>
          <p:nvPr/>
        </p:nvGrpSpPr>
        <p:grpSpPr>
          <a:xfrm>
            <a:off x="558720" y="1190520"/>
            <a:ext cx="3849840" cy="666720"/>
            <a:chOff x="558720" y="1190520"/>
            <a:chExt cx="3849840" cy="666720"/>
          </a:xfrm>
        </p:grpSpPr>
        <p:sp>
          <p:nvSpPr>
            <p:cNvPr id="152" name="圆角矩形 7"/>
            <p:cNvSpPr/>
            <p:nvPr/>
          </p:nvSpPr>
          <p:spPr>
            <a:xfrm>
              <a:off x="1374480" y="132840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文本框 16"/>
            <p:cNvSpPr/>
            <p:nvPr/>
          </p:nvSpPr>
          <p:spPr>
            <a:xfrm>
              <a:off x="1634040" y="134748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56" name="矩形 11"/>
          <p:cNvSpPr/>
          <p:nvPr/>
        </p:nvSpPr>
        <p:spPr>
          <a:xfrm>
            <a:off x="1017720" y="2390760"/>
            <a:ext cx="73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短小精悍的寓言故事，蕴含的道理却很深刻，告诫我们要看清事物的本质，防止被花言巧语所蒙骗。同时也启示我们说话做事要目标明确，不能朝三暮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组合 1"/>
          <p:cNvGrpSpPr/>
          <p:nvPr/>
        </p:nvGrpSpPr>
        <p:grpSpPr>
          <a:xfrm>
            <a:off x="631800" y="1851120"/>
            <a:ext cx="7583400" cy="1191240"/>
            <a:chOff x="631800" y="1851120"/>
            <a:chExt cx="7583400" cy="1191240"/>
          </a:xfrm>
        </p:grpSpPr>
        <p:sp>
          <p:nvSpPr>
            <p:cNvPr id="158" name="矩形 12"/>
            <p:cNvSpPr/>
            <p:nvPr/>
          </p:nvSpPr>
          <p:spPr>
            <a:xfrm>
              <a:off x="1171440" y="1851120"/>
              <a:ext cx="70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朗读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结合注释熟读课文，注意文言文的读法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9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631800" y="194616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160" name="Picture 7" descr=""/>
          <p:cNvPicPr/>
          <p:nvPr/>
        </p:nvPicPr>
        <p:blipFill>
          <a:blip r:embed="rId2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61" name="矩形 1"/>
          <p:cNvSpPr/>
          <p:nvPr/>
        </p:nvSpPr>
        <p:spPr>
          <a:xfrm>
            <a:off x="1233360" y="3249720"/>
            <a:ext cx="709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可先认真听老师的范读、领读，再自读，直至读熟、会背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1"/>
          <p:cNvGrpSpPr/>
          <p:nvPr/>
        </p:nvGrpSpPr>
        <p:grpSpPr>
          <a:xfrm>
            <a:off x="631800" y="1359000"/>
            <a:ext cx="7583400" cy="1191240"/>
            <a:chOff x="631800" y="1359000"/>
            <a:chExt cx="7583400" cy="1191240"/>
          </a:xfrm>
        </p:grpSpPr>
        <p:sp>
          <p:nvSpPr>
            <p:cNvPr id="163" name="矩形 12"/>
            <p:cNvSpPr/>
            <p:nvPr/>
          </p:nvSpPr>
          <p:spPr>
            <a:xfrm>
              <a:off x="1171440" y="1359000"/>
              <a:ext cx="70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与交流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“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悦”是什么意思？你能结合课文说说“众狙皆悦”的原因吗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631800" y="145404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65" name="矩形 1"/>
          <p:cNvSpPr/>
          <p:nvPr/>
        </p:nvSpPr>
        <p:spPr>
          <a:xfrm>
            <a:off x="1233360" y="3084480"/>
            <a:ext cx="70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“悦”的意思是高兴。“众狙皆悦”的原因是养猴子的人答应猴子们让其早晨吃四个橡实，晚上吃三个橡实，猴子们感觉自己胜利了，所以“众狙皆悦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1"/>
          <p:cNvGrpSpPr/>
          <p:nvPr/>
        </p:nvGrpSpPr>
        <p:grpSpPr>
          <a:xfrm>
            <a:off x="631800" y="1359000"/>
            <a:ext cx="7583400" cy="1191240"/>
            <a:chOff x="631800" y="1359000"/>
            <a:chExt cx="7583400" cy="1191240"/>
          </a:xfrm>
        </p:grpSpPr>
        <p:sp>
          <p:nvSpPr>
            <p:cNvPr id="167" name="矩形 12"/>
            <p:cNvSpPr/>
            <p:nvPr/>
          </p:nvSpPr>
          <p:spPr>
            <a:xfrm>
              <a:off x="1171440" y="1359000"/>
              <a:ext cx="70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与运用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比较下面一段话中“朝三暮四”的意思和课文中“朝三暮四”的意思是否相同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8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631800" y="145404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69" name="矩形 2"/>
          <p:cNvSpPr/>
          <p:nvPr/>
        </p:nvSpPr>
        <p:spPr>
          <a:xfrm>
            <a:off x="1292400" y="3071880"/>
            <a:ext cx="73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老年人健身应当“朝三暮四”，要注意早晚养生。专家建议老年人早晨做好三件事，即做一套呼吸操，喝一杯温开水，吃一份水果；傍晚做好四件事，即做一个小时的运动，喝一杯鲜奶，喝一杯温开水，喝一杯葡萄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"/>
          <p:cNvSpPr/>
          <p:nvPr/>
        </p:nvSpPr>
        <p:spPr>
          <a:xfrm>
            <a:off x="700200" y="1160640"/>
            <a:ext cx="800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回答这个问题，首先要明白课文中“朝三暮四”指的是什么意思。然后细读这段话：老年人健身应当“朝三暮四”，要注意早晚养生，早晨做好三件事，傍晚做好四件事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读懂后就会明白这里的“朝三暮四”的意思了。最后加以比较即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这段文字中的“朝三暮四”和课文中“朝三暮四”的意思是不同的。这段文字的“朝三暮四”是临时凑在一起的短语，就是早晨做三件事，傍晚做四件事。而课文中的“朝三暮四”已经成为一个成语，而且意思已经固定下来了。这个成语原来的意义是揭露狙公愚弄猴子的骗术，以告诫人们要注重实际，防止被花言巧语蒙骗。但是后来，这个成语的意义有了一些变化，被引申为反复无常，用来谴（</a:t>
            </a:r>
            <a:r>
              <a:rPr b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ǎn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）责那种说话、办事经常变卦、不负责任的人或行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6"/>
          <p:cNvGrpSpPr/>
          <p:nvPr/>
        </p:nvGrpSpPr>
        <p:grpSpPr>
          <a:xfrm>
            <a:off x="700200" y="1189080"/>
            <a:ext cx="7583400" cy="642600"/>
            <a:chOff x="700200" y="1189080"/>
            <a:chExt cx="7583400" cy="642600"/>
          </a:xfrm>
        </p:grpSpPr>
        <p:sp>
          <p:nvSpPr>
            <p:cNvPr id="172" name="矩形 7"/>
            <p:cNvSpPr/>
            <p:nvPr/>
          </p:nvSpPr>
          <p:spPr>
            <a:xfrm>
              <a:off x="1239840" y="1189080"/>
              <a:ext cx="704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积累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73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700200" y="1285920"/>
              <a:ext cx="471240" cy="5252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74" name="TextBox 2"/>
          <p:cNvSpPr/>
          <p:nvPr/>
        </p:nvSpPr>
        <p:spPr>
          <a:xfrm>
            <a:off x="1239840" y="3376440"/>
            <a:ext cx="73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我们学过的出自古代寓言故事的成语有亡羊补牢、坐井观天、南辕北辙、愚公移山、揠苗助长、狐假虎威、惊弓之鸟、自相矛盾、鹬（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yù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）蚌相争等。任意选择其中一个，查阅一下寓言故事的内容，了解其寓意即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766800" y="1811160"/>
            <a:ext cx="751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我们学过的成语中，找出几个出自古代寓言故事的成语，查找资料了解寓言故事的内容，了解它们的寓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857160" y="987480"/>
            <a:ext cx="755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如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《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鹬蚌相争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》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，其主要内容：蚌方出曝（</a:t>
            </a:r>
            <a:r>
              <a:rPr b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pù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，晒），而鹬啄其肉，蚌合而箝（</a:t>
            </a:r>
            <a:r>
              <a:rPr b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án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）其喙（</a:t>
            </a:r>
            <a:r>
              <a:rPr b="1" lang="en-US" sz="20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ì</a:t>
            </a:r>
            <a:r>
              <a:rPr b="1" lang="zh-CN" sz="2000" spc="-1" strike="noStrike">
                <a:solidFill>
                  <a:srgbClr val="ff0000"/>
                </a:solidFill>
                <a:latin typeface="Calibri"/>
              </a:rPr>
              <a:t>）。鹬曰：“今日不雨，明日不雨，即有死蚌。”蚌亦谓鹬曰：“今日不出，明日不出，即有死鹬。”两者不肯相舍，渔者得而并禽之。寓意：比喻双方争执不下，两败俱伤，让第三者占了便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3095640" y="3514680"/>
            <a:ext cx="31431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3"/>
          <p:cNvSpPr/>
          <p:nvPr/>
        </p:nvSpPr>
        <p:spPr>
          <a:xfrm>
            <a:off x="885960" y="1501920"/>
            <a:ext cx="76309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背诵课文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1"/>
          <p:cNvSpPr/>
          <p:nvPr/>
        </p:nvSpPr>
        <p:spPr>
          <a:xfrm>
            <a:off x="1357200" y="2141640"/>
            <a:ext cx="702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先要读熟课文，然后根据每句话的意思，按照“朝三而暮四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怒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朝四而暮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悦”的行文顺序来背诵，既强化了对寓言的理解，又可以加快背诵的速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7167"/>
          <p:cNvSpPr/>
          <p:nvPr/>
        </p:nvSpPr>
        <p:spPr>
          <a:xfrm>
            <a:off x="865080" y="2157480"/>
            <a:ext cx="754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用“√”给带点的字选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赋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áo 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áo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暮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ò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mù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众狙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ē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gā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i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7168"/>
          <p:cNvSpPr/>
          <p:nvPr/>
        </p:nvSpPr>
        <p:spPr>
          <a:xfrm>
            <a:off x="4047840" y="3502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7168"/>
          <p:cNvSpPr/>
          <p:nvPr/>
        </p:nvSpPr>
        <p:spPr>
          <a:xfrm>
            <a:off x="1877760" y="2971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7168"/>
          <p:cNvSpPr/>
          <p:nvPr/>
        </p:nvSpPr>
        <p:spPr>
          <a:xfrm>
            <a:off x="1590480" y="3502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85" name="矩形 7168"/>
          <p:cNvSpPr/>
          <p:nvPr/>
        </p:nvSpPr>
        <p:spPr>
          <a:xfrm>
            <a:off x="2446920" y="4152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4199040" y="282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3"/>
          <p:cNvSpPr/>
          <p:nvPr/>
        </p:nvSpPr>
        <p:spPr>
          <a:xfrm>
            <a:off x="2192400" y="3378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5197680" y="3365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5"/>
          <p:cNvSpPr/>
          <p:nvPr/>
        </p:nvSpPr>
        <p:spPr>
          <a:xfrm>
            <a:off x="2908440" y="3978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3863880" y="299736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5965920" y="2992320"/>
          <a:ext cx="143964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1749600" y="2997360"/>
          <a:ext cx="143964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56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矩形 3"/>
          <p:cNvSpPr/>
          <p:nvPr/>
        </p:nvSpPr>
        <p:spPr>
          <a:xfrm>
            <a:off x="971640" y="186840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读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ū     gōng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tiān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fù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      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ǐ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u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1951920" y="30178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狙 公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2"/>
          <p:cNvSpPr/>
          <p:nvPr/>
        </p:nvSpPr>
        <p:spPr>
          <a:xfrm>
            <a:off x="4066560" y="30160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天 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4"/>
          <p:cNvSpPr/>
          <p:nvPr/>
        </p:nvSpPr>
        <p:spPr>
          <a:xfrm>
            <a:off x="6168240" y="29955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喜 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矩形 3"/>
          <p:cNvSpPr/>
          <p:nvPr/>
        </p:nvSpPr>
        <p:spPr>
          <a:xfrm>
            <a:off x="900000" y="1719360"/>
            <a:ext cx="72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对照课文，写出下面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狙公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众狙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芧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然则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曰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暮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"/>
          <p:cNvSpPr/>
          <p:nvPr/>
        </p:nvSpPr>
        <p:spPr>
          <a:xfrm>
            <a:off x="2780280" y="2336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养猴子的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6129000" y="234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猴子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9"/>
          <p:cNvSpPr/>
          <p:nvPr/>
        </p:nvSpPr>
        <p:spPr>
          <a:xfrm>
            <a:off x="2558880" y="2933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3"/>
          <p:cNvSpPr/>
          <p:nvPr/>
        </p:nvSpPr>
        <p:spPr>
          <a:xfrm>
            <a:off x="5898240" y="2913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橡实，橡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4"/>
          <p:cNvSpPr/>
          <p:nvPr/>
        </p:nvSpPr>
        <p:spPr>
          <a:xfrm>
            <a:off x="2471760" y="3456000"/>
            <a:ext cx="25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既然这样，那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8"/>
          <p:cNvSpPr/>
          <p:nvPr/>
        </p:nvSpPr>
        <p:spPr>
          <a:xfrm>
            <a:off x="5769000" y="3468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9"/>
          <p:cNvSpPr/>
          <p:nvPr/>
        </p:nvSpPr>
        <p:spPr>
          <a:xfrm>
            <a:off x="2311200" y="3989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早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30"/>
          <p:cNvSpPr/>
          <p:nvPr/>
        </p:nvSpPr>
        <p:spPr>
          <a:xfrm>
            <a:off x="5746320" y="398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晚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3"/>
          <p:cNvSpPr/>
          <p:nvPr/>
        </p:nvSpPr>
        <p:spPr>
          <a:xfrm>
            <a:off x="806400" y="1555920"/>
            <a:ext cx="756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用通顺的话写出下面文言文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狙公赋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众狙皆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众狙皆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"/>
          <p:cNvSpPr/>
          <p:nvPr/>
        </p:nvSpPr>
        <p:spPr>
          <a:xfrm>
            <a:off x="1309680" y="2746440"/>
            <a:ext cx="29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狙公给猴子橡实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1297080" y="3816360"/>
            <a:ext cx="274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猴子们都生气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 8"/>
          <p:cNvSpPr/>
          <p:nvPr/>
        </p:nvSpPr>
        <p:spPr>
          <a:xfrm>
            <a:off x="1311120" y="4921200"/>
            <a:ext cx="28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猴子们都高兴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00120" y="1014480"/>
            <a:ext cx="8080200" cy="5508720"/>
            <a:chOff x="600120" y="1014480"/>
            <a:chExt cx="80802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00120" y="3971880"/>
              <a:ext cx="32076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狙公喂猴子的方法前后有什么变化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24320" y="3943440"/>
              <a:ext cx="34560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猴子的情绪前后有什么变化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11720" y="4802400"/>
              <a:ext cx="3468600" cy="121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现在成语“朝三暮四”的意思与文中的“朝三暮四”的意思相比，有了怎样的变化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600120" y="4832280"/>
              <a:ext cx="3207600" cy="84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200" spc="-1" strike="noStrike">
                  <a:solidFill>
                    <a:srgbClr val="000000"/>
                  </a:solidFill>
                  <a:latin typeface="宋体"/>
                </a:rPr>
                <a:t>狙公没有增加食物的数量，却让猴子情绪大变，你从中明白了什么道理？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188080" y="1014480"/>
              <a:ext cx="4767480" cy="5508720"/>
              <a:chOff x="2188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88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579040" y="1825200"/>
                <a:ext cx="4116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这篇文言文讲了一件什么事？从中你学到了什么？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534560" y="13356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注重实际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1077840" y="182556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狙公赋芧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xù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曰：“朝三而暮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077840" y="2874960"/>
            <a:ext cx="69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狙公打算早晨给猴子三个橡实吃，晚上给猴子四个橡实吃。这句话交代了故事的起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817560" y="16779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众狙皆怒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790560" y="2371680"/>
            <a:ext cx="779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从“皆怒”一词可以感受到猴子们的情绪是极其愤怒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6"/>
          <p:cNvGrpSpPr/>
          <p:nvPr/>
        </p:nvGrpSpPr>
        <p:grpSpPr>
          <a:xfrm>
            <a:off x="873000" y="2320920"/>
            <a:ext cx="7683480" cy="811080"/>
            <a:chOff x="873000" y="2320920"/>
            <a:chExt cx="7683480" cy="811080"/>
          </a:xfrm>
        </p:grpSpPr>
        <p:sp>
          <p:nvSpPr>
            <p:cNvPr id="90" name="直接连接符 7"/>
            <p:cNvSpPr/>
            <p:nvPr/>
          </p:nvSpPr>
          <p:spPr>
            <a:xfrm>
              <a:off x="873000" y="313200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任意多边形 8"/>
            <p:cNvSpPr/>
            <p:nvPr/>
          </p:nvSpPr>
          <p:spPr>
            <a:xfrm>
              <a:off x="873000" y="2320920"/>
              <a:ext cx="7683480" cy="811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猴翁一天内喂给猴子的橡子总数有变化吗？他是怎样使猴子们满意的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矩形 4"/>
          <p:cNvSpPr/>
          <p:nvPr/>
        </p:nvSpPr>
        <p:spPr>
          <a:xfrm>
            <a:off x="892080" y="3305160"/>
            <a:ext cx="766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总量没有变，他只是顺着猴子们的喜怒心理调换了一下早晚的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844560" y="1998720"/>
            <a:ext cx="76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众狙皆悦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3"/>
          <p:cNvGrpSpPr/>
          <p:nvPr/>
        </p:nvGrpSpPr>
        <p:grpSpPr>
          <a:xfrm>
            <a:off x="873000" y="2633760"/>
            <a:ext cx="7683480" cy="558720"/>
            <a:chOff x="873000" y="2633760"/>
            <a:chExt cx="7683480" cy="558720"/>
          </a:xfrm>
        </p:grpSpPr>
        <p:sp>
          <p:nvSpPr>
            <p:cNvPr id="95" name="直接连接符 4"/>
            <p:cNvSpPr/>
            <p:nvPr/>
          </p:nvSpPr>
          <p:spPr>
            <a:xfrm>
              <a:off x="873000" y="319248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任意多边形 5"/>
            <p:cNvSpPr/>
            <p:nvPr/>
          </p:nvSpPr>
          <p:spPr>
            <a:xfrm>
              <a:off x="873000" y="263376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猴子们的情绪有何变化？原因是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矩形 1"/>
          <p:cNvSpPr/>
          <p:nvPr/>
        </p:nvSpPr>
        <p:spPr>
          <a:xfrm>
            <a:off x="873000" y="3440160"/>
            <a:ext cx="782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猴子们转怒为喜，是因为它们没有看清狙公愚弄它们的骗术，自以为胜利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885960" y="2087640"/>
            <a:ext cx="7683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积累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朝三暮四”是出自寓言故事的成语，你还知道哪些出自寓言故事的成语？请写出四个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图片 24" descr="花盆.png"/>
          <p:cNvPicPr/>
          <p:nvPr/>
        </p:nvPicPr>
        <p:blipFill>
          <a:blip r:embed="rId1"/>
          <a:stretch/>
        </p:blipFill>
        <p:spPr>
          <a:xfrm>
            <a:off x="642960" y="224172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976320" y="3778200"/>
            <a:ext cx="744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示例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愚公移山、画蛇添足、掩耳盗铃、亡羊补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2T01:00:46Z</dcterms:modified>
  <cp:revision>4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