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3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WordArt 3" descr=""/>
          <p:cNvPicPr/>
          <p:nvPr/>
        </p:nvPicPr>
        <p:blipFill>
          <a:blip r:embed="rId1"/>
          <a:stretch/>
        </p:blipFill>
        <p:spPr>
          <a:xfrm>
            <a:off x="1047600" y="1420920"/>
            <a:ext cx="6810480" cy="3370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79160" y="582120"/>
            <a:ext cx="8388360" cy="524844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262080" y="3153960"/>
            <a:ext cx="8588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哪里看出这是一个坚定的锡兵？他为什么这么坚定。     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划出文中让你感受到锡兵非常坚定的语句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906280" y="1290600"/>
            <a:ext cx="251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默读课文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val 6"/>
          <p:cNvSpPr/>
          <p:nvPr/>
        </p:nvSpPr>
        <p:spPr>
          <a:xfrm>
            <a:off x="609480" y="770040"/>
            <a:ext cx="1611360" cy="652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727200" y="870120"/>
            <a:ext cx="14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合作探究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92440" y="1103040"/>
            <a:ext cx="4557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全文分为三部分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46200" y="2254320"/>
            <a:ext cx="6197760" cy="349560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一部分  第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—4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自然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二部分  第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—1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自然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三部分  第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4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自然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93280"/>
            <a:ext cx="822960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第一部分   </a:t>
            </a:r>
            <a:r>
              <a:rPr b="0" lang="zh-CN" sz="33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1——4</a:t>
            </a:r>
            <a:r>
              <a:rPr b="0" lang="zh-CN" sz="3300" spc="-1" strike="noStrike">
                <a:solidFill>
                  <a:srgbClr val="000000"/>
                </a:solidFill>
                <a:latin typeface="Calibri"/>
              </a:rPr>
              <a:t>）自然段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19120" y="150336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写在小男孩的玩具中，一个一条腿的锡兵想保护用一条腿站着跳舞的小姑娘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1303200" y="2847960"/>
            <a:ext cx="563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40000"/>
                </a:solidFill>
                <a:latin typeface="Comic Sans MS"/>
              </a:rPr>
              <a:t>思考：锡兵想保护小姑娘的原因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749160" y="3903840"/>
            <a:ext cx="7696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、以为小姑娘像自己一样，只有一条腿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、怕这位弱不禁风的小姑娘被碰倒了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、他认为自己是一个锡兵，有责任保护她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（这也是最重要的原因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597960"/>
            <a:ext cx="8229600" cy="552780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       </a:t>
            </a:r>
            <a:br>
              <a:rPr sz="1400"/>
            </a:b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多么可爱的小姑娘啊！”他心里想，“可是她也只有一条腿。我们倒可以做朋友，我一定会好好保护她的，因为我是一个锡兵。”他真怕这位弱不禁风的小姑娘被风吹倒了，被小男孩儿碰倒了，或是被别的玩具撞倒了。他直直地望着她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她一直是用一条腿站着，丝毫没有失去平衡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   从这里你读懂了什么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1" lang="zh-CN" sz="2800" spc="-1" strike="noStrike">
                <a:solidFill>
                  <a:srgbClr val="ff0066"/>
                </a:solidFill>
                <a:latin typeface="Calibri"/>
              </a:rPr>
              <a:t>（ 锡兵非常同情、怜悯跳舞的小姑娘，他打定主意要保护她。）</a:t>
            </a:r>
            <a:br>
              <a:rPr sz="2800"/>
            </a:br>
            <a:r>
              <a:rPr b="1" lang="zh-CN" sz="2800" spc="-1" strike="noStrike">
                <a:solidFill>
                  <a:srgbClr val="ff0066"/>
                </a:solidFill>
                <a:latin typeface="Calibri"/>
              </a:rPr>
              <a:t>    读出他态度的坚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09880" y="694800"/>
            <a:ext cx="6256080" cy="8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第二部分  </a:t>
            </a:r>
            <a:r>
              <a:rPr b="0" lang="zh-CN" sz="33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5——13</a:t>
            </a:r>
            <a:r>
              <a:rPr b="0" lang="zh-CN" sz="3300" spc="-1" strike="noStrike">
                <a:solidFill>
                  <a:srgbClr val="000000"/>
                </a:solidFill>
                <a:latin typeface="Calibri"/>
              </a:rPr>
              <a:t>）自然段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02880"/>
            <a:ext cx="8229600" cy="45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写锡兵被风刮到楼下后，经历了一番旅行，最终又回到小男孩儿家中。在旅行中给他一直念念不忘回去保护需要他保护的人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4557960" y="43718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理清楚锡兵旅行的经历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锡兵下定决心要保护这个一条腿站立的跳舞的小姑娘，他忠于职守，整天直直地望着她，保护着她。有一天，小男孩在玩玩具时，不小心锡兵掉到大街上。开始了危险的旅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你还从哪感受到锡兵的坚定？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5"/>
          <p:cNvSpPr/>
          <p:nvPr/>
        </p:nvSpPr>
        <p:spPr>
          <a:xfrm>
            <a:off x="230040" y="930240"/>
            <a:ext cx="8561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  <a:ea typeface="黑体"/>
              </a:rPr>
              <a:t>在倾盆大雨中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  <a:ea typeface="黑体"/>
              </a:rPr>
              <a:t>锡兵倒立着，水流哗哗地冲刷着他的身体。。。。。。可是他依然一动不动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  <a:ea typeface="黑体"/>
              </a:rPr>
              <a:t>，默默想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  <a:ea typeface="黑体"/>
              </a:rPr>
              <a:t>他身体那么柔弱，一定需要我的保护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  <a:ea typeface="黑体"/>
              </a:rPr>
              <a:t>当水沟中湍急的水流、骇人的巨浪冲得他头晕时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  <a:ea typeface="黑体"/>
              </a:rPr>
              <a:t>他依然牢牢地站着，肩上扛着长枪，眼睛坚定地向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  <a:ea typeface="黑体"/>
              </a:rPr>
              <a:t>看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  <a:ea typeface="黑体"/>
              </a:rPr>
              <a:t>，他想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  <a:ea typeface="黑体"/>
              </a:rPr>
              <a:t>我会回去的，我一定会回去的，因为那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  <a:ea typeface="黑体"/>
              </a:rPr>
              <a:t>有我要保护的人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  <a:ea typeface="黑体"/>
              </a:rPr>
              <a:t>当他被冲进大河，他还是挺直了身子，紧紧扛着他的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  <a:ea typeface="黑体"/>
              </a:rPr>
              <a:t>长枪，心里充满着希望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  <a:ea typeface="黑体"/>
              </a:rPr>
              <a:t>我一定能回去，因为那里有我要保护的人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  <a:ea typeface="黑体"/>
              </a:rPr>
              <a:t>就是在狭小的鱼肚子里，他依然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  <a:ea typeface="黑体"/>
              </a:rPr>
              <a:t>没有放弃自己的想法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5"/>
          <p:cNvSpPr/>
          <p:nvPr/>
        </p:nvSpPr>
        <p:spPr>
          <a:xfrm>
            <a:off x="1563120" y="1362240"/>
            <a:ext cx="5252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锡兵在危险的旅行中，从没有放弃过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华文新魏"/>
              </a:rPr>
              <a:t>一定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华文新魏"/>
              </a:rPr>
              <a:t>回去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的想法，他总是那样坚定，总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紧紧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扛着长枪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，因为他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锡兵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，因为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华文新魏"/>
              </a:rPr>
              <a:t>那里有他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华文新魏"/>
              </a:rPr>
              <a:t>保护的人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这些描写为我们刻画出一个心地善良、坚定执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着，又富有责任心的可爱的锡兵形象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985320"/>
            <a:ext cx="8229600" cy="101124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第三部分    </a:t>
            </a:r>
            <a:r>
              <a:rPr b="0" lang="zh-CN" sz="3300" spc="-1" strike="noStrike">
                <a:solidFill>
                  <a:srgbClr val="000000"/>
                </a:solidFill>
                <a:latin typeface="Calibri"/>
              </a:rPr>
              <a:t>第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zh-CN" sz="3300" spc="-1" strike="noStrike">
                <a:solidFill>
                  <a:srgbClr val="000000"/>
                </a:solidFill>
                <a:latin typeface="Calibri"/>
              </a:rPr>
              <a:t>自然段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9960" y="2892600"/>
            <a:ext cx="8229600" cy="18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写锡兵又回到以前的房间，依然紧握长枪，保护着他要保护的人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Oval 4"/>
          <p:cNvSpPr/>
          <p:nvPr/>
        </p:nvSpPr>
        <p:spPr>
          <a:xfrm>
            <a:off x="609480" y="682560"/>
            <a:ext cx="1611360" cy="652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57560" y="754200"/>
            <a:ext cx="3641760" cy="93960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Calibri"/>
              </a:rPr>
              <a:t>想一想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7632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结合课文内容说说锡兵的“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坚定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”都表现在哪些地方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从他的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坚定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中，我们看到一种怎样的品质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709560" y="75420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展示提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Oval 6"/>
          <p:cNvSpPr/>
          <p:nvPr/>
        </p:nvSpPr>
        <p:spPr>
          <a:xfrm>
            <a:off x="609480" y="696960"/>
            <a:ext cx="1611360" cy="652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Text Box 2"/>
          <p:cNvSpPr/>
          <p:nvPr/>
        </p:nvSpPr>
        <p:spPr>
          <a:xfrm>
            <a:off x="2722680" y="682560"/>
            <a:ext cx="607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汉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克里斯蒂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徒生丹麦作家，童话大师。，被尊为现代童话之父，以诗意而又幽默的笔调，改变了现代童话的面貌，开启了创作童话的先河。安徒生的作品中闪耀着普遍的人性的光辉，超越了不同国家、种族与文化，被世界各地的人们反复传诵。安徒生童话所取得的巨大艺术成就和思想成就，至今仍无人能够企及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安徒生从小就为贫困所折磨，先后在几家店铺里做学徒，没有受过正规教育。少年时代即对舞台发生兴趣，幻想当一名歌唱家、演员或剧作家。他还写过戏剧、小说、诗歌、游记和几本自传。</a:t>
            </a: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代表作有</a:t>
            </a: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《</a:t>
            </a: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海的女儿</a:t>
            </a: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》</a:t>
            </a: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、</a:t>
            </a: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《</a:t>
            </a: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丑小鸭</a:t>
            </a: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》</a:t>
            </a: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、</a:t>
            </a: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《</a:t>
            </a: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卖火柴的小女孩</a:t>
            </a: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》</a:t>
            </a: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、</a:t>
            </a: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《</a:t>
            </a: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拇指姑娘</a:t>
            </a: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》</a:t>
            </a: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、</a:t>
            </a: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《</a:t>
            </a: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野天鹅</a:t>
            </a: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》</a:t>
            </a: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、</a:t>
            </a: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《</a:t>
            </a: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皇帝的新装</a:t>
            </a: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》</a:t>
            </a: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等。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" name="Picture 4" descr="102657_1212631216854_701467188_1"/>
          <p:cNvPicPr/>
          <p:nvPr/>
        </p:nvPicPr>
        <p:blipFill>
          <a:blip r:embed="rId1"/>
          <a:stretch/>
        </p:blipFill>
        <p:spPr>
          <a:xfrm>
            <a:off x="463680" y="1568520"/>
            <a:ext cx="1895400" cy="4798800"/>
          </a:xfrm>
          <a:prstGeom prst="rect">
            <a:avLst/>
          </a:prstGeom>
          <a:ln w="0">
            <a:noFill/>
          </a:ln>
        </p:spPr>
      </p:pic>
      <p:sp>
        <p:nvSpPr>
          <p:cNvPr id="40" name="Rectangle 5"/>
          <p:cNvSpPr/>
          <p:nvPr/>
        </p:nvSpPr>
        <p:spPr>
          <a:xfrm>
            <a:off x="687240" y="803160"/>
            <a:ext cx="14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情景导入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84200" y="1213920"/>
            <a:ext cx="8229600" cy="45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角色换位：假如你就是锡兵，在危险面前，你怕不怕？你为什么心里还想着保护哪个小姑娘，而不担心自己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    把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自然段的“锡兵”换成“我”读一读。表达出自己不怕危险，坚定的决心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6"/>
          <p:cNvSpPr/>
          <p:nvPr/>
        </p:nvSpPr>
        <p:spPr>
          <a:xfrm>
            <a:off x="609480" y="841320"/>
            <a:ext cx="1611360" cy="652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95440" y="1960560"/>
            <a:ext cx="7851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1258920" y="2311200"/>
            <a:ext cx="691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如果有一天，你发现小姑娘有健全的两条腿，你还会保护她吗？为什么呢？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709560" y="91296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坚定的锡兵03"/>
          <p:cNvPicPr/>
          <p:nvPr/>
        </p:nvPicPr>
        <p:blipFill>
          <a:blip r:embed="rId1"/>
          <a:stretch/>
        </p:blipFill>
        <p:spPr>
          <a:xfrm>
            <a:off x="4341960" y="2992320"/>
            <a:ext cx="4362480" cy="3022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坚定的锡兵04"/>
          <p:cNvPicPr/>
          <p:nvPr/>
        </p:nvPicPr>
        <p:blipFill>
          <a:blip r:embed="rId2"/>
          <a:srcRect l="0" t="0" r="0" b="945"/>
          <a:stretch/>
        </p:blipFill>
        <p:spPr>
          <a:xfrm>
            <a:off x="353880" y="2963880"/>
            <a:ext cx="3984840" cy="30798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8"/>
          <p:cNvSpPr/>
          <p:nvPr/>
        </p:nvSpPr>
        <p:spPr>
          <a:xfrm>
            <a:off x="1227240" y="1424160"/>
            <a:ext cx="70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读了这篇童话，你有什么想法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坚定的锡兵"/>
          <p:cNvPicPr/>
          <p:nvPr/>
        </p:nvPicPr>
        <p:blipFill>
          <a:blip r:embed="rId1"/>
          <a:stretch/>
        </p:blipFill>
        <p:spPr>
          <a:xfrm>
            <a:off x="468360" y="709560"/>
            <a:ext cx="8283600" cy="573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安徒生童话中的人物形形色色，让人爱怜的卖火柴的小女孩儿，有令人敬佩的丑小鸭，有使人发笑的皇帝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今天，我们从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坚定地锡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中看到一位怎样的人物呢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描绘了一个善良、勇敢、尽职尽责的锡兵形象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609480" y="696960"/>
            <a:ext cx="1611360" cy="652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44480" y="825480"/>
            <a:ext cx="4500360" cy="88272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自学课文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890720"/>
            <a:ext cx="8229600" cy="4525920"/>
          </a:xfrm>
          <a:prstGeom prst="rect">
            <a:avLst/>
          </a:prstGeom>
          <a:solidFill>
            <a:srgbClr val="eeece1"/>
          </a:solidFill>
          <a:ln w="9360">
            <a:solidFill>
              <a:srgbClr val="eeece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＊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小声读课文，初步了解课文的内容，思考课文写了一件什么事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＊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画出带有生字的词语和不理解的词语，并联系上下文、查字典理解词语的意思，标出自然段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＊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提出不懂的问题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687240" y="803160"/>
            <a:ext cx="16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自主学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2373480" y="1641600"/>
            <a:ext cx="42955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zh-CN" sz="3000" spc="-1" strike="noStrike">
                <a:solidFill>
                  <a:srgbClr val="011a5f"/>
                </a:solidFill>
                <a:latin typeface="Comic Sans MS"/>
              </a:rPr>
              <a:t>课文讲的是在小男孩儿玩具中，有一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11a5f"/>
                </a:solidFill>
                <a:latin typeface="Comic Sans MS"/>
              </a:rPr>
              <a:t>个锡兵，只有一条腿，但他总是坚定地站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11a5f"/>
                </a:solidFill>
                <a:latin typeface="Comic Sans MS"/>
              </a:rPr>
              <a:t>着，并一直想保护用一条腿站着跳舞的小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11a5f"/>
                </a:solidFill>
                <a:latin typeface="Comic Sans MS"/>
              </a:rPr>
              <a:t>姑娘。他认为这是一个锡兵的责任。锡兵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11a5f"/>
                </a:solidFill>
                <a:latin typeface="Comic Sans MS"/>
              </a:rPr>
              <a:t>被风从三楼的窗台刮下去了，经历了许多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11a5f"/>
                </a:solidFill>
                <a:latin typeface="Comic Sans MS"/>
              </a:rPr>
              <a:t>艰险，但他都坚定地想着：一定会回去，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11a5f"/>
                </a:solidFill>
                <a:latin typeface="Comic Sans MS"/>
              </a:rPr>
              <a:t>保护需要保护的人。他终于回到了以前那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11a5f"/>
                </a:solidFill>
                <a:latin typeface="Comic Sans MS"/>
              </a:rPr>
              <a:t>个房间，继续手握长枪履行自己的职责。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6600" y="878040"/>
            <a:ext cx="7315200" cy="197136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铸成   宫殿   弱不禁风   旋涡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狭小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骇人   缎带    狭小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690560" y="2695680"/>
            <a:ext cx="4572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Comic Sans MS"/>
              </a:rPr>
              <a:t>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Comic Sans MS"/>
              </a:rPr>
              <a:t>殿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Comic Sans MS"/>
              </a:rPr>
              <a:t>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Comic Sans MS"/>
              </a:rPr>
              <a:t>涡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Comic Sans MS"/>
              </a:rPr>
              <a:t>狭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3305880" y="2720880"/>
            <a:ext cx="10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zh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3312720" y="3430440"/>
            <a:ext cx="122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ià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333600" y="4070520"/>
            <a:ext cx="129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u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3415320" y="4721400"/>
            <a:ext cx="92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ō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3433680" y="5332320"/>
            <a:ext cx="9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xiá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WordArt 10"/>
          <p:cNvSpPr txBox="1"/>
          <p:nvPr/>
        </p:nvSpPr>
        <p:spPr>
          <a:xfrm>
            <a:off x="5889600" y="4346640"/>
            <a:ext cx="1416240" cy="13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97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会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0" y="623880"/>
            <a:ext cx="4194000" cy="8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词语解释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Calibri"/>
              </a:rPr>
              <a:t>铸成：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把金属加热溶化后倒入砂型或模子里，冷却后凝固成器物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Calibri"/>
              </a:rPr>
              <a:t>点缀：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加以衬托或装饰，使原有事物更加美好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Calibri"/>
              </a:rPr>
              <a:t>弱不禁（</a:t>
            </a:r>
            <a:r>
              <a:rPr b="1" lang="en-US" sz="3000" spc="-1" strike="noStrike">
                <a:solidFill>
                  <a:srgbClr val="ff3300"/>
                </a:solidFill>
                <a:latin typeface="Calibri"/>
              </a:rPr>
              <a:t>j</a:t>
            </a: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ī</a:t>
            </a:r>
            <a:r>
              <a:rPr b="1" lang="en-US" sz="3000" spc="-1" strike="noStrike">
                <a:solidFill>
                  <a:srgbClr val="ff3300"/>
                </a:solidFill>
                <a:latin typeface="Calibri"/>
              </a:rPr>
              <a:t>n)</a:t>
            </a:r>
            <a:r>
              <a:rPr b="1" lang="zh-CN" sz="3000" spc="-1" strike="noStrike">
                <a:solidFill>
                  <a:srgbClr val="ff3300"/>
                </a:solidFill>
                <a:latin typeface="Calibri"/>
              </a:rPr>
              <a:t>风：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形容身体虚弱，连风吹都坚持不住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Calibri"/>
              </a:rPr>
              <a:t>倒栽葱：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摔倒时头先着地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Calibri"/>
              </a:rPr>
              <a:t>湍急：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水势急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Calibri"/>
              </a:rPr>
              <a:t>骇人：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使人非常吃惊害怕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{8{08QOML~XJ_}~52AP~R04"/>
          <p:cNvPicPr/>
          <p:nvPr/>
        </p:nvPicPr>
        <p:blipFill>
          <a:blip r:embed="rId1"/>
          <a:stretch/>
        </p:blipFill>
        <p:spPr>
          <a:xfrm>
            <a:off x="425520" y="730080"/>
            <a:ext cx="3619440" cy="54864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3836880" y="512640"/>
            <a:ext cx="5048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坚定的锡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写的是谁？突出写他的什么？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834440" y="36399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（坚定）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1" name="Picture 6" descr="UU8O4T]%6$)7X_8RCU6C}3B"/>
          <p:cNvPicPr/>
          <p:nvPr/>
        </p:nvPicPr>
        <p:blipFill>
          <a:blip r:embed="rId2"/>
          <a:stretch/>
        </p:blipFill>
        <p:spPr>
          <a:xfrm>
            <a:off x="7218360" y="2327400"/>
            <a:ext cx="1266840" cy="3914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dc:language>en-US</dc:language>
  <cp:lastModifiedBy>china</cp:lastModifiedBy>
  <dcterms:modified xsi:type="dcterms:W3CDTF">2017-11-06T14:39:57Z</dcterms:modified>
  <cp:revision>1506</cp:revision>
  <dc:subject/>
  <dc:title>幻灯片 1</dc:title>
</cp:coreProperties>
</file>