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EB42-F1D4-4647-B02B-4547C049C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178B-9365-427E-AFA1-0254C434B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F638-4571-45DF-B45B-2899BFA8F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543A-AA4C-44CC-85AF-693DF4A8C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A98A-71F3-4335-84F0-20498352A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36BE-74ED-459E-9A43-4DDFB85E0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EDD4-8848-40E7-AF5A-2C3159D0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723E-E3F2-4C02-B7A7-A2127333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E0BD-9AC6-4A1B-B809-B0F8459A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0CCE-5552-4A63-8614-32F329D7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8F38-56BD-49A0-8D9D-DA0557E5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C710-4EDC-4841-93DB-ED0ED3BE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0305-5FED-4CF3-9250-442ABCCD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11B1-08DA-4FA4-8CE9-C18FB917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E655-0BC3-4261-83D3-4C799D48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E810-82CD-41D1-AD36-2BE1CAC2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D1A8-9939-4D32-994E-2B5DE592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DDCC-FFB1-4BD7-B0EE-11741C2D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AD5F-28DF-4E84-AB7B-8BAA1B4C3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2057400" y="2260440"/>
            <a:ext cx="4952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0" spc="-1" strike="noStrike">
                <a:solidFill>
                  <a:srgbClr val="cc3300"/>
                </a:solidFill>
                <a:latin typeface="黑体"/>
                <a:ea typeface="黑体"/>
              </a:rPr>
              <a:t>变 色 龙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447920" y="457200"/>
            <a:ext cx="7162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文章结构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5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. </a:t>
            </a:r>
            <a:r>
              <a:rPr b="1" lang="en-US" sz="54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0" lang="zh-CN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变色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5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. </a:t>
            </a:r>
            <a:r>
              <a:rPr b="1" lang="en-US" sz="54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0" lang="zh-CN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变色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5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3. </a:t>
            </a:r>
            <a:r>
              <a:rPr b="0" lang="en-US" sz="54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0" lang="zh-CN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变色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2895480" y="20574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发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895480" y="342900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端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895480" y="472428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放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755280" y="850680"/>
            <a:ext cx="698508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们”怎么发现变色龙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016720" y="4508640"/>
            <a:ext cx="233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小李说它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387880" y="5276880"/>
            <a:ext cx="258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怪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蛇  似蛇非蛇的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怪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052720" y="1484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发现它容易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684360" y="227664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这里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李用手一指，豆藤上真的挂着一条绿莹莹的四脚小蛇，皮肤和豆叶一模一样，很难发现。这是条身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厘米左右、似蛇非蛇的怪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755640" y="907920"/>
            <a:ext cx="75614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豆藤上真的挂着一条绿莹莹的四脚小蛇，皮肤和豆叶一模一样，很难发现。这是条身长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左右似蛇非蛇的怪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04560" y="1828800"/>
            <a:ext cx="8515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细细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端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着：这条变色龙全身翠绿。椭圆形的头上长着三角形的嘴，两眼凸起，凶相毕露。身躯呈长筒状，隆起的背部酷似龟背，腹部两侧长着四只短脚，尾巴尖细。尽管我们大声叫喊，对着它指手画脚，它却依然一动也不动。</a:t>
            </a:r>
            <a:br>
              <a:rPr sz="40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905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细细端详着：这条变色龙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全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翠绿。椭圆形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上长着三角形的嘴，两眼凸起，凶相毕露。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身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呈长筒状，隆起的背部酷似龟背，腹部两侧长着四只短脚，尾巴尖细。尽管我们大声叫喊，对着它指手画脚，它却依然一动也不动。</a:t>
            </a:r>
            <a:br>
              <a:rPr sz="4400"/>
            </a:b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小组交流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         </a:t>
            </a:r>
            <a:r>
              <a:rPr b="0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通过作者对变色龙的外貌描写，你对这位新朋友有哪些了解呢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756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细细端详着：这条变色龙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全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翠绿。椭圆形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上长着三角形的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两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凸起，凶相毕露。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身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呈长筒状，隆起的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背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酷似龟背，腹部两侧长着四只短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尾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尖细。尽管我们大声叫喊，对着它指手画脚，它却依然一动也不动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539640" y="4221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除了一个“怪”字，变色龙还给作者留下什么印象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611280" y="5589720"/>
            <a:ext cx="799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变色龙如此迟钝，如何捕捉食物呢？”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135640" cy="54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你别看它可以连续几个小时挂在枝叶上一动不动，但它是似睡非睡地窥探着，伺机捕捉昆虫。它的每只眼睛都能单独转来转去，分别观望四面八方的东西。当它的两只眼睛同时注视着前方时，就会产生一种立体感，准确地判断自己与昆虫之间的距离，用舌头捕获食物。”中非工人朋加沙绘声绘色地向我们介绍着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68360" y="429264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它的眼睛有什么特点？对于捕食有什么帮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1360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你别看它可以连续几个小时挂在枝叶上一动不动，但它是似睡非睡地窥探着，伺机捕捉昆虫。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它的每只眼睛都能单独转来转去，分别观望四面八方的东西。当它的两只眼睛同时注视着前方时，就会产生一种立体感，准确地判断自己与昆虫之间的距离，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用舌头捕获食物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。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中非工人朋加沙绘声绘色地向我们介绍着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304920" y="1066680"/>
            <a:ext cx="8458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一只色彩缤纷的蝴蝶飞过来，离变色龙还有相当的距离，似睡非睡的变色龙，以迅雷不及掩耳之势，“刷”地伸出它那长得惊人的舌头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舌头的长度超过它身长的一倍，刹那间，那只彩蝶已被卷入它的口中，成为美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82296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黑体"/>
                <a:ea typeface="黑体"/>
              </a:rPr>
              <a:t>震惊  豆藤　长筒状　端详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黑体"/>
                <a:ea typeface="黑体"/>
              </a:rPr>
              <a:t>椭圆　腹部　距离　介绍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黑体"/>
                <a:ea typeface="黑体"/>
              </a:rPr>
              <a:t>刹那间 香蕉　棕色　判断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黑体"/>
                <a:ea typeface="黑体"/>
              </a:rPr>
              <a:t>迟钝　伺机　绘声绘色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黑体"/>
                <a:ea typeface="黑体"/>
              </a:rPr>
              <a:t>名副其实    凶相毕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变色龙真的会变色吗？”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“真的，不信，马上试试看。”朋加沙抓起变色龙，先把它放在香蕉叶上，它的皮肤变成了香蕉叶色。接着，又把变色龙放在棕色的泥土上，我们眼看着它慢慢地从绿色变为棕色。再把它放在水泥板上，又从棕色变为浅灰色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黑体"/>
              </a:rPr>
              <a:t>变色龙，果然名副其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380880" y="1219320"/>
            <a:ext cx="8534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99"/>
                </a:solidFill>
                <a:latin typeface="Arial"/>
              </a:rPr>
              <a:t>探究延伸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放回变色龙，是为什么？又使你想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我们该怎样对待像变色龙这样的小动物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533520" y="198108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楷体_GB2312"/>
              </a:rPr>
              <a:t>仔细</a:t>
            </a:r>
            <a:r>
              <a:rPr b="1" lang="zh-CN" sz="54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观察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楷体_GB2312"/>
              </a:rPr>
              <a:t>，抓住</a:t>
            </a:r>
            <a:r>
              <a:rPr b="1" lang="zh-CN" sz="54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特点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楷体_GB2312"/>
              </a:rPr>
              <a:t>，注意按一定</a:t>
            </a:r>
            <a:r>
              <a:rPr b="1" lang="zh-CN" sz="54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顺序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楷体_GB2312"/>
              </a:rPr>
              <a:t>来写。</a:t>
            </a:r>
            <a:r>
              <a:rPr b="0" lang="zh-CN" sz="6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762120" y="11430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描写动物的方法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猜词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仔细地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凶恶的相貌完全暴露出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暗中或打听察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窥伺时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容叙述、描写生动逼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称或名声与实际相符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24000" y="404640"/>
            <a:ext cx="28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68360" y="26028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前置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276720" y="1557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端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516720" y="2492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6156360" y="213372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凶相毕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5550120" y="28335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窥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894480" y="3338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伺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6455520" y="3986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绘声绘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6526800" y="4797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名副其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619280" y="836280"/>
            <a:ext cx="64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发现变色龙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端详变色龙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放回变色龙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1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828800" y="1676520"/>
            <a:ext cx="535140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蚂蚱"/>
          <p:cNvPicPr/>
          <p:nvPr/>
        </p:nvPicPr>
        <p:blipFill>
          <a:blip r:embed="rId2"/>
          <a:stretch/>
        </p:blipFill>
        <p:spPr>
          <a:xfrm>
            <a:off x="1905120" y="16765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3"/>
          <p:cNvPicPr/>
          <p:nvPr/>
        </p:nvPicPr>
        <p:blipFill>
          <a:blip r:embed="rId2"/>
          <a:stretch/>
        </p:blipFill>
        <p:spPr>
          <a:xfrm>
            <a:off x="2057400" y="167652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2"/>
          <p:cNvPicPr/>
          <p:nvPr/>
        </p:nvPicPr>
        <p:blipFill>
          <a:blip r:embed="rId2"/>
          <a:stretch/>
        </p:blipFill>
        <p:spPr>
          <a:xfrm>
            <a:off x="2133720" y="1752480"/>
            <a:ext cx="5283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2258692_103522000_2"/>
          <p:cNvPicPr/>
          <p:nvPr/>
        </p:nvPicPr>
        <p:blipFill>
          <a:blip r:embed="rId2"/>
          <a:srcRect l="0" t="0" r="5340" b="9594"/>
          <a:stretch/>
        </p:blipFill>
        <p:spPr>
          <a:xfrm>
            <a:off x="762120" y="1219320"/>
            <a:ext cx="739620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ina User</cp:lastModifiedBy>
  <dcterms:modified xsi:type="dcterms:W3CDTF">2017-10-26T14:16:42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