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23FDE-5389-4CCE-8A3F-3EA89AD495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2E54-EE1C-4F87-9B15-BF52221FD2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2D4CD-371A-4C5D-86DC-676E5F8B88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47750-4FC4-40E0-8F78-4F70399BA3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4D0E-FEC9-40D3-A3C0-41D4301331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81673-7F6B-46B9-9BC1-B7B822AF76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FA9-A2D3-4D6E-8802-C7091A89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63C-E3FE-4960-BF94-05924067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DAF-F9D4-4D12-BCA6-0B4F3806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C0B-589D-4C36-B5A8-19039D3B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EE0-61E4-46A8-9B76-AE25B84E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804-5A45-4031-80D4-2EF5BB7E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E6D-15A4-418A-9720-BC2FC2C0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E1C-A0C3-46D0-BA3E-93A8EB1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925-AE21-4D0C-80EA-B35A931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B86-B33A-4388-95BD-381668B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63B-9657-40FE-AA98-D22B419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72B-6143-42F7-BE83-82CC3A7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B502E-F1C6-4830-B003-76476E9A99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1835280" y="2152800"/>
            <a:ext cx="5424480" cy="34495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222720"/>
            <a:ext cx="3186000" cy="1150920"/>
            <a:chOff x="3086280" y="322272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222720"/>
              <a:ext cx="2729520" cy="110124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307680"/>
              <a:ext cx="911160" cy="9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65560"/>
              <a:ext cx="3186000" cy="11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995560" y="905040"/>
            <a:ext cx="5335560" cy="1180800"/>
            <a:chOff x="2995560" y="905040"/>
            <a:chExt cx="5335560" cy="1180800"/>
          </a:xfrm>
        </p:grpSpPr>
        <p:sp>
          <p:nvSpPr>
            <p:cNvPr id="65" name="Text Box 2"/>
            <p:cNvSpPr/>
            <p:nvPr/>
          </p:nvSpPr>
          <p:spPr>
            <a:xfrm>
              <a:off x="4254480" y="1011240"/>
              <a:ext cx="4076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跌倒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995560" y="905040"/>
              <a:ext cx="1181160" cy="1180800"/>
              <a:chOff x="2995560" y="905040"/>
              <a:chExt cx="118116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9955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32868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625320" y="954000"/>
            <a:ext cx="784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让我们在跌倒时     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用最美丽的姿势      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站起来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6"/>
          <p:cNvGrpSpPr/>
          <p:nvPr/>
        </p:nvGrpSpPr>
        <p:grpSpPr>
          <a:xfrm>
            <a:off x="873000" y="3076560"/>
            <a:ext cx="7683480" cy="560520"/>
            <a:chOff x="873000" y="3076560"/>
            <a:chExt cx="7683480" cy="560520"/>
          </a:xfrm>
        </p:grpSpPr>
        <p:sp>
          <p:nvSpPr>
            <p:cNvPr id="114" name="直接连接符 7"/>
            <p:cNvSpPr/>
            <p:nvPr/>
          </p:nvSpPr>
          <p:spPr>
            <a:xfrm>
              <a:off x="873000" y="36370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8"/>
            <p:cNvSpPr/>
            <p:nvPr/>
          </p:nvSpPr>
          <p:spPr>
            <a:xfrm>
              <a:off x="873000" y="307656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一小节作者表达了几层意思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892080" y="374184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小节有两层含义。一是不要害怕跌倒， 二是跌倒时要用“最美丽的姿势站起来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993600" y="375300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跌倒”指人生中所遇到的挫折与失败。“站起来”指人生中遇到挫折、失败、困难、逆境并不可怕，应该勇敢面对，重新开始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了本文后，你觉得“跌倒”“站起来”的含义分别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内容占位符 2"/>
          <p:cNvSpPr/>
          <p:nvPr/>
        </p:nvSpPr>
        <p:spPr>
          <a:xfrm>
            <a:off x="851040" y="2139840"/>
            <a:ext cx="7446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科诗中列举了哪些事物的跌倒？它们跌倒后出现了什么情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177920" y="3429000"/>
            <a:ext cx="68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写了“风、云、太阳”的跌倒。风跌倒后有了落叶，云跌倒后有了雨水，太阳跌倒后有了夜晚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内容占位符 2"/>
          <p:cNvSpPr/>
          <p:nvPr/>
        </p:nvSpPr>
        <p:spPr>
          <a:xfrm>
            <a:off x="635040" y="141912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625320" y="180828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应如何对待跌倒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039680" y="25178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不要害怕跌倒，在跌倒时要用最美丽的姿势站起来，勇敢面对，重新开始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804960" y="1820880"/>
            <a:ext cx="7645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诗最主要的写作方法是什么？起到什么表达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203480" y="2886120"/>
            <a:ext cx="70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主要的写作手法是象征。作者借助“风、云、太阳”跌倒后出现的另一番情景，来表现人生 中遇到挫折和失败时要勇敢面对、重新开始的深刻哲理，使诗歌立意高远，含蓄深刻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790560" y="1701720"/>
            <a:ext cx="746604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0" indent="-982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本文后，你明白了什么道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198440" y="2432160"/>
            <a:ext cx="68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首诗告诉我们跌倒并不可怕，但跌倒时一定要以“最美丽的姿势站起来”，勇敢走出人生的困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3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26"/>
          <p:cNvSpPr/>
          <p:nvPr/>
        </p:nvSpPr>
        <p:spPr>
          <a:xfrm>
            <a:off x="-27720" y="3157560"/>
            <a:ext cx="13993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跌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643040" y="2386080"/>
            <a:ext cx="28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风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美丽的落叶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左大括号 13"/>
          <p:cNvSpPr/>
          <p:nvPr/>
        </p:nvSpPr>
        <p:spPr>
          <a:xfrm>
            <a:off x="1440000" y="2308320"/>
            <a:ext cx="312480" cy="287964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15"/>
          <p:cNvSpPr/>
          <p:nvPr/>
        </p:nvSpPr>
        <p:spPr>
          <a:xfrm flipH="1">
            <a:off x="6474600" y="230364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6735600" y="32479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不害怕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观、坚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643040" y="3051000"/>
            <a:ext cx="31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云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滋润大地的雨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1643040" y="3718080"/>
            <a:ext cx="33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太阳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静谧的夜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1643040" y="4510080"/>
            <a:ext cx="5665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不再害怕跌倒</a:t>
            </a:r>
            <a:r>
              <a:rPr b="1" lang="en-US" sz="22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用最美丽的姿势站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左大括号 18"/>
          <p:cNvSpPr/>
          <p:nvPr/>
        </p:nvSpPr>
        <p:spPr>
          <a:xfrm flipH="1">
            <a:off x="4473720" y="2476440"/>
            <a:ext cx="480960" cy="1763640"/>
          </a:xfrm>
          <a:custGeom>
            <a:avLst/>
            <a:gdLst>
              <a:gd name="textAreaLeft" fmla="*/ 307800 w 480960"/>
              <a:gd name="textAreaRight" fmla="*/ 481680 w 480960"/>
              <a:gd name="textAreaTop" fmla="*/ 12240 h 1763640"/>
              <a:gd name="textAreaBottom" fmla="*/ 175140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26"/>
          <p:cNvSpPr/>
          <p:nvPr/>
        </p:nvSpPr>
        <p:spPr>
          <a:xfrm>
            <a:off x="4967280" y="3016080"/>
            <a:ext cx="54612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益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从风、云、太阳跌倒后出现的另一番情景写起，进而写到人跌倒了应该以美丽的姿势站起来，从而告诉我们，人生中遇到挫折、失败、困难、逆境并不可怕，应该勇敢面对，重新开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内容占位符 2"/>
          <p:cNvSpPr/>
          <p:nvPr/>
        </p:nvSpPr>
        <p:spPr>
          <a:xfrm>
            <a:off x="1201680" y="1828800"/>
            <a:ext cx="7300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黎明的时候，雨突然大了。像泼。像倒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山洪咆哮着，像一群受惊的野马，从山谷里疯狂奔出来，势不可当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村庄惊醒了。人们翻身下床，却一脚踩进水里。是谁惊慌地喊了一嗓子，一百多号人你拥我挤地往南跑。近一米高的洪水已经在路面上跳舞了。人们又疯了似的折回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东面、西面没有路。只有北面那座窄窄的木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死亡在洪水的狞笑声中逼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诗中的真情实感，明白人在跌倒后要勇敢地站起来，要有韧性和毅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悟优美的语言，学习“象征”的表达方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996840" y="1251000"/>
            <a:ext cx="72741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人们跌跌撞撞地向那木桥拥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木桥前，没腿深的水里，站着他们的党支部书记，那个全村人都拥戴的老汉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老汉清瘦的脸上流着雨水。他不说话，盯着乱哄哄的人们。他像一座山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人们停住脚，望着老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老汉沙哑地喊话：“桥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排成一队，不要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党员排在后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有人喊了一声：“党员也是人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有人响应：“这不是拍电影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839880" y="1081080"/>
            <a:ext cx="74991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老汉冷冷地说：“可以退党，到我这儿报名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竟没人再喊，一百多人很快排成队，依次从老汉身边奔上木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水渐渐窜上来，放肆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地舔着人们的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老汉突然冲上前，从队伍里揪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ji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出一个小伙子，吼道：“你还算是个党员吗？排到后面去！”老汉凶得像只豹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小伙子瞪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ng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了老汉一眼，站到了后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木桥开始发抖，开始痛苦地呻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水，爬上了老汉的胸膛。最后，只剩下了他和小伙子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内容占位符 2"/>
          <p:cNvSpPr/>
          <p:nvPr/>
        </p:nvSpPr>
        <p:spPr>
          <a:xfrm>
            <a:off x="839880" y="1098720"/>
            <a:ext cx="749916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小伙子推了老汉一把，说：“你先走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突然，那木桥轰地塌了。小伙子被洪水吞没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老汉似乎要喊什么，但，一个浪头也吞没了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一片白茫茫的世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五天以后，洪水退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一个老太太，被人搀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ch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扶着，来这里祭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j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奠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di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她来祭奠两个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楷体"/>
              </a:rPr>
              <a:t>她丈夫和她儿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893880" y="2130480"/>
            <a:ext cx="7532640" cy="359244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1042920" y="266220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宝剑锋从磨砺出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梅花香自苦寒来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警世贤文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勤奋篇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红军不怕远征难，万水千山只等闲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七律 长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毛泽东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408680" y="208116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名人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185840" y="25639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刘备早期颠沛流离，投靠过多个诸侯，后于赤壁之战与孙权联盟击败 曹操，趁势夺取荆州，而后进取益州，建立蜀汉政权。刘备为人谦和，礼贤下士，志向远大，知人善用，素以仁德为世人称赞， 是三国时期著名的政治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1"/>
          <p:cNvSpPr/>
          <p:nvPr/>
        </p:nvSpPr>
        <p:spPr>
          <a:xfrm>
            <a:off x="828720" y="2284560"/>
            <a:ext cx="7716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一首小诗歌，全文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节，以诗歌特有的节奏营造出一个深邃的思维空间，耐人寻味。这首诗以“跌倒”为题，采用比喻义，引发我们思考：处于人生的逆境之时，应该怎样面对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要害怕“跌倒”，跌倒并不可怕，但一定要“用最美的姿势站起来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846000" y="2884320"/>
            <a:ext cx="77155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这首小诗，除了“太阳”“风、云、落叶、雨水和夜晚”，都不宜用高昂的语调来读。 只有前面小节的深情、舒缓与后面小节的坚 定、昂扬，构成声音上的反差，诗的韵味才 能体现出来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小节一定要读出自己的坚 强、勇敢和努力。在熟读的基础上进行背诵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朗读示例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所以　让我们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不再害怕跌倒⌒让我们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在跌倒时用最美丽的姿势↗站起来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15"/>
          <p:cNvGrpSpPr/>
          <p:nvPr/>
        </p:nvGrpSpPr>
        <p:grpSpPr>
          <a:xfrm>
            <a:off x="814320" y="1589040"/>
            <a:ext cx="7661520" cy="1127520"/>
            <a:chOff x="814320" y="1589040"/>
            <a:chExt cx="7661520" cy="1127520"/>
          </a:xfrm>
        </p:grpSpPr>
        <p:sp>
          <p:nvSpPr>
            <p:cNvPr id="177" name="圆角矩形 14"/>
            <p:cNvSpPr/>
            <p:nvPr/>
          </p:nvSpPr>
          <p:spPr>
            <a:xfrm>
              <a:off x="814320" y="2106360"/>
              <a:ext cx="7661520" cy="61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374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有感情地朗读、背诵这首诗。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8" name="组合 10"/>
            <p:cNvGrpSpPr/>
            <p:nvPr/>
          </p:nvGrpSpPr>
          <p:grpSpPr>
            <a:xfrm>
              <a:off x="904320" y="1589040"/>
              <a:ext cx="1594080" cy="678240"/>
              <a:chOff x="904320" y="1589040"/>
              <a:chExt cx="1594080" cy="678240"/>
            </a:xfrm>
          </p:grpSpPr>
          <p:sp>
            <p:nvSpPr>
              <p:cNvPr id="179" name="任意多边形 11"/>
              <p:cNvSpPr/>
              <p:nvPr/>
            </p:nvSpPr>
            <p:spPr>
              <a:xfrm>
                <a:off x="1321560" y="1680120"/>
                <a:ext cx="1176840" cy="493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0" name="椭圆 12"/>
              <p:cNvGrpSpPr/>
              <p:nvPr/>
            </p:nvGrpSpPr>
            <p:grpSpPr>
              <a:xfrm>
                <a:off x="904320" y="1589040"/>
                <a:ext cx="700560" cy="678240"/>
                <a:chOff x="904320" y="1589040"/>
                <a:chExt cx="700560" cy="678240"/>
              </a:xfrm>
            </p:grpSpPr>
            <p:pic>
              <p:nvPicPr>
                <p:cNvPr id="181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589040"/>
                  <a:ext cx="700560" cy="67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017000" y="1694880"/>
                  <a:ext cx="4748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3"/>
          <p:cNvGrpSpPr/>
          <p:nvPr/>
        </p:nvGrpSpPr>
        <p:grpSpPr>
          <a:xfrm>
            <a:off x="814320" y="1109520"/>
            <a:ext cx="7810560" cy="1231200"/>
            <a:chOff x="814320" y="1109520"/>
            <a:chExt cx="7810560" cy="1231200"/>
          </a:xfrm>
        </p:grpSpPr>
        <p:grpSp>
          <p:nvGrpSpPr>
            <p:cNvPr id="184" name="组合 6"/>
            <p:cNvGrpSpPr/>
            <p:nvPr/>
          </p:nvGrpSpPr>
          <p:grpSpPr>
            <a:xfrm>
              <a:off x="823680" y="1224720"/>
              <a:ext cx="7801200" cy="1116000"/>
              <a:chOff x="823680" y="1224720"/>
              <a:chExt cx="7801200" cy="1116000"/>
            </a:xfrm>
          </p:grpSpPr>
          <p:sp>
            <p:nvSpPr>
              <p:cNvPr id="185" name="圆角矩形 7"/>
              <p:cNvSpPr/>
              <p:nvPr/>
            </p:nvSpPr>
            <p:spPr>
              <a:xfrm>
                <a:off x="823680" y="1629000"/>
                <a:ext cx="780120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你跌倒过吗？你害怕跌倒吗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任意多边形 10"/>
              <p:cNvSpPr/>
              <p:nvPr/>
            </p:nvSpPr>
            <p:spPr>
              <a:xfrm>
                <a:off x="1183320" y="1224720"/>
                <a:ext cx="2262600" cy="5025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109520"/>
              <a:ext cx="80352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Box 2"/>
          <p:cNvSpPr/>
          <p:nvPr/>
        </p:nvSpPr>
        <p:spPr>
          <a:xfrm>
            <a:off x="925560" y="281160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一道联系生活实际的题目。要结合自己的亲身经历，想一想在过去的岁月里，你曾经面对过哪些挫折和失败，自己是怎样面对挫折和失败的，再联系“最美丽的姿势” 来谈谈自己的感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2"/>
          <p:cNvGrpSpPr/>
          <p:nvPr/>
        </p:nvGrpSpPr>
        <p:grpSpPr>
          <a:xfrm>
            <a:off x="814320" y="1068480"/>
            <a:ext cx="7661520" cy="1226520"/>
            <a:chOff x="814320" y="1068480"/>
            <a:chExt cx="7661520" cy="1226520"/>
          </a:xfrm>
        </p:grpSpPr>
        <p:grpSp>
          <p:nvGrpSpPr>
            <p:cNvPr id="190" name="组合 6"/>
            <p:cNvGrpSpPr/>
            <p:nvPr/>
          </p:nvGrpSpPr>
          <p:grpSpPr>
            <a:xfrm>
              <a:off x="814320" y="1159920"/>
              <a:ext cx="7661520" cy="1135080"/>
              <a:chOff x="814320" y="1159920"/>
              <a:chExt cx="7661520" cy="1135080"/>
            </a:xfrm>
          </p:grpSpPr>
          <p:sp>
            <p:nvSpPr>
              <p:cNvPr id="191" name="圆角矩形 7"/>
              <p:cNvSpPr/>
              <p:nvPr/>
            </p:nvSpPr>
            <p:spPr>
              <a:xfrm>
                <a:off x="814320" y="158328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仿照第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小节，续写一两句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任意多边形 9"/>
              <p:cNvSpPr/>
              <p:nvPr/>
            </p:nvSpPr>
            <p:spPr>
              <a:xfrm>
                <a:off x="1069920" y="1159920"/>
                <a:ext cx="2544840" cy="5025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3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068480"/>
              <a:ext cx="74952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Box 2"/>
          <p:cNvSpPr/>
          <p:nvPr/>
        </p:nvSpPr>
        <p:spPr>
          <a:xfrm>
            <a:off x="909720" y="2448000"/>
            <a:ext cx="748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一个仿写的训练。原文中“风、云、 太阳”和“美丽的落叶、滋润大地的雨水、静谧的夜晚”是紧密相连的，仿写时要注意将选择的事物对应起来，并且要合乎情理。 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雾，跌倒了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才有了清晰的世界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山溪，跌倒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才有了壮美的瀑布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月亮，跌倒了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才有了光亮的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6"/>
          <p:cNvGrpSpPr/>
          <p:nvPr/>
        </p:nvGrpSpPr>
        <p:grpSpPr>
          <a:xfrm>
            <a:off x="814320" y="1060560"/>
            <a:ext cx="7661520" cy="1586160"/>
            <a:chOff x="814320" y="1060560"/>
            <a:chExt cx="7661520" cy="1586160"/>
          </a:xfrm>
        </p:grpSpPr>
        <p:grpSp>
          <p:nvGrpSpPr>
            <p:cNvPr id="196" name="组合 2"/>
            <p:cNvGrpSpPr/>
            <p:nvPr/>
          </p:nvGrpSpPr>
          <p:grpSpPr>
            <a:xfrm>
              <a:off x="814320" y="1192320"/>
              <a:ext cx="7661520" cy="1454400"/>
              <a:chOff x="814320" y="1192320"/>
              <a:chExt cx="7661520" cy="1454400"/>
            </a:xfrm>
          </p:grpSpPr>
          <p:sp>
            <p:nvSpPr>
              <p:cNvPr id="197" name="圆角矩形 4"/>
              <p:cNvSpPr/>
              <p:nvPr/>
            </p:nvSpPr>
            <p:spPr>
              <a:xfrm>
                <a:off x="814320" y="193500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阅读下面的短文，背诵其中的对联。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《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落第撰巨著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见教材第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22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页）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任意多边形 5"/>
              <p:cNvSpPr/>
              <p:nvPr/>
            </p:nvSpPr>
            <p:spPr>
              <a:xfrm>
                <a:off x="1214280" y="1192320"/>
                <a:ext cx="1436760" cy="5061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椭圆 7"/>
            <p:cNvGrpSpPr/>
            <p:nvPr/>
          </p:nvGrpSpPr>
          <p:grpSpPr>
            <a:xfrm>
              <a:off x="889920" y="1060560"/>
              <a:ext cx="755640" cy="714600"/>
              <a:chOff x="889920" y="1060560"/>
              <a:chExt cx="755640" cy="714600"/>
            </a:xfrm>
          </p:grpSpPr>
          <p:pic>
            <p:nvPicPr>
              <p:cNvPr id="200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060560"/>
                <a:ext cx="755640" cy="7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007640" y="1173600"/>
                <a:ext cx="51840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2" name="矩形 1"/>
          <p:cNvSpPr/>
          <p:nvPr/>
        </p:nvSpPr>
        <p:spPr>
          <a:xfrm>
            <a:off x="814320" y="3149640"/>
            <a:ext cx="766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作者简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蒲松龄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6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715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日），字留仙，号柳泉居士，世称聊斋先生，山东淄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今属淄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人，清代 文学家。出身于一个逐渐败落的地主家庭，广读经史，学识渊博。代表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聊斋志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是我国文言文短篇志怪小说中成就最高的作品集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8"/>
          <p:cNvSpPr/>
          <p:nvPr/>
        </p:nvSpPr>
        <p:spPr>
          <a:xfrm>
            <a:off x="843120" y="1203480"/>
            <a:ext cx="772776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[ </a:t>
            </a: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短文点拨 </a:t>
            </a: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]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这篇小短文，写的是蒲松龄志存 高远，以对联自勉自励，最后成为名载史册 的文学家的故事。篇幅虽短，却展现了一代 名家立志成才、大气豪放的神韵。 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[ </a:t>
            </a: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对联赏析 </a:t>
            </a: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]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上联用的是项羽破釜沉舟、大破 秦兵的典故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说明做事要有项羽那种拼搏到 底、义无反顾的决心。下联用的是越王勾践 卧薪尝胆、灭吴雪耻的典故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表示要学习越 王勾践刻苦自励、发愤图强的毅力。蒲松龄 撰下此联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就是激励自己在读书和创作上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要 像这两位人物一样，有不达目的、绝不罢休 的精神。此联对仗工整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命意含蓄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富有哲理， 其最大特点在于用典灵活有新意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上下联呼 应自然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一气贯下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如行云流水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7167"/>
          <p:cNvSpPr/>
          <p:nvPr/>
        </p:nvSpPr>
        <p:spPr>
          <a:xfrm>
            <a:off x="865080" y="2157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加点字选择正确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跌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滋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6" name="文本框 17"/>
          <p:cNvSpPr/>
          <p:nvPr/>
        </p:nvSpPr>
        <p:spPr>
          <a:xfrm>
            <a:off x="3381120" y="1342080"/>
            <a:ext cx="238140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663200" y="28926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1663200" y="34466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2388600" y="4005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"/>
          <p:cNvSpPr/>
          <p:nvPr/>
        </p:nvSpPr>
        <p:spPr>
          <a:xfrm>
            <a:off x="1274760" y="4233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5600" y="3124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"/>
          <p:cNvSpPr/>
          <p:nvPr/>
        </p:nvSpPr>
        <p:spPr>
          <a:xfrm>
            <a:off x="885600" y="367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7167"/>
          <p:cNvSpPr/>
          <p:nvPr/>
        </p:nvSpPr>
        <p:spPr>
          <a:xfrm>
            <a:off x="865080" y="2157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试　　势　　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　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样  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"/>
          <p:cNvSpPr/>
          <p:nvPr/>
        </p:nvSpPr>
        <p:spPr>
          <a:xfrm>
            <a:off x="2487600" y="339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2"/>
          <p:cNvSpPr/>
          <p:nvPr/>
        </p:nvSpPr>
        <p:spPr>
          <a:xfrm>
            <a:off x="371160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5463360" y="339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2487600" y="3882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3711600" y="389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5511600" y="3903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7167"/>
          <p:cNvSpPr/>
          <p:nvPr/>
        </p:nvSpPr>
        <p:spPr>
          <a:xfrm>
            <a:off x="865080" y="2157480"/>
            <a:ext cx="75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一字组多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润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246816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滋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3412800" y="280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滋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447336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滋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2444400" y="3398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润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3454200" y="337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湿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4544640" y="33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956120" y="26020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956120" y="37288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74960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74960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矩形 3"/>
          <p:cNvSpPr/>
          <p:nvPr/>
        </p:nvSpPr>
        <p:spPr>
          <a:xfrm>
            <a:off x="971640" y="14731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u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è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ě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è wǎn                             z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à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3"/>
          <p:cNvSpPr/>
          <p:nvPr/>
        </p:nvSpPr>
        <p:spPr>
          <a:xfrm>
            <a:off x="1966680" y="264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落 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4"/>
          <p:cNvSpPr/>
          <p:nvPr/>
        </p:nvSpPr>
        <p:spPr>
          <a:xfrm>
            <a:off x="1966680" y="3772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 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5002200" y="26510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 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6"/>
          <p:cNvSpPr/>
          <p:nvPr/>
        </p:nvSpPr>
        <p:spPr>
          <a:xfrm>
            <a:off x="5181120" y="375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姿 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47800" y="472428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矩形 1"/>
          <p:cNvSpPr/>
          <p:nvPr/>
        </p:nvSpPr>
        <p:spPr>
          <a:xfrm>
            <a:off x="1939680" y="4799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害 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语搭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落叶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夜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雨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1299960" y="239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1346400" y="296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最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1299960" y="350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静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7"/>
          <p:cNvSpPr/>
          <p:nvPr/>
        </p:nvSpPr>
        <p:spPr>
          <a:xfrm>
            <a:off x="1360800" y="404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滋润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"/>
          <p:cNvSpPr/>
          <p:nvPr/>
        </p:nvSpPr>
        <p:spPr>
          <a:xfrm>
            <a:off x="560520" y="1052640"/>
            <a:ext cx="818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六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拓展运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志者，事竟成，破釜沉舟，百二秦关终属楚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苦心人，天不负，卧薪尝胆，三千越甲可吞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这副对联的作者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他是文学巨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作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请找出这副对联中的两个成语写下来，并加以解释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上题中两个成语的主人公分别是楚汉时期的楚霸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春秋时期的越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3330720" y="2511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蒲松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5"/>
          <p:cNvSpPr/>
          <p:nvPr/>
        </p:nvSpPr>
        <p:spPr>
          <a:xfrm>
            <a:off x="6360480" y="249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聊斋志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958800" y="524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项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2231280" y="572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勾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947880" y="4240080"/>
            <a:ext cx="748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卧薪尝胆：睡觉睡在柴草上，吃饭、睡觉前都尝一尝苦胆。形容人刻苦自励，立志雪耻图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920880" y="3325680"/>
            <a:ext cx="710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破釜沉舟：把饭锅打破，把渡船凿沉。比喻下决心不顾一切地干到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诗中列举了哪些事物的跌倒？它们跌倒后出现了什么情景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284720"/>
              <a:ext cx="34560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我们应如何对待跌倒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32152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学习本文后，你明白了什么道理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3252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本诗最主要的写作方法是什么？起到什么表达作用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1852560"/>
                <a:ext cx="4219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读了本文后，你 觉得“跌倒”“站起来”的 含义分别是什么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898880" y="1335600"/>
                <a:ext cx="44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乐观、坚持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627120" y="1206360"/>
            <a:ext cx="7848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跌倒了       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才有了美丽的落叶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      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397980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风”在文中指秋风，“风，跌倒了”描绘的是秋风吹落叶子的情景。因为有了秋风的吹拂，树上的叶子才随风轻轻飘落，看上去是那么美丽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873000" y="2685960"/>
            <a:ext cx="7683480" cy="1176480"/>
            <a:chOff x="873000" y="2685960"/>
            <a:chExt cx="7683480" cy="1176480"/>
          </a:xfrm>
        </p:grpSpPr>
        <p:sp>
          <p:nvSpPr>
            <p:cNvPr id="87" name="直接连接符 6"/>
            <p:cNvSpPr/>
            <p:nvPr/>
          </p:nvSpPr>
          <p:spPr>
            <a:xfrm>
              <a:off x="873000" y="38624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任意多边形 7"/>
            <p:cNvSpPr/>
            <p:nvPr/>
          </p:nvSpPr>
          <p:spPr>
            <a:xfrm>
              <a:off x="873000" y="2685960"/>
              <a:ext cx="7683480" cy="117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里的“风跌倒了，”是什么样的情景？为什么说“风，跌倒了，才有了美丽的落叶”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695160" y="1663560"/>
            <a:ext cx="71247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云，跌倒了       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才有了滋润大地的雨水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    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太阳，跌倒了       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才有了静谧的夜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云形 9"/>
          <p:cNvGrpSpPr/>
          <p:nvPr/>
        </p:nvGrpSpPr>
        <p:grpSpPr>
          <a:xfrm>
            <a:off x="5986440" y="2627280"/>
            <a:ext cx="2925720" cy="993960"/>
            <a:chOff x="5986440" y="2627280"/>
            <a:chExt cx="2925720" cy="993960"/>
          </a:xfrm>
        </p:grpSpPr>
        <p:pic>
          <p:nvPicPr>
            <p:cNvPr id="92" name="云形 9" descr=""/>
            <p:cNvPicPr/>
            <p:nvPr/>
          </p:nvPicPr>
          <p:blipFill>
            <a:blip r:embed="rId1"/>
            <a:stretch/>
          </p:blipFill>
          <p:spPr>
            <a:xfrm>
              <a:off x="5986440" y="2627280"/>
              <a:ext cx="29257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193520" y="28576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排比、反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6"/>
          <p:cNvGrpSpPr/>
          <p:nvPr/>
        </p:nvGrpSpPr>
        <p:grpSpPr>
          <a:xfrm>
            <a:off x="873000" y="1467000"/>
            <a:ext cx="7683480" cy="1292040"/>
            <a:chOff x="873000" y="1467000"/>
            <a:chExt cx="7683480" cy="1292040"/>
          </a:xfrm>
        </p:grpSpPr>
        <p:sp>
          <p:nvSpPr>
            <p:cNvPr id="95" name="直接连接符 7"/>
            <p:cNvSpPr/>
            <p:nvPr/>
          </p:nvSpPr>
          <p:spPr>
            <a:xfrm>
              <a:off x="873000" y="27590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任意多边形 8"/>
            <p:cNvSpPr/>
            <p:nvPr/>
          </p:nvSpPr>
          <p:spPr>
            <a:xfrm>
              <a:off x="873000" y="1467000"/>
              <a:ext cx="7683480" cy="129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第一小节中作者以哪些事物为例？告诉我们怎样的道理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4"/>
          <p:cNvSpPr/>
          <p:nvPr/>
        </p:nvSpPr>
        <p:spPr>
          <a:xfrm>
            <a:off x="892080" y="294480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小节作者运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式，分别以“风、 云、太阳”为例，说明跌倒也有好处，可以收获 “美丽的落叶、滋润大地的雨水、静谧的夜晚”，意在表明任何事物都有好处与坏处两个方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885960" y="1049400"/>
            <a:ext cx="772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的语言多么优美呀，请你也来一试身手， 仿照第一小节，续写一两句吧！试试看。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24" descr="花盆.png"/>
          <p:cNvPicPr/>
          <p:nvPr/>
        </p:nvPicPr>
        <p:blipFill>
          <a:blip r:embed="rId1"/>
          <a:stretch/>
        </p:blipFill>
        <p:spPr>
          <a:xfrm>
            <a:off x="642960" y="1203480"/>
            <a:ext cx="317520" cy="368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915840" y="26337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星星，跌倒了，才有了绚烂的朝霞。 虫儿，跌倒了，才有了美丽的蝴蝶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2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写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708120" y="1127160"/>
            <a:ext cx="7848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让我们不再害怕跌倒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865080" y="3203640"/>
            <a:ext cx="76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里的“跌倒”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象征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生道路上经历的挫折和失败。“不再害怕跌倒”是作者在第一小节叙述的基础上提出的观点，告诫人们不要害怕失败，在遇到挫折、遭遇困境的时候，要勇敢坚强。启示是：我们要保持乐观的心态，坚持奋斗， 走出困境，这样“站起来”时才是“最美丽的”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云形 5"/>
          <p:cNvGrpSpPr/>
          <p:nvPr/>
        </p:nvGrpSpPr>
        <p:grpSpPr>
          <a:xfrm>
            <a:off x="6046920" y="1285920"/>
            <a:ext cx="1439640" cy="944640"/>
            <a:chOff x="6046920" y="1285920"/>
            <a:chExt cx="1439640" cy="944640"/>
          </a:xfrm>
        </p:grpSpPr>
        <p:pic>
          <p:nvPicPr>
            <p:cNvPr id="107" name="云形 5" descr=""/>
            <p:cNvPicPr/>
            <p:nvPr/>
          </p:nvPicPr>
          <p:blipFill>
            <a:blip r:embed="rId1"/>
            <a:stretch/>
          </p:blipFill>
          <p:spPr>
            <a:xfrm>
              <a:off x="6046920" y="1285920"/>
              <a:ext cx="14396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469200" y="1509840"/>
              <a:ext cx="51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象征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6"/>
          <p:cNvGrpSpPr/>
          <p:nvPr/>
        </p:nvGrpSpPr>
        <p:grpSpPr>
          <a:xfrm>
            <a:off x="873000" y="2557440"/>
            <a:ext cx="7861320" cy="560520"/>
            <a:chOff x="873000" y="2557440"/>
            <a:chExt cx="7861320" cy="560520"/>
          </a:xfrm>
        </p:grpSpPr>
        <p:sp>
          <p:nvSpPr>
            <p:cNvPr id="110" name="直接连接符 7"/>
            <p:cNvSpPr/>
            <p:nvPr/>
          </p:nvSpPr>
          <p:spPr>
            <a:xfrm>
              <a:off x="873000" y="3117960"/>
              <a:ext cx="786132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任意多边形 8"/>
            <p:cNvSpPr/>
            <p:nvPr/>
          </p:nvSpPr>
          <p:spPr>
            <a:xfrm>
              <a:off x="873000" y="2557440"/>
              <a:ext cx="786132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964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里的“跌倒”象征什么？你从中得到了什么启示？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0:25:07Z</dcterms:modified>
  <cp:revision>4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