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696-06BB-4E1B-95F1-2AFA65B5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F14-B0E1-4B84-9247-DADEF3C4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1D1-6F2B-4585-8C30-63FCF0A4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534-8A11-4FF1-8CBF-3981D56B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CB9C-6418-4A3E-88B0-1939AC4B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0D2-9F72-4A13-8195-AA205E7D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6C3-95D7-4F97-B4C6-1D236097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AD4-3861-440A-8728-A3E956B0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A9B-7BD1-4E71-94C8-27DDFCC6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760-DA47-427D-A18E-B4064D08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019-DA7B-49AF-B460-47319F15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215-24CC-498D-8C80-42F4EC30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2E2C-2371-4E01-9123-8BA95F25E6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781360"/>
            <a:ext cx="48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嫦娥奔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1125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苏教版五年级语文上册第三单元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2040" y="7034040"/>
            <a:ext cx="615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ē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奔走；急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赶；赶忙或赶急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è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向目的地走去；   ②介词，朝；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纪接近（四十岁、五十岁等）④为某事奔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50289E-006 L 1.38889E-006 -0.17826 E">
                                      <p:cBhvr>
                                        <p:cTn id="6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5549E-006 L 0.00521 -0.56716 E">
                                      <p:cBhvr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99540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传在远古的时候，天上突然出现了十个太阳，直晒得大地冒烟，老百姓实在无法生活下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一个力大无比的英雄名叫后羿，他决心为老百姓解除这个苦难。后羿登上昆仑山顶，运足气力，拉满神弓，“嗖—嗖—嗖—”一口气射下了九个太阳。他对天上最后一个太阳说：“从今以后，你每天必须按时升起，按时落下，为民造福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94640" y="5493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精读课文第一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67520" y="4149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读了这一段，你知道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9400" y="4581360"/>
            <a:ext cx="22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苦难”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39040" y="4564800"/>
            <a:ext cx="23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痛苦和灾难的意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7440" y="456480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文中老百姓遭受了怎样的苦难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1916280"/>
            <a:ext cx="574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32000" y="1916280"/>
            <a:ext cx="574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1916280"/>
            <a:ext cx="1439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5200" y="4507920"/>
            <a:ext cx="37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后羿是怎样为老百姓解除苦难的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请画出有关的动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2781360"/>
            <a:ext cx="574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20000" y="2781360"/>
            <a:ext cx="574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3141720"/>
            <a:ext cx="574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3141720"/>
            <a:ext cx="1728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3573360"/>
            <a:ext cx="43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6080" y="4437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你能用哪些词夸夸后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40840" y="4437000"/>
            <a:ext cx="7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力大无比、为民造福</a:t>
            </a:r>
            <a:r>
              <a:rPr b="0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5157720"/>
            <a:ext cx="6840360" cy="936720"/>
          </a:xfrm>
          <a:prstGeom prst="wedgeRoundRectCallout">
            <a:avLst>
              <a:gd name="adj1" fmla="val 35148"/>
              <a:gd name="adj2" fmla="val -16813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些词写出了后羿的力大神勇，读书时要注意突出这些词，读出壮美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9079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读课文第二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40240" y="1628640"/>
            <a:ext cx="420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默读课文第二段，边读边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逢蒙是个怎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嫦娥是个怎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画出文中有关的语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84920" y="2756880"/>
            <a:ext cx="146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奸诈贪婪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00760" y="3764880"/>
            <a:ext cx="146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ff"/>
                </a:solidFill>
                <a:latin typeface="Arial"/>
              </a:rPr>
              <a:t>善良机智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62064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体会逢蒙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奸诈贪婪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2858040"/>
            <a:ext cx="722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</a:rPr>
              <a:t>　　后羿为老百姓除了害，大伙儿都很敬重他。很多人拜他为师，跟他学习武艺。</a:t>
            </a:r>
            <a:r>
              <a:rPr b="0" lang="zh-CN" sz="3800" spc="-1" strike="noStrike">
                <a:solidFill>
                  <a:srgbClr val="0000ff"/>
                </a:solidFill>
                <a:latin typeface="宋体"/>
              </a:rPr>
              <a:t>有个叫逢蒙的，为人奸诈贪婪，也随着众人拜在后羿的门下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35640" y="407664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116000" y="4653000"/>
            <a:ext cx="3311640" cy="71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62064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体会逢蒙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奸诈贪婪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2858400"/>
            <a:ext cx="722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655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这件事不知怎么被逢蒙知道了，他一心想把后羿的仙药弄到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9440" y="191628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191628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800" y="191628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3080" y="191628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408744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天，昆仑山上的西王母送给后羿一丸仙药。据说，人吃了这种药，不但能长生不老，还可以升天成仙哩。可是，后羿不愿意离开嫦娥，就让她将仙药藏在百宝匣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9636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4360" y="2491920"/>
            <a:ext cx="4535280" cy="73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164360" y="1988640"/>
            <a:ext cx="71928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62064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体会逢蒙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奸诈贪婪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45772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月十五这天清晨，后羿要带弟子出门去，逢蒙假装生病，留了下来。到了晚上，逢蒙手提宝剑，迫不及待地闯进后羿家里，威逼嫦娥把仙药交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逢蒙见嫦娥不肯交出仙药，就翻箱倒柜，四处搜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2492280"/>
            <a:ext cx="1584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997360"/>
            <a:ext cx="1584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2997360"/>
            <a:ext cx="1584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2997360"/>
            <a:ext cx="649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24720" y="2997360"/>
            <a:ext cx="649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4437000"/>
            <a:ext cx="1584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36360" y="4437000"/>
            <a:ext cx="64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4941720"/>
            <a:ext cx="1224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4437000"/>
            <a:ext cx="430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62064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体会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嫦娥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机智善良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7848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羿的妻子嫦娥，是个美丽善良的女子。她经常接济生活贫苦的乡亲，乡亲们都非常喜欢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0040" y="2994120"/>
            <a:ext cx="14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接济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17440" y="36442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想象嫦娥是怎样接济贫苦的乡亲们的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54560" y="2994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物质上援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21400" y="4221000"/>
            <a:ext cx="51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例：村东的王二家没米下炊了，孩子们围锅台饿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　　直哭，嫦娥知道了，就……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　　村西的李三家又添了一口，孩子是生了，却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　　有一块布来包裹，嫦娥知道了，就立即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9640" y="62064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体会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嫦娥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机智善良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724760"/>
            <a:ext cx="792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嫦娥心里想，让这样的人吃了长生不老药，不是要害更多的人吗？于是，他便机智地与逢蒙周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86800" y="3042000"/>
            <a:ext cx="189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旋：①回旋，盘旋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②交际应酬，打交道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③与敌人较量，相机进退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25880" y="4671720"/>
            <a:ext cx="216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嫦娥是怎样周旋的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640" y="40464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体会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嫦娥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机智善良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795320"/>
            <a:ext cx="813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逢蒙：快把仙药交出来？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嫦娥：仙药？什么仙药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逢蒙：别装蒜了，你丈夫后羿从西王母那儿得到的，那天，你丈夫把药交给了你，是你藏起来了，说，藏在那儿了？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嫦娥：你一定听错了，那天是他采的草药卖了钱让我藏起来的。逢蒙兄弟，你缺钱吗？我送你一些。你先坐下，喝口水，我来给你拿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逢蒙：哼，别跟来这一套，我不会听错的。（接着翻箱倒柜搜起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9640" y="62064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体会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嫦娥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机智善良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1557360"/>
            <a:ext cx="78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看就要搜到百宝匣了，嫦娥疾步向前，取出仙药，一口吞了下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141300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件事不知怎么被逢蒙知道了，他一心想把后羿的仙药弄到手。八月十五这天清晨，后羿要带弟子出门去，逢蒙假装生病，留了下来。到了晚上，逢蒙手提宝剑，迫不及待地闯进后羿家里，威逼嫦娥把仙药交出来。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嫦娥心里想，让这样的人吃了长生不老药，不是要害更多的人吗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他便机智地与逢蒙周旋。逢蒙见嫦娥不肯交出仙药，就翻箱倒柜，四处搜寻。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眼看就要搜到百宝匣了，嫦娥疾步向前，取出仙药，一口吞了下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404640"/>
            <a:ext cx="2879640" cy="865440"/>
          </a:xfrm>
          <a:prstGeom prst="wedgeRoundRectCallout">
            <a:avLst>
              <a:gd name="adj1" fmla="val -81810"/>
              <a:gd name="adj2" fmla="val 984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角色朗读，再现那个惊心动魄的场面。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52720" y="5084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海上生明月，天涯共此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68" b="0"/>
          <a:stretch/>
        </p:blipFill>
        <p:spPr>
          <a:xfrm>
            <a:off x="1908000" y="981000"/>
            <a:ext cx="4753080" cy="366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08000" y="1052280"/>
            <a:ext cx="4969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嫦娥吃了仙药，突然飘飘悠悠地飞了起来。她飞出了窗子，飞过了洒满银辉的郊野，越飞越高。碧蓝碧蓝的夜空挂着一轮明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嫦娥一直朝着月亮飞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7480" y="417888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飘飘悠悠”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59680" y="41821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空中轻缓地浮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88240" y="465192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才能把嫦娥这飘飘悠悠的样子读出来呢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54440" y="465192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时放慢语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39600" y="520272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觉得这段话写得怎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6920" y="5202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在哪儿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155736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299736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1640" y="1989000"/>
            <a:ext cx="792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2492280"/>
            <a:ext cx="792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2924280"/>
            <a:ext cx="792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51280" y="3429000"/>
            <a:ext cx="792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44640" y="5702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想象嫦娥在飞向月亮的时候，有着怎样的举动吗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39520" y="570744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凄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54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读课文第三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1924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后羿外出回来，不见了妻子嫦娥。他焦急地冲出门外，只见皓月当空，远远的月亮上树影婆娑，一只玉兔在树下跳来跳去。啊！妻子正站在一棵桂树旁深情地凝望着自己呢。后羿连声呼唤“嫦娥！嫦娥！”他不顾一切地朝着月亮追去。可是他向前追三步，月亮就向后退三步，怎么也追不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93080" y="1628640"/>
            <a:ext cx="1224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060640"/>
            <a:ext cx="1008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0000" y="285264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3284640"/>
            <a:ext cx="3816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87120" y="39798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轻声读课文第三段。请同学们圈画出后羿找妻子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6800" y="45086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你能体会出后羿当时的心情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25360" y="45075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找妻时的急切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59480" y="5059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谁能把后羿找妻子的急切心情读出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54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读课文第三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92708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乡亲们很想念好心的嫦娥，他们在院子里摆上嫦娥平日爱吃的食品，遥遥地为她祝福。从此以后，每年八月十五，就成了人们期盼团圆的中秋佳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41320" y="3645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乡亲们以嫦娥的思念之情又体现在哪儿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43840" y="4277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大家会说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8680" y="48682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乡亲们为什么非常想念嫦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34800" y="5444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怀念之情朗读这一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620640"/>
            <a:ext cx="7632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指导复述课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一段：后羿为民除害，躲下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二段：嫦娥吞下仙药，飞上月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三段：人们想念嫦娥，企盼团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6920" y="98100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业设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198900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给爸爸妈妈复述课文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联系课文内容，说说父老乡亲们为什么非常想念嫦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搜集你喜欢的神话故事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98100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鸡声茅店月，人迹板桥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《商山早行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旷天低树，江清月近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《宿建德江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落乌啼霜满天，江枫渔火对愁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《枫桥夜泊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有悲欢离合，月有阴晴圆缺，此事古难全。但愿人长久，千里共婵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68360" y="1341360"/>
            <a:ext cx="5040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关于月亮的神话故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吴刚伐桂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玉兔捣药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嫦娥奔月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1413000"/>
            <a:ext cx="792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远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昆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后羿  逢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蒙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嫦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敬重  接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济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宝剑　周旋　威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盼　焦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皓月当空　树影婆娑　迫不及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翻箱倒柜  洒满银辉　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奸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诈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贪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640" y="62064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认读下面的生字词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1125360"/>
            <a:ext cx="583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同音字填空 ：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j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迫不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步向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焦（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21337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141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414972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692280"/>
            <a:ext cx="820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理清课文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268280"/>
            <a:ext cx="820872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第一段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自然段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：</a:t>
            </a:r>
            <a:br>
              <a:rPr sz="3400"/>
            </a:br>
            <a:r>
              <a:rPr b="0" lang="zh-CN" sz="3400" spc="-1" strike="noStrike">
                <a:solidFill>
                  <a:srgbClr val="0000ff"/>
                </a:solidFill>
                <a:latin typeface="宋体"/>
              </a:rPr>
              <a:t>讲后羿为民除害，射掉九个太阳。</a:t>
            </a:r>
            <a:br>
              <a:rPr sz="3400"/>
            </a:b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第二段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3—6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自然段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：</a:t>
            </a:r>
            <a:br>
              <a:rPr sz="3400"/>
            </a:br>
            <a:r>
              <a:rPr b="0" lang="zh-CN" sz="3400" spc="-1" strike="noStrike">
                <a:solidFill>
                  <a:srgbClr val="0000ff"/>
                </a:solidFill>
                <a:latin typeface="宋体"/>
              </a:rPr>
              <a:t>讲嫦娥为了老百姓不受苦，吃下仙药，飞到月亮上去了。</a:t>
            </a:r>
            <a:br>
              <a:rPr sz="3400"/>
            </a:b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第三段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自然段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：</a:t>
            </a:r>
            <a:br>
              <a:rPr sz="3400"/>
            </a:br>
            <a:r>
              <a:rPr b="0" lang="zh-CN" sz="3400" spc="-1" strike="noStrike">
                <a:solidFill>
                  <a:srgbClr val="0000ff"/>
                </a:solidFill>
                <a:latin typeface="宋体"/>
              </a:rPr>
              <a:t>讲人们想念嫦娥，企盼团圆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515772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后羿射日　嫦娥奔月　想念嫦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5640" y="76500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课后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把这个故事讲给自己的弟弟妹妹听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采记“吴刚伐桂”、“玉兔捣药”等有关中秋、月亮的传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68360" y="2781360"/>
            <a:ext cx="48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嫦娥奔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1125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苏教版五年级语文上册第三单元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2:57:05Z</dcterms:created>
  <dc:creator>www.edudown.net</dc:creator>
  <dc:description>www.edudown.net</dc:description>
  <cp:keywords>www.edudown.net</cp:keywords>
  <dc:language>en-US</dc:language>
  <cp:lastModifiedBy>微软用户</cp:lastModifiedBy>
  <dcterms:modified xsi:type="dcterms:W3CDTF">2011-10-11T05:27:48Z</dcterms:modified>
  <cp:revision>157</cp:revision>
  <dc:subject>www.edudown.net</dc:subject>
  <dc:title>www.edudown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03000000000001024120</vt:lpwstr>
  </property>
</Properties>
</file>