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838FC-22F2-47CE-903F-E2BF685C6C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71114-2ED5-4B55-AA37-0A15BA05F0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5FC94-9E63-489C-8470-8A4FF36443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5C6E9-1D17-4AA1-85A9-1E69337FE1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78D08-94CB-4F6D-8F04-AB1A340C34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915-AABB-42AB-A583-643D350E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00B-3E82-4307-AC20-4C41A2D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A30-E5F8-49E1-874D-56F084EB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77E-76D1-4C35-9DDE-95650F8B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AB7-E453-4F53-A3A0-6AED41E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449-74EE-4AD0-BA6D-10AF56F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443-5D8E-4DAD-92CF-4195322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25B-5F56-4AC5-961B-71F88C22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43F-1252-4E92-92F9-D5708B7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FB8-9AA9-4847-B49C-E18CA943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608-945B-4103-A707-B672431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180-66CF-473C-B30C-D8D51D76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A6467-E13E-43F0-BB56-E6FBDB4F8D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2017800" y="2219400"/>
            <a:ext cx="5095800" cy="3370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213000"/>
            <a:ext cx="3186000" cy="1150920"/>
            <a:chOff x="3086280" y="3213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213000"/>
              <a:ext cx="2729520" cy="110376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98320"/>
              <a:ext cx="911160" cy="9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53320"/>
              <a:ext cx="3186000" cy="111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523960" y="873000"/>
            <a:ext cx="6237360" cy="1181160"/>
            <a:chOff x="2523960" y="873000"/>
            <a:chExt cx="6237360" cy="1181160"/>
          </a:xfrm>
        </p:grpSpPr>
        <p:sp>
          <p:nvSpPr>
            <p:cNvPr id="65" name="Text Box 2"/>
            <p:cNvSpPr/>
            <p:nvPr/>
          </p:nvSpPr>
          <p:spPr>
            <a:xfrm>
              <a:off x="3666960" y="982440"/>
              <a:ext cx="5094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窃读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523960" y="873000"/>
              <a:ext cx="1108440" cy="1181160"/>
              <a:chOff x="2523960" y="873000"/>
              <a:chExt cx="1108440" cy="118116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523960" y="873000"/>
                <a:ext cx="110844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596680" y="93528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1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639720" y="171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书店的日光灯忽地亮了起来，我才觉出站在这里读了两个钟点了。我合上最后一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了一口唾沫，好像所有的智慧都被我吞食下去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892080" y="37274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两句话写了“我”得到店员的帮助，酣畅淋漓地饱读自己心爱的书，忘记了身边的一切，得到了从未有过的满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977760" y="310356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方面是因为家庭原因，“我”没有足够的钱买书，只能靠到书店偷偷地读书，也就是“窃读”，来满足自己对知识的渴求。另一方面是“我”对读书异常热爱，即使遭到老板斥责，难堪至极，也悄悄溜进书店，继续“窃读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”为什么要“窃读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在去书店的路上“我”的复杂心境表现了“我”什么样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155600" y="367344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了“我”对读书的热爱与渴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进入书店，在将要读书的时候遇到了怎样的事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39680" y="31068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将要读书时被老板抓住并遭到老板的斥责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读喜欢的书，“我”后来又怎么做的？结果如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189080" y="306216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后来“我更小心地不敢贪婪，多串几家书店”期望能读到自己喜欢的那本书。直到走进最末一家 书店，在店员的帮助下，我如果愿地读上了自己喜欢的书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全文中，“我”的思想感情是怎样变化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198440" y="241920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感受深刻、滋味复杂，既有刚开始的急切、渴望，也有因“窃读”遭到斥责的委屈、伤心， 后来再看到书时的快乐，最后是对帮助自己的店员，至今心存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7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文本框 26"/>
          <p:cNvSpPr/>
          <p:nvPr/>
        </p:nvSpPr>
        <p:spPr>
          <a:xfrm>
            <a:off x="298440" y="343692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窃读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77920" y="232416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放学之后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大括号 13"/>
          <p:cNvSpPr/>
          <p:nvPr/>
        </p:nvSpPr>
        <p:spPr>
          <a:xfrm>
            <a:off x="1903320" y="2293920"/>
            <a:ext cx="312840" cy="28796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15"/>
          <p:cNvSpPr/>
          <p:nvPr/>
        </p:nvSpPr>
        <p:spPr>
          <a:xfrm flipH="1">
            <a:off x="6447600" y="230364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6740640" y="3224160"/>
            <a:ext cx="22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在书中学习 在爱中长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2131920" y="46753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夜晚降临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20"/>
          <p:cNvSpPr/>
          <p:nvPr/>
        </p:nvSpPr>
        <p:spPr>
          <a:xfrm>
            <a:off x="2792520" y="3301920"/>
            <a:ext cx="304560" cy="912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12960"/>
              <a:gd name="textAreaBottom" fmla="*/ 905040 h 9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1"/>
                  <a:pt x="10800" y="601"/>
                </a:cubicBezTo>
                <a:lnTo>
                  <a:pt x="10800" y="10199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1"/>
                  <a:pt x="10800" y="11401"/>
                </a:cubicBezTo>
                <a:lnTo>
                  <a:pt x="10800" y="20999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1"/>
          <p:cNvSpPr/>
          <p:nvPr/>
        </p:nvSpPr>
        <p:spPr>
          <a:xfrm>
            <a:off x="2986200" y="327024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为书喜悦 因窃读遭斥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2986200" y="377820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得到帮助 尽情读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2120760" y="331164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窃读    经历 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3672000" y="2351160"/>
            <a:ext cx="27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急匆匆赶往书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3686040" y="466560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离开书店 浑身轻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深情地回忆了学生时期由于贫穷而买不起书，只能到书店偷偷地看书，遭到书店老板的斥责，后来在另一家书店得到了一位素不相识的店员的帮助，至今心存感激。 表现了作者对读书的热爱，对知识的渴求，以及对好心人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内容占位符 2"/>
          <p:cNvSpPr/>
          <p:nvPr/>
        </p:nvSpPr>
        <p:spPr>
          <a:xfrm>
            <a:off x="996840" y="177804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师恩难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那年正月新春，我不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周岁，便到邻近的乡村小学去读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个小学设在一座庙内，只有一位老师，教四个年级。当时学生少，四个年级才一个班。老师姓田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岁就开始教书了。他口才、文笔都很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开学头一天，我们排队进入教室。田老师先给二年级和四年级同学上课，叫三年级学兄把着一年级学弟的手描红。描红纸上是一首小诗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一去二三里，烟村四五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亭台六七座，八九十枝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179360" y="247644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主要内容，体会作者对读书的热爱和对知识的渴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懂得一个人的成长，既需要知识的滋养，也需要爱的关怀的道理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996840" y="11206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田老师给一年级上课了。他先把这首诗念一遍，又连起来讲一遍，然后，编出一段故事，娓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wě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娓动听地讲起来。我还记得故事的大意是这样的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一个小孩子，牵着妈妈的衣襟儿去姥姥家，一口气走了二三里地。路过一个小村子，只有四五户人家，正在做午饭，家家冒炊烟。娘儿俩走累了，看见路边有六七座亭子，就走进一座亭子里去歇歇脚。亭子外边，花开得很茂盛，小孩子伸出小手指念叨着：“……八枝，九枝，十枝。”他越看越喜欢，想折下一枝来。妈妈拦住了他，说：“你折一枝，他折一枝，后边歇脚的人就看不到花儿了。”后来，这儿的花越开越多，数也数不过来，变成了一座大花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内容占位符 2"/>
          <p:cNvSpPr/>
          <p:nvPr/>
        </p:nvSpPr>
        <p:spPr>
          <a:xfrm>
            <a:off x="839880" y="1198440"/>
            <a:ext cx="7642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听得入了迷，恍如身临其境。田老师的声音戛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ji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然而止，我却仍在发呆，直到三年级的大学兄捅了我一下，我才惊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那时候的语文叫国语。田老师每讲一课，都要编一个引人入胜的故事。我在田老师那里学习四年，听了上千个故事，这些故事有如春雨点点，滋润着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一年我回家乡去，在村边遇到了老师，他拄着拐杖正在散步。我仍然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年前的小学生那样，恭恭敬敬地向他行礼。谈起往事，我深深感谢老师在我那幼小的心田里，播下了文学的种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十年树木，百年树人。老师的教诲之恩，我终生难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1042920" y="2371680"/>
            <a:ext cx="7234200" cy="326880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1042920" y="297504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书须用意，一字值千金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增广贤文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万卷书，行万里路，二者不可偏废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履园丛话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钱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663560" y="2095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关读书的俗语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1265400" y="2562120"/>
            <a:ext cx="70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日读书一日功，十日不读腹中空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年不知勤学苦，老来方悔读书迟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书不离口，写字不离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兵到战时方知穷，书到用时方闲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4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1"/>
          <p:cNvSpPr/>
          <p:nvPr/>
        </p:nvSpPr>
        <p:spPr>
          <a:xfrm>
            <a:off x="1017720" y="22683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课文以“窃读”为线索，生动地再现了作者整个“窃读”的动作和心理活动的经历，表现了林海音对读书的热爱，对智慧的渴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909720" y="2957400"/>
            <a:ext cx="748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默读，就是不出声音地读书。这篇文 章篇幅较长，还有大量的心理描写，因此要 提高默读的速度，不妨采取跳读法，即将一 般句段丢掉，集中精力默读重点句段。如本 文最后一个自然段，需要反复默读，理解其 中的含义。还可以采取批注法，即默读时， 把自己的感受和体会随时写在书眉或文章中 间的空白处。这样第一遍默读可能稍慢，但是， 经常训练，就能有效提高默读的速度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15"/>
          <p:cNvGrpSpPr/>
          <p:nvPr/>
        </p:nvGrpSpPr>
        <p:grpSpPr>
          <a:xfrm>
            <a:off x="814320" y="1657440"/>
            <a:ext cx="7770960" cy="1221120"/>
            <a:chOff x="814320" y="1657440"/>
            <a:chExt cx="7770960" cy="1221120"/>
          </a:xfrm>
        </p:grpSpPr>
        <p:sp>
          <p:nvSpPr>
            <p:cNvPr id="172" name="圆角矩形 14"/>
            <p:cNvSpPr/>
            <p:nvPr/>
          </p:nvSpPr>
          <p:spPr>
            <a:xfrm>
              <a:off x="814320" y="2166840"/>
              <a:ext cx="777096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默读课文，要有一定的速度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组合 10"/>
            <p:cNvGrpSpPr/>
            <p:nvPr/>
          </p:nvGrpSpPr>
          <p:grpSpPr>
            <a:xfrm>
              <a:off x="904320" y="1657440"/>
              <a:ext cx="1594080" cy="677880"/>
              <a:chOff x="904320" y="1657440"/>
              <a:chExt cx="1594080" cy="677880"/>
            </a:xfrm>
          </p:grpSpPr>
          <p:sp>
            <p:nvSpPr>
              <p:cNvPr id="174" name="任意多边形 11"/>
              <p:cNvSpPr/>
              <p:nvPr/>
            </p:nvSpPr>
            <p:spPr>
              <a:xfrm>
                <a:off x="1321560" y="1749600"/>
                <a:ext cx="1176840" cy="4928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默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5" name="椭圆 12"/>
              <p:cNvGrpSpPr/>
              <p:nvPr/>
            </p:nvGrpSpPr>
            <p:grpSpPr>
              <a:xfrm>
                <a:off x="904320" y="1657440"/>
                <a:ext cx="700560" cy="677880"/>
                <a:chOff x="904320" y="1657440"/>
                <a:chExt cx="700560" cy="677880"/>
              </a:xfrm>
            </p:grpSpPr>
            <p:pic>
              <p:nvPicPr>
                <p:cNvPr id="176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7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1017000" y="1764360"/>
                  <a:ext cx="474840" cy="46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3"/>
          <p:cNvGrpSpPr/>
          <p:nvPr/>
        </p:nvGrpSpPr>
        <p:grpSpPr>
          <a:xfrm>
            <a:off x="814320" y="1204920"/>
            <a:ext cx="7661520" cy="1487160"/>
            <a:chOff x="814320" y="1204920"/>
            <a:chExt cx="7661520" cy="1487160"/>
          </a:xfrm>
        </p:grpSpPr>
        <p:grpSp>
          <p:nvGrpSpPr>
            <p:cNvPr id="179" name="组合 6"/>
            <p:cNvGrpSpPr/>
            <p:nvPr/>
          </p:nvGrpSpPr>
          <p:grpSpPr>
            <a:xfrm>
              <a:off x="823680" y="1318320"/>
              <a:ext cx="7652160" cy="1373760"/>
              <a:chOff x="823680" y="1318320"/>
              <a:chExt cx="7652160" cy="1373760"/>
            </a:xfrm>
          </p:grpSpPr>
          <p:sp>
            <p:nvSpPr>
              <p:cNvPr id="180" name="圆角矩形 7"/>
              <p:cNvSpPr/>
              <p:nvPr/>
            </p:nvSpPr>
            <p:spPr>
              <a:xfrm>
                <a:off x="823680" y="1980360"/>
                <a:ext cx="76521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说一说作者“窃读”的经过，并理解“窃”在 文中的含义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任意多边形 10"/>
              <p:cNvSpPr/>
              <p:nvPr/>
            </p:nvSpPr>
            <p:spPr>
              <a:xfrm>
                <a:off x="1183320" y="1318320"/>
                <a:ext cx="226260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204920"/>
              <a:ext cx="803520" cy="7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2"/>
          <p:cNvSpPr/>
          <p:nvPr/>
        </p:nvSpPr>
        <p:spPr>
          <a:xfrm>
            <a:off x="901800" y="320832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在一家书店读书，遭到老板的斥责，很是难堪。后来，得到了另一家书店店员的帮助而读完了那本书。“窃”在文中是指“偷偷地”“悄悄地”，反映了作者当时生活的艰苦和对读书的渴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3"/>
          <p:cNvGrpSpPr/>
          <p:nvPr/>
        </p:nvGrpSpPr>
        <p:grpSpPr>
          <a:xfrm>
            <a:off x="814320" y="1055520"/>
            <a:ext cx="7661520" cy="1722600"/>
            <a:chOff x="814320" y="1055520"/>
            <a:chExt cx="7661520" cy="1722600"/>
          </a:xfrm>
        </p:grpSpPr>
        <p:grpSp>
          <p:nvGrpSpPr>
            <p:cNvPr id="185" name="组合 6"/>
            <p:cNvGrpSpPr/>
            <p:nvPr/>
          </p:nvGrpSpPr>
          <p:grpSpPr>
            <a:xfrm>
              <a:off x="823680" y="1172160"/>
              <a:ext cx="7652160" cy="1605960"/>
              <a:chOff x="823680" y="1172160"/>
              <a:chExt cx="7652160" cy="1605960"/>
            </a:xfrm>
          </p:grpSpPr>
          <p:sp>
            <p:nvSpPr>
              <p:cNvPr id="186" name="圆角矩形 7"/>
              <p:cNvSpPr/>
              <p:nvPr/>
            </p:nvSpPr>
            <p:spPr>
              <a:xfrm>
                <a:off x="823680" y="2117520"/>
                <a:ext cx="765216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读课文时要边读边思考，尤其对最能表达作者思想感情的语句，更要细细地品味。你认为，文中的哪句话最能表达作者的心情或感受？ 请你找出来，说说它的含义。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任意多边形 10"/>
              <p:cNvSpPr/>
              <p:nvPr/>
            </p:nvSpPr>
            <p:spPr>
              <a:xfrm>
                <a:off x="1183320" y="1172160"/>
                <a:ext cx="226260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8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055520"/>
              <a:ext cx="803520" cy="73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Box 2"/>
          <p:cNvSpPr/>
          <p:nvPr/>
        </p:nvSpPr>
        <p:spPr>
          <a:xfrm>
            <a:off x="901800" y="3537000"/>
            <a:ext cx="7574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记住，你是吃饭长大，读书长大，也是在爱里长大的！”这句话最能表达作者的思想感情。这句话告诉我们：人的成长不但有生理的需求，还需要精神上的滋养，心理上的安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814320" y="1190520"/>
            <a:ext cx="7456680" cy="1744560"/>
            <a:chOff x="814320" y="1190520"/>
            <a:chExt cx="7456680" cy="1744560"/>
          </a:xfrm>
        </p:grpSpPr>
        <p:grpSp>
          <p:nvGrpSpPr>
            <p:cNvPr id="191" name="组合 6"/>
            <p:cNvGrpSpPr/>
            <p:nvPr/>
          </p:nvGrpSpPr>
          <p:grpSpPr>
            <a:xfrm>
              <a:off x="814320" y="1281960"/>
              <a:ext cx="7456680" cy="1653120"/>
              <a:chOff x="814320" y="1281960"/>
              <a:chExt cx="7456680" cy="1653120"/>
            </a:xfrm>
          </p:grpSpPr>
          <p:sp>
            <p:nvSpPr>
              <p:cNvPr id="192" name="圆角矩形 7"/>
              <p:cNvSpPr/>
              <p:nvPr/>
            </p:nvSpPr>
            <p:spPr>
              <a:xfrm>
                <a:off x="814320" y="2273760"/>
                <a:ext cx="7456680" cy="6613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本文叙述了作者小时候“窃读”的经过。请你 到周围的书店去走访一下，看看还有“窃读” 的吗？说一说现在的书店里发生了哪些变化。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任意多边形 9"/>
              <p:cNvSpPr/>
              <p:nvPr/>
            </p:nvSpPr>
            <p:spPr>
              <a:xfrm>
                <a:off x="1069920" y="1281960"/>
                <a:ext cx="25448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4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190520"/>
              <a:ext cx="74952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2"/>
          <p:cNvSpPr/>
          <p:nvPr/>
        </p:nvSpPr>
        <p:spPr>
          <a:xfrm>
            <a:off x="917640" y="3522600"/>
            <a:ext cx="729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去书店走访，应注意观察在书店看书的人与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窃读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中的“我”是否有相同的行为，即不买书而偷偷看书。还可以向家长了解，或者走访店员，通过对比过去与现在 的书店，感受其变化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现在的书店里没有“窃读”的，也不需要“窃读”，有些书店已为读者设置了免费读书的场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6"/>
          <p:cNvGrpSpPr/>
          <p:nvPr/>
        </p:nvGrpSpPr>
        <p:grpSpPr>
          <a:xfrm>
            <a:off x="814320" y="1047600"/>
            <a:ext cx="7661520" cy="1916280"/>
            <a:chOff x="814320" y="1047600"/>
            <a:chExt cx="7661520" cy="1916280"/>
          </a:xfrm>
        </p:grpSpPr>
        <p:grpSp>
          <p:nvGrpSpPr>
            <p:cNvPr id="197" name="组合 2"/>
            <p:cNvGrpSpPr/>
            <p:nvPr/>
          </p:nvGrpSpPr>
          <p:grpSpPr>
            <a:xfrm>
              <a:off x="814320" y="1178640"/>
              <a:ext cx="7661520" cy="1785240"/>
              <a:chOff x="814320" y="1178640"/>
              <a:chExt cx="7661520" cy="1785240"/>
            </a:xfrm>
          </p:grpSpPr>
          <p:sp>
            <p:nvSpPr>
              <p:cNvPr id="198" name="圆角矩形 4"/>
              <p:cNvSpPr/>
              <p:nvPr/>
            </p:nvSpPr>
            <p:spPr>
              <a:xfrm>
                <a:off x="814320" y="2252160"/>
                <a:ext cx="766152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课文中语言表达非常生动，请找出自己喜欢的句子抄写下来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任意多边形 5"/>
              <p:cNvSpPr/>
              <p:nvPr/>
            </p:nvSpPr>
            <p:spPr>
              <a:xfrm>
                <a:off x="1214280" y="1178640"/>
                <a:ext cx="1436760" cy="5065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椭圆 7"/>
            <p:cNvGrpSpPr/>
            <p:nvPr/>
          </p:nvGrpSpPr>
          <p:grpSpPr>
            <a:xfrm>
              <a:off x="889920" y="1047600"/>
              <a:ext cx="755640" cy="714960"/>
              <a:chOff x="889920" y="1047600"/>
              <a:chExt cx="755640" cy="714960"/>
            </a:xfrm>
          </p:grpSpPr>
          <p:pic>
            <p:nvPicPr>
              <p:cNvPr id="201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047600"/>
                <a:ext cx="7556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1007640" y="1160280"/>
                <a:ext cx="51840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3" name="TextBox 9"/>
          <p:cNvSpPr/>
          <p:nvPr/>
        </p:nvSpPr>
        <p:spPr>
          <a:xfrm>
            <a:off x="947880" y="3209760"/>
            <a:ext cx="75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以先找一找相关词语，如汗津津、惯贼、贪婪、惨淡无神、若无其事等，这些词语用得都非常准确、传神。再找一找句子，如“但是我又担忧那本书会不会卖光了”。多读一读，再抄写下来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7167"/>
          <p:cNvSpPr/>
          <p:nvPr/>
        </p:nvSpPr>
        <p:spPr>
          <a:xfrm>
            <a:off x="865080" y="215748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字选择正确的读音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转过街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数一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施惯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咽唾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6" name="矩形 7"/>
          <p:cNvSpPr/>
          <p:nvPr/>
        </p:nvSpPr>
        <p:spPr>
          <a:xfrm>
            <a:off x="3186360" y="2822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2970720" y="339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3557880" y="397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347400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"/>
          <p:cNvSpPr/>
          <p:nvPr/>
        </p:nvSpPr>
        <p:spPr>
          <a:xfrm>
            <a:off x="1896120" y="35989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1579680" y="30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2564640" y="41544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1594800" y="46800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956120" y="25416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956120" y="3589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749600" y="25416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749600" y="3589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矩形 3"/>
          <p:cNvSpPr/>
          <p:nvPr/>
        </p:nvSpPr>
        <p:spPr>
          <a:xfrm>
            <a:off x="971640" y="141300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uō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n                          q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 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àng                        pí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ě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1966680" y="2584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锅 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1966680" y="3632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贪 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5"/>
          <p:cNvSpPr/>
          <p:nvPr/>
        </p:nvSpPr>
        <p:spPr>
          <a:xfrm>
            <a:off x="5002200" y="25909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剩 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6"/>
          <p:cNvSpPr/>
          <p:nvPr/>
        </p:nvSpPr>
        <p:spPr>
          <a:xfrm>
            <a:off x="5181120" y="361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敲 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47800" y="466416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929120" y="4664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矩形 1"/>
          <p:cNvSpPr/>
          <p:nvPr/>
        </p:nvSpPr>
        <p:spPr>
          <a:xfrm>
            <a:off x="1939680" y="4738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抵 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4882320" y="466416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平 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"/>
          <p:cNvSpPr/>
          <p:nvPr/>
        </p:nvSpPr>
        <p:spPr>
          <a:xfrm>
            <a:off x="468360" y="1690560"/>
            <a:ext cx="809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根据课文填写词语，并写出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凛凛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睽睽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1828800" y="232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2846160" y="233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146844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7"/>
          <p:cNvSpPr/>
          <p:nvPr/>
        </p:nvSpPr>
        <p:spPr>
          <a:xfrm>
            <a:off x="226044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468440" y="345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2296800" y="345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0"/>
          <p:cNvSpPr/>
          <p:nvPr/>
        </p:nvSpPr>
        <p:spPr>
          <a:xfrm>
            <a:off x="1462680" y="39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1"/>
          <p:cNvSpPr/>
          <p:nvPr/>
        </p:nvSpPr>
        <p:spPr>
          <a:xfrm>
            <a:off x="289008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3809880" y="2343240"/>
            <a:ext cx="43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很平稳、很稳当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4"/>
          <p:cNvSpPr/>
          <p:nvPr/>
        </p:nvSpPr>
        <p:spPr>
          <a:xfrm>
            <a:off x="3794040" y="287496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很威风的样子，令人敬畏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5"/>
          <p:cNvSpPr/>
          <p:nvPr/>
        </p:nvSpPr>
        <p:spPr>
          <a:xfrm>
            <a:off x="3809880" y="344340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形容大家的眼睛都在注视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6"/>
          <p:cNvSpPr/>
          <p:nvPr/>
        </p:nvSpPr>
        <p:spPr>
          <a:xfrm>
            <a:off x="1403280" y="451944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好像没有那回事似的，形容不动声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"/>
          <p:cNvSpPr/>
          <p:nvPr/>
        </p:nvSpPr>
        <p:spPr>
          <a:xfrm>
            <a:off x="900000" y="1719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近义词、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悉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软弱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慌忙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鼓励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贪婪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3105000" y="237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熟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5"/>
          <p:cNvSpPr/>
          <p:nvPr/>
        </p:nvSpPr>
        <p:spPr>
          <a:xfrm>
            <a:off x="4771800" y="239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陌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310500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脆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7"/>
          <p:cNvSpPr/>
          <p:nvPr/>
        </p:nvSpPr>
        <p:spPr>
          <a:xfrm>
            <a:off x="477180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8"/>
          <p:cNvSpPr/>
          <p:nvPr/>
        </p:nvSpPr>
        <p:spPr>
          <a:xfrm>
            <a:off x="304452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慌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镇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0"/>
          <p:cNvSpPr/>
          <p:nvPr/>
        </p:nvSpPr>
        <p:spPr>
          <a:xfrm>
            <a:off x="3044520" y="404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鼓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483372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310500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贪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483372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知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3"/>
          <p:cNvSpPr/>
          <p:nvPr/>
        </p:nvSpPr>
        <p:spPr>
          <a:xfrm>
            <a:off x="787320" y="1052640"/>
            <a:ext cx="77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修改病句：正在这时，一个耳朵架着铅笔走过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指出下面破折号的不同用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课从学校急急赶到这里，身上已经汗津津的，总算到达目的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的地可不是三阳春，而是紧邻它的一家书店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        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合上最后一页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咽了一口唾沫，好像所有的智慧都被我吞食下去了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         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改为反问句：皆因没有钱，我不能占有读书的全部快乐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1352520" y="2041560"/>
            <a:ext cx="66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在这时，一个耳朵架着铅笔的店员走过来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816200" y="3892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示解释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2513160" y="48006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示意思的跳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5"/>
          <p:cNvSpPr/>
          <p:nvPr/>
        </p:nvSpPr>
        <p:spPr>
          <a:xfrm>
            <a:off x="1270080" y="5672160"/>
            <a:ext cx="63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皆因没有钱，我怎么能占有读书的全部快乐呢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9016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写在去书店的路上“我”的复杂心境表现了“我”什么样的特点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94344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我”进入书店，在将要读书的时候遇到了怎样的事情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32152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全文中，“我”的思想感情是怎样变化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0516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为了读喜欢的书，“我”后来又怎么做的？结果如何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11176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“我”为什么要 “窃读”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28720" y="13356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窃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541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趁着漫步给脑子一个思索的机会：“昨天读到什么地方了？那女孩不知以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给谁？那本书放在哪里？左角第三排，不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464652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几句话通过细腻的心理描写（也是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自语式独白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，把“我”对书的牵挂之情淋漓尽致地表现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7"/>
          <p:cNvGrpSpPr/>
          <p:nvPr/>
        </p:nvGrpSpPr>
        <p:grpSpPr>
          <a:xfrm>
            <a:off x="4896000" y="2620800"/>
            <a:ext cx="2931840" cy="987480"/>
            <a:chOff x="4896000" y="2620800"/>
            <a:chExt cx="2931840" cy="987480"/>
          </a:xfrm>
        </p:grpSpPr>
        <p:pic>
          <p:nvPicPr>
            <p:cNvPr id="87" name="云形 7" descr=""/>
            <p:cNvPicPr/>
            <p:nvPr/>
          </p:nvPicPr>
          <p:blipFill>
            <a:blip r:embed="rId1"/>
            <a:stretch/>
          </p:blipFill>
          <p:spPr>
            <a:xfrm>
              <a:off x="4896000" y="2620800"/>
              <a:ext cx="29318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18960" y="28494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语式独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组合 6"/>
          <p:cNvGrpSpPr/>
          <p:nvPr/>
        </p:nvGrpSpPr>
        <p:grpSpPr>
          <a:xfrm>
            <a:off x="873000" y="4071960"/>
            <a:ext cx="7683480" cy="560520"/>
            <a:chOff x="873000" y="4071960"/>
            <a:chExt cx="7683480" cy="560520"/>
          </a:xfrm>
        </p:grpSpPr>
        <p:sp>
          <p:nvSpPr>
            <p:cNvPr id="90" name="直接连接符 8"/>
            <p:cNvSpPr/>
            <p:nvPr/>
          </p:nvSpPr>
          <p:spPr>
            <a:xfrm>
              <a:off x="873000" y="46324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任意多边形 9"/>
            <p:cNvSpPr/>
            <p:nvPr/>
          </p:nvSpPr>
          <p:spPr>
            <a:xfrm>
              <a:off x="873000" y="407196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这几句话通过细腻的心理描写表现了“我”怎样的思想感情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心理描写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23"/>
          <p:cNvSpPr/>
          <p:nvPr/>
        </p:nvSpPr>
        <p:spPr>
          <a:xfrm>
            <a:off x="903240" y="184644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心理描写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心理描写是指在文章中，对人物在一定的环境中的心理状态、精神面貌和内心活动进行的描写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有什么作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读者感知人物的内心世界，突出文章的中心，表现人物的品质或情感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见本课“课后练习单”第二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844560" y="145260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多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兴，又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多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渴望地伸手去拿，但和我的手同时抵达的，还有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一只大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五个手指大大地分开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压住了那本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“你到底买不买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873000" y="4451400"/>
            <a:ext cx="7824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达了“我”想看那本书的迫切心情。“一只大手”“压住了那本书”，这个特写渲染了紧张的气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云形 7"/>
          <p:cNvGrpSpPr/>
          <p:nvPr/>
        </p:nvGrpSpPr>
        <p:grpSpPr>
          <a:xfrm>
            <a:off x="3889440" y="3365640"/>
            <a:ext cx="4816440" cy="987120"/>
            <a:chOff x="3889440" y="3365640"/>
            <a:chExt cx="4816440" cy="987120"/>
          </a:xfrm>
        </p:grpSpPr>
        <p:pic>
          <p:nvPicPr>
            <p:cNvPr id="99" name="云形 7" descr=""/>
            <p:cNvPicPr/>
            <p:nvPr/>
          </p:nvPicPr>
          <p:blipFill>
            <a:blip r:embed="rId1"/>
            <a:stretch/>
          </p:blipFill>
          <p:spPr>
            <a:xfrm>
              <a:off x="3889440" y="3365640"/>
              <a:ext cx="48164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75280" y="35942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言描写、动作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723960" y="1046160"/>
            <a:ext cx="7684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我抬起头，难堪地望着他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那书店的老板，他威风凛凛地俯视着我。店是他的，他有全部的理由用这种声气对待我。我用几乎要哭出来的声音，悲愤地反抗了一句：“看看都不行吗？”其实我的声音是多么软弱无力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790560" y="4424400"/>
            <a:ext cx="7824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此时作者“窃读”的滋味可以说有艰难，有委屈，有尴尬、羞愧，还有悲愤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790560" y="3753000"/>
            <a:ext cx="7683480" cy="642960"/>
            <a:chOff x="790560" y="3753000"/>
            <a:chExt cx="7683480" cy="642960"/>
          </a:xfrm>
        </p:grpSpPr>
        <p:sp>
          <p:nvSpPr>
            <p:cNvPr id="104" name="直接连接符 6"/>
            <p:cNvSpPr/>
            <p:nvPr/>
          </p:nvSpPr>
          <p:spPr>
            <a:xfrm>
              <a:off x="790560" y="4395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任意多边形 8"/>
            <p:cNvSpPr/>
            <p:nvPr/>
          </p:nvSpPr>
          <p:spPr>
            <a:xfrm>
              <a:off x="790560" y="375300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964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此时作者“窃读”的滋味是怎样的？试用几个词语来概括一下。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912960" y="1800360"/>
            <a:ext cx="7534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作者“窃读”被老板当场抓住斥责，难堪不已，如果是你，你会有什么反应？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24" descr="花盆.png"/>
          <p:cNvPicPr/>
          <p:nvPr/>
        </p:nvPicPr>
        <p:blipFill>
          <a:blip r:embed="rId1"/>
          <a:stretch/>
        </p:blipFill>
        <p:spPr>
          <a:xfrm>
            <a:off x="669960" y="1954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944640" y="3282840"/>
            <a:ext cx="7502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会真诚地告诉老板，自己暂时没钱，但书中内容很吸引人，请求他让自己把剩下的部分看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39:47Z</dcterms:modified>
  <cp:revision>4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