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651-60CC-4EA1-99ED-9D098769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AA51-23D1-4309-8364-34FF014E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C44-6B99-48D0-A098-1434D652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BA6-21A1-456A-B398-C0EF4646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593F-C387-467A-A652-98F4A7C1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AE88-46AB-497E-9B6B-5772A45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1F0A-9A64-4379-A104-0518C527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9C6B-519C-4A9C-8C7C-1830EE6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D9A2-F213-47BF-9989-02F8BD77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420A-407C-44C4-BD32-DCCCCA84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EAA-ED20-46BC-BB23-D4FF8C2A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CAD-54D5-4F94-A94F-06953C2F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2645-D0DB-49FD-9517-8B9A140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2FA8-0F0F-4979-AD28-F53193CE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6DED-B6B8-4B2D-995B-89694DF2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4693-ED94-4213-AB22-A30BB282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68B4-65FE-4EC1-B2B8-0902DCFE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5C18-E526-4D9D-B65C-677C6C22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3DE38-762B-4C3A-BBAC-710BB119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E2CB-2D54-4D7A-9713-28117784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7B40-4435-4A46-8354-5A4C67BC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E15A8-D4C2-491D-B619-F3C8BD13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926-0CA3-4DA0-A03E-44B82F8D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D39F-B638-4405-9447-26BF5B56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F5555-2162-4C68-B807-0B1DB530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B9F35-128B-4F15-8110-31F419B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B225-3032-4B9A-A3A6-8161E1C8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3F44-AA86-41D6-A7BA-A1A6150F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AEE0-9C2D-42B9-B961-D8DDA952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639D-4E66-4B7F-8793-BC289DF2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22FA-3681-4B75-95FB-56E06813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1CA9-C688-4E91-8F11-A7565FE4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D17AA-32ED-4154-8B21-B1019BBE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4E6-55B3-465C-AF65-A5CC84E0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9044E-BC4A-4739-B53E-FCF23620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E98AE-AAAC-4CA0-BEBC-38F7D30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B2A93-559D-434E-A40A-E4714304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C96A7-0469-4884-97CE-6EBB8D0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35F6-F4CE-46B9-B39A-E60198D0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B15A8-29A7-4AB3-8C3F-9E25CDCE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F16C8-1B70-4903-BA04-82A4B853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B5DE-ED01-4957-AA77-FFCCCDE0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4F70-8355-433B-85D2-7AA9CE3C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7AE-D516-4337-B0C9-E10C6C79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E26-F20A-486F-A0B2-EED5CCC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81E-7B25-4423-9B5A-9ABA881D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350A-C347-4DFD-B4FC-A8820B4B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9C0-BC71-4041-8654-B492990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1" name="Picture 3" descr="框"/>
            <p:cNvPicPr/>
            <p:nvPr/>
          </p:nvPicPr>
          <p:blipFill>
            <a:blip r:embed="rId3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花4"/>
            <p:cNvPicPr/>
            <p:nvPr/>
          </p:nvPicPr>
          <p:blipFill>
            <a:blip r:embed="rId4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3"/>
            <p:cNvPicPr/>
            <p:nvPr/>
          </p:nvPicPr>
          <p:blipFill>
            <a:blip r:embed="rId5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6" descr="葉子"/>
            <p:cNvPicPr/>
            <p:nvPr/>
          </p:nvPicPr>
          <p:blipFill>
            <a:blip r:embed="rId6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0B34-1074-468C-BCA8-FF02A5CD5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6F22-2084-45B1-87A9-286B4EEA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88" name="Picture 3" descr="框"/>
            <p:cNvPicPr/>
            <p:nvPr/>
          </p:nvPicPr>
          <p:blipFill>
            <a:blip r:embed="rId3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4" descr="花4"/>
            <p:cNvPicPr/>
            <p:nvPr/>
          </p:nvPicPr>
          <p:blipFill>
            <a:blip r:embed="rId4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" descr="花3"/>
            <p:cNvPicPr/>
            <p:nvPr/>
          </p:nvPicPr>
          <p:blipFill>
            <a:blip r:embed="rId5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葉子"/>
            <p:cNvPicPr/>
            <p:nvPr/>
          </p:nvPicPr>
          <p:blipFill>
            <a:blip r:embed="rId6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3" name="Picture 3" descr="框"/>
            <p:cNvPicPr/>
            <p:nvPr/>
          </p:nvPicPr>
          <p:blipFill>
            <a:blip r:embed="rId7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花4"/>
            <p:cNvPicPr/>
            <p:nvPr/>
          </p:nvPicPr>
          <p:blipFill>
            <a:blip r:embed="rId8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花3"/>
            <p:cNvPicPr/>
            <p:nvPr/>
          </p:nvPicPr>
          <p:blipFill>
            <a:blip r:embed="rId9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" descr="葉子"/>
            <p:cNvPicPr/>
            <p:nvPr/>
          </p:nvPicPr>
          <p:blipFill>
            <a:blip r:embed="rId10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39FE-56C1-4152-864A-0839C6E2A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B81B-F419-4F0C-804A-239950F83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2050920" y="256536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伊索寓言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619280" y="1377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默读第一和第二自然段，边读边想：在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好几次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和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后来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发生的事情中，牧童和村民们各有什么不同的表现？</a:t>
            </a:r>
            <a:r>
              <a:rPr b="0" lang="zh-CN" sz="2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24000" y="3141720"/>
            <a:ext cx="8497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牧童                                                村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狼没来    几次大叫   （说谎）                  闻声赶来   （上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不禁哈哈大笑（捉弄村民）          惊慌失措    （气愤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狼来了    吓坏大叫    （真话）                 没人帮忙   （不相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280" y="3068640"/>
          <a:ext cx="8496360" cy="2306520"/>
        </p:xfrm>
        <a:graphic>
          <a:graphicData uri="http://schemas.openxmlformats.org/drawingml/2006/table">
            <a:tbl>
              <a:tblPr/>
              <a:tblGrid>
                <a:gridCol w="4876920"/>
                <a:gridCol w="361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Rectangle 21"/>
          <p:cNvSpPr/>
          <p:nvPr/>
        </p:nvSpPr>
        <p:spPr>
          <a:xfrm>
            <a:off x="2153520" y="578700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  <a:ea typeface="楷体_GB2312"/>
              </a:rPr>
              <a:t>体会：牧童两次“大叫”时的不同情感，村民两次听到“大叫”的不同情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1626120" y="169920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牧童是一个怎样的人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52400" y="376848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牧童说谎的结果是什么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026440" y="237528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欺骗、撒谎、不诚实、不老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452600" y="4508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隶书"/>
              </a:rPr>
              <a:t>自食其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164_200811040813171kQoW"/>
          <p:cNvPicPr/>
          <p:nvPr/>
        </p:nvPicPr>
        <p:blipFill>
          <a:blip r:embed="rId2"/>
          <a:stretch/>
        </p:blipFill>
        <p:spPr>
          <a:xfrm>
            <a:off x="900000" y="1557360"/>
            <a:ext cx="763920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u=1314286744,2802917041&amp;fm=0&amp;gp=0"/>
          <p:cNvPicPr/>
          <p:nvPr/>
        </p:nvPicPr>
        <p:blipFill>
          <a:blip r:embed="rId2"/>
          <a:stretch/>
        </p:blipFill>
        <p:spPr>
          <a:xfrm>
            <a:off x="684360" y="1052640"/>
            <a:ext cx="3554280" cy="5256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4"/>
          <p:cNvSpPr/>
          <p:nvPr/>
        </p:nvSpPr>
        <p:spPr>
          <a:xfrm>
            <a:off x="4602240" y="1502640"/>
            <a:ext cx="43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想想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狐狸和乌鸦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蝉和狐狸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这两个故事有什么相似之处，又有什么不同之处？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2919600" cy="2736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7"/>
          <p:cNvSpPr/>
          <p:nvPr/>
        </p:nvSpPr>
        <p:spPr>
          <a:xfrm>
            <a:off x="0" y="311184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楷体_GB2312"/>
              </a:rPr>
              <a:t>相似的是狐狸为了达到自己不可告人的目的，都在说奉承话。不同之处是乌鸦上当了，而蝉没有上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0"/>
          <p:cNvSpPr/>
          <p:nvPr/>
        </p:nvSpPr>
        <p:spPr>
          <a:xfrm>
            <a:off x="0" y="40464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284720" y="14119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使人上当受骗的计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258920" y="14130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什么是圈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900000" y="2492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狐狸的圈套是什么？他怎样是是自己的圈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40360" y="2060640"/>
            <a:ext cx="446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说奉承话。目的是“下来让我见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故意站在蝉的前面，赞叹：歌声美妙，天才的歌唱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表示对蝉的尊重：四个“您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17928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900000" y="450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狐狸把树叶当做蝉，猛地扑了过去。反映了狐狸的那些品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500720" y="486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贪婪  迫不及待   凶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u=3126368377,3093583934&amp;fm=3&amp;gp=0"/>
          <p:cNvPicPr/>
          <p:nvPr/>
        </p:nvPicPr>
        <p:blipFill>
          <a:blip r:embed="rId2"/>
          <a:stretch/>
        </p:blipFill>
        <p:spPr>
          <a:xfrm>
            <a:off x="257040" y="2730600"/>
            <a:ext cx="2448000" cy="1819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3419640" y="202536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狐狸说了这么多花言巧语，但它的本意却是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骗蝉下来，吃掉它。你能用一些词形容一下这个坏家伙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254760" y="4567680"/>
            <a:ext cx="40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狡诈  贪婪   心怀鬼胎   口蜜腹剑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1224720" y="14842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你能用一些词形容一下这个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057320" y="2491200"/>
            <a:ext cx="26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警惕性很高，不轻信，很机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932360" y="242100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扔下一片树叶来试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2590560" y="34279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善于观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5076720" y="3322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发现狐狸的粪便里掺杂着同伴的翅膀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2446200" y="45802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吸取教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5651640" y="4437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被吃掉的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0" y="647640"/>
            <a:ext cx="2843280" cy="155736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294000" y="1360080"/>
            <a:ext cx="5364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寓言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楷体_GB2312"/>
              </a:rPr>
              <a:t>，是通过一个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_GB2312"/>
              </a:rPr>
              <a:t>小故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楷体_GB2312"/>
              </a:rPr>
              <a:t>，用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_GB2312"/>
              </a:rPr>
              <a:t>比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楷体_GB2312"/>
              </a:rPr>
              <a:t>、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_GB2312"/>
              </a:rPr>
              <a:t>拟人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楷体_GB2312"/>
              </a:rPr>
              <a:t>等手法，来说明某个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_GB2312"/>
              </a:rPr>
              <a:t>道理或教训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楷体_GB2312"/>
              </a:rPr>
              <a:t>的文学作品，往往带有</a:t>
            </a:r>
            <a:r>
              <a:rPr b="1" lang="zh-CN" sz="2000" spc="-1" strike="noStrike">
                <a:solidFill>
                  <a:srgbClr val="ff6600"/>
                </a:solidFill>
                <a:latin typeface="Arial"/>
                <a:ea typeface="楷体_GB2312"/>
              </a:rPr>
              <a:t>讽刺和劝诫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楷体_GB2312"/>
              </a:rPr>
              <a:t>的性质。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caae6809982521e92eddd4ff"/>
          <p:cNvPicPr/>
          <p:nvPr/>
        </p:nvPicPr>
        <p:blipFill>
          <a:blip r:embed="rId2"/>
          <a:stretch/>
        </p:blipFill>
        <p:spPr>
          <a:xfrm>
            <a:off x="38160" y="2271600"/>
            <a:ext cx="2200320" cy="4319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3059280" y="414072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隶书"/>
                <a:ea typeface="隶书"/>
              </a:rPr>
              <a:t>伊索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公元前</a:t>
            </a:r>
            <a:r>
              <a:rPr b="1" lang="en-US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世纪古希腊著名的寓言家。他曾是奴隶，曾被转卖多次，但因知识渊博，聪颖过人，最后获得自由。自由后，伊索开始环游世界，为人们讲述他的寓言故事，深受古希腊人民的喜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11280" y="1123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u=3852170617,3524217807&amp;fm=2&amp;gp=0"/>
          <p:cNvPicPr/>
          <p:nvPr/>
        </p:nvPicPr>
        <p:blipFill>
          <a:blip r:embed="rId2"/>
          <a:stretch/>
        </p:blipFill>
        <p:spPr>
          <a:xfrm>
            <a:off x="2629080" y="3068640"/>
            <a:ext cx="3958920" cy="29718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5"/>
          <p:cNvSpPr txBox="1"/>
          <p:nvPr/>
        </p:nvSpPr>
        <p:spPr>
          <a:xfrm>
            <a:off x="1763640" y="1989000"/>
            <a:ext cx="568980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隶书"/>
              </a:rPr>
              <a:t>狐狸和葡萄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隶书"/>
              <a:ea typeface="隶书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u=848941541,838379744&amp;fm=0&amp;gp=0"/>
          <p:cNvPicPr/>
          <p:nvPr/>
        </p:nvPicPr>
        <p:blipFill>
          <a:blip r:embed="rId2"/>
          <a:stretch/>
        </p:blipFill>
        <p:spPr>
          <a:xfrm>
            <a:off x="684360" y="1484280"/>
            <a:ext cx="3058920" cy="4130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4716360" y="14828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狐狸想吃葡萄吗？从哪些词句可以看出狐狸非常想吃葡萄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307120" y="321192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馋得直流口水　想尽各种办法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u=521530246,3095285326&amp;fm=0&amp;gp=0"/>
          <p:cNvPicPr/>
          <p:nvPr/>
        </p:nvPicPr>
        <p:blipFill>
          <a:blip r:embed="rId2"/>
          <a:stretch/>
        </p:blipFill>
        <p:spPr>
          <a:xfrm>
            <a:off x="395280" y="1822320"/>
            <a:ext cx="4973760" cy="32893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5796000" y="220356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狐狸能想到哪些方法去够葡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5724360" y="36482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于是他后退了几步，向前一冲，跳起来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95640" y="1162080"/>
            <a:ext cx="51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白费劲”说明了什么？你能想象出此时狐狸的神情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450320" y="19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Arial"/>
                <a:ea typeface="楷体_GB2312"/>
              </a:rPr>
              <a:t>无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79640" y="277992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狐狸在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白费劲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无望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的情况下，仍然对葡萄恋恋不舍， 从哪些句子可以看出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5298840" y="400464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狐狸后退又试。一次，两次，三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5180040" y="450792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狐狸试了一次又一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u=521530246,3095285326&amp;fm=0&amp;gp=0"/>
          <p:cNvPicPr/>
          <p:nvPr/>
        </p:nvPicPr>
        <p:blipFill>
          <a:blip r:embed="rId2"/>
          <a:stretch/>
        </p:blipFill>
        <p:spPr>
          <a:xfrm>
            <a:off x="250920" y="2637000"/>
            <a:ext cx="4572000" cy="30240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9"/>
          <p:cNvSpPr/>
          <p:nvPr/>
        </p:nvSpPr>
        <p:spPr>
          <a:xfrm>
            <a:off x="324000" y="5732640"/>
            <a:ext cx="1763640" cy="620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832400" y="1988280"/>
            <a:ext cx="57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80"/>
                </a:solidFill>
                <a:latin typeface="Arial"/>
                <a:ea typeface="楷体_GB2312"/>
              </a:rPr>
              <a:t>同学们吃过成熟的葡萄吗？是什么滋味？狐狸为什么说葡萄肯定是酸的，不好吃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076720" y="3456360"/>
            <a:ext cx="371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800080"/>
                </a:solidFill>
                <a:latin typeface="Arial"/>
                <a:ea typeface="楷体_GB2312"/>
              </a:rPr>
              <a:t>虚荣心强、爱面子、生怕别人笑话；自己无能为力，却又不敢承认，表里不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608760" y="5811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800080"/>
                </a:solidFill>
                <a:latin typeface="Arial"/>
                <a:ea typeface="隶书"/>
              </a:rPr>
              <a:t>狐狸的形象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u=2721803838,3200968011&amp;fm=3&amp;gp=0"/>
          <p:cNvPicPr/>
          <p:nvPr/>
        </p:nvPicPr>
        <p:blipFill>
          <a:blip r:embed="rId2"/>
          <a:stretch/>
        </p:blipFill>
        <p:spPr>
          <a:xfrm>
            <a:off x="250920" y="4437000"/>
            <a:ext cx="3348000" cy="22399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8"/>
          <p:cNvSpPr/>
          <p:nvPr/>
        </p:nvSpPr>
        <p:spPr>
          <a:xfrm>
            <a:off x="0" y="2565360"/>
            <a:ext cx="3059280" cy="1657440"/>
          </a:xfrm>
          <a:prstGeom prst="wedgeRoundRectCallout">
            <a:avLst>
              <a:gd name="adj1" fmla="val 150726"/>
              <a:gd name="adj2" fmla="val -718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924360" y="163584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默读第三自然段。从上面的故事你能知道“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隶书"/>
              </a:rPr>
              <a:t>无能为力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”是什么意思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27460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楷体_GB2312"/>
              </a:rPr>
              <a:t>不能施展力量。指使不上劲或没有能力去做好某件事情、解决某个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140360" y="372096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寓意</a:t>
            </a:r>
            <a:r>
              <a:rPr b="1" lang="en-US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在经历了许多尝试而不能获得成功的时候，有些人往往故意轻视成功，以此来寻求心理安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u=1216849542,2830253615&amp;fm=15&amp;gp=0"/>
          <p:cNvPicPr/>
          <p:nvPr/>
        </p:nvPicPr>
        <p:blipFill>
          <a:blip r:embed="rId2"/>
          <a:srcRect l="2241" t="7048" r="0" b="0"/>
          <a:stretch/>
        </p:blipFill>
        <p:spPr>
          <a:xfrm>
            <a:off x="2050920" y="3068640"/>
            <a:ext cx="5151600" cy="3240000"/>
          </a:xfrm>
          <a:prstGeom prst="rect">
            <a:avLst/>
          </a:prstGeom>
          <a:ln w="0">
            <a:noFill/>
          </a:ln>
        </p:spPr>
      </p:pic>
      <p:sp>
        <p:nvSpPr>
          <p:cNvPr id="209" name="WordArt 3"/>
          <p:cNvSpPr txBox="1"/>
          <p:nvPr/>
        </p:nvSpPr>
        <p:spPr>
          <a:xfrm>
            <a:off x="1042920" y="1052640"/>
            <a:ext cx="63388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cc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牧童和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cc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 User</cp:lastModifiedBy>
  <dcterms:modified xsi:type="dcterms:W3CDTF">2017-10-26T14:20:57Z</dcterms:modified>
  <cp:revision>15</cp:revision>
  <dc:subject/>
  <dc:title>幻灯片 1</dc:title>
</cp:coreProperties>
</file>