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1.png" ContentType="image/png"/>
  <Override PartName="/ppt/media/image5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22.gif" ContentType="image/gif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B1D642-5C01-4895-B910-AD85EE7CA87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8C85A2-E153-483C-B2DE-03AA3A164F7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AB2DEF-C439-498A-8CB6-BE8E4029C7C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70C01A-2629-4B50-AD21-F8AD4AA87C7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3013E5-6B55-4D78-8DE1-F110ACCFDAF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8BEEA7-D51D-43CD-BFE8-C7B4BE24971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E1F6-8B61-4D89-BAC6-3972C9A72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094E-1AF1-45A5-80C5-F57CCC45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3E5E-5B30-4B03-9412-EC13BEAD0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BD0F-B1C4-4671-A5AB-6875D34BA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8DBE-0963-4F22-80B7-CBBD3BC7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F95D-D13E-4AA2-A0E7-AA6BAC7C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334C-E1E0-4729-9B3E-057EE9F6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7FBF-2CC8-4DFE-8245-D2DFA5D1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DEFF-D8CF-4CF8-BCB5-B871C0C8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5170-9286-406E-B7FA-910BAA47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57E7-039B-49EC-AB9D-BF72E717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EFE9-D634-45AF-8DEE-5FF317DA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DB681B-AFCA-493E-9A14-617BD0520B5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2" descr=""/>
          <p:cNvPicPr/>
          <p:nvPr/>
        </p:nvPicPr>
        <p:blipFill>
          <a:blip r:embed="rId1"/>
          <a:stretch/>
        </p:blipFill>
        <p:spPr>
          <a:xfrm>
            <a:off x="2743200" y="2097000"/>
            <a:ext cx="3919680" cy="3505320"/>
          </a:xfrm>
          <a:prstGeom prst="rect">
            <a:avLst/>
          </a:prstGeom>
          <a:ln w="0">
            <a:noFill/>
          </a:ln>
        </p:spPr>
      </p:pic>
      <p:sp>
        <p:nvSpPr>
          <p:cNvPr id="49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53" name="任意多边形 3" descr=""/>
            <p:cNvPicPr/>
            <p:nvPr/>
          </p:nvPicPr>
          <p:blipFill>
            <a:blip r:embed="rId4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任意多边形 6" descr=""/>
            <p:cNvPicPr/>
            <p:nvPr/>
          </p:nvPicPr>
          <p:blipFill>
            <a:blip r:embed="rId5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任意多边形 8" descr=""/>
            <p:cNvPicPr/>
            <p:nvPr/>
          </p:nvPicPr>
          <p:blipFill>
            <a:blip r:embed="rId6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任意多边形 19" descr=""/>
            <p:cNvPicPr/>
            <p:nvPr/>
          </p:nvPicPr>
          <p:blipFill>
            <a:blip r:embed="rId7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流程图: 摘录 25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流程图: 摘录 40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流程图: 摘录 41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组合 13336"/>
          <p:cNvGrpSpPr/>
          <p:nvPr/>
        </p:nvGrpSpPr>
        <p:grpSpPr>
          <a:xfrm>
            <a:off x="3100320" y="3268800"/>
            <a:ext cx="3186360" cy="1150920"/>
            <a:chOff x="3100320" y="3268800"/>
            <a:chExt cx="3186360" cy="1150920"/>
          </a:xfrm>
        </p:grpSpPr>
        <p:sp>
          <p:nvSpPr>
            <p:cNvPr id="61" name="矩形 13324"/>
            <p:cNvSpPr/>
            <p:nvPr/>
          </p:nvSpPr>
          <p:spPr>
            <a:xfrm>
              <a:off x="3323520" y="3268800"/>
              <a:ext cx="2729520" cy="110412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4005000" y="33541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矩形 47" descr=""/>
            <p:cNvPicPr/>
            <p:nvPr/>
          </p:nvPicPr>
          <p:blipFill>
            <a:blip r:embed="rId9"/>
            <a:stretch/>
          </p:blipFill>
          <p:spPr>
            <a:xfrm>
              <a:off x="3100320" y="3314160"/>
              <a:ext cx="3186360" cy="110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组合 13338"/>
          <p:cNvGrpSpPr/>
          <p:nvPr/>
        </p:nvGrpSpPr>
        <p:grpSpPr>
          <a:xfrm>
            <a:off x="2319480" y="873000"/>
            <a:ext cx="5279760" cy="1181160"/>
            <a:chOff x="2319480" y="873000"/>
            <a:chExt cx="5279760" cy="1181160"/>
          </a:xfrm>
        </p:grpSpPr>
        <p:sp>
          <p:nvSpPr>
            <p:cNvPr id="65" name="Text Box 2"/>
            <p:cNvSpPr/>
            <p:nvPr/>
          </p:nvSpPr>
          <p:spPr>
            <a:xfrm>
              <a:off x="3714840" y="1069560"/>
              <a:ext cx="3884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48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表里的生物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" name="组合 13337"/>
            <p:cNvGrpSpPr/>
            <p:nvPr/>
          </p:nvGrpSpPr>
          <p:grpSpPr>
            <a:xfrm>
              <a:off x="2319480" y="873000"/>
              <a:ext cx="1180800" cy="1181160"/>
              <a:chOff x="2319480" y="873000"/>
              <a:chExt cx="1180800" cy="1181160"/>
            </a:xfrm>
          </p:grpSpPr>
          <p:sp>
            <p:nvSpPr>
              <p:cNvPr id="67" name="AutoShape 11"/>
              <p:cNvSpPr/>
              <p:nvPr/>
            </p:nvSpPr>
            <p:spPr>
              <a:xfrm>
                <a:off x="2319480" y="873000"/>
                <a:ext cx="1180800" cy="118116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文本框 13"/>
              <p:cNvSpPr/>
              <p:nvPr/>
            </p:nvSpPr>
            <p:spPr>
              <a:xfrm>
                <a:off x="2344320" y="910800"/>
                <a:ext cx="10951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13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2"/>
          <p:cNvSpPr/>
          <p:nvPr/>
        </p:nvSpPr>
        <p:spPr>
          <a:xfrm>
            <a:off x="776160" y="1247760"/>
            <a:ext cx="768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这样的话我不知说了多久，也不知道什么时候才不说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1"/>
          <p:cNvSpPr/>
          <p:nvPr/>
        </p:nvSpPr>
        <p:spPr>
          <a:xfrm>
            <a:off x="873000" y="3003480"/>
            <a:ext cx="782496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我不知说了多久”是说“我”因为自己发现了秘密，所以逢人就说爸爸有一个装着小蝎子的表，小蝎子会发出声音，说明“我”执着、天真；“也不知道什么时候才不说了”是说“我”长大了，明白了其中的真相，不是“我”猜测的那样， 就不好意思说了。这个结尾含蓄地表达了本文的主旨：儿时幼稚、天真的做法，成了一生中最美丽的珍藏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" name="组合 5"/>
          <p:cNvGrpSpPr/>
          <p:nvPr/>
        </p:nvGrpSpPr>
        <p:grpSpPr>
          <a:xfrm>
            <a:off x="873000" y="2306520"/>
            <a:ext cx="7683480" cy="559080"/>
            <a:chOff x="873000" y="2306520"/>
            <a:chExt cx="7683480" cy="559080"/>
          </a:xfrm>
        </p:grpSpPr>
        <p:sp>
          <p:nvSpPr>
            <p:cNvPr id="112" name="直接连接符 6"/>
            <p:cNvSpPr/>
            <p:nvPr/>
          </p:nvSpPr>
          <p:spPr>
            <a:xfrm>
              <a:off x="873000" y="286560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任意多边形 8"/>
            <p:cNvSpPr/>
            <p:nvPr/>
          </p:nvSpPr>
          <p:spPr>
            <a:xfrm>
              <a:off x="873000" y="2306520"/>
              <a:ext cx="7683480" cy="55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964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课文以这句话结尾有什么作用？ 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2"/>
          <p:cNvSpPr/>
          <p:nvPr/>
        </p:nvSpPr>
        <p:spPr>
          <a:xfrm>
            <a:off x="955800" y="2089080"/>
            <a:ext cx="723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同学们刚才已经跟随老师走进课文，品读了课文中的重点语句，现在，让我们拿起金钥匙开启智慧之门吧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内容占位符 2"/>
          <p:cNvSpPr/>
          <p:nvPr/>
        </p:nvSpPr>
        <p:spPr>
          <a:xfrm>
            <a:off x="635040" y="1940040"/>
            <a:ext cx="220356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核心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1"/>
          <p:cNvSpPr/>
          <p:nvPr/>
        </p:nvSpPr>
        <p:spPr>
          <a:xfrm>
            <a:off x="977760" y="3691080"/>
            <a:ext cx="742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主要写了“我”小时候认为能发出声音的都是活的生物，所以对父亲的表极其好奇，并相信了父亲说的表里有个小蝎子。表现了“我”童年时代对事物有着强烈的好奇心，是个善于观察、爱思考、有丰富的想象力的孩子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5"/>
          <p:cNvSpPr/>
          <p:nvPr/>
        </p:nvSpPr>
        <p:spPr>
          <a:xfrm>
            <a:off x="961920" y="2530440"/>
            <a:ext cx="742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想想文章主要写了一件什么事？从中可以看出“我”是一个怎样的孩子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531720" y="1185840"/>
            <a:ext cx="551808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内容占位符 2"/>
          <p:cNvSpPr/>
          <p:nvPr/>
        </p:nvSpPr>
        <p:spPr>
          <a:xfrm>
            <a:off x="851040" y="2454120"/>
            <a:ext cx="76453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读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儿时的“我”对声音的认识是怎样的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1"/>
          <p:cNvSpPr/>
          <p:nvPr/>
        </p:nvSpPr>
        <p:spPr>
          <a:xfrm>
            <a:off x="1197000" y="3209760"/>
            <a:ext cx="725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70956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我”小时候认为能发出声音的都是活的生物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内容占位符 2"/>
          <p:cNvSpPr/>
          <p:nvPr/>
        </p:nvSpPr>
        <p:spPr>
          <a:xfrm>
            <a:off x="635040" y="1733400"/>
            <a:ext cx="22035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串珠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内容占位符 2"/>
          <p:cNvSpPr/>
          <p:nvPr/>
        </p:nvSpPr>
        <p:spPr>
          <a:xfrm>
            <a:off x="625320" y="1947960"/>
            <a:ext cx="78472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二思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面对父亲的会发出声音的表，“我”想到了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1"/>
          <p:cNvSpPr/>
          <p:nvPr/>
        </p:nvSpPr>
        <p:spPr>
          <a:xfrm>
            <a:off x="1039680" y="279396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6220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我”对表里的东西充满了好奇，也做了许多猜测，心想里边一定有一个小生物吧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内容占位符 2"/>
          <p:cNvSpPr/>
          <p:nvPr/>
        </p:nvSpPr>
        <p:spPr>
          <a:xfrm>
            <a:off x="804960" y="1916280"/>
            <a:ext cx="76453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三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父亲拨开表盖后，告诉“我”什么？“我”又是怎么认为的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1230480" y="3062160"/>
            <a:ext cx="707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父亲说表里有个小蝎子。“我”相信了父亲的话，并且逢人就说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内容占位符 2"/>
          <p:cNvSpPr/>
          <p:nvPr/>
        </p:nvSpPr>
        <p:spPr>
          <a:xfrm>
            <a:off x="790560" y="1701720"/>
            <a:ext cx="7645320" cy="30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四品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我”后来见人就说什么？为什么后来不说了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1"/>
          <p:cNvSpPr/>
          <p:nvPr/>
        </p:nvSpPr>
        <p:spPr>
          <a:xfrm>
            <a:off x="1198440" y="2419200"/>
            <a:ext cx="725328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622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我”见人就说：“我有蟋蟀在钵子里，蝈蝈儿在葫芦里，鸟儿在笼子里；父亲却有一个小蝎子 在表里。”后来随着年龄的增长，作者意识到自己的幼稚，明白了父亲的表里没有蝎子，也明白了表里为什么会发出“嘀嗒，嘀嗒”的声音，也就不说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80" indent="622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6" descr="C:\Users\Administrator\Desktop\可改图标 - 副本\结构主旨22.png"/>
          <p:cNvPicPr/>
          <p:nvPr/>
        </p:nvPicPr>
        <p:blipFill>
          <a:blip r:embed="rId1"/>
          <a:stretch/>
        </p:blipFill>
        <p:spPr>
          <a:xfrm>
            <a:off x="3584520" y="326880"/>
            <a:ext cx="2406600" cy="631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29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30" name="圆角矩形 8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1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结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3" name="文本框 26"/>
          <p:cNvSpPr/>
          <p:nvPr/>
        </p:nvSpPr>
        <p:spPr>
          <a:xfrm>
            <a:off x="-27000" y="3395520"/>
            <a:ext cx="25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表里的生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12"/>
          <p:cNvSpPr/>
          <p:nvPr/>
        </p:nvSpPr>
        <p:spPr>
          <a:xfrm>
            <a:off x="2023920" y="2365200"/>
            <a:ext cx="490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965a"/>
                </a:solidFill>
                <a:latin typeface="黑体"/>
                <a:ea typeface="黑体"/>
              </a:rPr>
              <a:t>凡能发出声音的，都是活的生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左大括号 13"/>
          <p:cNvSpPr/>
          <p:nvPr/>
        </p:nvSpPr>
        <p:spPr>
          <a:xfrm>
            <a:off x="1903320" y="2293920"/>
            <a:ext cx="312840" cy="2879640"/>
          </a:xfrm>
          <a:custGeom>
            <a:avLst/>
            <a:gdLst>
              <a:gd name="textAreaLeft" fmla="*/ 199800 w 312840"/>
              <a:gd name="textAreaRight" fmla="*/ 313200 w 312840"/>
              <a:gd name="textAreaTop" fmla="*/ 7920 h 2879640"/>
              <a:gd name="textAreaBottom" fmla="*/ 287172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8"/>
                  <a:pt x="10800" y="195"/>
                </a:cubicBezTo>
                <a:lnTo>
                  <a:pt x="10800" y="10605"/>
                </a:lnTo>
                <a:cubicBezTo>
                  <a:pt x="10800" y="10703"/>
                  <a:pt x="5400" y="10800"/>
                  <a:pt x="0" y="10800"/>
                </a:cubicBezTo>
                <a:cubicBezTo>
                  <a:pt x="5400" y="10800"/>
                  <a:pt x="10800" y="10898"/>
                  <a:pt x="10800" y="10995"/>
                </a:cubicBezTo>
                <a:lnTo>
                  <a:pt x="10800" y="21405"/>
                </a:lnTo>
                <a:cubicBezTo>
                  <a:pt x="10800" y="2150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左大括号 15"/>
          <p:cNvSpPr/>
          <p:nvPr/>
        </p:nvSpPr>
        <p:spPr>
          <a:xfrm flipH="1">
            <a:off x="6815880" y="2303640"/>
            <a:ext cx="314280" cy="2879640"/>
          </a:xfrm>
          <a:custGeom>
            <a:avLst/>
            <a:gdLst>
              <a:gd name="textAreaLeft" fmla="*/ 200520 w 314280"/>
              <a:gd name="textAreaRight" fmla="*/ 314280 w 314280"/>
              <a:gd name="textAreaTop" fmla="*/ 7920 h 2879640"/>
              <a:gd name="textAreaBottom" fmla="*/ 287172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8"/>
                  <a:pt x="10800" y="196"/>
                </a:cubicBezTo>
                <a:lnTo>
                  <a:pt x="10800" y="10604"/>
                </a:lnTo>
                <a:cubicBezTo>
                  <a:pt x="10800" y="10702"/>
                  <a:pt x="5400" y="10800"/>
                  <a:pt x="0" y="10800"/>
                </a:cubicBezTo>
                <a:cubicBezTo>
                  <a:pt x="5400" y="10800"/>
                  <a:pt x="10800" y="10898"/>
                  <a:pt x="10800" y="10996"/>
                </a:cubicBezTo>
                <a:lnTo>
                  <a:pt x="10800" y="21404"/>
                </a:lnTo>
                <a:cubicBezTo>
                  <a:pt x="10800" y="21502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16"/>
          <p:cNvSpPr/>
          <p:nvPr/>
        </p:nvSpPr>
        <p:spPr>
          <a:xfrm>
            <a:off x="7040520" y="2692440"/>
            <a:ext cx="1884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幼稚可笑    的经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天真好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的童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4"/>
          <p:cNvSpPr/>
          <p:nvPr/>
        </p:nvSpPr>
        <p:spPr>
          <a:xfrm>
            <a:off x="2022480" y="3009960"/>
            <a:ext cx="539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965a"/>
                </a:solidFill>
                <a:latin typeface="黑体"/>
                <a:ea typeface="黑体"/>
              </a:rPr>
              <a:t>表能发出声音，里面也会有生物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4"/>
          <p:cNvSpPr/>
          <p:nvPr/>
        </p:nvSpPr>
        <p:spPr>
          <a:xfrm>
            <a:off x="2039760" y="3668760"/>
            <a:ext cx="494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965a"/>
                </a:solidFill>
                <a:latin typeface="黑体"/>
                <a:ea typeface="黑体"/>
              </a:rPr>
              <a:t>父亲打开表，证实了猜测没有错</a:t>
            </a:r>
            <a:r>
              <a:rPr b="1" lang="en-US" sz="2000" spc="-1" strike="noStrike">
                <a:solidFill>
                  <a:srgbClr val="00965a"/>
                </a:solidFill>
                <a:latin typeface="黑体"/>
                <a:ea typeface="黑体"/>
              </a:rPr>
              <a:t>——</a:t>
            </a:r>
            <a:r>
              <a:rPr b="1" lang="zh-CN" sz="2000" spc="-1" strike="noStrike">
                <a:solidFill>
                  <a:srgbClr val="00965a"/>
                </a:solidFill>
                <a:latin typeface="黑体"/>
                <a:ea typeface="黑体"/>
              </a:rPr>
              <a:t>表里有小蝎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4"/>
          <p:cNvSpPr/>
          <p:nvPr/>
        </p:nvSpPr>
        <p:spPr>
          <a:xfrm>
            <a:off x="1968480" y="4680000"/>
            <a:ext cx="49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965a"/>
                </a:solidFill>
                <a:latin typeface="黑体"/>
                <a:ea typeface="黑体"/>
              </a:rPr>
              <a:t>“</a:t>
            </a:r>
            <a:r>
              <a:rPr b="1" lang="zh-CN" sz="2000" spc="-1" strike="noStrike">
                <a:solidFill>
                  <a:srgbClr val="00965a"/>
                </a:solidFill>
                <a:latin typeface="黑体"/>
                <a:ea typeface="黑体"/>
              </a:rPr>
              <a:t>我”逢人就说父亲表里有个小蝎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内容占位符 2"/>
          <p:cNvSpPr/>
          <p:nvPr/>
        </p:nvSpPr>
        <p:spPr>
          <a:xfrm>
            <a:off x="934920" y="2084400"/>
            <a:ext cx="741708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文叙述了“我”小时候认为能发出声音的都是活的生物，所以对父亲的表极其好奇，并相信了父亲说的表里有个小蝎子。表现了作者童年时代对事物有着强烈的好奇心，是个善于观察、爱思考、有丰富想象力的孩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2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43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4" name="图片 5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主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16" descr=""/>
          <p:cNvPicPr/>
          <p:nvPr/>
        </p:nvPicPr>
        <p:blipFill>
          <a:blip r:embed="rId1"/>
          <a:stretch/>
        </p:blipFill>
        <p:spPr>
          <a:xfrm>
            <a:off x="3284640" y="34308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47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48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9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推荐阅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1" name="内容占位符 2"/>
          <p:cNvSpPr/>
          <p:nvPr/>
        </p:nvSpPr>
        <p:spPr>
          <a:xfrm>
            <a:off x="996840" y="1828800"/>
            <a:ext cx="739620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花 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做孩子的时候，盼过年的心情比大人迫切，吃穿玩乐花样都多，还可以把亲友塞到手心里的一小包压岁钱积攒起来，做个小富翁。但对孩子们来说，过年的魅力还有更深一层的缘故，便是我要写在这张纸上的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每逢年至，小闺女们闹着戴绒花，穿红袄，嘴巴上涂上浓浓的胭脂团儿；男孩子们的兴趣都盯在鞭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biān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）炮上。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我则不然，最喜欢的是买个花脸戴。这是一种纸浆轧制成的面具，用渗胶的彩粉画上唱戏的那些有名有姓、威风十足的大花脸。后边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6"/>
          <p:cNvSpPr/>
          <p:nvPr/>
        </p:nvSpPr>
        <p:spPr>
          <a:xfrm>
            <a:off x="1179360" y="2476440"/>
            <a:ext cx="68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通过人物动作、语言、心理活动的描写，体会尼尔斯和白鹅马丁刚刚开始历险时的心理变化过程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图示 3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70"/>
          <p:cNvSpPr/>
          <p:nvPr/>
        </p:nvSpPr>
        <p:spPr>
          <a:xfrm>
            <a:off x="-3943440" y="714240"/>
            <a:ext cx="1895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2" descr=""/>
          <p:cNvPicPr/>
          <p:nvPr/>
        </p:nvPicPr>
        <p:blipFill>
          <a:blip r:embed="rId2"/>
          <a:stretch/>
        </p:blipFill>
        <p:spPr>
          <a:xfrm>
            <a:off x="-3943440" y="714240"/>
            <a:ext cx="189720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内容占位符 2"/>
          <p:cNvSpPr/>
          <p:nvPr/>
        </p:nvSpPr>
        <p:spPr>
          <a:xfrm>
            <a:off x="996840" y="1366920"/>
            <a:ext cx="753264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根橡皮条儿，往头上一套，自己俨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ǎ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n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）然就变成那员虎将了。这花脸是依脸形轧的，眼睛处挖两个孔，可以从里边往外看。但鼻子和嘴的地方不通气，一戴上，好闷，还有股臭胶和纸浆的味儿；说出话来，声音变得低而粗，却有大将威武不凡的气概，神气得很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一年年根，舅舅带我去娘娘宫前年货集市上买花脸。过年时人都分外有劲，挤在人群里好费力。终于，我从挂满在一条横竿上的几十种花花绿绿花脸中，惊喜地发现了一个。这花脸好大，好特别！通面赤红，一双墨眉，眼角雄俊地吊起。头上边突起一块绿包头，长巾贴脸垂下，脸下边是用马尾做的很长的胡须。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内容占位符 2"/>
          <p:cNvSpPr/>
          <p:nvPr/>
        </p:nvSpPr>
        <p:spPr>
          <a:xfrm>
            <a:off x="839880" y="1198440"/>
            <a:ext cx="782640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花脸与那些愣头愣脑、傻头傻脑、神头鬼脸的都不一样，虽然毫不凶恶，却有股子凛然不可侵犯的庄重之气，咄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duō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）咄逼人。叫我看得直缩脖子，要是把它挂在脸上，管叫别人也吓得缩脖子。我竟不敢用手指它，只是朝它扬下巴，说：“我要那个大红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!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卖花脸的小罗锅儿，举竿儿挑下这花脸给我，龇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zī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）着黄牙笑嘻嘻地说：“还是这小少爷有眼力，要做关老爷！关老爷还得拿把青龙偃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ǎ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n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）月刀呢！我给您挑把顶精神的！”说着从戳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chuō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）在地上的一捆刀枪里，抽出一柄最漂亮的大刀给我。大红漆杆，金黄刀面，刀面上嵌着几块闪闪发光的小镜片，中间画一条碧绿的小龙，还拴一朵红缨子。这刀！这花脸！没想到一下子得到两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内容占位符 2"/>
          <p:cNvSpPr/>
          <p:nvPr/>
        </p:nvSpPr>
        <p:spPr>
          <a:xfrm>
            <a:off x="703440" y="1308240"/>
            <a:ext cx="785304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宝贝，我高兴得只是笑，话都说不出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回家的路上，我就戴着花脸，倚着舅舅执刀而立，一路引来不少人瞧我。特别是那些与我一般大的男孩子们投来艳羡的目光时，我快活之极。舅舅给我讲了许多关公的故事——过五关斩六将、温酒斩华雄……边讲边说：“你好英雄呀！”好像在说我的光荣史。当他告诉我青龙偃月刀重八十斤时，我简直觉得自己力大无穷。舅舅还教我用京剧自报家门的腔调说：“我——姓关，名羽，字云长。”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　　到家，人人见人人夸，妈妈似乎比我更高兴。连总是厉害地板着脸的爸爸也含笑称我“小关公”。我推开大人们，跑到穿衣镜前，横刀立马地一照，呀，哪里是小关公，我是大关公哪！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内容占位符 2"/>
          <p:cNvSpPr/>
          <p:nvPr/>
        </p:nvSpPr>
        <p:spPr>
          <a:xfrm>
            <a:off x="839880" y="1198440"/>
            <a:ext cx="788040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这样，整个大年三十我一直戴着这花脸，谁说都不肯摘。睡觉时也戴着它，还是妈妈在我睡着后轻轻摘下放到我枕边的。转天醒来头件事就是马上戴上它，恢复我这“关老爷”的面貌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　　大年初一，客人们陆陆续续来拜年，妈妈喊我去，好叫客人们见识见识我这关老爷。我手握大刀，摇晃着肩膀，威风地走进客厅，憋足嗓子叫道：“我——姓关，名羽，字云长。”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　　客人们哄堂大笑，都说：“好个关老爷，有你守家，保管大鬼小鬼进不来！”我越发神气，大刀呼呼抡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lūn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）两圈，摆个张牙舞爪的架势，逗得客人们笑个不停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　　只要客人来，妈妈就喊我出场表演。妈妈还给我换上了只有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内容占位符 2"/>
          <p:cNvSpPr/>
          <p:nvPr/>
        </p:nvSpPr>
        <p:spPr>
          <a:xfrm>
            <a:off x="839880" y="1198440"/>
            <a:ext cx="7908840" cy="51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祖宗时才能穿的那件青缎金花的小袍子。我成了全家过年的主角。连爸爸对我也另眼看待了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　　我下楼一向不走楼梯。我家楼梯扶手是整根的光亮的圆木。下楼时便一条腿跨上去，“哧溜”一下滑到底。这时我就故意躲在楼上，等客人一来突然就由天而降，叫他们惊奇，效果会更棒！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　　下午，又有来客进入客厅，妈妈一喊我，我便跨上楼梯扶手飞骑而下，呜呀呀大叫一声闯进客厅，大刀上下一抡。谁知用力过猛，脚底没根，身子栽出去，“啪”的一声巨响，大刀正砍在花架上的大瓷瓶上，哗啦啦粉粉碎。只见瓷片、瓶里的桃枝和水飞向满屋，一块瓷片从二姑脸旁飞过，险些擦上了。屋内如淋急雨，所有人穿的新衣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内容占位符 2"/>
          <p:cNvSpPr/>
          <p:nvPr/>
        </p:nvSpPr>
        <p:spPr>
          <a:xfrm>
            <a:off x="839880" y="1198440"/>
            <a:ext cx="7867440" cy="51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都是水渍。再看爸爸，他像老虎一样直瞪着我，哎哟，一根开花的小桃枝迎面插在他梳得油光光的头发里。后来长大才知道被我打碎的是一只祖传的乾隆官窑百蝶瓶，这简直是死罪！我坐在地上吓傻了，等候爸爸上来一顿狠狠的揪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jiū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）打。妈妈的神气好像比我更紧张，她一时抓不着办法救我，瞪大眼睛等待爸爸爆发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　　就在这生死关头，二姑忽然破颜而笑，拍着手说道：“好啊，好啊，今年大吉大利，岁（碎）岁（碎）平安呀！哎，关老爷，干吗傻坐在地上，快起来，二姑还要看你耍大刀呢！”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　　谁知二姑这是使的什么法术，绷紧的气势霎时就松开了。另一位姨妈马上应和说：“旧的不去，新的不来，不除旧，不迎新。您等着瞧吧，今年非抱个大金娃娃不成，是吧？”她满脸欢笑朝我爸爸说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内容占位符 2"/>
          <p:cNvSpPr/>
          <p:nvPr/>
        </p:nvSpPr>
        <p:spPr>
          <a:xfrm>
            <a:off x="839880" y="1198440"/>
            <a:ext cx="7704000" cy="51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叫他应声。其他客人也一拥而上，说吉祥话，哄爸爸乐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这些话平时根本压不住爸爸的火气，此刻竟有神奇的效力，迫使他不乐也得乐。过年乐，没灾祸。爸爸只得嘿嘿两声，点头说：“啊，好、好、好……”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　　尽管他脸上的笑纹明显含着被克制的怒意，我却奇迹般地因此逃脱开一次惩罚。妈妈对我丢了个眼色，我立刻爬起来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拖着大刀，狼狈而逃。身后还响着客人们着意的拍手声、叫好声和笑声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　　往后几天里，再有拜年的客人来，妈妈不再喊我，节目被取消了。我躲在自己屋里很少露面，那把大刀也掖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yē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）在床底下，只是依旧戴着花脸。躲在这硬纸后边，再碰到爸爸时，自己觉得有种安全感。每每从眼孔里望见爸爸阴沉含怒的脸，我就觉得自己不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内容占位符 2"/>
          <p:cNvSpPr/>
          <p:nvPr/>
        </p:nvSpPr>
        <p:spPr>
          <a:xfrm>
            <a:off x="839880" y="1266840"/>
            <a:ext cx="76420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是关老爷，而是个可怜虫了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过了正月十五，大年就算过完了。我因为和妹妹争吃糖瓜，被爸爸提腰抓起来，按在床上死揍一顿。盛怒下，他向我要去那把惹祸的大刀，用力折成几段，大花脸也撕成碎片片。我心里清楚，他把我打碎花瓶的罪过加在这件事上一起清算了。从这事，我悟到一个祖传的经验：一年之中唯有过年这几天是孩子们的自由日，在这几天里无论怎样放胆去闹，也不会立刻得到惩罚。这便是所有孩子都盼望过年的更深一层的缘故。当然那被撕碎的花脸也提醒我，在这有限的自由里可得勒着点自己，当心事后加倍算账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1"/>
          <p:cNvSpPr/>
          <p:nvPr/>
        </p:nvSpPr>
        <p:spPr>
          <a:xfrm>
            <a:off x="932040" y="1928880"/>
            <a:ext cx="7691400" cy="23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小娃撑小艇，偷采白莲回。不解藏踪迹，浮萍一道开。</a:t>
            </a: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（</a:t>
            </a: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池上</a:t>
            </a: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白居易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蓬头稚子学垂纶，侧坐莓苔草映身。路人借问遥招手，怕得鱼惊不应人。</a:t>
            </a: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（</a:t>
            </a: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小儿垂钓</a:t>
            </a: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胡令能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篱落疏疏一径深，树头花落未成阴。儿童急走追黄蝶，飞入菜花无处寻。</a:t>
            </a: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（</a:t>
            </a: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宿新市徐公店</a:t>
            </a: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杨万里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萧萧梧叶送寒声，江上秋风动客情。知有儿童挑促织，夜深篱落一灯明。</a:t>
            </a: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（</a:t>
            </a: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夜书所见</a:t>
            </a:r>
            <a:r>
              <a:rPr b="1" lang="en-US" sz="22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200" spc="-1" strike="noStrike">
                <a:solidFill>
                  <a:srgbClr val="ff0000"/>
                </a:solidFill>
                <a:latin typeface="楷体"/>
                <a:ea typeface="楷体"/>
              </a:rPr>
              <a:t>叶绍翁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1" name="组合 5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62" name="圆角矩形 6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国学诵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矩形 1"/>
          <p:cNvSpPr/>
          <p:nvPr/>
        </p:nvSpPr>
        <p:spPr>
          <a:xfrm>
            <a:off x="1424520" y="2095560"/>
            <a:ext cx="10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指南针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2"/>
          <p:cNvSpPr/>
          <p:nvPr/>
        </p:nvSpPr>
        <p:spPr>
          <a:xfrm>
            <a:off x="1265400" y="2562120"/>
            <a:ext cx="705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南针的前身是司南。主要组成部分是一根装在轴上可以自由转动的 磁针。通常是狭长菱形，中间支起，受地磁作用，静止时两个尖端分别指着南和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7" name="组合 6"/>
          <p:cNvGrpSpPr/>
          <p:nvPr/>
        </p:nvGrpSpPr>
        <p:grpSpPr>
          <a:xfrm>
            <a:off x="558720" y="1190520"/>
            <a:ext cx="3849840" cy="666720"/>
            <a:chOff x="558720" y="1190520"/>
            <a:chExt cx="3849840" cy="666720"/>
          </a:xfrm>
        </p:grpSpPr>
        <p:sp>
          <p:nvSpPr>
            <p:cNvPr id="168" name="圆角矩形 7"/>
            <p:cNvSpPr/>
            <p:nvPr/>
          </p:nvSpPr>
          <p:spPr>
            <a:xfrm>
              <a:off x="1374480" y="1328400"/>
              <a:ext cx="303408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文本框 16"/>
            <p:cNvSpPr/>
            <p:nvPr/>
          </p:nvSpPr>
          <p:spPr>
            <a:xfrm>
              <a:off x="1634040" y="1347480"/>
              <a:ext cx="27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进中华传统文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1"/>
          <p:cNvSpPr/>
          <p:nvPr/>
        </p:nvSpPr>
        <p:spPr>
          <a:xfrm>
            <a:off x="900000" y="1576440"/>
            <a:ext cx="757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通过上一节课的学习，我们已经初步理解了课文内容，为了更深入地理解课文，老师送给大家一把金钥匙，这就是核心问题和串珠问题。让我们带着这些问题理解课文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172" name="矩形 11"/>
          <p:cNvSpPr/>
          <p:nvPr/>
        </p:nvSpPr>
        <p:spPr>
          <a:xfrm>
            <a:off x="895320" y="2268360"/>
            <a:ext cx="74977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叙述了作者小时候一段幼稚可笑的经历。他认为“凡能发出声音的，都是活的生物”，听到父亲的怀表发出清脆的声音，就认为里面也是一定有一个小生物。这使他充满了好奇，可是父亲不许他动，这又使他的心很痛苦。一次父亲打开表盖让他看，并说这摆来摆去的小东西是蝎子尾巴，他信以为真，见人就说父亲有一个小蝎子在表里。文章叙述质朴，就像与人倾心交谈自己童年的一件难忘的趣事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2"/>
          <p:cNvSpPr/>
          <p:nvPr/>
        </p:nvSpPr>
        <p:spPr>
          <a:xfrm>
            <a:off x="909720" y="3165480"/>
            <a:ext cx="7483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Calibri"/>
              </a:rPr>
              <a:t>教师点拨：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默读就是无声阅读，是用大脑直接感 受文字的意思，而无需将文字转化为声音。 我们默读课文时，应做到“一用两不能”， 即用眼睛看书，不能用手指文章，也不能小 声叨念，“出声”则会影响阅读速度，“用 手指文章”则影响眼睛的扫视幅度。另外，必须高度集中注意力，只有这样，才能提高 默读速度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7" descr=""/>
          <p:cNvPicPr/>
          <p:nvPr/>
        </p:nvPicPr>
        <p:blipFill>
          <a:blip r:embed="rId1"/>
          <a:stretch/>
        </p:blipFill>
        <p:spPr>
          <a:xfrm>
            <a:off x="-103320" y="768240"/>
            <a:ext cx="4303800" cy="1243080"/>
          </a:xfrm>
          <a:prstGeom prst="rect">
            <a:avLst/>
          </a:prstGeom>
          <a:ln w="0">
            <a:noFill/>
          </a:ln>
        </p:spPr>
      </p:pic>
      <p:grpSp>
        <p:nvGrpSpPr>
          <p:cNvPr id="175" name="组合 15"/>
          <p:cNvGrpSpPr/>
          <p:nvPr/>
        </p:nvGrpSpPr>
        <p:grpSpPr>
          <a:xfrm>
            <a:off x="814320" y="1657440"/>
            <a:ext cx="7770960" cy="1314360"/>
            <a:chOff x="814320" y="1657440"/>
            <a:chExt cx="7770960" cy="1314360"/>
          </a:xfrm>
        </p:grpSpPr>
        <p:sp>
          <p:nvSpPr>
            <p:cNvPr id="176" name="圆角矩形 14"/>
            <p:cNvSpPr/>
            <p:nvPr/>
          </p:nvSpPr>
          <p:spPr>
            <a:xfrm>
              <a:off x="814320" y="2361600"/>
              <a:ext cx="7770960" cy="610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8eb4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lvl="1">
                <a:lnSpc>
                  <a:spcPct val="150000"/>
                </a:lnSpc>
                <a:spcAft>
                  <a:spcPts val="374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默读课文，在学习了前几篇课文的基础上，加快阅读速度。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7" name="组合 10"/>
            <p:cNvGrpSpPr/>
            <p:nvPr/>
          </p:nvGrpSpPr>
          <p:grpSpPr>
            <a:xfrm>
              <a:off x="904320" y="1657440"/>
              <a:ext cx="1594080" cy="678600"/>
              <a:chOff x="904320" y="1657440"/>
              <a:chExt cx="1594080" cy="678600"/>
            </a:xfrm>
          </p:grpSpPr>
          <p:sp>
            <p:nvSpPr>
              <p:cNvPr id="178" name="任意多边形 11"/>
              <p:cNvSpPr/>
              <p:nvPr/>
            </p:nvSpPr>
            <p:spPr>
              <a:xfrm>
                <a:off x="1321560" y="1749960"/>
                <a:ext cx="1176840" cy="49500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876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朗读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79" name="椭圆 12"/>
              <p:cNvGrpSpPr/>
              <p:nvPr/>
            </p:nvGrpSpPr>
            <p:grpSpPr>
              <a:xfrm>
                <a:off x="904320" y="1657440"/>
                <a:ext cx="700560" cy="678600"/>
                <a:chOff x="904320" y="1657440"/>
                <a:chExt cx="700560" cy="678600"/>
              </a:xfrm>
            </p:grpSpPr>
            <p:pic>
              <p:nvPicPr>
                <p:cNvPr id="180" name="椭圆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04320" y="1657440"/>
                  <a:ext cx="700560" cy="678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1" name=""/>
                <p:cNvSpPr/>
                <p:nvPr/>
              </p:nvSpPr>
              <p:spPr>
                <a:xfrm>
                  <a:off x="1017000" y="1764720"/>
                  <a:ext cx="47484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组合 13"/>
          <p:cNvGrpSpPr/>
          <p:nvPr/>
        </p:nvGrpSpPr>
        <p:grpSpPr>
          <a:xfrm>
            <a:off x="814320" y="1204920"/>
            <a:ext cx="7661520" cy="1765440"/>
            <a:chOff x="814320" y="1204920"/>
            <a:chExt cx="7661520" cy="1765440"/>
          </a:xfrm>
        </p:grpSpPr>
        <p:grpSp>
          <p:nvGrpSpPr>
            <p:cNvPr id="183" name="组合 6"/>
            <p:cNvGrpSpPr/>
            <p:nvPr/>
          </p:nvGrpSpPr>
          <p:grpSpPr>
            <a:xfrm>
              <a:off x="823680" y="1318320"/>
              <a:ext cx="7652160" cy="1652040"/>
              <a:chOff x="823680" y="1318320"/>
              <a:chExt cx="7652160" cy="1652040"/>
            </a:xfrm>
          </p:grpSpPr>
          <p:sp>
            <p:nvSpPr>
              <p:cNvPr id="184" name="圆角矩形 7"/>
              <p:cNvSpPr/>
              <p:nvPr/>
            </p:nvSpPr>
            <p:spPr>
              <a:xfrm>
                <a:off x="823680" y="2360160"/>
                <a:ext cx="7652160" cy="6102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 lvl="1" marL="268200" indent="-268200">
                  <a:lnSpc>
                    <a:spcPct val="150000"/>
                  </a:lnSpc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1.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作者对表里的生物那样感兴趣，充满好奇，请举出文中语句来体会。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任意多边形 10"/>
              <p:cNvSpPr/>
              <p:nvPr/>
            </p:nvSpPr>
            <p:spPr>
              <a:xfrm>
                <a:off x="1183320" y="1318320"/>
                <a:ext cx="2262600" cy="50508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876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思考与交流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86" name="Picture 2" descr=""/>
            <p:cNvPicPr/>
            <p:nvPr/>
          </p:nvPicPr>
          <p:blipFill>
            <a:blip r:embed="rId1"/>
            <a:stretch/>
          </p:blipFill>
          <p:spPr>
            <a:xfrm>
              <a:off x="814320" y="1204920"/>
              <a:ext cx="803520" cy="73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7" name="TextBox 2"/>
          <p:cNvSpPr/>
          <p:nvPr/>
        </p:nvSpPr>
        <p:spPr>
          <a:xfrm>
            <a:off x="901800" y="3138480"/>
            <a:ext cx="7574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参考答案：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里边该是什么东西在响呢？ 我对它的好奇心也一天比一天增加。树上的蝉，草里的虫，都不轻易被人看见，我想：这里边一定也有一个蝉或虫一类的生物吧。这生物被父亲关在表里，不许小孩子动。（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越不许 我动，我的手指越想动，但是我又不敢，因此 我很痛苦。（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蝎子是多么丑恶和恐怖的东西， 为什么把它放在这样一个美丽的世界里呢？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组合 13"/>
          <p:cNvGrpSpPr/>
          <p:nvPr/>
        </p:nvGrpSpPr>
        <p:grpSpPr>
          <a:xfrm>
            <a:off x="814320" y="1055520"/>
            <a:ext cx="7661520" cy="1905120"/>
            <a:chOff x="814320" y="1055520"/>
            <a:chExt cx="7661520" cy="1905120"/>
          </a:xfrm>
        </p:grpSpPr>
        <p:grpSp>
          <p:nvGrpSpPr>
            <p:cNvPr id="189" name="组合 6"/>
            <p:cNvGrpSpPr/>
            <p:nvPr/>
          </p:nvGrpSpPr>
          <p:grpSpPr>
            <a:xfrm>
              <a:off x="823680" y="1171800"/>
              <a:ext cx="7652160" cy="1788840"/>
              <a:chOff x="823680" y="1171800"/>
              <a:chExt cx="7652160" cy="1788840"/>
            </a:xfrm>
          </p:grpSpPr>
          <p:sp>
            <p:nvSpPr>
              <p:cNvPr id="190" name="圆角矩形 7"/>
              <p:cNvSpPr/>
              <p:nvPr/>
            </p:nvSpPr>
            <p:spPr>
              <a:xfrm>
                <a:off x="823680" y="2300040"/>
                <a:ext cx="7652160" cy="660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 lvl="1" marL="268200" indent="-268200">
                  <a:lnSpc>
                    <a:spcPct val="150000"/>
                  </a:lnSpc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2.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 “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这样的话我不知说了多久，也不知道什么时候才不说了。”作者说了什么？为什么后来不说了？ </a:t>
                </a: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任意多边形 10"/>
              <p:cNvSpPr/>
              <p:nvPr/>
            </p:nvSpPr>
            <p:spPr>
              <a:xfrm>
                <a:off x="1183320" y="1171800"/>
                <a:ext cx="2262600" cy="50436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964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思考与交流</a:t>
                </a: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92" name="Picture 2" descr=""/>
            <p:cNvPicPr/>
            <p:nvPr/>
          </p:nvPicPr>
          <p:blipFill>
            <a:blip r:embed="rId1"/>
            <a:stretch/>
          </p:blipFill>
          <p:spPr>
            <a:xfrm>
              <a:off x="814320" y="1055520"/>
              <a:ext cx="803520" cy="73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" name="TextBox 2"/>
          <p:cNvSpPr/>
          <p:nvPr/>
        </p:nvSpPr>
        <p:spPr>
          <a:xfrm>
            <a:off x="885960" y="3105000"/>
            <a:ext cx="7573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参考答案：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“我有蟋蟀在钵子里，蝈蝈儿在葫芦里，鸟儿在笼子里；父亲却有一个小蝎子在表里。”后来随着年龄的增长，作者意识到自己的幼稚，明白了父亲的表里没有蝎子，也明白了表里为什么会发出“嘀嗒，嘀嗒”的声音，也就不说了。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2"/>
          <a:stretch/>
        </p:blipFill>
        <p:spPr>
          <a:xfrm>
            <a:off x="6369120" y="6334200"/>
            <a:ext cx="271944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组合 2"/>
          <p:cNvGrpSpPr/>
          <p:nvPr/>
        </p:nvGrpSpPr>
        <p:grpSpPr>
          <a:xfrm>
            <a:off x="814320" y="1258920"/>
            <a:ext cx="7456680" cy="2389320"/>
            <a:chOff x="814320" y="1258920"/>
            <a:chExt cx="7456680" cy="2389320"/>
          </a:xfrm>
        </p:grpSpPr>
        <p:grpSp>
          <p:nvGrpSpPr>
            <p:cNvPr id="196" name="组合 6"/>
            <p:cNvGrpSpPr/>
            <p:nvPr/>
          </p:nvGrpSpPr>
          <p:grpSpPr>
            <a:xfrm>
              <a:off x="814320" y="1346400"/>
              <a:ext cx="7456680" cy="2301840"/>
              <a:chOff x="814320" y="1346400"/>
              <a:chExt cx="7456680" cy="2301840"/>
            </a:xfrm>
          </p:grpSpPr>
          <p:sp>
            <p:nvSpPr>
              <p:cNvPr id="197" name="圆角矩形 7"/>
              <p:cNvSpPr/>
              <p:nvPr/>
            </p:nvSpPr>
            <p:spPr>
              <a:xfrm>
                <a:off x="814320" y="2987640"/>
                <a:ext cx="7456680" cy="660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 lvl="1" marL="173160" indent="-173160">
                  <a:lnSpc>
                    <a:spcPct val="150000"/>
                  </a:lnSpc>
                  <a:spcAft>
                    <a:spcPts val="414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1.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作者回忆了童年的发现，虽然这样的发现或许是那样的可笑，但却是作者记忆中的珍宝。童年的你也有过这样的发现吧？请你说一说。 </a:t>
                </a: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任意多边形 9"/>
              <p:cNvSpPr/>
              <p:nvPr/>
            </p:nvSpPr>
            <p:spPr>
              <a:xfrm>
                <a:off x="1069920" y="1346400"/>
                <a:ext cx="2544840" cy="50616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964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拓展与运用</a:t>
                </a: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99" name="Picture 7" descr=""/>
            <p:cNvPicPr/>
            <p:nvPr/>
          </p:nvPicPr>
          <p:blipFill>
            <a:blip r:embed="rId1"/>
            <a:stretch/>
          </p:blipFill>
          <p:spPr>
            <a:xfrm>
              <a:off x="877680" y="1258920"/>
              <a:ext cx="749520" cy="65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TextBox 2"/>
          <p:cNvSpPr/>
          <p:nvPr/>
        </p:nvSpPr>
        <p:spPr>
          <a:xfrm>
            <a:off x="971640" y="3705120"/>
            <a:ext cx="7299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教师点拨：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童年是一个谜，混沌初开，稚嫩好奇。每个人在童年时都会对很多事情充满疑问，自己回忆一下，也可以问问父母，再说给大家听听。有兴趣的也可以仿照作者的表达特点，写一写自己童年的疑问及有趣的发现。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2"/>
          <p:cNvSpPr/>
          <p:nvPr/>
        </p:nvSpPr>
        <p:spPr>
          <a:xfrm>
            <a:off x="971640" y="1563840"/>
            <a:ext cx="729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参考答案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）我发现家里养的一条鱼会嚼石头，嚼几下，再吐出来。后来知道这条鱼的牙齿太软了，如果不嚼东西，牙齿的锋利度就会减退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）我发现鸟和狗也可以做朋友，原来两个相差很远的动物也可以友好相处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组合 6"/>
          <p:cNvGrpSpPr/>
          <p:nvPr/>
        </p:nvGrpSpPr>
        <p:grpSpPr>
          <a:xfrm>
            <a:off x="814320" y="1047600"/>
            <a:ext cx="7661520" cy="3855960"/>
            <a:chOff x="814320" y="1047600"/>
            <a:chExt cx="7661520" cy="3855960"/>
          </a:xfrm>
        </p:grpSpPr>
        <p:grpSp>
          <p:nvGrpSpPr>
            <p:cNvPr id="203" name="组合 2"/>
            <p:cNvGrpSpPr/>
            <p:nvPr/>
          </p:nvGrpSpPr>
          <p:grpSpPr>
            <a:xfrm>
              <a:off x="814320" y="1179360"/>
              <a:ext cx="7661520" cy="3724200"/>
              <a:chOff x="814320" y="1179360"/>
              <a:chExt cx="7661520" cy="3724200"/>
            </a:xfrm>
          </p:grpSpPr>
          <p:sp>
            <p:nvSpPr>
              <p:cNvPr id="204" name="圆角矩形 4"/>
              <p:cNvSpPr/>
              <p:nvPr/>
            </p:nvSpPr>
            <p:spPr>
              <a:xfrm>
                <a:off x="814320" y="2849040"/>
                <a:ext cx="7661520" cy="20545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lvl="1">
                  <a:lnSpc>
                    <a:spcPct val="150000"/>
                  </a:lnSpc>
                  <a:spcAft>
                    <a:spcPts val="451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1.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读一读下面的词语和句子。  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lvl="1">
                  <a:lnSpc>
                    <a:spcPct val="150000"/>
                  </a:lnSpc>
                  <a:spcAft>
                    <a:spcPts val="451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蟋蟀 和谐 齿轮 丑恶 蝈蝈 清脆  玻璃 恐怖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lvl="1">
                  <a:lnSpc>
                    <a:spcPct val="150000"/>
                  </a:lnSpc>
                  <a:spcAft>
                    <a:spcPts val="451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父亲取出一把小刀，把表盖拨开，在我的面 前立即呈现出一个美丽的世界：蓝色的、红 色的小宝石，钉住几个金黄色的齿轮，里边 还有一个小尾巴似的东西不住地摆来摆去。 这小世界不但被表盖保护着，还被一层玻璃 蒙着。我看得入神，唯恐父亲再把这美丽的 世界盖上。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任意多边形 5"/>
              <p:cNvSpPr/>
              <p:nvPr/>
            </p:nvSpPr>
            <p:spPr>
              <a:xfrm>
                <a:off x="1214280" y="1179360"/>
                <a:ext cx="1436760" cy="50832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积累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6" name="椭圆 7"/>
            <p:cNvGrpSpPr/>
            <p:nvPr/>
          </p:nvGrpSpPr>
          <p:grpSpPr>
            <a:xfrm>
              <a:off x="889920" y="1047600"/>
              <a:ext cx="755640" cy="717840"/>
              <a:chOff x="889920" y="1047600"/>
              <a:chExt cx="755640" cy="717840"/>
            </a:xfrm>
          </p:grpSpPr>
          <p:pic>
            <p:nvPicPr>
              <p:cNvPr id="207" name="椭圆 7" descr=""/>
              <p:cNvPicPr/>
              <p:nvPr/>
            </p:nvPicPr>
            <p:blipFill>
              <a:blip r:embed="rId1"/>
              <a:stretch/>
            </p:blipFill>
            <p:spPr>
              <a:xfrm>
                <a:off x="889920" y="1047600"/>
                <a:ext cx="755640" cy="71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>
                <a:off x="1007640" y="1160640"/>
                <a:ext cx="518400" cy="49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2"/>
          <p:cNvSpPr/>
          <p:nvPr/>
        </p:nvSpPr>
        <p:spPr>
          <a:xfrm>
            <a:off x="1019160" y="1581120"/>
            <a:ext cx="729936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Calibri"/>
              </a:rPr>
              <a:t>教师点拨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：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 读这组词语应注意读准字音，如，“蟋 蟀”的“蟀”读翘舌音；“齿轮”的“齿” 也读翘舌音；“玻璃”读</a:t>
            </a:r>
            <a:r>
              <a:rPr b="1" lang="en-US" sz="2200" spc="-1" strike="noStrike">
                <a:solidFill>
                  <a:srgbClr val="ff0000"/>
                </a:solidFill>
                <a:latin typeface="方正姚体"/>
                <a:ea typeface="方正姚体"/>
              </a:rPr>
              <a:t>bō li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，</a:t>
            </a:r>
            <a:r>
              <a:rPr b="1" lang="en-US" sz="2200" spc="-1" strike="noStrike">
                <a:solidFill>
                  <a:srgbClr val="ff0000"/>
                </a:solidFill>
                <a:latin typeface="方正姚体"/>
                <a:ea typeface="方正姚体"/>
              </a:rPr>
              <a:t>li 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不要加声调。读题目中的句子时，仍要注意易错的音要读准，还要多读几遍。如，“拨”读 </a:t>
            </a:r>
            <a:r>
              <a:rPr b="1" lang="en-US" sz="2200" spc="-1" strike="noStrike">
                <a:solidFill>
                  <a:srgbClr val="ff0000"/>
                </a:solidFill>
                <a:latin typeface="方正姚体"/>
                <a:ea typeface="方正姚体"/>
              </a:rPr>
              <a:t>bō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， 不读 </a:t>
            </a:r>
            <a:r>
              <a:rPr b="1" lang="en-US" sz="2200" spc="-1" strike="noStrike">
                <a:solidFill>
                  <a:srgbClr val="ff0000"/>
                </a:solidFill>
                <a:latin typeface="方正姚体"/>
                <a:ea typeface="方正姚体"/>
              </a:rPr>
              <a:t>bē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；“钉”读 </a:t>
            </a:r>
            <a:r>
              <a:rPr b="1" lang="en-US" sz="2200" spc="-1" strike="noStrike">
                <a:solidFill>
                  <a:srgbClr val="ff0000"/>
                </a:solidFill>
                <a:latin typeface="方正姚体"/>
                <a:ea typeface="方正姚体"/>
              </a:rPr>
              <a:t>dìnɡ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，不读 </a:t>
            </a:r>
            <a:r>
              <a:rPr b="1" lang="en-US" sz="2200" spc="-1" strike="noStrike">
                <a:solidFill>
                  <a:srgbClr val="ff0000"/>
                </a:solidFill>
                <a:latin typeface="方正姚体"/>
                <a:ea typeface="方正姚体"/>
              </a:rPr>
              <a:t>dīnɡ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；“似” 读 </a:t>
            </a:r>
            <a:r>
              <a:rPr b="1" lang="en-US" sz="2200" spc="-1" strike="noStrike">
                <a:solidFill>
                  <a:srgbClr val="ff0000"/>
                </a:solidFill>
                <a:latin typeface="方正姚体"/>
                <a:ea typeface="方正姚体"/>
              </a:rPr>
              <a:t>shì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，不读 </a:t>
            </a:r>
            <a:r>
              <a:rPr b="1" lang="en-US" sz="2200" spc="-1" strike="noStrike">
                <a:solidFill>
                  <a:srgbClr val="ff0000"/>
                </a:solidFill>
                <a:latin typeface="方正姚体"/>
                <a:ea typeface="方正姚体"/>
              </a:rPr>
              <a:t>sì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。还要注意断句。如：“里边 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还有一个小尾巴似的东西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不住地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摆来摆去。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矩形 7167"/>
          <p:cNvSpPr/>
          <p:nvPr/>
        </p:nvSpPr>
        <p:spPr>
          <a:xfrm>
            <a:off x="865080" y="2157480"/>
            <a:ext cx="7548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、用“√”给带点的字选择正确的读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比虫的歌曲要单调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iào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tiáo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蒙着一层玻璃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ēng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éng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ěng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动就蜇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hē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hé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sh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嘀嗒，嘀嗒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ā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á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12" name="矩形 7"/>
          <p:cNvSpPr/>
          <p:nvPr/>
        </p:nvSpPr>
        <p:spPr>
          <a:xfrm>
            <a:off x="4392360" y="293364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√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12"/>
          <p:cNvSpPr/>
          <p:nvPr/>
        </p:nvSpPr>
        <p:spPr>
          <a:xfrm>
            <a:off x="4498560" y="347832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√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13"/>
          <p:cNvSpPr/>
          <p:nvPr/>
        </p:nvSpPr>
        <p:spPr>
          <a:xfrm>
            <a:off x="3056400" y="402912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√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14"/>
          <p:cNvSpPr/>
          <p:nvPr/>
        </p:nvSpPr>
        <p:spPr>
          <a:xfrm>
            <a:off x="3042720" y="456264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√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8"/>
          <p:cNvSpPr/>
          <p:nvPr/>
        </p:nvSpPr>
        <p:spPr>
          <a:xfrm>
            <a:off x="3566880" y="2924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16"/>
          <p:cNvSpPr/>
          <p:nvPr/>
        </p:nvSpPr>
        <p:spPr>
          <a:xfrm>
            <a:off x="1478520" y="3500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矩形 17"/>
          <p:cNvSpPr/>
          <p:nvPr/>
        </p:nvSpPr>
        <p:spPr>
          <a:xfrm>
            <a:off x="2319120" y="4021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矩形 20"/>
          <p:cNvSpPr/>
          <p:nvPr/>
        </p:nvSpPr>
        <p:spPr>
          <a:xfrm>
            <a:off x="1677960" y="4606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7167"/>
          <p:cNvSpPr/>
          <p:nvPr/>
        </p:nvSpPr>
        <p:spPr>
          <a:xfrm>
            <a:off x="971640" y="1700280"/>
            <a:ext cx="754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形近字组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秒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拒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矩形 1"/>
          <p:cNvSpPr/>
          <p:nvPr/>
        </p:nvSpPr>
        <p:spPr>
          <a:xfrm>
            <a:off x="2539800" y="23288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狗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2"/>
          <p:cNvSpPr/>
          <p:nvPr/>
        </p:nvSpPr>
        <p:spPr>
          <a:xfrm>
            <a:off x="2539800" y="2881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秒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矩形 3"/>
          <p:cNvSpPr/>
          <p:nvPr/>
        </p:nvSpPr>
        <p:spPr>
          <a:xfrm>
            <a:off x="2517480" y="3467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可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矩形 4"/>
          <p:cNvSpPr/>
          <p:nvPr/>
        </p:nvSpPr>
        <p:spPr>
          <a:xfrm>
            <a:off x="2552400" y="3943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点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矩形 5"/>
          <p:cNvSpPr/>
          <p:nvPr/>
        </p:nvSpPr>
        <p:spPr>
          <a:xfrm>
            <a:off x="2504880" y="4538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拒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矩形 6"/>
          <p:cNvSpPr/>
          <p:nvPr/>
        </p:nvSpPr>
        <p:spPr>
          <a:xfrm>
            <a:off x="5409000" y="2347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埋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矩形 9"/>
          <p:cNvSpPr/>
          <p:nvPr/>
        </p:nvSpPr>
        <p:spPr>
          <a:xfrm>
            <a:off x="5481360" y="292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奇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矩形 10"/>
          <p:cNvSpPr/>
          <p:nvPr/>
        </p:nvSpPr>
        <p:spPr>
          <a:xfrm>
            <a:off x="5481360" y="34718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伶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矩形 11"/>
          <p:cNvSpPr/>
          <p:nvPr/>
        </p:nvSpPr>
        <p:spPr>
          <a:xfrm>
            <a:off x="5409000" y="4029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拔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矩形 15"/>
          <p:cNvSpPr/>
          <p:nvPr/>
        </p:nvSpPr>
        <p:spPr>
          <a:xfrm>
            <a:off x="5481360" y="4579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距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组合 8"/>
          <p:cNvGrpSpPr/>
          <p:nvPr/>
        </p:nvGrpSpPr>
        <p:grpSpPr>
          <a:xfrm>
            <a:off x="600120" y="1014480"/>
            <a:ext cx="8080200" cy="5508720"/>
            <a:chOff x="600120" y="1014480"/>
            <a:chExt cx="8080200" cy="5508720"/>
          </a:xfrm>
        </p:grpSpPr>
        <p:sp>
          <p:nvSpPr>
            <p:cNvPr id="75" name="圆角矩形 4"/>
            <p:cNvSpPr/>
            <p:nvPr/>
          </p:nvSpPr>
          <p:spPr>
            <a:xfrm>
              <a:off x="600120" y="4095000"/>
              <a:ext cx="3207600" cy="44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一读：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儿时的“我”对声音的认识是怎样的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圆角矩形 5"/>
            <p:cNvSpPr/>
            <p:nvPr/>
          </p:nvSpPr>
          <p:spPr>
            <a:xfrm>
              <a:off x="5224320" y="4135680"/>
              <a:ext cx="3456000" cy="779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二思：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面对父亲的会发出声音的表，“我”想到了什么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圆角矩形 6"/>
            <p:cNvSpPr/>
            <p:nvPr/>
          </p:nvSpPr>
          <p:spPr>
            <a:xfrm>
              <a:off x="5211720" y="5334120"/>
              <a:ext cx="3468600" cy="779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四品：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“我”后来见人就说什么？为什么后来不说了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圆角矩形 7"/>
            <p:cNvSpPr/>
            <p:nvPr/>
          </p:nvSpPr>
          <p:spPr>
            <a:xfrm>
              <a:off x="600120" y="5105160"/>
              <a:ext cx="3207600" cy="779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三探：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父亲拨开表盖后，告诉“我”什么？“我”又是怎么认为的？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9" name="组合 3"/>
            <p:cNvGrpSpPr/>
            <p:nvPr/>
          </p:nvGrpSpPr>
          <p:grpSpPr>
            <a:xfrm>
              <a:off x="2188080" y="1014480"/>
              <a:ext cx="4767480" cy="5508720"/>
              <a:chOff x="2188080" y="1014480"/>
              <a:chExt cx="4767480" cy="5508720"/>
            </a:xfrm>
          </p:grpSpPr>
          <p:pic>
            <p:nvPicPr>
              <p:cNvPr id="80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188080" y="1014480"/>
                <a:ext cx="4767480" cy="550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矩形 1"/>
              <p:cNvSpPr/>
              <p:nvPr/>
            </p:nvSpPr>
            <p:spPr>
              <a:xfrm>
                <a:off x="2434320" y="1961640"/>
                <a:ext cx="4219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核心问题：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想想文章主要写了一件什么事？从中可以看出“我”是一个怎样的孩子？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矩形 2"/>
              <p:cNvSpPr/>
              <p:nvPr/>
            </p:nvSpPr>
            <p:spPr>
              <a:xfrm>
                <a:off x="4417200" y="1335600"/>
                <a:ext cx="63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好奇 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>
            <a:off x="574560" y="1133640"/>
            <a:ext cx="157644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4941720" y="2602080"/>
          <a:ext cx="1441440" cy="7315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4941720" y="3645000"/>
          <a:ext cx="14414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1749600" y="2602080"/>
          <a:ext cx="1439640" cy="7315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1749600" y="364500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矩形 3"/>
          <p:cNvSpPr/>
          <p:nvPr/>
        </p:nvSpPr>
        <p:spPr>
          <a:xfrm>
            <a:off x="971640" y="1473120"/>
            <a:ext cx="756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三、读拼音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ēng 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tiā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ù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ué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bō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kāi                              chǒu  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kǒng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bù                         kě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liá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矩形 13"/>
          <p:cNvSpPr/>
          <p:nvPr/>
        </p:nvSpPr>
        <p:spPr>
          <a:xfrm>
            <a:off x="1966680" y="26449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增 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矩形 14"/>
          <p:cNvSpPr/>
          <p:nvPr/>
        </p:nvSpPr>
        <p:spPr>
          <a:xfrm>
            <a:off x="1966680" y="36878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拨 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25"/>
          <p:cNvSpPr/>
          <p:nvPr/>
        </p:nvSpPr>
        <p:spPr>
          <a:xfrm>
            <a:off x="4979880" y="265104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拒 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矩形 26"/>
          <p:cNvSpPr/>
          <p:nvPr/>
        </p:nvSpPr>
        <p:spPr>
          <a:xfrm>
            <a:off x="5160600" y="36878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丑 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747800" y="4724280"/>
          <a:ext cx="14414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4941720" y="4724280"/>
          <a:ext cx="14414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矩形 1"/>
          <p:cNvSpPr/>
          <p:nvPr/>
        </p:nvSpPr>
        <p:spPr>
          <a:xfrm>
            <a:off x="1966680" y="47991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恐 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矩形 2"/>
          <p:cNvSpPr/>
          <p:nvPr/>
        </p:nvSpPr>
        <p:spPr>
          <a:xfrm>
            <a:off x="5160600" y="47991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可 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矩形 3"/>
          <p:cNvSpPr/>
          <p:nvPr/>
        </p:nvSpPr>
        <p:spPr>
          <a:xfrm>
            <a:off x="900000" y="1719360"/>
            <a:ext cx="727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、词语搭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坚硬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清脆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单调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美丽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矩形 1"/>
          <p:cNvSpPr/>
          <p:nvPr/>
        </p:nvSpPr>
        <p:spPr>
          <a:xfrm>
            <a:off x="2333160" y="2349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外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矩形 4"/>
          <p:cNvSpPr/>
          <p:nvPr/>
        </p:nvSpPr>
        <p:spPr>
          <a:xfrm>
            <a:off x="2333160" y="2919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声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矩形 6"/>
          <p:cNvSpPr/>
          <p:nvPr/>
        </p:nvSpPr>
        <p:spPr>
          <a:xfrm>
            <a:off x="2333160" y="3543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歌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矩形 7"/>
          <p:cNvSpPr/>
          <p:nvPr/>
        </p:nvSpPr>
        <p:spPr>
          <a:xfrm>
            <a:off x="2323800" y="4119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世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矩形 3"/>
          <p:cNvSpPr/>
          <p:nvPr/>
        </p:nvSpPr>
        <p:spPr>
          <a:xfrm>
            <a:off x="900000" y="1557360"/>
            <a:ext cx="7272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五、写近、反义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近义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呈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证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请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反义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单调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拒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增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坚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矩形 1"/>
          <p:cNvSpPr/>
          <p:nvPr/>
        </p:nvSpPr>
        <p:spPr>
          <a:xfrm>
            <a:off x="2642760" y="269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显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5"/>
          <p:cNvSpPr/>
          <p:nvPr/>
        </p:nvSpPr>
        <p:spPr>
          <a:xfrm>
            <a:off x="2642760" y="33098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恳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矩形 6"/>
          <p:cNvSpPr/>
          <p:nvPr/>
        </p:nvSpPr>
        <p:spPr>
          <a:xfrm>
            <a:off x="2642040" y="4389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丰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7"/>
          <p:cNvSpPr/>
          <p:nvPr/>
        </p:nvSpPr>
        <p:spPr>
          <a:xfrm>
            <a:off x="2642040" y="5002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减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矩形 8"/>
          <p:cNvSpPr/>
          <p:nvPr/>
        </p:nvSpPr>
        <p:spPr>
          <a:xfrm>
            <a:off x="5221800" y="5002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柔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矩形 9"/>
          <p:cNvSpPr/>
          <p:nvPr/>
        </p:nvSpPr>
        <p:spPr>
          <a:xfrm>
            <a:off x="5222520" y="33098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接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矩形 10"/>
          <p:cNvSpPr/>
          <p:nvPr/>
        </p:nvSpPr>
        <p:spPr>
          <a:xfrm>
            <a:off x="5221800" y="44258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立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矩形 11"/>
          <p:cNvSpPr/>
          <p:nvPr/>
        </p:nvSpPr>
        <p:spPr>
          <a:xfrm>
            <a:off x="5222520" y="2738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证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矩形 3"/>
          <p:cNvSpPr/>
          <p:nvPr/>
        </p:nvSpPr>
        <p:spPr>
          <a:xfrm>
            <a:off x="826920" y="1087560"/>
            <a:ext cx="727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六、句子练习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改为陈述句：哪里有死的东西会自己走动并且能自动地发出和谐的声音呢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用关联词语造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而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矩形 4"/>
          <p:cNvSpPr/>
          <p:nvPr/>
        </p:nvSpPr>
        <p:spPr>
          <a:xfrm>
            <a:off x="1403280" y="2709720"/>
            <a:ext cx="734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不可能有死的东西会自己走动并且能自动地发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和谐的声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矩形 12"/>
          <p:cNvSpPr/>
          <p:nvPr/>
        </p:nvSpPr>
        <p:spPr>
          <a:xfrm>
            <a:off x="1330200" y="4903920"/>
            <a:ext cx="641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b10f4"/>
                </a:solidFill>
                <a:latin typeface="宋体"/>
                <a:ea typeface="Times New Roman"/>
              </a:rPr>
              <a:t>示例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他不但对新鲜的事物感到好奇，而且乐于动手尝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2"/>
          <p:cNvSpPr/>
          <p:nvPr/>
        </p:nvSpPr>
        <p:spPr>
          <a:xfrm>
            <a:off x="735120" y="1241280"/>
            <a:ext cx="7848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夜里有狗吠得很怕人，夏天蝉在绿树上叫，秋晚有各种的虫在草丛中唱不同的歌曲；钟楼上的钟不是活的，有时却洪亮地响起来，那是有一个老人在敲，街心有时响着三弦的声音，那是一个盲人在弹。哪里有死的东西会自己走动并且能自动地发出和谐的声音呢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1"/>
          <p:cNvSpPr/>
          <p:nvPr/>
        </p:nvSpPr>
        <p:spPr>
          <a:xfrm>
            <a:off x="885960" y="4332240"/>
            <a:ext cx="7794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分号前写的是大自然中几种动物的声音，分号后写的是生活里的物体发出声音的原因，前后是并列关系。都是为了说明凡是能发声的，都与活的生物有关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云形 7"/>
          <p:cNvGrpSpPr/>
          <p:nvPr/>
        </p:nvGrpSpPr>
        <p:grpSpPr>
          <a:xfrm>
            <a:off x="4175280" y="3352680"/>
            <a:ext cx="4024080" cy="944640"/>
            <a:chOff x="4175280" y="3352680"/>
            <a:chExt cx="4024080" cy="944640"/>
          </a:xfrm>
        </p:grpSpPr>
        <p:pic>
          <p:nvPicPr>
            <p:cNvPr id="87" name="云形 7" descr=""/>
            <p:cNvPicPr/>
            <p:nvPr/>
          </p:nvPicPr>
          <p:blipFill>
            <a:blip r:embed="rId1"/>
            <a:stretch/>
          </p:blipFill>
          <p:spPr>
            <a:xfrm>
              <a:off x="4175280" y="3352680"/>
              <a:ext cx="402408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5836320" y="3575160"/>
              <a:ext cx="436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拟人、反问、呼应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9" name="Picture 2" descr="C:\Users\Administrator\Desktop\可改图标 - 副本\品读释疑.png"/>
          <p:cNvPicPr/>
          <p:nvPr/>
        </p:nvPicPr>
        <p:blipFill>
          <a:blip r:embed="rId2"/>
          <a:stretch/>
        </p:blipFill>
        <p:spPr>
          <a:xfrm>
            <a:off x="3343320" y="266760"/>
            <a:ext cx="2571840" cy="674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21"/>
          <p:cNvSpPr/>
          <p:nvPr/>
        </p:nvSpPr>
        <p:spPr>
          <a:xfrm>
            <a:off x="831960" y="963720"/>
            <a:ext cx="7569000" cy="111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阅读方法解密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品析反问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文本框 23"/>
          <p:cNvSpPr/>
          <p:nvPr/>
        </p:nvSpPr>
        <p:spPr>
          <a:xfrm>
            <a:off x="903240" y="1846440"/>
            <a:ext cx="764064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黑体"/>
                <a:ea typeface="黑体"/>
              </a:rPr>
              <a:t>什么是反问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反问是用疑问的形式，表达肯定的意思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黑体"/>
                <a:ea typeface="黑体"/>
              </a:rPr>
              <a:t>说一说使用反问的效果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加强语气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把本来已确定的思想表现得更加鲜明、强烈。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黑体"/>
                <a:ea typeface="黑体"/>
              </a:rPr>
              <a:t>答题时有什么模式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运用了反问的修辞手法，加强了语气，强化了情感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黑体"/>
                <a:ea typeface="黑体"/>
              </a:rPr>
              <a:t>如何运用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见本课“课后练习单”第一、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题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直线连接符 7"/>
          <p:cNvSpPr/>
          <p:nvPr/>
        </p:nvSpPr>
        <p:spPr>
          <a:xfrm>
            <a:off x="914400" y="1887480"/>
            <a:ext cx="7335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2"/>
          <p:cNvSpPr/>
          <p:nvPr/>
        </p:nvSpPr>
        <p:spPr>
          <a:xfrm>
            <a:off x="723960" y="1509840"/>
            <a:ext cx="768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越不许我动，我的手指越想动，但是我又不敢，因此我很痛苦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1"/>
          <p:cNvSpPr/>
          <p:nvPr/>
        </p:nvSpPr>
        <p:spPr>
          <a:xfrm>
            <a:off x="873000" y="3605040"/>
            <a:ext cx="782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写“我”对表里的生物有强烈的好奇心，渴望打开表看个究竟，但又不敢，心里很痛苦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云形 7"/>
          <p:cNvGrpSpPr/>
          <p:nvPr/>
        </p:nvGrpSpPr>
        <p:grpSpPr>
          <a:xfrm>
            <a:off x="5340240" y="2432160"/>
            <a:ext cx="2455920" cy="987480"/>
            <a:chOff x="5340240" y="2432160"/>
            <a:chExt cx="2455920" cy="987480"/>
          </a:xfrm>
        </p:grpSpPr>
        <p:pic>
          <p:nvPicPr>
            <p:cNvPr id="96" name="云形 7" descr=""/>
            <p:cNvPicPr/>
            <p:nvPr/>
          </p:nvPicPr>
          <p:blipFill>
            <a:blip r:embed="rId1"/>
            <a:stretch/>
          </p:blipFill>
          <p:spPr>
            <a:xfrm>
              <a:off x="5340240" y="2432160"/>
              <a:ext cx="24559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6034320" y="26589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心理描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1"/>
          <p:cNvSpPr/>
          <p:nvPr/>
        </p:nvSpPr>
        <p:spPr>
          <a:xfrm>
            <a:off x="885960" y="995400"/>
            <a:ext cx="753408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想象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想象一下“我”既想动表但又不敢的具体表现？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_________________________________________________________________________________________________________________________________________________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图片 24" descr="花盆.png"/>
          <p:cNvPicPr/>
          <p:nvPr/>
        </p:nvPicPr>
        <p:blipFill>
          <a:blip r:embed="rId1"/>
          <a:stretch/>
        </p:blipFill>
        <p:spPr>
          <a:xfrm>
            <a:off x="642960" y="1149480"/>
            <a:ext cx="322200" cy="368280"/>
          </a:xfrm>
          <a:prstGeom prst="rect">
            <a:avLst/>
          </a:prstGeom>
          <a:ln w="0">
            <a:noFill/>
          </a:ln>
        </p:spPr>
      </p:pic>
      <p:sp>
        <p:nvSpPr>
          <p:cNvPr id="100" name="矩形 2"/>
          <p:cNvSpPr/>
          <p:nvPr/>
        </p:nvSpPr>
        <p:spPr>
          <a:xfrm>
            <a:off x="919080" y="1963800"/>
            <a:ext cx="75009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示例：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“我”吃饭、睡觉时都在想表的问题，饭也不吃不下，觉也睡不着，十分渴望打开表看个究竟，围着表看了又看，但是又不敢打开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组合 3"/>
          <p:cNvGrpSpPr/>
          <p:nvPr/>
        </p:nvGrpSpPr>
        <p:grpSpPr>
          <a:xfrm>
            <a:off x="5259240" y="3714840"/>
            <a:ext cx="3683160" cy="2717640"/>
            <a:chOff x="5259240" y="3714840"/>
            <a:chExt cx="3683160" cy="2717640"/>
          </a:xfrm>
        </p:grpSpPr>
        <p:pic>
          <p:nvPicPr>
            <p:cNvPr id="102" name="Picture 2" descr="https://timgsa.baidu.com/timg?image&amp;quality=80&amp;size=b9999_10000&amp;sec=1492599224211&amp;di=b92c10ad48cc39ac129ca93e6f8217fc&amp;imgtype=0&amp;src=http%3A%2F%2Fimg.taopic.com%2Fuploads%2Fallimg%2F120827%2F214833-120RGS53295.jpg"/>
            <p:cNvPicPr/>
            <p:nvPr/>
          </p:nvPicPr>
          <p:blipFill>
            <a:blip r:embed="rId2"/>
            <a:stretch/>
          </p:blipFill>
          <p:spPr>
            <a:xfrm>
              <a:off x="5259240" y="3714840"/>
              <a:ext cx="3683160" cy="27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矩形 1"/>
            <p:cNvSpPr/>
            <p:nvPr/>
          </p:nvSpPr>
          <p:spPr>
            <a:xfrm>
              <a:off x="5549040" y="3915000"/>
              <a:ext cx="249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相信你还能想象出更多这样的表现，试一试吧！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2"/>
          <p:cNvSpPr/>
          <p:nvPr/>
        </p:nvSpPr>
        <p:spPr>
          <a:xfrm>
            <a:off x="639720" y="13780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父亲取出一把小刀，把表盖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拨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开，在我的面前立即呈现出一个美丽的 世界：蓝色的、红色的小宝石，钉住几个金黄色的齿轮，里边还有一个小尾巴似的东西不住地摆来摆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云形 1"/>
          <p:cNvGrpSpPr/>
          <p:nvPr/>
        </p:nvGrpSpPr>
        <p:grpSpPr>
          <a:xfrm>
            <a:off x="5688000" y="3011400"/>
            <a:ext cx="1755720" cy="987480"/>
            <a:chOff x="5688000" y="3011400"/>
            <a:chExt cx="1755720" cy="987480"/>
          </a:xfrm>
        </p:grpSpPr>
        <p:pic>
          <p:nvPicPr>
            <p:cNvPr id="106" name="云形 1" descr=""/>
            <p:cNvPicPr/>
            <p:nvPr/>
          </p:nvPicPr>
          <p:blipFill>
            <a:blip r:embed="rId1"/>
            <a:stretch/>
          </p:blipFill>
          <p:spPr>
            <a:xfrm>
              <a:off x="5688000" y="3011400"/>
              <a:ext cx="17557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6147360" y="32385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比 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矩形 4"/>
          <p:cNvSpPr/>
          <p:nvPr/>
        </p:nvSpPr>
        <p:spPr>
          <a:xfrm>
            <a:off x="892080" y="3741840"/>
            <a:ext cx="76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一描写生动地 表现出表在“我”心里的神秘， 在“我”眼里的美丽：“蓝、红、金黄”体现了表中小世界的色彩之美，把摆来摆去的零件比作“小尾巴”，表现了孩子的天真和丰富的想象力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2T01:22:37Z</dcterms:modified>
  <cp:revision>45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