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DEBAA-8EE2-43E6-990C-22B6FB09E9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7CF3D-F57C-49BB-ADC1-6BE653C651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题号后边不能是单括号，全部都改成顿号。有导学好的地方删掉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1A6B9-0487-4582-99E8-5D98FA850D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题号后边不能是单括号，全部都改成顿号。有导学好的地方删掉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340BA-BC9C-4A93-B12F-44BDB181D3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4B3-0307-41C9-B775-DB6A39C0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50C-9CF1-454D-A058-F770DB23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2D1-6AE6-4925-8FBE-57E4219C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B1C-7419-4AA7-BD3B-5FD4746A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A52-39FA-4EC6-A664-DC96F14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3B8-83C1-4BA0-8641-0E99B1B5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99F-7725-4589-99A1-F9D0105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F15-E809-481A-9A85-9CAAF4A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8E5-3AA9-46D4-8341-31BA591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A13-94A1-4B94-8CF5-D537AC4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B1E-F49F-458B-98EC-B1C3B34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E97-7BB9-410D-ADA9-7A87F972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7B8A4-D5D6-48D7-AFC3-4ABBE25396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805040" y="2109960"/>
            <a:ext cx="5491080" cy="34318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486080" y="873000"/>
            <a:ext cx="6642000" cy="1181160"/>
            <a:chOff x="1486080" y="873000"/>
            <a:chExt cx="6642000" cy="1181160"/>
          </a:xfrm>
        </p:grpSpPr>
        <p:sp>
          <p:nvSpPr>
            <p:cNvPr id="65" name="Text Box 2"/>
            <p:cNvSpPr/>
            <p:nvPr/>
          </p:nvSpPr>
          <p:spPr>
            <a:xfrm>
              <a:off x="2745000" y="1088640"/>
              <a:ext cx="538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骑在白鹅的背上（一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486080" y="873000"/>
              <a:ext cx="1180800" cy="1181160"/>
              <a:chOff x="1486080" y="873000"/>
              <a:chExt cx="1180800" cy="118116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486080" y="8730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1541520" y="101700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4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夸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23"/>
          <p:cNvSpPr/>
          <p:nvPr/>
        </p:nvSpPr>
        <p:spPr>
          <a:xfrm>
            <a:off x="903240" y="184644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夸张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夸张就是为了达到某种表达效果，对事物的形象、 特征、作用、程度等方面着意夸大或缩小的修辞手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说一说使用夸张的效果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能揭示本质，给人以启示；能烘托气氛，增强感染力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答题时有什么模式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句话运用夸张的修辞手法，揭示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特点，给 读者留下深刻的印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046160" y="2884320"/>
            <a:ext cx="7424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本文的第一部分写尼尔斯骑在白鹅马丁的背上，他们飞得很高很快，尼尔斯极度恐惧和 后悔，很想回家，但马丁很倔强，坚持要飞到拉伯兰。第二部分写马丁虽然态度坚决，竭尽全力保 持与野鹅一块飞翔，但是渐渐累了，飞不动了，最后坠落到了一棵柳树上。尼尔斯逐渐克服了恐惧，并开始怜惜、安慰马丁，但是马丁一直坚持跟随野鹅飞行，直到宿营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961920" y="2421000"/>
            <a:ext cx="7425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课文两大部分主要讲了什么内容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开始尼尔斯骑在白鹅的背上感觉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尼尔斯刚开始骑在白鹅的背上飞行时内心充满了紧张与恐惧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来尼尔斯的感受有了什么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尼尔斯由刚开始时的“恐惧、埋怨”到后来“逐渐克服恐惧”再到最后“怜惜、安慰马丁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合具体的语句，说说从哪里可以看出马丁的倔强和态度坚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079640" y="306216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他重重地喘息着，大大地张开了硬嘴，好像想把所有的空气都吸进去。”用夸张的手法体现了马丁虽然异常疲惫却不放弃坚持飞行，充分体现了马丁的倔强和态度坚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文中人物身上你得到什么启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198440" y="241920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马丁身上我明白了在困难面前要永不低头，乐观地面对，以顽强的毅力战胜它，成为生活的强者。在尼尔斯身上我懂得了要学会面对恐惧并克服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6"/>
          <p:cNvSpPr/>
          <p:nvPr/>
        </p:nvSpPr>
        <p:spPr>
          <a:xfrm>
            <a:off x="1124640" y="2103480"/>
            <a:ext cx="6678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骑在白鹅的背上（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1982880" y="276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尼尔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13"/>
          <p:cNvSpPr/>
          <p:nvPr/>
        </p:nvSpPr>
        <p:spPr>
          <a:xfrm>
            <a:off x="1781280" y="2430360"/>
            <a:ext cx="312480" cy="288000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80000"/>
              <a:gd name="textAreaBottom" fmla="*/ 287208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3268800" y="23050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恐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左大括号 15"/>
          <p:cNvSpPr/>
          <p:nvPr/>
        </p:nvSpPr>
        <p:spPr>
          <a:xfrm flipH="1">
            <a:off x="6298560" y="249408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6983280" y="289728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坚持不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飞行历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982880" y="45673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马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3268800" y="290520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克服恐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左大括号 20"/>
          <p:cNvSpPr/>
          <p:nvPr/>
        </p:nvSpPr>
        <p:spPr>
          <a:xfrm>
            <a:off x="2655720" y="4352760"/>
            <a:ext cx="277920" cy="912960"/>
          </a:xfrm>
          <a:custGeom>
            <a:avLst/>
            <a:gdLst>
              <a:gd name="textAreaLeft" fmla="*/ 177480 w 277920"/>
              <a:gd name="textAreaRight" fmla="*/ 277920 w 277920"/>
              <a:gd name="textAreaTop" fmla="*/ 7200 h 912960"/>
              <a:gd name="textAreaBottom" fmla="*/ 905760 h 9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5400" y="10800"/>
                  <a:pt x="0" y="10800"/>
                </a:cubicBezTo>
                <a:cubicBezTo>
                  <a:pt x="54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4065480" y="288756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微微睁开眼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2836800" y="427212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倔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2836800" y="4871880"/>
            <a:ext cx="15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态度坚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左大括号 19"/>
          <p:cNvSpPr/>
          <p:nvPr/>
        </p:nvSpPr>
        <p:spPr>
          <a:xfrm>
            <a:off x="3100320" y="2351160"/>
            <a:ext cx="304920" cy="1324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324080"/>
              <a:gd name="textAreaBottom" fmla="*/ 1316160 h 13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7"/>
                  <a:pt x="10800" y="414"/>
                </a:cubicBezTo>
                <a:lnTo>
                  <a:pt x="10800" y="10386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7"/>
                  <a:pt x="10800" y="11214"/>
                </a:cubicBezTo>
                <a:lnTo>
                  <a:pt x="10800" y="21186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4558320" y="2322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紧紧闭上眼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左大括号 24"/>
          <p:cNvSpPr/>
          <p:nvPr/>
        </p:nvSpPr>
        <p:spPr>
          <a:xfrm>
            <a:off x="3913200" y="288756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914400"/>
              <a:gd name="textAreaBottom" fmla="*/ 90648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4040280" y="3327480"/>
            <a:ext cx="21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安慰马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写了一个不爱学习、喜欢搞恶作剧的顽皮小男孩尼尔斯变成“小人”后骑在白鹅背 上飞行的历险经历，表现了他由“恐惧”到“逐 渐克服恐惧”再到“怜惜、安慰马丁”的心态变化和白鹅马丁倔强的性格与坚决的态度，告诉我们战胜恐惧需要勇敢和坚持不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豌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wān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豆公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从前有一位勇敢的王子，他想找一位公主结婚，但是她必须是一位真正的公主。他走遍了全世界，想要寻找到一位真正的公主，但不论走到什么地方，总碰到一些障碍。公主倒有的是，但王子无法判断她们究竟是不是真正的公主，因为她们总有一些地方不大对头，结果，他只好回家来，心中很不快活，因为他是多么渴望得到一位真正的公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一天晚上，忽然起了一阵可怕的暴风雨，天空在掣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è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电，在打雷，还下着大雨，这真使人有些害怕！这时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179360" y="24764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人物动作、语言、心理活动的描写，体会尼尔斯和白鹅马丁刚刚开始历险时的心理变化过程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人在敲门，老国王就走过去去开门。站在门外的是一位被雨水淋湿的姑娘，姑娘说她是一位真正的公主。可是，天哪！经过了风吹雨打之后，她的样子是多么难看啊！水沿着她的头发和衣服向下流，流进鞋尖，又从脚跟流出来。她说她是一个真正的公主。老皇后心想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是的，这点我们马上就可以知道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可是，她什么也没说。她走进卧房，把所有的被褥全部搬开，在床榻上放了一粒豌豆。然后她取出二十张床垫子，把它们压在豌豆上。随后，她又在这些垫子上放了二十床鸭绒被。这位公主夜里就睡在这些东西上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内容占位符 2"/>
          <p:cNvSpPr/>
          <p:nvPr/>
        </p:nvSpPr>
        <p:spPr>
          <a:xfrm>
            <a:off x="839880" y="1198440"/>
            <a:ext cx="7642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早晨大家问她昨晚睡得怎样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啊，不舒服极了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公主说。“我差不多整夜都没有合上眼！天晓得床下有什么东西？有一粒很硬的东西硌着我，弄的我全身发紫，这真怕人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现在大家看出来了，她的确是一位真正的公主。因为压在这二十层床垫子和二十床鸭绒被下面的一粒豌豆，她居然还能感觉得出来。除了真正的公主以外，任何人都不会有这么稚嫩的皮肤的。因此，那位王子就选她做妻子了，因为他知道他得到了一位真正的公主。这粒豌豆因此也送进了博物馆。如果没有人把它拿走的话，人们现在还可以在那儿看到它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http://s6.sinaimg.cn/bmiddle/49a01391951bb87626de5"/>
          <p:cNvPicPr/>
          <p:nvPr/>
        </p:nvPicPr>
        <p:blipFill>
          <a:blip r:embed="rId1"/>
          <a:stretch/>
        </p:blipFill>
        <p:spPr>
          <a:xfrm>
            <a:off x="996840" y="2125800"/>
            <a:ext cx="7338960" cy="3760560"/>
          </a:xfrm>
          <a:prstGeom prst="rect">
            <a:avLst/>
          </a:prstGeom>
          <a:ln w="0">
            <a:noFill/>
          </a:ln>
        </p:spPr>
      </p:pic>
      <p:sp>
        <p:nvSpPr>
          <p:cNvPr id="164" name="矩形 1"/>
          <p:cNvSpPr/>
          <p:nvPr/>
        </p:nvSpPr>
        <p:spPr>
          <a:xfrm>
            <a:off x="1042920" y="2006640"/>
            <a:ext cx="723420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人者智，自知者明。胜人者有力，自胜者强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老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穷且益坚，不坠青云之志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滕王阁序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王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咬定青山不放松，立根原在破岩中。千磨万击还坚劲，任尔东西南北风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竹 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郑燮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1487880" y="209556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玄奘西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265400" y="256212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玄奘是唐代的一位高僧。为了求取佛经原文，玄奘离开长安，万里跋涉，西行取经，历经艰险，终于到达印度。 西行取径后，玄奘著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唐西域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书，对研究古代中亚及南亚 的历史，有非常重要的参考价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1726920" y="20955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杨露禅陈家沟学艺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1265400" y="2562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据传杨露禅受到乡里恶霸的欺负，他不甘心受辱。一个人离开了家，到陈家沟拜师学艺。 拳师陈长兴从不把拳法传给外人，杨露禅也不例外。但是，杨露禅的执着 精神感动了陈长兴，他终于学到了拳法，惩治了恶霸，也开创了杨氏太极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8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82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描写空中飞行时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尼尔斯的紧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马丁的放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中我们感受到他们历险的经历，学习到一种永不放弃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923760" y="3147840"/>
            <a:ext cx="748368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这篇课文人物对话较多，读时要注意 通过对话体会人物心理，有感情地朗读，才 能读得有声有色，有如身临其境。如读“每 逢马丁又阔又大的白翅膀向下一拍，尼尔斯 就这样喃喃地说”一句时，了解了“喃喃” 是“连续低语”后，自然就会读好“我立刻 就要掉下去了，立刻要掉下去了”这句话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15"/>
          <p:cNvGrpSpPr/>
          <p:nvPr/>
        </p:nvGrpSpPr>
        <p:grpSpPr>
          <a:xfrm>
            <a:off x="814320" y="1657440"/>
            <a:ext cx="7770960" cy="1289160"/>
            <a:chOff x="814320" y="1657440"/>
            <a:chExt cx="7770960" cy="1289160"/>
          </a:xfrm>
        </p:grpSpPr>
        <p:sp>
          <p:nvSpPr>
            <p:cNvPr id="186" name="圆角矩形 14"/>
            <p:cNvSpPr/>
            <p:nvPr/>
          </p:nvSpPr>
          <p:spPr>
            <a:xfrm>
              <a:off x="814320" y="2234880"/>
              <a:ext cx="777096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有感情地朗读课文，特别是人物对话部分更要细心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0"/>
            <p:cNvGrpSpPr/>
            <p:nvPr/>
          </p:nvGrpSpPr>
          <p:grpSpPr>
            <a:xfrm>
              <a:off x="904320" y="1657440"/>
              <a:ext cx="1594080" cy="677880"/>
              <a:chOff x="904320" y="1657440"/>
              <a:chExt cx="1594080" cy="677880"/>
            </a:xfrm>
          </p:grpSpPr>
          <p:sp>
            <p:nvSpPr>
              <p:cNvPr id="188" name="任意多边形 11"/>
              <p:cNvSpPr/>
              <p:nvPr/>
            </p:nvSpPr>
            <p:spPr>
              <a:xfrm>
                <a:off x="1321560" y="1749600"/>
                <a:ext cx="1176840" cy="4928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9" name="椭圆 12"/>
              <p:cNvGrpSpPr/>
              <p:nvPr/>
            </p:nvGrpSpPr>
            <p:grpSpPr>
              <a:xfrm>
                <a:off x="904320" y="1657440"/>
                <a:ext cx="700560" cy="677880"/>
                <a:chOff x="904320" y="1657440"/>
                <a:chExt cx="700560" cy="677880"/>
              </a:xfrm>
            </p:grpSpPr>
            <p:pic>
              <p:nvPicPr>
                <p:cNvPr id="190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7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1017000" y="1764360"/>
                  <a:ext cx="474840" cy="46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971640" y="154476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真的，我们还不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坐在家里好。” 尼尔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咕哝着说↘，同时更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紧紧地抓 住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马丁的脖子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3"/>
          <p:cNvGrpSpPr/>
          <p:nvPr/>
        </p:nvGrpSpPr>
        <p:grpSpPr>
          <a:xfrm>
            <a:off x="814320" y="1204920"/>
            <a:ext cx="7661520" cy="1281960"/>
            <a:chOff x="814320" y="1204920"/>
            <a:chExt cx="7661520" cy="1281960"/>
          </a:xfrm>
        </p:grpSpPr>
        <p:grpSp>
          <p:nvGrpSpPr>
            <p:cNvPr id="194" name="组合 6"/>
            <p:cNvGrpSpPr/>
            <p:nvPr/>
          </p:nvGrpSpPr>
          <p:grpSpPr>
            <a:xfrm>
              <a:off x="823680" y="1317960"/>
              <a:ext cx="7652160" cy="1168920"/>
              <a:chOff x="823680" y="1317960"/>
              <a:chExt cx="7652160" cy="1168920"/>
            </a:xfrm>
          </p:grpSpPr>
          <p:sp>
            <p:nvSpPr>
              <p:cNvPr id="195" name="圆角矩形 7"/>
              <p:cNvSpPr/>
              <p:nvPr/>
            </p:nvSpPr>
            <p:spPr>
              <a:xfrm>
                <a:off x="823680" y="1775160"/>
                <a:ext cx="76521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默读课文，简要说说文中这两部分故事的大意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任意多边形 10"/>
              <p:cNvSpPr/>
              <p:nvPr/>
            </p:nvSpPr>
            <p:spPr>
              <a:xfrm>
                <a:off x="1183320" y="1317960"/>
                <a:ext cx="2262600" cy="5040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7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204920"/>
              <a:ext cx="80352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TextBox 2"/>
          <p:cNvSpPr/>
          <p:nvPr/>
        </p:nvSpPr>
        <p:spPr>
          <a:xfrm>
            <a:off x="901800" y="282888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第一部分写了尼尔斯骑在白鹅的背上在天空中飞翔，他感到极度恐惧，但马丁坚持飞行。第二部分写了马丁极度疲倦，虽然如此，但仍然勇敢地紧跟野鹅们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3"/>
          <p:cNvGrpSpPr/>
          <p:nvPr/>
        </p:nvGrpSpPr>
        <p:grpSpPr>
          <a:xfrm>
            <a:off x="814320" y="1055520"/>
            <a:ext cx="7661520" cy="1503360"/>
            <a:chOff x="814320" y="1055520"/>
            <a:chExt cx="7661520" cy="1503360"/>
          </a:xfrm>
        </p:grpSpPr>
        <p:grpSp>
          <p:nvGrpSpPr>
            <p:cNvPr id="200" name="组合 6"/>
            <p:cNvGrpSpPr/>
            <p:nvPr/>
          </p:nvGrpSpPr>
          <p:grpSpPr>
            <a:xfrm>
              <a:off x="823680" y="1171800"/>
              <a:ext cx="7652160" cy="1387080"/>
              <a:chOff x="823680" y="1171800"/>
              <a:chExt cx="7652160" cy="1387080"/>
            </a:xfrm>
          </p:grpSpPr>
          <p:sp>
            <p:nvSpPr>
              <p:cNvPr id="201" name="圆角矩形 7"/>
              <p:cNvSpPr/>
              <p:nvPr/>
            </p:nvSpPr>
            <p:spPr>
              <a:xfrm>
                <a:off x="823680" y="1898280"/>
                <a:ext cx="765216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177840" indent="-17784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尼尔斯和白鹅马丁各给你留下怎样的印象？请 结合文中的相关语句说一说。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任意多边形 10"/>
              <p:cNvSpPr/>
              <p:nvPr/>
            </p:nvSpPr>
            <p:spPr>
              <a:xfrm>
                <a:off x="1183320" y="1171800"/>
                <a:ext cx="2262600" cy="5043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055520"/>
              <a:ext cx="803520" cy="73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Box 2"/>
          <p:cNvSpPr/>
          <p:nvPr/>
        </p:nvSpPr>
        <p:spPr>
          <a:xfrm>
            <a:off x="901800" y="2787480"/>
            <a:ext cx="7574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尼尔斯比较胆小，如“他缩着头， 缩着身子，把整个身体贴在公鹅马丁的脖子上。他牢牢地抓住了鹅毛，眼睛也吓得紧紧地闭起来了”。但他很善良，如“尼尔斯不 禁对马丁怜惜起来了，他甚至开始设法去安慰他”。马丁倔强、态度坚决、很勇敢，如“马丁猛烈地扑动翅膀，一下子冲到高空，很快就追上了那群野鹅”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814320" y="1258920"/>
            <a:ext cx="7456680" cy="1715040"/>
            <a:chOff x="814320" y="1258920"/>
            <a:chExt cx="7456680" cy="1715040"/>
          </a:xfrm>
        </p:grpSpPr>
        <p:grpSp>
          <p:nvGrpSpPr>
            <p:cNvPr id="206" name="组合 6"/>
            <p:cNvGrpSpPr/>
            <p:nvPr/>
          </p:nvGrpSpPr>
          <p:grpSpPr>
            <a:xfrm>
              <a:off x="814320" y="1346400"/>
              <a:ext cx="7456680" cy="1627560"/>
              <a:chOff x="814320" y="1346400"/>
              <a:chExt cx="7456680" cy="1627560"/>
            </a:xfrm>
          </p:grpSpPr>
          <p:sp>
            <p:nvSpPr>
              <p:cNvPr id="207" name="圆角矩形 7"/>
              <p:cNvSpPr/>
              <p:nvPr/>
            </p:nvSpPr>
            <p:spPr>
              <a:xfrm>
                <a:off x="814320" y="2313360"/>
                <a:ext cx="745668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可怜的尼尔斯是如何变小的呢？他以前又是如何捉弄别人的呢？请仔细读一读童话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《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尼尔斯骑鹅旅行记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》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的第一章。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任意多边形 9"/>
              <p:cNvSpPr/>
              <p:nvPr/>
            </p:nvSpPr>
            <p:spPr>
              <a:xfrm>
                <a:off x="1069920" y="1346400"/>
                <a:ext cx="2544840" cy="5061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9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Box 2"/>
          <p:cNvSpPr/>
          <p:nvPr/>
        </p:nvSpPr>
        <p:spPr>
          <a:xfrm>
            <a:off x="971640" y="357840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读第一章时，要抓住文中的关键词句，也要试着概括这部分内容的大意。不动笔墨不读书，如果能一边读，一边拿出笔来圈画一些重点词句，或者在旁边写一写自己的感受和想法就更好了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971640" y="112248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有一个星期天，他独自在家，因为捉弄小妖精，小妖精施了妖法，他被变成了一个和小妖精一样大小的小人。”“尼尔斯经常捉弄这些牲口，拔他们身上的毛， 揪他们的尾巴，家禽们一见他就躲开。”“尼尔斯摘下捕虫网悄悄地蹿过去，用力一挥， 就把那个妖精给逮住了。可怜的小妖精在网底挣扎着，竭力想站稳身子，可尼尔斯抖一抖网，小妖精又翻了个跟头，坠入网底，再也无法爬出来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6"/>
          <p:cNvGrpSpPr/>
          <p:nvPr/>
        </p:nvGrpSpPr>
        <p:grpSpPr>
          <a:xfrm>
            <a:off x="814320" y="1047600"/>
            <a:ext cx="7661520" cy="2531520"/>
            <a:chOff x="814320" y="1047600"/>
            <a:chExt cx="7661520" cy="2531520"/>
          </a:xfrm>
        </p:grpSpPr>
        <p:grpSp>
          <p:nvGrpSpPr>
            <p:cNvPr id="213" name="组合 2"/>
            <p:cNvGrpSpPr/>
            <p:nvPr/>
          </p:nvGrpSpPr>
          <p:grpSpPr>
            <a:xfrm>
              <a:off x="814320" y="1179000"/>
              <a:ext cx="7661520" cy="2400120"/>
              <a:chOff x="814320" y="1179000"/>
              <a:chExt cx="7661520" cy="2400120"/>
            </a:xfrm>
          </p:grpSpPr>
          <p:sp>
            <p:nvSpPr>
              <p:cNvPr id="214" name="圆角矩形 4"/>
              <p:cNvSpPr/>
              <p:nvPr/>
            </p:nvSpPr>
            <p:spPr>
              <a:xfrm>
                <a:off x="814320" y="1524600"/>
                <a:ext cx="766152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写一写，理解加点词语的意思。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吼叫  呼啸  手帕  湖泊  代替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幸亏  喘息  怜惜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 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抛弃  劝慰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任意多边形 5"/>
              <p:cNvSpPr/>
              <p:nvPr/>
            </p:nvSpPr>
            <p:spPr>
              <a:xfrm>
                <a:off x="1214280" y="1179000"/>
                <a:ext cx="1436760" cy="5072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6" name="椭圆 7"/>
            <p:cNvGrpSpPr/>
            <p:nvPr/>
          </p:nvGrpSpPr>
          <p:grpSpPr>
            <a:xfrm>
              <a:off x="889920" y="1047600"/>
              <a:ext cx="755640" cy="716040"/>
              <a:chOff x="889920" y="1047600"/>
              <a:chExt cx="755640" cy="716040"/>
            </a:xfrm>
          </p:grpSpPr>
          <p:pic>
            <p:nvPicPr>
              <p:cNvPr id="217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047600"/>
                <a:ext cx="75564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007640" y="1160280"/>
                <a:ext cx="518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9" name="TextBox 9"/>
          <p:cNvSpPr/>
          <p:nvPr/>
        </p:nvSpPr>
        <p:spPr>
          <a:xfrm>
            <a:off x="1057320" y="3605040"/>
            <a:ext cx="75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理解两个加点词语的意思，要运用拆 词素的方法。就是先分析构成词语的每个词素的意思，再合起来领会整个词语的意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"/>
          <p:cNvSpPr/>
          <p:nvPr/>
        </p:nvSpPr>
        <p:spPr>
          <a:xfrm>
            <a:off x="3885120" y="306216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5961600" y="306396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1057320" y="52754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怜惜：同情爱护。劝慰：劝解安慰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6"/>
          <p:cNvGrpSpPr/>
          <p:nvPr/>
        </p:nvGrpSpPr>
        <p:grpSpPr>
          <a:xfrm>
            <a:off x="814320" y="1047600"/>
            <a:ext cx="7661520" cy="4180680"/>
            <a:chOff x="814320" y="1047600"/>
            <a:chExt cx="7661520" cy="4180680"/>
          </a:xfrm>
        </p:grpSpPr>
        <p:grpSp>
          <p:nvGrpSpPr>
            <p:cNvPr id="224" name="组合 2"/>
            <p:cNvGrpSpPr/>
            <p:nvPr/>
          </p:nvGrpSpPr>
          <p:grpSpPr>
            <a:xfrm>
              <a:off x="814320" y="1179360"/>
              <a:ext cx="7661520" cy="4048920"/>
              <a:chOff x="814320" y="1179360"/>
              <a:chExt cx="7661520" cy="4048920"/>
            </a:xfrm>
          </p:grpSpPr>
          <p:sp>
            <p:nvSpPr>
              <p:cNvPr id="225" name="圆角矩形 4"/>
              <p:cNvSpPr/>
              <p:nvPr/>
            </p:nvSpPr>
            <p:spPr>
              <a:xfrm>
                <a:off x="814320" y="2224080"/>
                <a:ext cx="7661520" cy="3004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体会句子在表达方面的妙处 。  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）在很远很远的下面，横着黑黑的土地， 但那一点儿也不像土地，好像有什么人在上面铺上了一条极大的花格子手帕，有一些格 子是全黑的，有一些是灰黄色的，更有一些 是淡绿色的，但它们其实是一块块才长出嫩草的草地和一片片耕过的田地。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2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）他重重地喘息着，大大地张开了硬嘴， 好像想把所有的空气都吸进去。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任意多边形 5"/>
              <p:cNvSpPr/>
              <p:nvPr/>
            </p:nvSpPr>
            <p:spPr>
              <a:xfrm>
                <a:off x="1214280" y="1179360"/>
                <a:ext cx="1436760" cy="5083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7" name="椭圆 7"/>
            <p:cNvGrpSpPr/>
            <p:nvPr/>
          </p:nvGrpSpPr>
          <p:grpSpPr>
            <a:xfrm>
              <a:off x="889920" y="1047600"/>
              <a:ext cx="755640" cy="717480"/>
              <a:chOff x="889920" y="1047600"/>
              <a:chExt cx="755640" cy="717480"/>
            </a:xfrm>
          </p:grpSpPr>
          <p:pic>
            <p:nvPicPr>
              <p:cNvPr id="228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047600"/>
                <a:ext cx="7556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007640" y="1160640"/>
                <a:ext cx="5184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971640" y="1203480"/>
            <a:ext cx="72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教师点拨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用心品读这两句话，想想它们都运用 了什么修辞手法，再进一步体会这种修辞手 法的好处。如，第一句中“好像”是比喻词，“黑黑的土地”是本体，“一条极大的花格子手帕” 是喻体，所以第一句是一个比喻句。比喻句 的作用是可使事物生动形象、具体可感，引发读者联想和想象，给人以鲜明、深刻的印象，并使语言富有很强的感染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第一句运用了比喻的修辞手法，把“土地”比作“一条极大的花格子手帕”，这样写生动、有趣、形象，我们仿佛看到了那片黑黑的土地，更能给人留下深刻的印象。 第二句运用了夸张的修辞手法，更能突出马 丁此时疲惫、呼吸困难的样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7167"/>
          <p:cNvSpPr/>
          <p:nvPr/>
        </p:nvSpPr>
        <p:spPr>
          <a:xfrm>
            <a:off x="865080" y="2157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音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泊：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铺：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ū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尽：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ǐ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n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3" name="文本框 17"/>
          <p:cNvSpPr/>
          <p:nvPr/>
        </p:nvSpPr>
        <p:spPr>
          <a:xfrm>
            <a:off x="3381120" y="1342080"/>
            <a:ext cx="238140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3045240" y="285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湖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8"/>
          <p:cNvSpPr/>
          <p:nvPr/>
        </p:nvSpPr>
        <p:spPr>
          <a:xfrm>
            <a:off x="5116320" y="2806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停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9"/>
          <p:cNvSpPr/>
          <p:nvPr/>
        </p:nvSpPr>
        <p:spPr>
          <a:xfrm>
            <a:off x="3011040" y="3376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铺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5120280" y="3390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3022200" y="3917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尽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512100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尽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7167"/>
          <p:cNvSpPr/>
          <p:nvPr/>
        </p:nvSpPr>
        <p:spPr>
          <a:xfrm>
            <a:off x="865080" y="2157480"/>
            <a:ext cx="754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2384280" y="282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铺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405252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捕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5768640" y="282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辅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238428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手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5"/>
          <p:cNvSpPr/>
          <p:nvPr/>
        </p:nvSpPr>
        <p:spPr>
          <a:xfrm>
            <a:off x="405252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害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5768640" y="3398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球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238428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树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112280" y="39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夜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795640" y="39038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权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2384280" y="447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喘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4041360" y="447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端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5779800" y="447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瑞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956120" y="26020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956120" y="37288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4960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74960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矩形 3"/>
          <p:cNvSpPr/>
          <p:nvPr/>
        </p:nvSpPr>
        <p:spPr>
          <a:xfrm>
            <a:off x="1042920" y="1557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u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ì                             yě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é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ng                         li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1966680" y="264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愈 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4"/>
          <p:cNvSpPr/>
          <p:nvPr/>
        </p:nvSpPr>
        <p:spPr>
          <a:xfrm>
            <a:off x="1966680" y="3772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 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5"/>
          <p:cNvSpPr/>
          <p:nvPr/>
        </p:nvSpPr>
        <p:spPr>
          <a:xfrm>
            <a:off x="5002200" y="26510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喘 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6"/>
          <p:cNvSpPr/>
          <p:nvPr/>
        </p:nvSpPr>
        <p:spPr>
          <a:xfrm>
            <a:off x="5181120" y="375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野 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47800" y="478476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929120" y="47847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矩形 1"/>
          <p:cNvSpPr/>
          <p:nvPr/>
        </p:nvSpPr>
        <p:spPr>
          <a:xfrm>
            <a:off x="1939680" y="4859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翅 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2"/>
          <p:cNvSpPr/>
          <p:nvPr/>
        </p:nvSpPr>
        <p:spPr>
          <a:xfrm>
            <a:off x="5173200" y="4859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怜 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"/>
          <p:cNvSpPr/>
          <p:nvPr/>
        </p:nvSpPr>
        <p:spPr>
          <a:xfrm>
            <a:off x="900000" y="12812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理解修辞手法：“白羽毛落下去了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修辞手法，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因为一群野鹅中只有他的羽毛是白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指出省略号的用法：“喂，你好好坐着，要不，我就把你摔下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时候让你自己翻着跟斗飞下去吧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"/>
          <p:cNvSpPr/>
          <p:nvPr/>
        </p:nvSpPr>
        <p:spPr>
          <a:xfrm>
            <a:off x="2755440" y="250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借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6203520" y="2505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羽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6"/>
          <p:cNvSpPr/>
          <p:nvPr/>
        </p:nvSpPr>
        <p:spPr>
          <a:xfrm>
            <a:off x="1604520" y="305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马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7"/>
          <p:cNvSpPr/>
          <p:nvPr/>
        </p:nvSpPr>
        <p:spPr>
          <a:xfrm>
            <a:off x="1763640" y="52419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思维的跳跃，话意有所转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409500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刚开始尼尔斯骑在白鹅的背上感觉是怎样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094280"/>
              <a:ext cx="34560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后来尼尔斯的感受有了什么变化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从文中人物身上你得到什么启示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0516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结合具体的语句，说说从哪里可以看出马丁的倔强和态度坚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11176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两大部分主要讲了什么内容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910400" y="133560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勇敢、坚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541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尼尔斯骑在那只白鹅的背上，好像骑士骑着一匹狂奔的骏马一般。他缩着头，缩着身子，把整个身体贴在公鹅马丁的脖子上。他牢牢地抓住了鹅毛，眼睛也吓得紧紧地闭起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433224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对尼尔斯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动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神态的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写出了他骑在白鹅背上飞翔时的极度恐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7"/>
          <p:cNvGrpSpPr/>
          <p:nvPr/>
        </p:nvGrpSpPr>
        <p:grpSpPr>
          <a:xfrm>
            <a:off x="4638600" y="3292560"/>
            <a:ext cx="3872160" cy="987480"/>
            <a:chOff x="4638600" y="3292560"/>
            <a:chExt cx="3872160" cy="987480"/>
          </a:xfrm>
        </p:grpSpPr>
        <p:pic>
          <p:nvPicPr>
            <p:cNvPr id="87" name="云形 7" descr=""/>
            <p:cNvPicPr/>
            <p:nvPr/>
          </p:nvPicPr>
          <p:blipFill>
            <a:blip r:embed="rId1"/>
            <a:stretch/>
          </p:blipFill>
          <p:spPr>
            <a:xfrm>
              <a:off x="4638600" y="3292560"/>
              <a:ext cx="3872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84880" y="35179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、神态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723960" y="100476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在很远很远的下面，横着黑黑的土地，但那一点儿也不像土地，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好像有什么人在上面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铺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上了一条极大的花格子手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帕</a:t>
            </a:r>
            <a:r>
              <a:rPr b="1" lang="zh-CN" sz="22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有一些格子是全黑的，有一些是灰黄色的，更有一些是淡绿色的，但它们其实是一块块才长出嫩草的草地和一片片耕过的田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873000" y="4068720"/>
            <a:ext cx="78249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运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的修辞手法，把“土地”比喻成“一 条极大的花格子手帕”，形象地写出了尼尔斯从空中俯视时所看到的大地的样子，也从侧面烘托了此时飞得极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标注 5"/>
          <p:cNvSpPr/>
          <p:nvPr/>
        </p:nvSpPr>
        <p:spPr>
          <a:xfrm>
            <a:off x="7752960" y="3179880"/>
            <a:ext cx="546840" cy="459720"/>
          </a:xfrm>
          <a:prstGeom prst="wedgeRectCallout">
            <a:avLst>
              <a:gd name="adj1" fmla="val -170259"/>
              <a:gd name="adj2" fmla="val -31595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639720" y="137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马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竭力想把翅膀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得更有力更快，但是他那对疲倦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翅膀愈来愈重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再也不听他的使唤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云形 1"/>
          <p:cNvGrpSpPr/>
          <p:nvPr/>
        </p:nvGrpSpPr>
        <p:grpSpPr>
          <a:xfrm>
            <a:off x="5638680" y="2341440"/>
            <a:ext cx="2457720" cy="987480"/>
            <a:chOff x="5638680" y="2341440"/>
            <a:chExt cx="2457720" cy="987480"/>
          </a:xfrm>
        </p:grpSpPr>
        <p:pic>
          <p:nvPicPr>
            <p:cNvPr id="95" name="云形 1" descr=""/>
            <p:cNvPicPr/>
            <p:nvPr/>
          </p:nvPicPr>
          <p:blipFill>
            <a:blip r:embed="rId1"/>
            <a:stretch/>
          </p:blipFill>
          <p:spPr>
            <a:xfrm>
              <a:off x="5638680" y="2341440"/>
              <a:ext cx="2457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332760" y="2570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6"/>
          <p:cNvGrpSpPr/>
          <p:nvPr/>
        </p:nvGrpSpPr>
        <p:grpSpPr>
          <a:xfrm>
            <a:off x="873000" y="3198960"/>
            <a:ext cx="7683480" cy="560160"/>
            <a:chOff x="873000" y="3198960"/>
            <a:chExt cx="7683480" cy="560160"/>
          </a:xfrm>
        </p:grpSpPr>
        <p:sp>
          <p:nvSpPr>
            <p:cNvPr id="98" name="直接连接符 7"/>
            <p:cNvSpPr/>
            <p:nvPr/>
          </p:nvSpPr>
          <p:spPr>
            <a:xfrm>
              <a:off x="873000" y="37591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任意多边形 8"/>
            <p:cNvSpPr/>
            <p:nvPr/>
          </p:nvSpPr>
          <p:spPr>
            <a:xfrm>
              <a:off x="873000" y="3198960"/>
              <a:ext cx="7683480" cy="56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这处动作描写中你体会到了什么？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4"/>
          <p:cNvSpPr/>
          <p:nvPr/>
        </p:nvSpPr>
        <p:spPr>
          <a:xfrm>
            <a:off x="892080" y="39322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马丁想把翅膀扑得“更有力更快”，结果翅膀却“愈来愈重”。从这句话中可以体会到马丁现在极度疲惫，无法控制翅膀，无法控制飞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885960" y="995400"/>
            <a:ext cx="7534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想象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你是尼尔斯，看到马丁已经如此疲惫却还执意要继续飞行，你会跟马丁说些什么呢？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（展开想象写一写吧）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24" descr="花盆.png"/>
          <p:cNvPicPr/>
          <p:nvPr/>
        </p:nvPicPr>
        <p:blipFill>
          <a:blip r:embed="rId1"/>
          <a:stretch/>
        </p:blipFill>
        <p:spPr>
          <a:xfrm>
            <a:off x="642960" y="11494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905040" y="2478240"/>
            <a:ext cx="7392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会说：“马丁，休息一下吧，你太累了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!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再这样下去，你会累趴下的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5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844560" y="17114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重重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息着，大大地张开了硬嘴，好像想把所有的空气都吸进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873000" y="345456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夸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表现了马丁呼吸困难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云形 7"/>
          <p:cNvGrpSpPr/>
          <p:nvPr/>
        </p:nvGrpSpPr>
        <p:grpSpPr>
          <a:xfrm>
            <a:off x="5638680" y="2571840"/>
            <a:ext cx="1511280" cy="993600"/>
            <a:chOff x="5638680" y="2571840"/>
            <a:chExt cx="1511280" cy="993600"/>
          </a:xfrm>
        </p:grpSpPr>
        <p:pic>
          <p:nvPicPr>
            <p:cNvPr id="110" name="云形 7" descr=""/>
            <p:cNvPicPr/>
            <p:nvPr/>
          </p:nvPicPr>
          <p:blipFill>
            <a:blip r:embed="rId1"/>
            <a:stretch/>
          </p:blipFill>
          <p:spPr>
            <a:xfrm>
              <a:off x="5638680" y="2571840"/>
              <a:ext cx="15112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78960" y="2801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夸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2:31:44Z</dcterms:modified>
  <cp:revision>4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