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5.jpeg" ContentType="image/jpeg"/>
  <Override PartName="/ppt/media/image21.jpeg" ContentType="image/jpeg"/>
  <Override PartName="/ppt/media/image26.jpeg" ContentType="image/jpeg"/>
  <Override PartName="/ppt/media/image5.jpeg" ContentType="image/jpeg"/>
  <Override PartName="/ppt/media/image7.jpeg" ContentType="image/jpeg"/>
  <Override PartName="/ppt/media/image28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20.jpeg" ContentType="image/jpeg"/>
  <Override PartName="/ppt/media/image31.jpeg" ContentType="image/jpeg"/>
  <Override PartName="/ppt/media/image6.jpeg" ContentType="image/jpeg"/>
  <Override PartName="/ppt/media/image27.jpeg" ContentType="image/jpeg"/>
  <Override PartName="/ppt/media/image4.gif" ContentType="image/gif"/>
  <Override PartName="/ppt/media/image22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3DF8-3AB8-4428-8F83-6E9C81FC860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1F4-A0E6-4080-8FC1-FD550E02B72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40F3-A032-45F9-A2CA-EB079762FA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FB11-F4FC-41DC-A3E4-C7690EFA9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727D-F782-46E8-9476-BE5E24812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875-F6F9-404A-98AA-BD0BCFF7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B6B-5140-465F-9FF6-5D300909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1244-6C18-4A49-8596-BF529FFD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015A-233D-4CCC-AF6D-51A9ECAA8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C7E-73A3-40CF-9DCD-A3CF5AAE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E53A-F587-4153-942F-3E008F7E0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322B5-0EDE-43F7-9018-5DF8E194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28B9D-BD36-4E43-844B-DFF53CD2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7E4F-03DA-4C66-A70F-462A56AD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F9D36-4D4A-480E-B516-05CE2FA7B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46FC9-9AD4-4FAB-BF89-6B7D63181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4638D-DF2F-4B1A-9954-740CA8B02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6997-866B-41D3-8CA9-54EEEF58A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9310-8200-4689-BAFB-63451CD6F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FAE9-AD1D-4CF0-8093-2F54AE628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335AD-2F57-417C-8AB9-FBE760CE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37215-02ED-401D-AFF1-8FF7C98A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88B1-ED0A-4153-A104-D427954A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5333A-5CA1-4CA9-BE7E-525E8FB6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AC0A3-4496-4BB8-887F-16BB227EA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E817-C2A9-4A17-BED6-052BD56C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CED18-C67B-42CA-B0E2-E70271744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BE90C-1DF1-4FCE-BC4D-8F403642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CB8CA-2A6C-4FF8-9058-6E1EFB9A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8DF30-7022-494F-A801-ACBABE55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CB9B-9589-4BFE-903F-8270E9C6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FC7D0-A695-4FFF-814E-0FEBA888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DD93CF-F1F2-4BB9-8FD7-718CF045D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F76E2-A9D0-4E04-9EB2-53268F32B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0356B-87C1-40F5-B8A0-79E93A777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DCB48-44FF-4295-BE0F-63CC7D27B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336-C78A-47EE-85DA-FF6BE7C17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FF23C-1CF8-48ED-8308-627069D8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66B78-A659-496F-BC58-62F099BD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BE71-2D31-42EF-8914-67DC88D03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B3AA4-F7F6-4B02-B0CF-6D74522E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F880B-79B4-4902-9F26-8DDA64AC1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DC4B8-FF9E-4A68-A455-39B6CC07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BB4A-70F6-4110-8C2E-422169CB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8C3D3-5047-465E-9B0A-633328987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390BB-69EB-46CF-AD2C-726FE24C1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74D-2F6E-4396-A6C0-056BD0AE7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CCE-C244-4ECF-AF5D-393BD348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E1BB-4CCD-4958-A961-57BD79F4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B027-23EC-40FA-82F1-DB28A82A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B3CB-32DA-4A31-AB95-AA591B730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D187-81F3-4551-BFF1-3B4C891E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DC71B-49C8-4724-BFF1-CBC33E17278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827B0-5AA0-4AC1-907D-4BA084EBA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02DE-DD19-4D65-AA25-CF4047C95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../22_clip(1)(2).mp4" TargetMode="External"/><Relationship Id="rId3" Type="http://schemas.openxmlformats.org/officeDocument/2006/relationships/hyperlink" Target="file:///../22_clip(1)(2).mp4" TargetMode="External"/><Relationship Id="rId4" Type="http://schemas.openxmlformats.org/officeDocument/2006/relationships/hyperlink" Target="file:///../22_clip(1)(2).mp4" TargetMode="External"/><Relationship Id="rId5" Type="http://schemas.openxmlformats.org/officeDocument/2006/relationships/hyperlink" Target="file:///../22_clip(1)(2).mp4" TargetMode="External"/><Relationship Id="rId6" Type="http://schemas.openxmlformats.org/officeDocument/2006/relationships/image" Target="../media/image17.jpe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36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小斗士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>
            <a:hlinkClick r:id="rId2" action="ppaction://hlinksldjump"/>
          </p:cNvPr>
          <p:cNvSpPr/>
          <p:nvPr/>
        </p:nvSpPr>
        <p:spPr>
          <a:xfrm>
            <a:off x="539640" y="399060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轩然大波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高高涌起的波涛，比喻大纠纷、大风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3635280" y="3186720"/>
            <a:ext cx="53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恩科西去世，引起了世界上许多人的关注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恩科西一出生就携带艾滋病病毒，由此受到岐视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恩科西顽强地与病魔作斗争，并关心和他一样患病的儿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恩科西为人们面对天灾作出了榜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1436040" y="82224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将课文按以下段意分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79280" y="1472760"/>
            <a:ext cx="33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第一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71280" y="2855880"/>
            <a:ext cx="35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第二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2~4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"/>
          <p:cNvSpPr/>
          <p:nvPr/>
        </p:nvSpPr>
        <p:spPr>
          <a:xfrm>
            <a:off x="592200" y="4428720"/>
            <a:ext cx="252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第三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5~7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580320" y="5808600"/>
            <a:ext cx="266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第四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（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9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自然段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AutoShape 2"/>
          <p:cNvSpPr/>
          <p:nvPr/>
        </p:nvSpPr>
        <p:spPr>
          <a:xfrm>
            <a:off x="324000" y="3860640"/>
            <a:ext cx="8569080" cy="2376720"/>
          </a:xfrm>
          <a:prstGeom prst="roundRect">
            <a:avLst>
              <a:gd name="adj" fmla="val 16667"/>
            </a:avLst>
          </a:prstGeom>
          <a:solidFill>
            <a:srgbClr val="ff99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539640" y="3933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课文讲述了一位南非黑人男孩恩科西身患艾滋病，坦然面对生活，一边顽强与病魔作斗争，一边关心其他艾滋病患者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118158718880787"/>
          <p:cNvPicPr/>
          <p:nvPr/>
        </p:nvPicPr>
        <p:blipFill>
          <a:blip r:embed="rId2"/>
          <a:stretch/>
        </p:blipFill>
        <p:spPr>
          <a:xfrm>
            <a:off x="250920" y="126828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5"/>
          <p:cNvSpPr/>
          <p:nvPr/>
        </p:nvSpPr>
        <p:spPr>
          <a:xfrm>
            <a:off x="828720" y="4762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556000" y="160956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这篇课文主要讲了谁的什么动人事迹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2"/>
          <p:cNvSpPr/>
          <p:nvPr/>
        </p:nvSpPr>
        <p:spPr>
          <a:xfrm>
            <a:off x="1196640" y="16304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3284280" y="16304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295600" y="16304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龄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7167240" y="16304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遭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96640" y="37242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虚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3279240" y="3718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魔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5228640" y="371808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曾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9"/>
          <p:cNvSpPr/>
          <p:nvPr/>
        </p:nvSpPr>
        <p:spPr>
          <a:xfrm>
            <a:off x="6948360" y="3724200"/>
            <a:ext cx="1295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孕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"/>
          <p:cNvSpPr/>
          <p:nvPr/>
        </p:nvSpPr>
        <p:spPr>
          <a:xfrm>
            <a:off x="1619280" y="1843200"/>
            <a:ext cx="7056360" cy="41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下列菜单中选择其中两项完成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必选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摘抄本课精彩片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默写本课好词佳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选做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课文配一段音乐，进行配乐朗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向他人讲恩科西的故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搜集有关艾滋病的知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为自己设计其他创意作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1028880" y="8366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超市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48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篇课文主要讲了什么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2982960"/>
            <a:ext cx="9612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根据所给的词语提示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说说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艾滋病 恩科西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悲观消沉 坦然 病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不是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而是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边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r>
              <a:rPr b="1" lang="zh-CN" sz="4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一边</a:t>
            </a:r>
            <a:r>
              <a:rPr b="1" lang="en-US" sz="48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图片3"/>
          <p:cNvPicPr/>
          <p:nvPr/>
        </p:nvPicPr>
        <p:blipFill>
          <a:blip r:embed="rId2"/>
          <a:stretch/>
        </p:blipFill>
        <p:spPr>
          <a:xfrm>
            <a:off x="1114560" y="1268280"/>
            <a:ext cx="6627600" cy="5473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图片2"/>
          <p:cNvPicPr/>
          <p:nvPr/>
        </p:nvPicPr>
        <p:blipFill>
          <a:blip r:embed="rId3"/>
          <a:stretch/>
        </p:blipFill>
        <p:spPr>
          <a:xfrm>
            <a:off x="1042920" y="1268280"/>
            <a:ext cx="6624720" cy="5473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图片7"/>
          <p:cNvPicPr/>
          <p:nvPr/>
        </p:nvPicPr>
        <p:blipFill>
          <a:blip r:embed="rId4"/>
          <a:stretch/>
        </p:blipFill>
        <p:spPr>
          <a:xfrm>
            <a:off x="2266920" y="1550880"/>
            <a:ext cx="4286160" cy="5191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图片6"/>
          <p:cNvPicPr/>
          <p:nvPr/>
        </p:nvPicPr>
        <p:blipFill>
          <a:blip r:embed="rId5"/>
          <a:stretch/>
        </p:blipFill>
        <p:spPr>
          <a:xfrm>
            <a:off x="1690560" y="1550880"/>
            <a:ext cx="5546880" cy="51912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图片5"/>
          <p:cNvPicPr/>
          <p:nvPr/>
        </p:nvPicPr>
        <p:blipFill>
          <a:blip r:embed="rId6"/>
          <a:stretch/>
        </p:blipFill>
        <p:spPr>
          <a:xfrm>
            <a:off x="1474920" y="1125360"/>
            <a:ext cx="5545080" cy="5429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图片4"/>
          <p:cNvPicPr/>
          <p:nvPr/>
        </p:nvPicPr>
        <p:blipFill>
          <a:blip r:embed="rId7"/>
          <a:stretch/>
        </p:blipFill>
        <p:spPr>
          <a:xfrm>
            <a:off x="1762200" y="1755720"/>
            <a:ext cx="5546520" cy="47721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8" descr="图片1"/>
          <p:cNvPicPr/>
          <p:nvPr/>
        </p:nvPicPr>
        <p:blipFill>
          <a:blip r:embed="rId8"/>
          <a:stretch/>
        </p:blipFill>
        <p:spPr>
          <a:xfrm>
            <a:off x="1042920" y="1268280"/>
            <a:ext cx="6769080" cy="5473800"/>
          </a:xfrm>
          <a:prstGeom prst="rect">
            <a:avLst/>
          </a:prstGeom>
          <a:ln w="0">
            <a:noFill/>
          </a:ln>
        </p:spPr>
      </p:pic>
      <p:pic>
        <p:nvPicPr>
          <p:cNvPr id="222" name="金枝欲孽咏叹调.mp3" descr=""/>
          <p:cNvPicPr/>
          <p:nvPr/>
        </p:nvPicPr>
        <p:blipFill>
          <a:blip r:embed="rId9"/>
          <a:stretch/>
        </p:blipFill>
        <p:spPr>
          <a:xfrm>
            <a:off x="8388360" y="3645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10"/>
          <p:cNvSpPr/>
          <p:nvPr/>
        </p:nvSpPr>
        <p:spPr>
          <a:xfrm>
            <a:off x="8244000" y="357336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播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1"/>
          <p:cNvSpPr/>
          <p:nvPr/>
        </p:nvSpPr>
        <p:spPr>
          <a:xfrm>
            <a:off x="8244000" y="4437000"/>
            <a:ext cx="576000" cy="433440"/>
          </a:xfrm>
          <a:custGeom>
            <a:avLst/>
            <a:gdLst>
              <a:gd name="textAreaLeft" fmla="*/ 28080 w 576000"/>
              <a:gd name="textAreaRight" fmla="*/ 547920 w 5760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8698" h="21600">
                <a:moveTo>
                  <a:pt x="0" y="0"/>
                </a:moveTo>
                <a:lnTo>
                  <a:pt x="28698" y="0"/>
                </a:lnTo>
                <a:lnTo>
                  <a:pt x="28698" y="21600"/>
                </a:lnTo>
                <a:lnTo>
                  <a:pt x="0" y="21600"/>
                </a:lnTo>
                <a:close/>
              </a:path>
              <a:path fill="lightenLess" w="28698" h="21600">
                <a:moveTo>
                  <a:pt x="0" y="0"/>
                </a:moveTo>
                <a:lnTo>
                  <a:pt x="28698" y="0"/>
                </a:lnTo>
                <a:lnTo>
                  <a:pt x="27298" y="1400"/>
                </a:lnTo>
                <a:lnTo>
                  <a:pt x="1400" y="1400"/>
                </a:lnTo>
                <a:close/>
              </a:path>
              <a:path fill="darken" w="28698" h="21600">
                <a:moveTo>
                  <a:pt x="28698" y="0"/>
                </a:moveTo>
                <a:lnTo>
                  <a:pt x="28698" y="21600"/>
                </a:lnTo>
                <a:lnTo>
                  <a:pt x="27298" y="20200"/>
                </a:lnTo>
                <a:lnTo>
                  <a:pt x="27298" y="1400"/>
                </a:lnTo>
                <a:close/>
              </a:path>
              <a:path fill="darkenLess" w="28698" h="21600">
                <a:moveTo>
                  <a:pt x="286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298" y="20200"/>
                </a:lnTo>
                <a:close/>
              </a:path>
              <a:path fill="lighten" w="286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暂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45.0)">
                                      <p:cBhvr>
                                        <p:cTn id="184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86" dur="5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0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4" dur="5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7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198" dur="5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1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2" dur="5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05" nodeType="afterEffect" fill="hold" presetClass="exit" presetID="6" presetSubtype="16">
                                  <p:stCondLst>
                                    <p:cond delay="10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06" dur="5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209" nodeType="clickEffect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2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-324360" y="1125000"/>
            <a:ext cx="96123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本文的主人公不是伟人而是一位普通的黑人小孩。一提到黑人，往往会和种族歧视联系起来。不仅如此，这位黑人小朋友还是一位艾滋病人。艾滋病被称为“超级癌症”和“世纪杀手”，病死率几乎是百分之百。由于人们对这种疾病的恐慌和其传播途径的不了解，因而造成对艾滋病人的极度歧视甚至是仇视。这双重的歧视压在这位主人公身上，他的悲惨命运似乎已经难以改变了。可事实恰恰相反。这位命运悲惨的黑人小孩竟然引起了全世界的关注，被誉为“艾滋病小斗士”。这一点在第一小节通过联合国秘书长安南的讲话明确地被指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17171"/>
                </a:solidFill>
                <a:latin typeface="Arial"/>
              </a:rPr>
              <a:t>默读课文思考；说说为什么称恩科西是“艾滋病小斗士”？</a:t>
            </a:r>
            <a:r>
              <a:rPr b="0" lang="en-US" sz="4800" spc="-1" strike="noStrike">
                <a:solidFill>
                  <a:srgbClr val="717171"/>
                </a:solidFill>
                <a:latin typeface="Arial"/>
              </a:rPr>
              <a:t>[</a:t>
            </a:r>
            <a:r>
              <a:rPr b="0" lang="zh-CN" sz="4800" spc="-1" strike="noStrike">
                <a:solidFill>
                  <a:srgbClr val="717171"/>
                </a:solidFill>
                <a:latin typeface="Arial"/>
              </a:rPr>
              <a:t>要求；找出有关语句，画上“</a:t>
            </a:r>
            <a:r>
              <a:rPr b="0" lang="en-US" sz="4800" spc="-1" strike="noStrike">
                <a:solidFill>
                  <a:srgbClr val="717171"/>
                </a:solidFill>
                <a:latin typeface="Arial"/>
              </a:rPr>
              <a:t>----”</a:t>
            </a:r>
            <a:r>
              <a:rPr b="0" lang="zh-CN" sz="4800" spc="-1" strike="noStrike">
                <a:solidFill>
                  <a:srgbClr val="717171"/>
                </a:solidFill>
                <a:latin typeface="Arial"/>
              </a:rPr>
              <a:t>在最能反映他是“小斗士”的关键词下面画</a:t>
            </a:r>
            <a:r>
              <a:rPr b="0" lang="zh-CN" sz="4800" spc="-1" strike="noStrike">
                <a:solidFill>
                  <a:srgbClr val="717171"/>
                </a:solidFill>
                <a:latin typeface="Arial"/>
              </a:rPr>
              <a:t>**</a:t>
            </a:r>
            <a:r>
              <a:rPr b="0" lang="en-US" sz="4800" spc="-1" strike="noStrike">
                <a:solidFill>
                  <a:srgbClr val="717171"/>
                </a:solidFill>
                <a:latin typeface="Arial"/>
              </a:rPr>
              <a:t>,</a:t>
            </a:r>
            <a:r>
              <a:rPr b="0" lang="zh-CN" sz="4800" spc="-1" strike="noStrike">
                <a:solidFill>
                  <a:srgbClr val="717171"/>
                </a:solidFill>
                <a:latin typeface="Arial"/>
              </a:rPr>
              <a:t>并在旁边写上你的感受。</a:t>
            </a:r>
            <a:r>
              <a:rPr b="0" lang="en-US" sz="4800" spc="-1" strike="noStrike">
                <a:solidFill>
                  <a:srgbClr val="717171"/>
                </a:solidFill>
                <a:latin typeface="Arial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95280" y="184464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在南非，   都有　       携带艾滋病病毒的婴儿降生，这些孩子中有        活不到自己的      生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3708360" y="1844640"/>
            <a:ext cx="144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每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6156360" y="184464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近</a:t>
            </a:r>
            <a:r>
              <a:rPr b="0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200</a:t>
            </a:r>
            <a:r>
              <a:rPr b="0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5"/>
          <p:cNvSpPr/>
          <p:nvPr/>
        </p:nvSpPr>
        <p:spPr>
          <a:xfrm>
            <a:off x="3759120" y="338040"/>
            <a:ext cx="369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2268360" y="4005360"/>
            <a:ext cx="208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第二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4067280" y="3357720"/>
            <a:ext cx="26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四分之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8874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611280" y="2660760"/>
            <a:ext cx="83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艾滋病是获得性免疫缺陷综合症，通俗地讲，艾滋病就是人体的免疫系统被艾滋病病毒破坏，使人体对威胁生命的各种病原体丧失了抵抗能力，从而发生多种感染或肿瘤，病人因体力消耗而极度虚弱、衰竭，呈恶病质状态，从而导致死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1332000" y="179532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了解艾滋病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slow" advTm="6000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2133720"/>
            <a:ext cx="87850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他           到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684360" y="2421000"/>
            <a:ext cx="143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竟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979640" y="242100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一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3276720" y="2421000"/>
            <a:ext cx="71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5219640" y="2492280"/>
            <a:ext cx="334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上学的年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8509680" y="249228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2916360" y="3500280"/>
            <a:ext cx="1439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熬</a:t>
            </a:r>
            <a:r>
              <a:rPr b="1" lang="zh-CN" sz="4400" spc="-1" strike="noStrike">
                <a:solidFill>
                  <a:srgbClr val="bbe0e3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坚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222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229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51,-1)"/>
                                      </p:to>
                                    </p:set>
                                    <p:set>
                                      <p:cBhvr>
                                        <p:cTn id="2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5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4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243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48" nodeType="clickEffect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恩科西遭遇到怎样的不幸呢？自读课文的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然段，划出有关的语句。并说一说你的感受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29052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NewsMedia_111405"/>
          <p:cNvPicPr/>
          <p:nvPr/>
        </p:nvPicPr>
        <p:blipFill>
          <a:blip r:embed="rId2"/>
          <a:stretch/>
        </p:blipFill>
        <p:spPr>
          <a:xfrm>
            <a:off x="144360" y="987480"/>
            <a:ext cx="3059280" cy="27813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1-1-270189_060602"/>
          <p:cNvPicPr/>
          <p:nvPr/>
        </p:nvPicPr>
        <p:blipFill>
          <a:blip r:embed="rId3"/>
          <a:stretch/>
        </p:blipFill>
        <p:spPr>
          <a:xfrm>
            <a:off x="108000" y="3868560"/>
            <a:ext cx="3168720" cy="288144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3419640" y="1111320"/>
            <a:ext cx="54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恩科西是一个黑人男孩。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8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恩科西一出生就携带艾滋病病毒，不久母亲又被艾滋病夺去了生命，仁慈的白人妇女基尔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·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约翰逊收养了他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71280" y="1484280"/>
            <a:ext cx="914400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在南非，每天都有近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名携带艾滋病病毒的婴儿降生，这些孩子中有四分之一活不到自己的第二个生日。小恩科西的生命力也许是南非所有患艾滋病的孩子中最强的，他竟然一直挺到了上学的年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41360" y="4840200"/>
            <a:ext cx="20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竟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2386080" y="4840200"/>
            <a:ext cx="209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54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24000" y="19162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12000" spc="-1" strike="noStrike">
                <a:solidFill>
                  <a:srgbClr val="000000"/>
                </a:solidFill>
                <a:latin typeface="Arial"/>
                <a:ea typeface="黑体"/>
              </a:rPr>
              <a:t>不幸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179280" y="1424160"/>
            <a:ext cx="874872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那年，当养母带着恩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西到一家小学报名上学时，遭到全校大多数老师、学生和家长的反对，还在当地引起了一场轩然大波。后来，由于媒体的干预以及养母的不懈努力，小恩科西才得以背上书包去上学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6851520" y="3332160"/>
            <a:ext cx="20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轩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125280" y="3917880"/>
            <a:ext cx="20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大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6"/>
          <p:cNvSpPr/>
          <p:nvPr/>
        </p:nvSpPr>
        <p:spPr>
          <a:xfrm>
            <a:off x="127080" y="5146560"/>
            <a:ext cx="209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得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7"/>
          <p:cNvSpPr/>
          <p:nvPr/>
        </p:nvSpPr>
        <p:spPr>
          <a:xfrm>
            <a:off x="2638440" y="453564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懈努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270" nodeType="clickEffect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275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280" nodeType="clickEffect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Text Box 2"/>
          <p:cNvSpPr/>
          <p:nvPr/>
        </p:nvSpPr>
        <p:spPr>
          <a:xfrm>
            <a:off x="468360" y="1484280"/>
            <a:ext cx="9432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0" y="7192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话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养母带着恩科西到一家小学报名上学时，全校的大多数老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恩科西好不容易走进课堂的时候，大多数的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当恩科西第二天准备继续上学的时候，得知恩科西是一名艾滋病患者，家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6084720" y="2492280"/>
            <a:ext cx="2698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8"/>
          <p:cNvSpPr/>
          <p:nvPr/>
        </p:nvSpPr>
        <p:spPr>
          <a:xfrm>
            <a:off x="3240000" y="4292640"/>
            <a:ext cx="543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611280" y="6093000"/>
            <a:ext cx="8172360" cy="7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179280" y="3068640"/>
            <a:ext cx="7561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2050920" y="2276640"/>
            <a:ext cx="554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99ff"/>
                </a:solidFill>
                <a:latin typeface="Arial"/>
              </a:rPr>
              <a:t>轩然大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08000" y="1284120"/>
            <a:ext cx="9144000" cy="51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恩科西的身体非常虚弱，随时可能死去。他得知自己的病情后，不是悲观消沉，而是开始学习怎样坦然地面对生活，面对可怕的艾滋病。他一边顽强地与病魔作斗争，一边关心和他一样患病的儿童。他曾经应邀到美国出席艾滋病研讨会，用纤弱的声音不断向世界呼吁：要接受和爱护艾滋病人，尤其要关心患病的妇女和儿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6632640" y="1790640"/>
            <a:ext cx="20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2043000" y="2349360"/>
            <a:ext cx="20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而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7135920" y="2900520"/>
            <a:ext cx="20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5094360" y="3443400"/>
            <a:ext cx="209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286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0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91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96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0" y="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87280" y="620640"/>
            <a:ext cx="4716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曾经应邀到美国出席艾滋病研讨会，用纤弱的声音不断向世界呼吁：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287280" y="3429000"/>
            <a:ext cx="51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接受和爱护艾滋病人，尤其要关心患病的妇女和儿童。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xinsrc_e46eafd2fec111d5912d00105cad82d2"/>
          <p:cNvPicPr/>
          <p:nvPr/>
        </p:nvPicPr>
        <p:blipFill>
          <a:blip r:embed="rId2"/>
          <a:stretch/>
        </p:blipFill>
        <p:spPr>
          <a:xfrm>
            <a:off x="5884920" y="549360"/>
            <a:ext cx="3106800" cy="50403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2135160" y="1960560"/>
            <a:ext cx="20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纤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457200" y="2625840"/>
            <a:ext cx="209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不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290520" y="3429000"/>
            <a:ext cx="47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要接受和爱护艾滋病人，尤其要关心患病的妇女和儿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u"/>
  </p:transition>
  <p:timing>
    <p:tnLst>
      <p:par>
        <p:cTn id="305" dur="indefinite" restart="never" nodeType="tmRoot">
          <p:childTnLst>
            <p:seq>
              <p:cTn id="306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307" nodeType="clickEffect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AutoShape 2"/>
          <p:cNvSpPr/>
          <p:nvPr/>
        </p:nvSpPr>
        <p:spPr>
          <a:xfrm>
            <a:off x="3267000" y="3860640"/>
            <a:ext cx="5867640" cy="936720"/>
          </a:xfrm>
          <a:prstGeom prst="roundRect">
            <a:avLst>
              <a:gd name="adj" fmla="val 16667"/>
            </a:avLst>
          </a:prstGeom>
          <a:solidFill>
            <a:srgbClr val="ffff99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3492000" y="128916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什么是斗士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0" y="60958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他们是值得称赞的，是令人敬佩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581720" y="335772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那，小斗士是什么意思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-319320" y="1700280"/>
            <a:ext cx="698796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3300"/>
                </a:solidFill>
                <a:latin typeface="Arial"/>
                <a:ea typeface="黑体"/>
              </a:rPr>
              <a:t>         </a:t>
            </a:r>
            <a:r>
              <a:rPr b="1" lang="zh-CN" sz="12000" spc="-1" strike="noStrike">
                <a:solidFill>
                  <a:srgbClr val="ff3300"/>
                </a:solidFill>
                <a:latin typeface="Arial"/>
                <a:ea typeface="黑体"/>
              </a:rPr>
              <a:t>斗士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2"/>
          <p:cNvSpPr/>
          <p:nvPr/>
        </p:nvSpPr>
        <p:spPr>
          <a:xfrm>
            <a:off x="0" y="66204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250920" y="1498680"/>
            <a:ext cx="208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322200" y="236376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希望政府向携带艾滋病病毒的孕妇提供艾滋病药物，使她们不再把病毒传染给自己的孩子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xinsrc_e46eafd2fec111d5912d00105cad82d2"/>
          <p:cNvPicPr/>
          <p:nvPr/>
        </p:nvPicPr>
        <p:blipFill>
          <a:blip r:embed="rId2"/>
          <a:stretch/>
        </p:blipFill>
        <p:spPr>
          <a:xfrm>
            <a:off x="5910120" y="1498680"/>
            <a:ext cx="31068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0" y="107964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250920" y="191628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还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22200" y="2781360"/>
            <a:ext cx="53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们不应该对艾滋病人另眼相看，我们需要关爱，拥抱艾滋病儿童是不会被传染的。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5" descr="xinsrc_e46eafd2fec111d5912d00105cad82d2"/>
          <p:cNvPicPr/>
          <p:nvPr/>
        </p:nvPicPr>
        <p:blipFill>
          <a:blip r:embed="rId2"/>
          <a:stretch/>
        </p:blipFill>
        <p:spPr>
          <a:xfrm>
            <a:off x="5884920" y="1628640"/>
            <a:ext cx="31068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39640" y="3465360"/>
            <a:ext cx="8388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等我长大了，我要成为一名艾滋病问题专家，周游世界，到各国演讲，让越来越多的人了解艾滋病，关心艾滋病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108000" y="105264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1-1-270189_060602"/>
          <p:cNvPicPr/>
          <p:nvPr/>
        </p:nvPicPr>
        <p:blipFill>
          <a:blip r:embed="rId2"/>
          <a:stretch/>
        </p:blipFill>
        <p:spPr>
          <a:xfrm>
            <a:off x="2987640" y="907920"/>
            <a:ext cx="2736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61520" y="1149120"/>
            <a:ext cx="7278840" cy="5708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等我长大了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我要成为一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艾滋病问题专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周游世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到各国演讲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让越来越多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了解艾滋病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关心艾滋病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smhy.mp3" descr=""/>
          <p:cNvPicPr/>
          <p:nvPr/>
        </p:nvPicPr>
        <p:blipFill>
          <a:blip r:embed="rId2"/>
          <a:stretch/>
        </p:blipFill>
        <p:spPr>
          <a:xfrm>
            <a:off x="6732720" y="501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215625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36360" y="1484280"/>
            <a:ext cx="91440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要接受和爱护艾滋病人，尤其要关心患病的妇女和儿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希望政府向携带艾滋病病毒的孕妇提供艾滋病药物，使她们不再把病毒传染给自己的孩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人们不应该对艾滋病人另眼相看，我们需要关爱，拥抱艾滋病儿童是不会被传染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等我长大了，我要成为一名艾滋病问题专家，周游世界，到各国演讲，让越来越多的人了解艾滋病，关心艾滋病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2274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南非前总统曼德拉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痛切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说：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一条年轻的生命离我们去了，一个人究竟该如何面对天灾，恩科西就是榜样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0" y="4370400"/>
            <a:ext cx="93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联合国秘书长安南感叹：人类与艾滋病斗争失去了一个勇敢的声音，世界失去了一位同艾滋病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顽强抗争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小斗士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-9360" y="80964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8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5" descr="69~OVWY~(X}EM7C2IZ4(8QG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1187280" y="981000"/>
            <a:ext cx="7129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3"/>
          <p:cNvSpPr/>
          <p:nvPr/>
        </p:nvSpPr>
        <p:spPr>
          <a:xfrm>
            <a:off x="0" y="1679400"/>
            <a:ext cx="4141800" cy="53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苦难降临的时候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逃避    畏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解决不了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只有坦然面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死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只要有意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就可以少一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遗憾和伤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20067622241970754.mp3" descr=""/>
          <p:cNvPicPr/>
          <p:nvPr/>
        </p:nvPicPr>
        <p:blipFill>
          <a:blip r:embed="rId2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5"/>
          <p:cNvSpPr/>
          <p:nvPr/>
        </p:nvSpPr>
        <p:spPr>
          <a:xfrm>
            <a:off x="4070520" y="1038240"/>
            <a:ext cx="4932360" cy="56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的生命是短暂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但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确像一座丰碑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许多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会因为它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幸福一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样的人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有价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6"/>
          <p:cNvSpPr/>
          <p:nvPr/>
        </p:nvSpPr>
        <p:spPr>
          <a:xfrm>
            <a:off x="0" y="779400"/>
            <a:ext cx="26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艾滋病小斗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0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8" dur="247382" fill="hold"/>
                                        <p:tgtEl>
                                          <p:spTgt spid="2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12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月</a:t>
            </a: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1</a:t>
            </a: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日      红丝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红丝带"/>
          <p:cNvPicPr/>
          <p:nvPr/>
        </p:nvPicPr>
        <p:blipFill>
          <a:blip r:embed="rId6"/>
          <a:stretch/>
        </p:blipFill>
        <p:spPr>
          <a:xfrm>
            <a:off x="468360" y="2133720"/>
            <a:ext cx="8055000" cy="4454280"/>
          </a:xfrm>
          <a:prstGeom prst="rect">
            <a:avLst/>
          </a:prstGeom>
          <a:ln w="0">
            <a:noFill/>
          </a:ln>
        </p:spPr>
      </p:pic>
      <p:pic>
        <p:nvPicPr>
          <p:cNvPr id="299" name="hsdjyzg.mp3" descr=""/>
          <p:cNvPicPr/>
          <p:nvPr/>
        </p:nvPicPr>
        <p:blipFill>
          <a:blip r:embed="rId7"/>
          <a:stretch/>
        </p:blipFill>
        <p:spPr>
          <a:xfrm>
            <a:off x="8028000" y="55166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1.0)">
                                      <p:cBhvr>
                                        <p:cTn id="354" dur="1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15">
            <a:hlinkClick r:id="" action="ppaction://hlinkshowjump?jump=nextslide"/>
          </p:cNvPr>
          <p:cNvPicPr/>
          <p:nvPr/>
        </p:nvPicPr>
        <p:blipFill>
          <a:blip r:embed="rId2"/>
          <a:srcRect l="0" t="0" r="0" b="6887"/>
          <a:stretch/>
        </p:blipFill>
        <p:spPr>
          <a:xfrm>
            <a:off x="7920" y="1413000"/>
            <a:ext cx="9144000" cy="54514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plus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F2003120205094107610"/>
          <p:cNvPicPr/>
          <p:nvPr/>
        </p:nvPicPr>
        <p:blipFill>
          <a:blip r:embed="rId2"/>
          <a:stretch/>
        </p:blipFill>
        <p:spPr>
          <a:xfrm>
            <a:off x="4259160" y="3417840"/>
            <a:ext cx="4332240" cy="3429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3" descr="Img220971092"/>
          <p:cNvPicPr/>
          <p:nvPr/>
        </p:nvPicPr>
        <p:blipFill>
          <a:blip r:embed="rId3"/>
          <a:stretch/>
        </p:blipFill>
        <p:spPr>
          <a:xfrm>
            <a:off x="7920" y="878040"/>
            <a:ext cx="3384720" cy="25398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4" descr="57164"/>
          <p:cNvPicPr/>
          <p:nvPr/>
        </p:nvPicPr>
        <p:blipFill>
          <a:blip r:embed="rId4"/>
          <a:stretch/>
        </p:blipFill>
        <p:spPr>
          <a:xfrm>
            <a:off x="3492360" y="880920"/>
            <a:ext cx="3454560" cy="26114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126720"/>
          <p:cNvPicPr/>
          <p:nvPr/>
        </p:nvPicPr>
        <p:blipFill>
          <a:blip r:embed="rId5"/>
          <a:stretch/>
        </p:blipFill>
        <p:spPr>
          <a:xfrm>
            <a:off x="7920" y="3429000"/>
            <a:ext cx="4251240" cy="342900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W020070629501205210460"/>
          <p:cNvPicPr/>
          <p:nvPr/>
        </p:nvPicPr>
        <p:blipFill>
          <a:blip r:embed="rId2"/>
          <a:stretch/>
        </p:blipFill>
        <p:spPr>
          <a:xfrm>
            <a:off x="3745080" y="3933720"/>
            <a:ext cx="3639960" cy="288000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cx"/>
          <p:cNvPicPr/>
          <p:nvPr/>
        </p:nvPicPr>
        <p:blipFill>
          <a:blip r:embed="rId3"/>
          <a:stretch/>
        </p:blipFill>
        <p:spPr>
          <a:xfrm>
            <a:off x="324000" y="1600200"/>
            <a:ext cx="3421080" cy="23194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00048390"/>
          <p:cNvPicPr/>
          <p:nvPr/>
        </p:nvPicPr>
        <p:blipFill>
          <a:blip r:embed="rId4"/>
          <a:stretch/>
        </p:blipFill>
        <p:spPr>
          <a:xfrm>
            <a:off x="324000" y="3933720"/>
            <a:ext cx="3421080" cy="28242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58c88b543efdf1153a293501"/>
          <p:cNvPicPr/>
          <p:nvPr/>
        </p:nvPicPr>
        <p:blipFill>
          <a:blip r:embed="rId5"/>
          <a:stretch/>
        </p:blipFill>
        <p:spPr>
          <a:xfrm>
            <a:off x="3745080" y="1600200"/>
            <a:ext cx="3636720" cy="2333520"/>
          </a:xfrm>
          <a:prstGeom prst="rect">
            <a:avLst/>
          </a:prstGeom>
          <a:ln w="0">
            <a:noFill/>
          </a:ln>
        </p:spPr>
      </p:pic>
    </p:spTree>
  </p:cSld>
  <p:transition spd="med" advTm="4000">
    <p:push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xin_31110130085534111521"/>
          <p:cNvPicPr/>
          <p:nvPr/>
        </p:nvPicPr>
        <p:blipFill>
          <a:blip r:embed="rId2"/>
          <a:stretch/>
        </p:blipFill>
        <p:spPr>
          <a:xfrm>
            <a:off x="0" y="1628640"/>
            <a:ext cx="3618000" cy="2424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3" descr="xin_331101300855725180723"/>
          <p:cNvPicPr/>
          <p:nvPr/>
        </p:nvPicPr>
        <p:blipFill>
          <a:blip r:embed="rId3"/>
          <a:stretch/>
        </p:blipFill>
        <p:spPr>
          <a:xfrm>
            <a:off x="3448080" y="4052880"/>
            <a:ext cx="4226040" cy="28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4" descr="DSC_0030_z"/>
          <p:cNvPicPr/>
          <p:nvPr/>
        </p:nvPicPr>
        <p:blipFill>
          <a:blip r:embed="rId4"/>
          <a:stretch/>
        </p:blipFill>
        <p:spPr>
          <a:xfrm>
            <a:off x="0" y="4052880"/>
            <a:ext cx="3448080" cy="28051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sywl050721-3"/>
          <p:cNvPicPr/>
          <p:nvPr/>
        </p:nvPicPr>
        <p:blipFill>
          <a:blip r:embed="rId5"/>
          <a:stretch/>
        </p:blipFill>
        <p:spPr>
          <a:xfrm>
            <a:off x="3618000" y="1628640"/>
            <a:ext cx="3833640" cy="2424240"/>
          </a:xfrm>
          <a:prstGeom prst="rect">
            <a:avLst/>
          </a:prstGeom>
          <a:ln w="0">
            <a:noFill/>
          </a:ln>
        </p:spPr>
      </p:pic>
    </p:spTree>
  </p:cSld>
  <p:transition advTm="3000">
    <p:push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20100811115103136551"/>
          <p:cNvPicPr/>
          <p:nvPr/>
        </p:nvPicPr>
        <p:blipFill>
          <a:blip r:embed="rId2"/>
          <a:stretch/>
        </p:blipFill>
        <p:spPr>
          <a:xfrm>
            <a:off x="252360" y="1413000"/>
            <a:ext cx="8785440" cy="5473440"/>
          </a:xfrm>
          <a:prstGeom prst="rect">
            <a:avLst/>
          </a:prstGeom>
          <a:ln w="0">
            <a:noFill/>
          </a:ln>
        </p:spPr>
      </p:pic>
    </p:spTree>
  </p:cSld>
  <p:transition spd="med">
    <p:push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20100811115103136551"/>
          <p:cNvPicPr/>
          <p:nvPr/>
        </p:nvPicPr>
        <p:blipFill>
          <a:blip r:embed="rId2"/>
          <a:stretch/>
        </p:blipFill>
        <p:spPr>
          <a:xfrm>
            <a:off x="252360" y="1413000"/>
            <a:ext cx="878544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1547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顽强生活的孩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别人着想的孩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爱别人的孩子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  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满梦想的孩子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539640" y="1125000"/>
            <a:ext cx="99475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顽强抗争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艾滋病小斗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珍爱生命           （恩科西）　　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　　　　　　　　　　　　　　　　　　　　　关爱他人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3"/>
          <p:cNvSpPr/>
          <p:nvPr/>
        </p:nvSpPr>
        <p:spPr>
          <a:xfrm>
            <a:off x="3637080" y="1628640"/>
            <a:ext cx="360360" cy="3024360"/>
          </a:xfrm>
          <a:custGeom>
            <a:avLst/>
            <a:gdLst>
              <a:gd name="textAreaLeft" fmla="*/ 0 w 360360"/>
              <a:gd name="textAreaRight" fmla="*/ 129960 w 36036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96156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恩科西为什么被称为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斗士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呢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5200" y="2287080"/>
            <a:ext cx="8939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是凭借着顽强的意志、乐观的人生态度与自身所患的爱滋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二是靠大力宣传勇敢地与人们头脑中忽视、歧视这种疾病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滋病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斗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703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文中的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斗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的是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____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他的死，引起了世界上许多人的关注，这其中有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_____________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___________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为什么称他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艾滋病小斗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宣传口号</a:t>
            </a:r>
            <a:br>
              <a:rPr sz="48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0" y="880560"/>
            <a:ext cx="91440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爱生命，遏制艾滋病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认识艾滋病，预防艾滋病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与艾滋病病人日常生活和工作接触不会感染艾滋病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关心艾滋病病人，预防艾滋病，从我做起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全社会都要关心、帮助和不歧视艾滋病病病人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帮助艾滋病病人和感染者就是帮助我们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5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2411280" y="890640"/>
            <a:ext cx="4273560" cy="5914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checker dir="ver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4" descr="Img240368111"/>
          <p:cNvPicPr/>
          <p:nvPr/>
        </p:nvPicPr>
        <p:blipFill>
          <a:blip r:embed="rId2"/>
          <a:stretch/>
        </p:blipFill>
        <p:spPr>
          <a:xfrm>
            <a:off x="0" y="141300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5"/>
          <p:cNvSpPr/>
          <p:nvPr/>
        </p:nvSpPr>
        <p:spPr>
          <a:xfrm>
            <a:off x="358920" y="1700280"/>
            <a:ext cx="8424720" cy="31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0" lang="en-US" sz="3600" spc="-1" strike="noStrike">
                <a:solidFill>
                  <a:srgbClr val="bbe0e3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作业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向家人讲述恩科西的故事，宣传艾滋病相关知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恩科西，你是我的榜样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为中心写一段话，表达学习课文后的感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72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你们了解艾滋病吗？谁来说一说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获得性免疫缺陷综合症，通俗地讲，艾滋病就是人体的免疫系统被艾滋病病毒破坏，使人体对威胁生命的各种病原体丧失了抵抗能力，从而发生多种感染或肿瘤，病人因体力消耗而极度虚弱、衰竭，呈恶病质状态，从而导致死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539640" y="1868400"/>
            <a:ext cx="82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先自由朗读课文，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通过课文注音、查字典、联系上下文等方法自学生字新词，把课文读通读顺，初步感知课文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8000" y="1483920"/>
            <a:ext cx="8856720" cy="547380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携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仁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慈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遭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到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得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</a:t>
            </a:r>
            <a:r>
              <a:rPr b="1" lang="zh-CN" sz="6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病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魔 孕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妇 天</a:t>
            </a: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灾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婴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儿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轩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然大波 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媒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 呼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懈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努力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艾</a:t>
            </a: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滋病</a:t>
            </a:r>
            <a:r>
              <a:rPr b="1" lang="zh-CN" sz="6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-108000" y="957240"/>
            <a:ext cx="907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xié     rén    zāo     d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-396720" y="2563920"/>
            <a:ext cx="93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mó  yùn       zāi  yīn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-252360" y="3860640"/>
            <a:ext cx="1000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xuān         méi      y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43080" y="5319720"/>
            <a:ext cx="903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xiè       à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2" action="ppaction://hlinksldjump"/>
          </p:cNvPr>
          <p:cNvSpPr/>
          <p:nvPr/>
        </p:nvSpPr>
        <p:spPr>
          <a:xfrm>
            <a:off x="2921760" y="3652200"/>
            <a:ext cx="1652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呼吁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呼求援助、支持、同情等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6T13:16:05Z</dcterms:created>
  <dc:creator/>
  <dc:description/>
  <cp:keywords/>
  <dc:language>en-US</dc:language>
  <cp:lastModifiedBy>China User</cp:lastModifiedBy>
  <dcterms:modified xsi:type="dcterms:W3CDTF">2017-10-26T14:23:38Z</dcterms:modified>
  <cp:revision>34</cp:revision>
  <dc:subject/>
  <dc:title>15艾滋病小斗士</dc:title>
</cp:coreProperties>
</file>