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79F09-E063-4496-A2D7-0599748A63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BD3EE-7CCC-4059-974F-B52507471A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349-9C56-4ABF-BC2F-9A457819C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6B71-BDE7-408D-94EF-64610AE7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E04-FC29-4FB4-9E86-0DB54919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282-0EB2-4E65-ADB2-DBAD1D8B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838-BAF7-4111-83F6-C48D3E32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CB3-298B-4759-ABCC-F9526B1F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C53-D00F-453A-AD28-34C6770F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F57-5F27-4A4F-BC5B-1A324101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A6AD-E166-4D26-8FCF-65D19696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07F-AF0B-45FD-AC38-D519855D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4D9-5E2F-42B2-A0D5-C5D6BEBE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00E-CA62-4A69-AACB-3CA36B91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42A94-8D9D-4F05-81BB-D9C4E44172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2004840" y="2114640"/>
            <a:ext cx="5177160" cy="345096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3107520" y="905040"/>
            <a:ext cx="3040920" cy="1180800"/>
            <a:chOff x="3107520" y="905040"/>
            <a:chExt cx="3040920" cy="1180800"/>
          </a:xfrm>
        </p:grpSpPr>
        <p:sp>
          <p:nvSpPr>
            <p:cNvPr id="65" name="Text Box 2"/>
            <p:cNvSpPr/>
            <p:nvPr/>
          </p:nvSpPr>
          <p:spPr>
            <a:xfrm>
              <a:off x="4367160" y="1011240"/>
              <a:ext cx="1781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燕子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3107520" y="905040"/>
              <a:ext cx="1182240" cy="1180800"/>
              <a:chOff x="3107520" y="905040"/>
              <a:chExt cx="118224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3108240" y="905040"/>
                <a:ext cx="118152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3107520" y="93780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977760" y="336240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是从燕子的外形、燕子为春光增添生趣、燕子的飞行、燕子的停歇四个方面来描写燕子的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文是从哪几个方面描写燕子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篇文章是怎样描写燕子的模样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1197000" y="3209760"/>
            <a:ext cx="72518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抓住了燕子的外形特点，先写了燕子乌黑光亮的羽毛，又写了燕子俊俏轻快的翅膀，最后写了燕子剪刀似的尾巴。这几部分连到一起就“凑成了活泼可爱的小燕子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描写春天时，抓住了哪些最能体现春天特色的景物来写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1039680" y="318924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抓住了雨、风、柳、草、叶、花、小燕子等景物来描写春天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燕子飞行的特点是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1270080" y="2625840"/>
            <a:ext cx="67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燕子飞行的主要特点是灵活、轻快、飞行姿态美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表达了作者怎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1198440" y="24192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通过描写燕子的外形、为春光增添生趣、飞行的姿态、停歇时的样子，表达了作者对燕子的喜爱和对春天的热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1" name="圆角矩形 8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文本框 26"/>
          <p:cNvSpPr/>
          <p:nvPr/>
        </p:nvSpPr>
        <p:spPr>
          <a:xfrm>
            <a:off x="470160" y="3381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燕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1601640" y="2441520"/>
            <a:ext cx="18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总写外形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左大括号 13"/>
          <p:cNvSpPr/>
          <p:nvPr/>
        </p:nvSpPr>
        <p:spPr>
          <a:xfrm>
            <a:off x="1440000" y="2293920"/>
            <a:ext cx="312480" cy="2879640"/>
          </a:xfrm>
          <a:custGeom>
            <a:avLst/>
            <a:gdLst>
              <a:gd name="textAreaLeft" fmla="*/ 199800 w 312480"/>
              <a:gd name="textAreaRight" fmla="*/ 312840 w 31248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3363840" y="1976400"/>
            <a:ext cx="28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羽毛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乌黑光亮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左大括号 15"/>
          <p:cNvSpPr/>
          <p:nvPr/>
        </p:nvSpPr>
        <p:spPr>
          <a:xfrm flipH="1">
            <a:off x="6844680" y="2303640"/>
            <a:ext cx="314280" cy="2879640"/>
          </a:xfrm>
          <a:custGeom>
            <a:avLst/>
            <a:gdLst>
              <a:gd name="textAreaLeft" fmla="*/ 200520 w 314280"/>
              <a:gd name="textAreaRight" fmla="*/ 314280 w 314280"/>
              <a:gd name="textAreaTop" fmla="*/ 7920 h 2879640"/>
              <a:gd name="textAreaBottom" fmla="*/ 287172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"/>
                  <a:pt x="10800" y="196"/>
                </a:cubicBezTo>
                <a:lnTo>
                  <a:pt x="10800" y="10604"/>
                </a:lnTo>
                <a:cubicBezTo>
                  <a:pt x="10800" y="10702"/>
                  <a:pt x="5400" y="10800"/>
                  <a:pt x="0" y="10800"/>
                </a:cubicBezTo>
                <a:cubicBezTo>
                  <a:pt x="5400" y="10800"/>
                  <a:pt x="10800" y="10898"/>
                  <a:pt x="10800" y="10996"/>
                </a:cubicBezTo>
                <a:lnTo>
                  <a:pt x="10800" y="21404"/>
                </a:lnTo>
                <a:cubicBezTo>
                  <a:pt x="10800" y="2150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6"/>
          <p:cNvSpPr/>
          <p:nvPr/>
        </p:nvSpPr>
        <p:spPr>
          <a:xfrm>
            <a:off x="6980400" y="2679840"/>
            <a:ext cx="1846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活泼可爱小燕子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美丽春光添生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1627200" y="4716360"/>
            <a:ext cx="10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分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8"/>
          <p:cNvSpPr/>
          <p:nvPr/>
        </p:nvSpPr>
        <p:spPr>
          <a:xfrm>
            <a:off x="2666880" y="4016520"/>
            <a:ext cx="11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春光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左大括号 20"/>
          <p:cNvSpPr/>
          <p:nvPr/>
        </p:nvSpPr>
        <p:spPr>
          <a:xfrm>
            <a:off x="2471760" y="4022640"/>
            <a:ext cx="312840" cy="177336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1773360"/>
              <a:gd name="textAreaBottom" fmla="*/ 1765440 h 177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7"/>
                </a:cubicBezTo>
                <a:lnTo>
                  <a:pt x="10800" y="10483"/>
                </a:lnTo>
                <a:cubicBezTo>
                  <a:pt x="10800" y="10642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7"/>
                </a:cubicBezTo>
                <a:lnTo>
                  <a:pt x="10800" y="21283"/>
                </a:lnTo>
                <a:cubicBezTo>
                  <a:pt x="10800" y="2144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2666880" y="49658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飞行美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轻快敏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22"/>
          <p:cNvSpPr/>
          <p:nvPr/>
        </p:nvSpPr>
        <p:spPr>
          <a:xfrm>
            <a:off x="2666880" y="5403960"/>
            <a:ext cx="35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停歇美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春天的赞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左大括号 24"/>
          <p:cNvSpPr/>
          <p:nvPr/>
        </p:nvSpPr>
        <p:spPr>
          <a:xfrm>
            <a:off x="3211560" y="2031840"/>
            <a:ext cx="222120" cy="1271880"/>
          </a:xfrm>
          <a:custGeom>
            <a:avLst/>
            <a:gdLst>
              <a:gd name="textAreaLeft" fmla="*/ 141840 w 222120"/>
              <a:gd name="textAreaRight" fmla="*/ 222480 w 222120"/>
              <a:gd name="textAreaTop" fmla="*/ 5760 h 1271880"/>
              <a:gd name="textAreaBottom" fmla="*/ 1266120 h 127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8"/>
                  <a:pt x="10800" y="315"/>
                </a:cubicBezTo>
                <a:lnTo>
                  <a:pt x="10800" y="10485"/>
                </a:lnTo>
                <a:cubicBezTo>
                  <a:pt x="10800" y="10643"/>
                  <a:pt x="5400" y="10800"/>
                  <a:pt x="0" y="10800"/>
                </a:cubicBezTo>
                <a:cubicBezTo>
                  <a:pt x="5400" y="10800"/>
                  <a:pt x="10800" y="10958"/>
                  <a:pt x="10800" y="11115"/>
                </a:cubicBezTo>
                <a:lnTo>
                  <a:pt x="10800" y="21285"/>
                </a:lnTo>
                <a:cubicBezTo>
                  <a:pt x="10800" y="2144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5"/>
          <p:cNvSpPr/>
          <p:nvPr/>
        </p:nvSpPr>
        <p:spPr>
          <a:xfrm>
            <a:off x="3365640" y="2443320"/>
            <a:ext cx="26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翅膀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俊俏轻快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26"/>
          <p:cNvSpPr/>
          <p:nvPr/>
        </p:nvSpPr>
        <p:spPr>
          <a:xfrm>
            <a:off x="3381480" y="2895480"/>
            <a:ext cx="24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尾巴</a:t>
            </a:r>
            <a:r>
              <a:rPr b="1" lang="en-US" sz="20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剪刀似的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左大括号 27"/>
          <p:cNvSpPr/>
          <p:nvPr/>
        </p:nvSpPr>
        <p:spPr>
          <a:xfrm flipH="1">
            <a:off x="5511240" y="2006640"/>
            <a:ext cx="182520" cy="1271520"/>
          </a:xfrm>
          <a:custGeom>
            <a:avLst/>
            <a:gdLst>
              <a:gd name="textAreaLeft" fmla="*/ 116280 w 182520"/>
              <a:gd name="textAreaRight" fmla="*/ 182520 w 182520"/>
              <a:gd name="textAreaTop" fmla="*/ 4680 h 1271520"/>
              <a:gd name="textAreaBottom" fmla="*/ 1266840 h 127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9"/>
                  <a:pt x="10800" y="258"/>
                </a:cubicBezTo>
                <a:lnTo>
                  <a:pt x="10800" y="10542"/>
                </a:lnTo>
                <a:cubicBezTo>
                  <a:pt x="10800" y="10671"/>
                  <a:pt x="5400" y="10800"/>
                  <a:pt x="0" y="10800"/>
                </a:cubicBezTo>
                <a:cubicBezTo>
                  <a:pt x="5400" y="10800"/>
                  <a:pt x="10800" y="10929"/>
                  <a:pt x="10800" y="11058"/>
                </a:cubicBezTo>
                <a:lnTo>
                  <a:pt x="10800" y="21342"/>
                </a:lnTo>
                <a:cubicBezTo>
                  <a:pt x="10800" y="2147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左大括号 28"/>
          <p:cNvSpPr/>
          <p:nvPr/>
        </p:nvSpPr>
        <p:spPr>
          <a:xfrm>
            <a:off x="3519360" y="3827520"/>
            <a:ext cx="206640" cy="799920"/>
          </a:xfrm>
          <a:custGeom>
            <a:avLst/>
            <a:gdLst>
              <a:gd name="textAreaLeft" fmla="*/ 132120 w 206640"/>
              <a:gd name="textAreaRight" fmla="*/ 207000 w 206640"/>
              <a:gd name="textAreaTop" fmla="*/ 5040 h 799920"/>
              <a:gd name="textAreaBottom" fmla="*/ 794880 h 79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29"/>
          <p:cNvSpPr/>
          <p:nvPr/>
        </p:nvSpPr>
        <p:spPr>
          <a:xfrm>
            <a:off x="5675400" y="2444760"/>
            <a:ext cx="13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简笔勾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30"/>
          <p:cNvSpPr/>
          <p:nvPr/>
        </p:nvSpPr>
        <p:spPr>
          <a:xfrm>
            <a:off x="3618000" y="3743280"/>
            <a:ext cx="22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细雨微风拂柔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31"/>
          <p:cNvSpPr/>
          <p:nvPr/>
        </p:nvSpPr>
        <p:spPr>
          <a:xfrm>
            <a:off x="3565440" y="4290840"/>
            <a:ext cx="22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青草绿叶衬鲜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左大括号 32"/>
          <p:cNvSpPr/>
          <p:nvPr/>
        </p:nvSpPr>
        <p:spPr>
          <a:xfrm flipH="1">
            <a:off x="5539680" y="3843360"/>
            <a:ext cx="236520" cy="799920"/>
          </a:xfrm>
          <a:custGeom>
            <a:avLst/>
            <a:gdLst>
              <a:gd name="textAreaLeft" fmla="*/ 150840 w 236520"/>
              <a:gd name="textAreaRight" fmla="*/ 236520 w 236520"/>
              <a:gd name="textAreaTop" fmla="*/ 6120 h 799920"/>
              <a:gd name="textAreaBottom" fmla="*/ 793800 h 79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6"/>
                  <a:pt x="10800" y="532"/>
                </a:cubicBezTo>
                <a:lnTo>
                  <a:pt x="10800" y="10268"/>
                </a:lnTo>
                <a:cubicBezTo>
                  <a:pt x="10800" y="10534"/>
                  <a:pt x="5400" y="10800"/>
                  <a:pt x="0" y="10800"/>
                </a:cubicBezTo>
                <a:cubicBezTo>
                  <a:pt x="5400" y="10800"/>
                  <a:pt x="10800" y="11066"/>
                  <a:pt x="10800" y="11332"/>
                </a:cubicBezTo>
                <a:lnTo>
                  <a:pt x="10800" y="21068"/>
                </a:lnTo>
                <a:cubicBezTo>
                  <a:pt x="10800" y="2133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33"/>
          <p:cNvSpPr/>
          <p:nvPr/>
        </p:nvSpPr>
        <p:spPr>
          <a:xfrm>
            <a:off x="5721480" y="403056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景衬托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通过描写燕子的外形、燕子为春光增添生趣、飞行的姿态和停歇时的样子，表现了燕子的活泼、机灵、可爱，抒发了作者对燕子的喜爱和对春天的热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7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8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51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52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白 鹅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鹅，鹅，鹅，曲项向天歌。白毛浮绿水，红掌拨青波。”当我在读这首诗时，我想起了那既笨拙又可爱的大白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家的大白鹅，我叫它小白。小白身披着一件雪白的衣裳，像一位美丽的新娘披着一条白色的婚纱。它的头上顶着一头红色的红宝石。又扁又长的黄嘴，一对黑葡萄似的眼睛镶嵌在头上。下面是一条又细又长的脖子，翅膀一张开像两把又白又大的扇子。它的尾巴又小又短，高傲地向上翘着。它的脚像一对橙色的船桨，游动起来，可爱极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内容占位符 2"/>
          <p:cNvSpPr/>
          <p:nvPr/>
        </p:nvSpPr>
        <p:spPr>
          <a:xfrm>
            <a:off x="996840" y="1366920"/>
            <a:ext cx="73962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小白性格温和，总是显出一副悠闲自得的样子，平时没事的时候，它就慢慢地踱着方步，就像一位绅士。一见到水，它就展开大翅膀，向水飞奔而去，一只只大白鹅在水中游动着，像一只只小帆船浮在水面上。有时它会浮在我家的洗衣盆里， 这种场面逗得我哈哈大笑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大白鹅的用途可多了呢！它的羽毛可以做羽绒服，既卫生又保暖。它的肉和蛋可以成为餐桌上的美味佳肴。它的粪便可以成为农家肥料。它还是一名称职的“警察”看家护院。如果有陌生人进来 ，它就会发出叫声，好像在说：“主人，主人，快来呀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内容占位符 2"/>
          <p:cNvSpPr/>
          <p:nvPr/>
        </p:nvSpPr>
        <p:spPr>
          <a:xfrm>
            <a:off x="839880" y="1198440"/>
            <a:ext cx="764208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有一个人进来了！”如果那个人真的是在偷东西的话，它就会死死咬住那个人的裤腿，把他咬住，直到主人来为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喜欢我家的大白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E:\分类文件\冀教、北师、长春、教科共用文件\课件制作所需文件\CC\CC5上\五上CC推荐阅读图片\18白鹅.jpg"/>
          <p:cNvPicPr/>
          <p:nvPr/>
        </p:nvPicPr>
        <p:blipFill>
          <a:blip r:embed="rId1"/>
          <a:stretch/>
        </p:blipFill>
        <p:spPr>
          <a:xfrm>
            <a:off x="2120760" y="2719440"/>
            <a:ext cx="490248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11080" y="244944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抓往描写燕子和春天的语句，感受燕子的活泼可爱和春天的勃勃生机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领悟作者细致观察和具体描写事物的手法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"/>
          <p:cNvSpPr/>
          <p:nvPr/>
        </p:nvSpPr>
        <p:spPr>
          <a:xfrm>
            <a:off x="1028880" y="1978200"/>
            <a:ext cx="72342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泥融飞燕子，沙暖睡鸳鸯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绝句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杜甫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燕子家家入，杨花处处飞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赋得盈盈楼上女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孟浩然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鹅儿黄似酒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酒爱新鹅。引颈嗔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hēn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船逼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无行乱眼多。翅开遭宿雨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力小困沧波。客散层城暮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狐狸奈若何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舟前小鹅儿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杜甫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61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"/>
          <p:cNvSpPr/>
          <p:nvPr/>
        </p:nvSpPr>
        <p:spPr>
          <a:xfrm>
            <a:off x="1790280" y="2095560"/>
            <a:ext cx="23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燕子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报春的使者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2"/>
          <p:cNvSpPr/>
          <p:nvPr/>
        </p:nvSpPr>
        <p:spPr>
          <a:xfrm>
            <a:off x="1265400" y="256212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自古以来，人们乐于让燕子在自己房屋中筑巢，并引以 为吉祥、有福的事。人们称它“翩然归来的报春燕”，总把它跟春天联系起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67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1663560" y="20955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关于燕子的诗句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1265400" y="2562120"/>
            <a:ext cx="705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雨鱼儿出，微风燕子斜。 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水槛遣心二首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一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杜甫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黄莺过水翻回去，燕子衔泥湿不妨。 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即事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杜甫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燕子不归春事晚，一汀烟雨杏花寒。 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苏溪亭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戴叔伦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6"/>
          <p:cNvGrpSpPr/>
          <p:nvPr/>
        </p:nvGrpSpPr>
        <p:grpSpPr>
          <a:xfrm>
            <a:off x="558720" y="1190520"/>
            <a:ext cx="2811600" cy="666720"/>
            <a:chOff x="558720" y="1190520"/>
            <a:chExt cx="2811600" cy="666720"/>
          </a:xfrm>
        </p:grpSpPr>
        <p:sp>
          <p:nvSpPr>
            <p:cNvPr id="173" name="圆角矩形 7"/>
            <p:cNvSpPr/>
            <p:nvPr/>
          </p:nvSpPr>
          <p:spPr>
            <a:xfrm>
              <a:off x="1347840" y="1328400"/>
              <a:ext cx="1913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文本框 16"/>
            <p:cNvSpPr/>
            <p:nvPr/>
          </p:nvSpPr>
          <p:spPr>
            <a:xfrm>
              <a:off x="1715400" y="1347480"/>
              <a:ext cx="16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拓展积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684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77" name="矩形 11"/>
          <p:cNvSpPr/>
          <p:nvPr/>
        </p:nvSpPr>
        <p:spPr>
          <a:xfrm>
            <a:off x="1017720" y="22683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篇课文语言生动、简朴、感情真挚、浓郁、注重培养学生细致观察事物，抓住事物特点进行有条理地记叙的能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13"/>
          <p:cNvGrpSpPr/>
          <p:nvPr/>
        </p:nvGrpSpPr>
        <p:grpSpPr>
          <a:xfrm>
            <a:off x="814320" y="1670040"/>
            <a:ext cx="7661520" cy="1378080"/>
            <a:chOff x="814320" y="1670040"/>
            <a:chExt cx="7661520" cy="1378080"/>
          </a:xfrm>
        </p:grpSpPr>
        <p:grpSp>
          <p:nvGrpSpPr>
            <p:cNvPr id="179" name="组合 6"/>
            <p:cNvGrpSpPr/>
            <p:nvPr/>
          </p:nvGrpSpPr>
          <p:grpSpPr>
            <a:xfrm>
              <a:off x="823680" y="1784880"/>
              <a:ext cx="7652160" cy="1263240"/>
              <a:chOff x="823680" y="1784880"/>
              <a:chExt cx="7652160" cy="1263240"/>
            </a:xfrm>
          </p:grpSpPr>
          <p:sp>
            <p:nvSpPr>
              <p:cNvPr id="180" name="圆角矩形 7"/>
              <p:cNvSpPr/>
              <p:nvPr/>
            </p:nvSpPr>
            <p:spPr>
              <a:xfrm>
                <a:off x="823680" y="2437920"/>
                <a:ext cx="7652160" cy="610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lvl="1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燕子可爱吗？作者是怎样写出来的呢？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任意多边形 10"/>
              <p:cNvSpPr/>
              <p:nvPr/>
            </p:nvSpPr>
            <p:spPr>
              <a:xfrm>
                <a:off x="1183320" y="1784880"/>
                <a:ext cx="2262600" cy="5029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2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670040"/>
              <a:ext cx="803520" cy="73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971640" y="3129120"/>
            <a:ext cx="729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燕子很可爱。写外形时，按从部分到整体的顺序，抓住了它最具有特征的羽毛、翅膀和尾巴进行描写：写羽毛，主要写 颜色和光泽，“乌黑光亮”；写翅膀，主要 写姿态，“俊俏轻快”；写尾巴，主要写最 具特色的形态，“剪刀似的”。最后概括为“活 泼可爱”。燕子飞来时，作者用了“掠”“沾” 等动词，写出了燕子的轻捷灵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2"/>
          <p:cNvGrpSpPr/>
          <p:nvPr/>
        </p:nvGrpSpPr>
        <p:grpSpPr>
          <a:xfrm>
            <a:off x="760320" y="1108080"/>
            <a:ext cx="7661520" cy="1814040"/>
            <a:chOff x="760320" y="1108080"/>
            <a:chExt cx="7661520" cy="1814040"/>
          </a:xfrm>
        </p:grpSpPr>
        <p:grpSp>
          <p:nvGrpSpPr>
            <p:cNvPr id="186" name="组合 6"/>
            <p:cNvGrpSpPr/>
            <p:nvPr/>
          </p:nvGrpSpPr>
          <p:grpSpPr>
            <a:xfrm>
              <a:off x="760320" y="1197000"/>
              <a:ext cx="7661520" cy="1725120"/>
              <a:chOff x="760320" y="1197000"/>
              <a:chExt cx="7661520" cy="1725120"/>
            </a:xfrm>
          </p:grpSpPr>
          <p:sp>
            <p:nvSpPr>
              <p:cNvPr id="187" name="圆角矩形 7"/>
              <p:cNvSpPr/>
              <p:nvPr/>
            </p:nvSpPr>
            <p:spPr>
              <a:xfrm>
                <a:off x="760320" y="1602000"/>
                <a:ext cx="7661520" cy="13201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课文结尾，作者由燕子停在电线上展开了富有 诗意的联想，生活中你看到过或联想到过这 样的画面吗？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任意多边形 9"/>
              <p:cNvSpPr/>
              <p:nvPr/>
            </p:nvSpPr>
            <p:spPr>
              <a:xfrm>
                <a:off x="1015920" y="1197000"/>
                <a:ext cx="2544840" cy="5050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9" name="Picture 7" descr=""/>
            <p:cNvPicPr/>
            <p:nvPr/>
          </p:nvPicPr>
          <p:blipFill>
            <a:blip r:embed="rId1"/>
            <a:stretch/>
          </p:blipFill>
          <p:spPr>
            <a:xfrm>
              <a:off x="822600" y="1108080"/>
              <a:ext cx="749520" cy="65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Box 8"/>
          <p:cNvSpPr/>
          <p:nvPr/>
        </p:nvSpPr>
        <p:spPr>
          <a:xfrm>
            <a:off x="760320" y="2935440"/>
            <a:ext cx="77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生活中如小鸟落在电线上，喜鹊落在树枝上，鸽子落在房脊上，麻雀落在雪地上 等，都可以成为展开联想、进行描写的对象。 联想时，可以相似联想，就是由某一事物或现象想到与它相似的其他事物或现象，也可 以对比联想，就是根据事物之间存在的互不 相同或彼此相反的情况进行联想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6"/>
          <p:cNvGrpSpPr/>
          <p:nvPr/>
        </p:nvGrpSpPr>
        <p:grpSpPr>
          <a:xfrm>
            <a:off x="787320" y="1128600"/>
            <a:ext cx="7661520" cy="2603520"/>
            <a:chOff x="787320" y="1128600"/>
            <a:chExt cx="7661520" cy="2603520"/>
          </a:xfrm>
        </p:grpSpPr>
        <p:grpSp>
          <p:nvGrpSpPr>
            <p:cNvPr id="192" name="组合 2"/>
            <p:cNvGrpSpPr/>
            <p:nvPr/>
          </p:nvGrpSpPr>
          <p:grpSpPr>
            <a:xfrm>
              <a:off x="787320" y="1261440"/>
              <a:ext cx="7661520" cy="2470680"/>
              <a:chOff x="787320" y="1261440"/>
              <a:chExt cx="7661520" cy="2470680"/>
            </a:xfrm>
          </p:grpSpPr>
          <p:sp>
            <p:nvSpPr>
              <p:cNvPr id="193" name="圆角矩形 4"/>
              <p:cNvSpPr/>
              <p:nvPr/>
            </p:nvSpPr>
            <p:spPr>
              <a:xfrm>
                <a:off x="787320" y="1677600"/>
                <a:ext cx="7661520" cy="2054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读一读。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俊俏 疲倦 细线 曲谱 活泼可爱 沾沾自喜  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增添 荡漾 掠过 凑巧 光彩夺目 聚精会神  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任意多边形 5"/>
              <p:cNvSpPr/>
              <p:nvPr/>
            </p:nvSpPr>
            <p:spPr>
              <a:xfrm>
                <a:off x="1187280" y="1261440"/>
                <a:ext cx="1436760" cy="5068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椭圆 7"/>
            <p:cNvGrpSpPr/>
            <p:nvPr/>
          </p:nvGrpSpPr>
          <p:grpSpPr>
            <a:xfrm>
              <a:off x="859320" y="1128600"/>
              <a:ext cx="761760" cy="715680"/>
              <a:chOff x="859320" y="1128600"/>
              <a:chExt cx="761760" cy="715680"/>
            </a:xfrm>
          </p:grpSpPr>
          <p:pic>
            <p:nvPicPr>
              <p:cNvPr id="196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59320" y="1128600"/>
                <a:ext cx="761760" cy="71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980640" y="1243080"/>
                <a:ext cx="518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8" name="TextBox 8"/>
          <p:cNvSpPr/>
          <p:nvPr/>
        </p:nvSpPr>
        <p:spPr>
          <a:xfrm>
            <a:off x="814320" y="3854520"/>
            <a:ext cx="77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读时应注意，“俏”读</a:t>
            </a: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ào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，不读 </a:t>
            </a: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āo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；“曲谱”的“曲”读三声，不要读成 一声；“增添”的“增”是平舌音；“凑巧” 的“凑”读 </a:t>
            </a: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òu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，不要读成翘舌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13"/>
          <p:cNvGrpSpPr/>
          <p:nvPr/>
        </p:nvGrpSpPr>
        <p:grpSpPr>
          <a:xfrm>
            <a:off x="814320" y="1355760"/>
            <a:ext cx="7661520" cy="1396800"/>
            <a:chOff x="814320" y="1355760"/>
            <a:chExt cx="7661520" cy="1396800"/>
          </a:xfrm>
        </p:grpSpPr>
        <p:grpSp>
          <p:nvGrpSpPr>
            <p:cNvPr id="200" name="组合 6"/>
            <p:cNvGrpSpPr/>
            <p:nvPr/>
          </p:nvGrpSpPr>
          <p:grpSpPr>
            <a:xfrm>
              <a:off x="823680" y="1473120"/>
              <a:ext cx="7652160" cy="1279440"/>
              <a:chOff x="823680" y="1473120"/>
              <a:chExt cx="7652160" cy="1279440"/>
            </a:xfrm>
          </p:grpSpPr>
          <p:sp>
            <p:nvSpPr>
              <p:cNvPr id="201" name="圆角矩形 7"/>
              <p:cNvSpPr/>
              <p:nvPr/>
            </p:nvSpPr>
            <p:spPr>
              <a:xfrm>
                <a:off x="823680" y="2142360"/>
                <a:ext cx="7652160" cy="6102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lvl="1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燕子可爱吗？作者是怎样写出来的呢？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任意多边形 10"/>
              <p:cNvSpPr/>
              <p:nvPr/>
            </p:nvSpPr>
            <p:spPr>
              <a:xfrm>
                <a:off x="1183320" y="1473120"/>
                <a:ext cx="2262600" cy="5022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03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355760"/>
              <a:ext cx="803520" cy="73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TextBox 2"/>
          <p:cNvSpPr/>
          <p:nvPr/>
        </p:nvSpPr>
        <p:spPr>
          <a:xfrm>
            <a:off x="957240" y="2992320"/>
            <a:ext cx="729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燕子很可爱。写外形时，按从部分到整体的顺序，抓住了它最具有特征的羽毛、翅膀和尾巴进行描写：写羽毛，主要写 颜色和光泽，“乌黑光亮”；写翅膀，主要写姿态，“俊俏轻快”；写尾巴，主要写最 具特色的形态，“剪刀似的”。最后概括为“活 泼可爱”。燕子飞来时，作者用了“掠”“沾” 等动词，写出了燕子的轻捷灵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7167"/>
          <p:cNvSpPr/>
          <p:nvPr/>
        </p:nvSpPr>
        <p:spPr>
          <a:xfrm>
            <a:off x="1001880" y="2376360"/>
            <a:ext cx="75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加点的字注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几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细线连在电杆之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那小圆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一圈一圈地荡漾开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加上剪刀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尾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对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俏轻快的翅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6"/>
          <p:cNvSpPr/>
          <p:nvPr/>
        </p:nvSpPr>
        <p:spPr>
          <a:xfrm>
            <a:off x="2514960" y="2901960"/>
            <a:ext cx="7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é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3260880" y="3459240"/>
            <a:ext cx="7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3609000" y="409104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7168"/>
          <p:cNvSpPr/>
          <p:nvPr/>
        </p:nvSpPr>
        <p:spPr>
          <a:xfrm>
            <a:off x="1873080" y="3197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7168"/>
          <p:cNvSpPr/>
          <p:nvPr/>
        </p:nvSpPr>
        <p:spPr>
          <a:xfrm>
            <a:off x="2176200" y="48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7168"/>
          <p:cNvSpPr/>
          <p:nvPr/>
        </p:nvSpPr>
        <p:spPr>
          <a:xfrm>
            <a:off x="2485800" y="3781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7168"/>
          <p:cNvSpPr/>
          <p:nvPr/>
        </p:nvSpPr>
        <p:spPr>
          <a:xfrm>
            <a:off x="2793960" y="4338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3029400" y="4543560"/>
            <a:ext cx="67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ù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3"/>
          <p:cNvSpPr/>
          <p:nvPr/>
        </p:nvSpPr>
        <p:spPr>
          <a:xfrm>
            <a:off x="1684440" y="1889280"/>
            <a:ext cx="68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 形近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"/>
          <p:cNvSpPr/>
          <p:nvPr/>
        </p:nvSpPr>
        <p:spPr>
          <a:xfrm>
            <a:off x="2558880" y="24303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沾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5"/>
          <p:cNvSpPr/>
          <p:nvPr/>
        </p:nvSpPr>
        <p:spPr>
          <a:xfrm>
            <a:off x="5643360" y="24433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粘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6"/>
          <p:cNvSpPr/>
          <p:nvPr/>
        </p:nvSpPr>
        <p:spPr>
          <a:xfrm>
            <a:off x="2571480" y="301320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吹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1"/>
          <p:cNvSpPr/>
          <p:nvPr/>
        </p:nvSpPr>
        <p:spPr>
          <a:xfrm>
            <a:off x="5644800" y="29955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仿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2"/>
          <p:cNvSpPr/>
          <p:nvPr/>
        </p:nvSpPr>
        <p:spPr>
          <a:xfrm>
            <a:off x="2557080" y="35481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圆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3"/>
          <p:cNvSpPr/>
          <p:nvPr/>
        </p:nvSpPr>
        <p:spPr>
          <a:xfrm>
            <a:off x="5643360" y="35686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春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7167"/>
          <p:cNvSpPr/>
          <p:nvPr/>
        </p:nvSpPr>
        <p:spPr>
          <a:xfrm>
            <a:off x="987480" y="1452600"/>
            <a:ext cx="754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ù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ào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uī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ú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ē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iān                                 j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ì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í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uàn                                  qǔ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63560" y="370044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424480" y="256392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668600" y="255420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5451480" y="47800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654200" y="47656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51480" y="367524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16"/>
          <p:cNvSpPr/>
          <p:nvPr/>
        </p:nvSpPr>
        <p:spPr>
          <a:xfrm>
            <a:off x="8429400" y="3504600"/>
            <a:ext cx="244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29"/>
          <p:cNvSpPr/>
          <p:nvPr/>
        </p:nvSpPr>
        <p:spPr>
          <a:xfrm>
            <a:off x="1865160" y="24098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俊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30"/>
          <p:cNvSpPr/>
          <p:nvPr/>
        </p:nvSpPr>
        <p:spPr>
          <a:xfrm>
            <a:off x="5636160" y="24368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吹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31"/>
          <p:cNvSpPr/>
          <p:nvPr/>
        </p:nvSpPr>
        <p:spPr>
          <a:xfrm>
            <a:off x="1852200" y="355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增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32"/>
          <p:cNvSpPr/>
          <p:nvPr/>
        </p:nvSpPr>
        <p:spPr>
          <a:xfrm>
            <a:off x="5648040" y="35337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聚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33"/>
          <p:cNvSpPr/>
          <p:nvPr/>
        </p:nvSpPr>
        <p:spPr>
          <a:xfrm>
            <a:off x="1850760" y="4648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疲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34"/>
          <p:cNvSpPr/>
          <p:nvPr/>
        </p:nvSpPr>
        <p:spPr>
          <a:xfrm>
            <a:off x="5658480" y="4784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曲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3"/>
          <p:cNvSpPr/>
          <p:nvPr/>
        </p:nvSpPr>
        <p:spPr>
          <a:xfrm>
            <a:off x="1754280" y="203832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补充四字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        (    )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精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色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)(    )        (    )(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粼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7"/>
          <p:cNvSpPr/>
          <p:nvPr/>
        </p:nvSpPr>
        <p:spPr>
          <a:xfrm>
            <a:off x="2301840" y="258300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3530520" y="25891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8"/>
          <p:cNvSpPr/>
          <p:nvPr/>
        </p:nvSpPr>
        <p:spPr>
          <a:xfrm>
            <a:off x="5672160" y="25765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9"/>
          <p:cNvSpPr/>
          <p:nvPr/>
        </p:nvSpPr>
        <p:spPr>
          <a:xfrm>
            <a:off x="6603120" y="25909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0"/>
          <p:cNvSpPr/>
          <p:nvPr/>
        </p:nvSpPr>
        <p:spPr>
          <a:xfrm>
            <a:off x="2313000" y="31431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1"/>
          <p:cNvSpPr/>
          <p:nvPr/>
        </p:nvSpPr>
        <p:spPr>
          <a:xfrm>
            <a:off x="3243240" y="31384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12"/>
          <p:cNvSpPr/>
          <p:nvPr/>
        </p:nvSpPr>
        <p:spPr>
          <a:xfrm>
            <a:off x="5681520" y="31305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3"/>
          <p:cNvSpPr/>
          <p:nvPr/>
        </p:nvSpPr>
        <p:spPr>
          <a:xfrm>
            <a:off x="7240320" y="314316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4"/>
          <p:cNvSpPr/>
          <p:nvPr/>
        </p:nvSpPr>
        <p:spPr>
          <a:xfrm>
            <a:off x="2592360" y="3691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5"/>
          <p:cNvSpPr/>
          <p:nvPr/>
        </p:nvSpPr>
        <p:spPr>
          <a:xfrm>
            <a:off x="3546360" y="3691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16"/>
          <p:cNvSpPr/>
          <p:nvPr/>
        </p:nvSpPr>
        <p:spPr>
          <a:xfrm>
            <a:off x="5697360" y="369108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7"/>
          <p:cNvSpPr/>
          <p:nvPr/>
        </p:nvSpPr>
        <p:spPr>
          <a:xfrm>
            <a:off x="6605280" y="3692520"/>
            <a:ext cx="3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3"/>
          <p:cNvSpPr/>
          <p:nvPr/>
        </p:nvSpPr>
        <p:spPr>
          <a:xfrm>
            <a:off x="865080" y="1562040"/>
            <a:ext cx="756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句子练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仿写比喻句：几痕细线连在电杆之间，这多么像正待演奏的曲谱啊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缩句：微风吹拂着千万条才展开黄绿眉眼的柔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7"/>
          <p:cNvSpPr/>
          <p:nvPr/>
        </p:nvSpPr>
        <p:spPr>
          <a:xfrm>
            <a:off x="2581920" y="31780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妹妹的脸蛋红红的，多像大苹果啊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4"/>
          <p:cNvSpPr/>
          <p:nvPr/>
        </p:nvSpPr>
        <p:spPr>
          <a:xfrm>
            <a:off x="2069640" y="427356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微风吹拂着柔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4040280"/>
              <a:ext cx="3207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本篇文章是怎样描写燕子的模样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3862440"/>
              <a:ext cx="34560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作者描写春天时，抓住了哪些最能体现春天特色的景物来写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239080"/>
              <a:ext cx="3468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课文表达了作者怎样的思想感情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5214240"/>
              <a:ext cx="3207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燕子飞行的特点是什么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434320" y="2098080"/>
                <a:ext cx="42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课文是从哪几个 方面描写燕子的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898880" y="1335600"/>
                <a:ext cx="44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活泼、可爱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5"/>
          <p:cNvSpPr/>
          <p:nvPr/>
        </p:nvSpPr>
        <p:spPr>
          <a:xfrm>
            <a:off x="1789200" y="2525760"/>
            <a:ext cx="1212840" cy="3538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1077840" y="182556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身乌黑光亮的羽毛，一对俊俏轻快的翅膀，加上剪刀似的尾巴，凑成了活泼可爱的小燕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云形 1"/>
          <p:cNvGrpSpPr/>
          <p:nvPr/>
        </p:nvGrpSpPr>
        <p:grpSpPr>
          <a:xfrm>
            <a:off x="3224160" y="1000080"/>
            <a:ext cx="2457360" cy="987480"/>
            <a:chOff x="3224160" y="1000080"/>
            <a:chExt cx="2457360" cy="987480"/>
          </a:xfrm>
        </p:grpSpPr>
        <p:pic>
          <p:nvPicPr>
            <p:cNvPr id="87" name="云形 1" descr=""/>
            <p:cNvPicPr/>
            <p:nvPr/>
          </p:nvPicPr>
          <p:blipFill>
            <a:blip r:embed="rId1"/>
            <a:stretch/>
          </p:blipFill>
          <p:spPr>
            <a:xfrm>
              <a:off x="3224160" y="1000080"/>
              <a:ext cx="24573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919680" y="1228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外形描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10"/>
          <p:cNvSpPr/>
          <p:nvPr/>
        </p:nvSpPr>
        <p:spPr>
          <a:xfrm>
            <a:off x="1282680" y="4106880"/>
            <a:ext cx="709632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按照从部分到整体的顺序来写燕子的。抓住了羽毛“乌黑光亮”、翅膀“俊俏轻快”、尾巴 “剪刀似的”三个外形特点，突出了燕子的活泼可爱，作者对燕子的喜爱之情溢于言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标注 11"/>
          <p:cNvSpPr/>
          <p:nvPr/>
        </p:nvSpPr>
        <p:spPr>
          <a:xfrm>
            <a:off x="198000" y="2855880"/>
            <a:ext cx="546840" cy="459720"/>
          </a:xfrm>
          <a:prstGeom prst="wedgeRectCallout">
            <a:avLst>
              <a:gd name="adj1" fmla="val 223814"/>
              <a:gd name="adj2" fmla="val -43976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12"/>
          <p:cNvGrpSpPr/>
          <p:nvPr/>
        </p:nvGrpSpPr>
        <p:grpSpPr>
          <a:xfrm>
            <a:off x="873000" y="3378240"/>
            <a:ext cx="7683480" cy="906480"/>
            <a:chOff x="873000" y="3378240"/>
            <a:chExt cx="7683480" cy="906480"/>
          </a:xfrm>
        </p:grpSpPr>
        <p:sp>
          <p:nvSpPr>
            <p:cNvPr id="92" name="直接连接符 13"/>
            <p:cNvSpPr/>
            <p:nvPr/>
          </p:nvSpPr>
          <p:spPr>
            <a:xfrm>
              <a:off x="873000" y="41547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任意多边形 16"/>
            <p:cNvSpPr/>
            <p:nvPr/>
          </p:nvSpPr>
          <p:spPr>
            <a:xfrm>
              <a:off x="873000" y="3378240"/>
              <a:ext cx="7683480" cy="906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作者是按什么顺序来写燕子的？抓住了燕子的哪些外形特点来写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885960" y="981000"/>
            <a:ext cx="768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你抓住小白兔的外形特点，写一写它可爱的样子吧。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24" descr="花盆.png"/>
          <p:cNvPicPr/>
          <p:nvPr/>
        </p:nvPicPr>
        <p:blipFill>
          <a:blip r:embed="rId1"/>
          <a:stretch/>
        </p:blipFill>
        <p:spPr>
          <a:xfrm>
            <a:off x="642960" y="11350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97" name="矩形 2"/>
          <p:cNvSpPr/>
          <p:nvPr/>
        </p:nvSpPr>
        <p:spPr>
          <a:xfrm>
            <a:off x="927000" y="205740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身洁白如雪的绒毛，一双红宝石般的眼睛，一张独特的三瓣儿嘴，加上一对竖起的耳朵，这就是活泼可爱的小白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3"/>
          <p:cNvGrpSpPr/>
          <p:nvPr/>
        </p:nvGrpSpPr>
        <p:grpSpPr>
          <a:xfrm>
            <a:off x="5259240" y="3714840"/>
            <a:ext cx="3683160" cy="2717640"/>
            <a:chOff x="5259240" y="3714840"/>
            <a:chExt cx="3683160" cy="2717640"/>
          </a:xfrm>
        </p:grpSpPr>
        <p:pic>
          <p:nvPicPr>
            <p:cNvPr id="99" name="Picture 2" descr="https://timgsa.baidu.com/timg?image&amp;quality=80&amp;size=b9999_10000&amp;sec=1492599224211&amp;di=b92c10ad48cc39ac129ca93e6f8217fc&amp;imgtype=0&amp;src=http%3A%2F%2Fimg.taopic.com%2Fuploads%2Fallimg%2F120827%2F214833-120RGS53295.jpg"/>
            <p:cNvPicPr/>
            <p:nvPr/>
          </p:nvPicPr>
          <p:blipFill>
            <a:blip r:embed="rId2"/>
            <a:stretch/>
          </p:blipFill>
          <p:spPr>
            <a:xfrm>
              <a:off x="5259240" y="3714840"/>
              <a:ext cx="3683160" cy="27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1"/>
            <p:cNvSpPr/>
            <p:nvPr/>
          </p:nvSpPr>
          <p:spPr>
            <a:xfrm>
              <a:off x="5549040" y="3915000"/>
              <a:ext cx="24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相信你还能写出更多这样的句子，试一试吧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2"/>
          <p:cNvSpPr/>
          <p:nvPr/>
        </p:nvSpPr>
        <p:spPr>
          <a:xfrm>
            <a:off x="735120" y="16239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青的草绿的叶，各种色彩鲜艳的花，都像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赶集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似的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聚拢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来，形成了光彩夺目的春天。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"/>
          <p:cNvSpPr/>
          <p:nvPr/>
        </p:nvSpPr>
        <p:spPr>
          <a:xfrm>
            <a:off x="885960" y="317196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赶集”“聚拢”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使用了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拟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手法，写出了春天草、叶争相变绿， 鲜花次第开放的景象，使春天更加充满生机与活力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2"/>
          <p:cNvSpPr/>
          <p:nvPr/>
        </p:nvSpPr>
        <p:spPr>
          <a:xfrm>
            <a:off x="844560" y="172548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的横掠过波光粼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lín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粼的湖面，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剪尾或翼尖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偶尔</a:t>
            </a:r>
            <a:r>
              <a:rPr b="1" lang="zh-CN" sz="2400" spc="-1" strike="noStrike">
                <a:solidFill>
                  <a:srgbClr val="0070c0"/>
                </a:solidFill>
                <a:latin typeface="楷体"/>
                <a:ea typeface="楷体"/>
              </a:rPr>
              <a:t>沾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了一下水面，那小圆晕就 一圈一圈地荡漾开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873000" y="3357720"/>
            <a:ext cx="78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细致地描写了燕子剪尾或翼尖“沾”水、水面圆晕荡漾的情景，细节描写生动细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5:56:54Z</dcterms:modified>
  <cp:revision>4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