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explode.wav" ContentType="audio/x-wav"/>
  <Override PartName="/ppt/media/image4.png" ContentType="image/png"/>
  <Override PartName="/ppt/media/image8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2389-031F-4CCF-B644-EEDC05AB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EC3-63BB-417E-887D-EFD8457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835-83AC-451E-A816-12F550A3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807-9E25-4029-B221-6D1B01AB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AAD-5C4E-42F5-9F65-1B3EFBA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DE3-E226-4689-8ED9-E8FEF673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DB7-B46E-4506-A42C-C41D4E73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04C-2AB3-42EA-A646-F078275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E6A-6D19-4063-812E-21A7B449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AE2-174E-40A5-83BE-E75CA702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DB4-EE63-4F43-BD97-C679C29C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885-4B5F-4148-A4F5-95E8DB0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60E-E08E-40CF-9614-27122413F7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uwenban.com/Photo/UploadPhotos/200804/200804182112306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ightning6"/>
          <p:cNvPicPr/>
          <p:nvPr/>
        </p:nvPicPr>
        <p:blipFill>
          <a:blip r:embed="rId2"/>
          <a:stretch/>
        </p:blipFill>
        <p:spPr>
          <a:xfrm>
            <a:off x="0" y="1160640"/>
            <a:ext cx="7596360" cy="569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71600" y="19810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天火之谜</a:t>
            </a:r>
            <a:endParaRPr b="1" lang="en-US" sz="8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39640" y="1773360"/>
            <a:ext cx="784872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面对人们的取笑，富兰克林决定怎么做呢？他是怎样进行实验的？</a:t>
            </a:r>
            <a:br>
              <a:rPr sz="3200"/>
            </a:b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四人小组进行合作学习。选择你们认为最合适的词语填空，并结合课文第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自然段的相关词句，说说这样填的理由。）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206160" y="4653000"/>
            <a:ext cx="162684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是一次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实验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（精心准备、危险、成功）</a:t>
            </a:r>
            <a:br>
              <a:rPr sz="3200"/>
            </a:b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060640" y="14018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这是一次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精心准备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的实验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68400" y="2565360"/>
            <a:ext cx="741672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富兰克林在儿子的帮助下，把一只风筝放上了高高的天空。风筝上拴了一根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细铁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用来吸收云中的“天电”。放风筝的线是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麻绳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做的，绳子下端结上一段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丝带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在麻绳和丝带的接头处系着一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铜钥匙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"/>
          <p:cNvGrpSpPr/>
          <p:nvPr/>
        </p:nvGrpSpPr>
        <p:grpSpPr>
          <a:xfrm>
            <a:off x="900000" y="831960"/>
            <a:ext cx="5362200" cy="5692680"/>
            <a:chOff x="900000" y="831960"/>
            <a:chExt cx="5362200" cy="5692680"/>
          </a:xfrm>
        </p:grpSpPr>
        <p:sp>
          <p:nvSpPr>
            <p:cNvPr id="73" name="Freeform 5"/>
            <p:cNvSpPr/>
            <p:nvPr/>
          </p:nvSpPr>
          <p:spPr>
            <a:xfrm>
              <a:off x="1688760" y="1687680"/>
              <a:ext cx="3705480" cy="2569320"/>
            </a:xfrm>
            <a:custGeom>
              <a:avLst/>
              <a:gdLst/>
              <a:ahLst/>
              <a:rect l="l" t="t" r="r" b="b"/>
              <a:pathLst>
                <a:path w="2771" h="1855">
                  <a:moveTo>
                    <a:pt x="2" y="677"/>
                  </a:moveTo>
                  <a:cubicBezTo>
                    <a:pt x="0" y="589"/>
                    <a:pt x="471" y="729"/>
                    <a:pt x="697" y="617"/>
                  </a:cubicBezTo>
                  <a:cubicBezTo>
                    <a:pt x="923" y="505"/>
                    <a:pt x="1135" y="8"/>
                    <a:pt x="1356" y="4"/>
                  </a:cubicBezTo>
                  <a:cubicBezTo>
                    <a:pt x="1577" y="0"/>
                    <a:pt x="1793" y="491"/>
                    <a:pt x="2021" y="595"/>
                  </a:cubicBezTo>
                  <a:cubicBezTo>
                    <a:pt x="2249" y="699"/>
                    <a:pt x="2679" y="574"/>
                    <a:pt x="2725" y="625"/>
                  </a:cubicBezTo>
                  <a:cubicBezTo>
                    <a:pt x="2771" y="676"/>
                    <a:pt x="2511" y="703"/>
                    <a:pt x="2298" y="901"/>
                  </a:cubicBezTo>
                  <a:cubicBezTo>
                    <a:pt x="2085" y="1099"/>
                    <a:pt x="1709" y="1773"/>
                    <a:pt x="1445" y="1814"/>
                  </a:cubicBezTo>
                  <a:cubicBezTo>
                    <a:pt x="1181" y="1855"/>
                    <a:pt x="953" y="1338"/>
                    <a:pt x="712" y="1148"/>
                  </a:cubicBezTo>
                  <a:cubicBezTo>
                    <a:pt x="471" y="958"/>
                    <a:pt x="4" y="765"/>
                    <a:pt x="2" y="67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74" name="Group 6"/>
            <p:cNvGrpSpPr/>
            <p:nvPr/>
          </p:nvGrpSpPr>
          <p:grpSpPr>
            <a:xfrm>
              <a:off x="2598480" y="1750320"/>
              <a:ext cx="1925640" cy="2393280"/>
              <a:chOff x="2598480" y="1750320"/>
              <a:chExt cx="1925640" cy="2393280"/>
            </a:xfrm>
          </p:grpSpPr>
          <p:sp>
            <p:nvSpPr>
              <p:cNvPr id="75" name="Line 7"/>
              <p:cNvSpPr/>
              <p:nvPr/>
            </p:nvSpPr>
            <p:spPr>
              <a:xfrm>
                <a:off x="2598480" y="2548080"/>
                <a:ext cx="192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6" name="Line 8"/>
              <p:cNvSpPr/>
              <p:nvPr/>
            </p:nvSpPr>
            <p:spPr>
              <a:xfrm>
                <a:off x="3496680" y="1750320"/>
                <a:ext cx="0" cy="239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cxnSp>
          <p:nvCxnSpPr>
            <p:cNvPr id="77" name="AutoShape 9"/>
            <p:cNvCxnSpPr/>
            <p:nvPr/>
          </p:nvCxnSpPr>
          <p:spPr>
            <a:xfrm>
              <a:off x="3603600" y="4215240"/>
              <a:ext cx="2359800" cy="1493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333399"/>
              </a:solidFill>
              <a:miter/>
            </a:ln>
          </p:spPr>
        </p:cxnSp>
        <p:sp>
          <p:nvSpPr>
            <p:cNvPr id="78" name="Freeform 10"/>
            <p:cNvSpPr/>
            <p:nvPr/>
          </p:nvSpPr>
          <p:spPr>
            <a:xfrm>
              <a:off x="2476440" y="2755800"/>
              <a:ext cx="1879920" cy="1554120"/>
            </a:xfrm>
            <a:custGeom>
              <a:avLst/>
              <a:gdLst/>
              <a:ahLst/>
              <a:rect l="l" t="t" r="r" b="b"/>
              <a:pathLst>
                <a:path w="1728" h="1440">
                  <a:moveTo>
                    <a:pt x="96" y="176"/>
                  </a:moveTo>
                  <a:cubicBezTo>
                    <a:pt x="0" y="352"/>
                    <a:pt x="768" y="1120"/>
                    <a:pt x="960" y="1280"/>
                  </a:cubicBezTo>
                  <a:cubicBezTo>
                    <a:pt x="1152" y="1440"/>
                    <a:pt x="1152" y="1312"/>
                    <a:pt x="1248" y="1136"/>
                  </a:cubicBezTo>
                  <a:cubicBezTo>
                    <a:pt x="1344" y="960"/>
                    <a:pt x="1728" y="384"/>
                    <a:pt x="1536" y="224"/>
                  </a:cubicBezTo>
                  <a:cubicBezTo>
                    <a:pt x="1344" y="64"/>
                    <a:pt x="192" y="0"/>
                    <a:pt x="96" y="176"/>
                  </a:cubicBezTo>
                  <a:close/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2598480" y="1435680"/>
              <a:ext cx="997200" cy="290520"/>
            </a:xfrm>
            <a:custGeom>
              <a:avLst/>
              <a:gdLst/>
              <a:ahLst/>
              <a:rect l="l" t="t" r="r" b="b"/>
              <a:pathLst>
                <a:path w="746" h="210">
                  <a:moveTo>
                    <a:pt x="0" y="0"/>
                  </a:moveTo>
                  <a:lnTo>
                    <a:pt x="746" y="21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80" name="Group 12"/>
            <p:cNvGrpSpPr/>
            <p:nvPr/>
          </p:nvGrpSpPr>
          <p:grpSpPr>
            <a:xfrm>
              <a:off x="5813280" y="5331960"/>
              <a:ext cx="448920" cy="465120"/>
              <a:chOff x="5813280" y="5331960"/>
              <a:chExt cx="448920" cy="465120"/>
            </a:xfrm>
          </p:grpSpPr>
          <p:sp>
            <p:nvSpPr>
              <p:cNvPr id="81" name="AutoShape 13"/>
              <p:cNvSpPr/>
              <p:nvPr/>
            </p:nvSpPr>
            <p:spPr>
              <a:xfrm>
                <a:off x="5813280" y="5597640"/>
                <a:ext cx="192240" cy="199440"/>
              </a:xfrm>
              <a:prstGeom prst="flowChartConnector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 flipV="1">
                <a:off x="5941440" y="5331960"/>
                <a:ext cx="32040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3" name="Line 15"/>
              <p:cNvSpPr/>
              <p:nvPr/>
            </p:nvSpPr>
            <p:spPr>
              <a:xfrm>
                <a:off x="6262200" y="5331960"/>
                <a:ext cx="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4" name="Line 16"/>
              <p:cNvSpPr/>
              <p:nvPr/>
            </p:nvSpPr>
            <p:spPr>
              <a:xfrm flipH="1">
                <a:off x="5941440" y="5398200"/>
                <a:ext cx="320400" cy="26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85" name="Freeform 17"/>
            <p:cNvSpPr/>
            <p:nvPr/>
          </p:nvSpPr>
          <p:spPr>
            <a:xfrm>
              <a:off x="5206320" y="5771160"/>
              <a:ext cx="700200" cy="753480"/>
            </a:xfrm>
            <a:custGeom>
              <a:avLst/>
              <a:gdLst/>
              <a:ahLst/>
              <a:rect l="l" t="t" r="r" b="b"/>
              <a:pathLst>
                <a:path w="297" h="403">
                  <a:moveTo>
                    <a:pt x="297" y="0"/>
                  </a:moveTo>
                  <a:cubicBezTo>
                    <a:pt x="256" y="41"/>
                    <a:pt x="226" y="48"/>
                    <a:pt x="207" y="102"/>
                  </a:cubicBezTo>
                  <a:cubicBezTo>
                    <a:pt x="194" y="245"/>
                    <a:pt x="218" y="222"/>
                    <a:pt x="131" y="294"/>
                  </a:cubicBezTo>
                  <a:cubicBezTo>
                    <a:pt x="0" y="403"/>
                    <a:pt x="169" y="269"/>
                    <a:pt x="67" y="371"/>
                  </a:cubicBezTo>
                  <a:cubicBezTo>
                    <a:pt x="56" y="382"/>
                    <a:pt x="39" y="386"/>
                    <a:pt x="28" y="397"/>
                  </a:cubicBezTo>
                  <a:cubicBezTo>
                    <a:pt x="25" y="400"/>
                    <a:pt x="37" y="397"/>
                    <a:pt x="41" y="397"/>
                  </a:cubicBezTo>
                </a:path>
              </a:pathLst>
            </a:custGeom>
            <a:noFill/>
            <a:ln w="255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>
              <a:off x="1567440" y="831960"/>
              <a:ext cx="241920" cy="5662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7" name="AutoShape 19"/>
            <p:cNvSpPr/>
            <p:nvPr/>
          </p:nvSpPr>
          <p:spPr>
            <a:xfrm>
              <a:off x="2112840" y="831960"/>
              <a:ext cx="302040" cy="62748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8" name="AutoShape 20"/>
            <p:cNvSpPr/>
            <p:nvPr/>
          </p:nvSpPr>
          <p:spPr>
            <a:xfrm>
              <a:off x="900000" y="831960"/>
              <a:ext cx="241920" cy="352800"/>
            </a:xfrm>
            <a:prstGeom prst="lightningBol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89" name="AutoShape 21"/>
          <p:cNvSpPr/>
          <p:nvPr/>
        </p:nvSpPr>
        <p:spPr>
          <a:xfrm>
            <a:off x="3471840" y="727200"/>
            <a:ext cx="1513080" cy="836640"/>
          </a:xfrm>
          <a:prstGeom prst="wedgeEllipseCallout">
            <a:avLst>
              <a:gd name="adj1" fmla="val -71300"/>
              <a:gd name="adj2" fmla="val 55884"/>
            </a:avLst>
          </a:prstGeom>
          <a:gradFill rotWithShape="0">
            <a:gsLst>
              <a:gs pos="0">
                <a:srgbClr val="ffff66"/>
              </a:gs>
              <a:gs pos="100000">
                <a:srgbClr val="f0aee3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细铁丝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AutoShape 24"/>
          <p:cNvSpPr/>
          <p:nvPr/>
        </p:nvSpPr>
        <p:spPr>
          <a:xfrm rot="11434200">
            <a:off x="2690640" y="4650840"/>
            <a:ext cx="1656000" cy="722520"/>
          </a:xfrm>
          <a:prstGeom prst="wedgeEllipseCallout">
            <a:avLst>
              <a:gd name="adj1" fmla="val -70120"/>
              <a:gd name="adj2" fmla="val 77629"/>
            </a:avLst>
          </a:prstGeom>
          <a:gradFill rotWithShape="0">
            <a:gsLst>
              <a:gs pos="0">
                <a:srgbClr val="ffff66"/>
              </a:gs>
              <a:gs pos="100000">
                <a:srgbClr val="f0aee3"/>
              </a:gs>
            </a:gsLst>
            <a:lin ang="7464000"/>
          </a:gradFill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麻绳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AutoShape 26"/>
          <p:cNvSpPr/>
          <p:nvPr/>
        </p:nvSpPr>
        <p:spPr>
          <a:xfrm>
            <a:off x="5962680" y="3639960"/>
            <a:ext cx="2016000" cy="1008360"/>
          </a:xfrm>
          <a:prstGeom prst="wedgeEllipseCallout">
            <a:avLst>
              <a:gd name="adj1" fmla="val -30393"/>
              <a:gd name="adj2" fmla="val 113935"/>
            </a:avLst>
          </a:prstGeom>
          <a:gradFill rotWithShape="0">
            <a:gsLst>
              <a:gs pos="0">
                <a:srgbClr val="ffff66"/>
              </a:gs>
              <a:gs pos="100000">
                <a:srgbClr val="f0aee3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铜钥匙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AutoShape 31"/>
          <p:cNvSpPr/>
          <p:nvPr/>
        </p:nvSpPr>
        <p:spPr>
          <a:xfrm>
            <a:off x="4170240" y="5770440"/>
            <a:ext cx="1225800" cy="609840"/>
          </a:xfrm>
          <a:prstGeom prst="wedgeEllipseCallout">
            <a:avLst>
              <a:gd name="adj1" fmla="val 59199"/>
              <a:gd name="adj2" fmla="val 56773"/>
            </a:avLst>
          </a:prstGeom>
          <a:gradFill rotWithShape="0">
            <a:gsLst>
              <a:gs pos="0">
                <a:srgbClr val="ffff66"/>
              </a:gs>
              <a:gs pos="100000">
                <a:srgbClr val="f0aee3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丝带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050920" y="765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这是一次</a:t>
            </a:r>
            <a:r>
              <a:rPr b="0" lang="zh-CN" sz="3600" spc="-1" strike="noStrike" u="sng">
                <a:solidFill>
                  <a:srgbClr val="fb3753"/>
                </a:solidFill>
                <a:uFillTx/>
                <a:latin typeface="Arial"/>
              </a:rPr>
              <a:t>危险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的实验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55640" y="1484280"/>
            <a:ext cx="82090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75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月的一天，天空乌云密布，雷电交加。一片乌云掠过风筝上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富兰克林发现麻绳上的纤维 “怒发冲冠”般地竖了起来。这是麻绳带电的信号！突然， 一道闪电劈开云层，在天空划了一个 “之” 字， 接着一个炸雷，大雨倾盆而下。麻绳淋湿后就成了能使电流通过的导体。这时，富兰克林用手指靠近铜钥匙，“啪”的一声， 骤然闪现一道蓝色的火花，他的手臂一阵发麻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20080418211230665">
            <a:hlinkClick r:id="rId2"/>
          </p:cNvPr>
          <p:cNvPicPr/>
          <p:nvPr/>
        </p:nvPicPr>
        <p:blipFill>
          <a:blip r:embed="rId3"/>
          <a:srcRect l="3815" t="4737" r="3159" b="3155"/>
          <a:stretch/>
        </p:blipFill>
        <p:spPr>
          <a:xfrm>
            <a:off x="684360" y="1206360"/>
            <a:ext cx="7318080" cy="5435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771640" y="2205000"/>
            <a:ext cx="4343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实验危险</a:t>
            </a:r>
            <a:endParaRPr b="1" lang="en-US" sz="60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切勿模仿</a:t>
            </a:r>
            <a:endParaRPr b="1" lang="en-US" sz="6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82436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富兰克林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欣喜若狂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地喊道：“成功了！成功了！我捉住‘天电’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50920" y="1125360"/>
            <a:ext cx="4680000" cy="5814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是一次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成功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实验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042920" y="3716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欣喜若狂”怎么理解？你能用它说一句话吗？怎样读才能读出富兰克林的心情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7"/>
          <p:cNvSpPr/>
          <p:nvPr/>
        </p:nvSpPr>
        <p:spPr>
          <a:xfrm>
            <a:off x="539640" y="134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风筝实验”震惊了世界。它向世人宣告，雷暴只是普普通通的放电现象，“上帝的怒火”不过是无稽之谈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539640" y="4292640"/>
            <a:ext cx="784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b3753"/>
                </a:solidFill>
                <a:latin typeface="Arial"/>
              </a:rPr>
              <a:t>想象一下：此时的人们又会说些什么呢？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468360" y="1197000"/>
            <a:ext cx="6697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见过避雷针吗？它有什么作用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Picture 6" descr="lightning_rod"/>
          <p:cNvPicPr/>
          <p:nvPr/>
        </p:nvPicPr>
        <p:blipFill>
          <a:blip r:embed="rId2"/>
          <a:stretch/>
        </p:blipFill>
        <p:spPr>
          <a:xfrm>
            <a:off x="395280" y="2781360"/>
            <a:ext cx="2571840" cy="39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rcRect l="0" t="121" r="0" b="11837"/>
          <a:stretch/>
        </p:blipFill>
        <p:spPr>
          <a:xfrm>
            <a:off x="2978280" y="3240000"/>
            <a:ext cx="2447640" cy="342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pic?fid=2325997877779311765"/>
          <p:cNvPicPr/>
          <p:nvPr/>
        </p:nvPicPr>
        <p:blipFill>
          <a:blip r:embed="rId4"/>
          <a:stretch/>
        </p:blipFill>
        <p:spPr>
          <a:xfrm>
            <a:off x="5364000" y="2781360"/>
            <a:ext cx="1513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20098192314744092"/>
          <p:cNvPicPr/>
          <p:nvPr/>
        </p:nvPicPr>
        <p:blipFill>
          <a:blip r:embed="rId2"/>
          <a:srcRect l="0" t="0" r="5471" b="5323"/>
          <a:stretch/>
        </p:blipFill>
        <p:spPr>
          <a:xfrm>
            <a:off x="179280" y="1413000"/>
            <a:ext cx="7056720" cy="5300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1116000" y="1628640"/>
            <a:ext cx="5543640" cy="2810160"/>
          </a:xfrm>
          <a:prstGeom prst="cloudCallout">
            <a:avLst>
              <a:gd name="adj1" fmla="val -43953"/>
              <a:gd name="adj2" fmla="val 70009"/>
            </a:avLst>
          </a:prstGeom>
          <a:gradFill rotWithShape="0">
            <a:gsLst>
              <a:gs pos="0">
                <a:srgbClr val="ffff66"/>
              </a:gs>
              <a:gs pos="100000">
                <a:srgbClr val="f0aee3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有什么谜想解吗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4"/>
          <p:cNvSpPr/>
          <p:nvPr/>
        </p:nvSpPr>
        <p:spPr>
          <a:xfrm>
            <a:off x="179280" y="1374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自由读读课文，用文中的话来概括已分好的段意：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900000" y="495468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段（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然段）：富兰克林根据放电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原理，发明了避雷针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900000" y="2793960"/>
            <a:ext cx="77058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段（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然段）：讲雷暴在人们的心目中一直是种可怕的东西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4360" y="3875040"/>
            <a:ext cx="78483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段（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~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然段）：写富兰克林用“风筝实验”解开雷暴之谜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5" descr="la_pic?fid=12676389489516100550"/>
          <p:cNvPicPr/>
          <p:nvPr/>
        </p:nvPicPr>
        <p:blipFill>
          <a:blip r:embed="rId2"/>
          <a:srcRect l="0" t="0" r="4209" b="7780"/>
          <a:stretch/>
        </p:blipFill>
        <p:spPr>
          <a:xfrm>
            <a:off x="250920" y="1193760"/>
            <a:ext cx="7705800" cy="55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7960" y="1654200"/>
            <a:ext cx="7718760" cy="1252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古时候西方人把雷暴看作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帝的怒火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国人则把它称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雷神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长期以来，雷暴在人们的心目中一直是种可怕的东西。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90560" y="463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哪些词最能体现人们对雷暴的害怕？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757080" y="515772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什么说雷暴是一种可怕的东西？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500040" y="59500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它能把人击倒，将高大的树木劈成两半。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3"/>
          <p:cNvGrpSpPr/>
          <p:nvPr/>
        </p:nvGrpSpPr>
        <p:grpSpPr>
          <a:xfrm>
            <a:off x="108000" y="765000"/>
            <a:ext cx="4895280" cy="2592720"/>
            <a:chOff x="108000" y="765000"/>
            <a:chExt cx="4895280" cy="2592720"/>
          </a:xfrm>
        </p:grpSpPr>
        <p:sp>
          <p:nvSpPr>
            <p:cNvPr id="53" name="Text Box 5"/>
            <p:cNvSpPr/>
            <p:nvPr/>
          </p:nvSpPr>
          <p:spPr>
            <a:xfrm>
              <a:off x="605520" y="1036080"/>
              <a:ext cx="435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　　 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个谜团直到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世纪才被美国科学家富兰克林解开。</a:t>
              </a:r>
              <a:endParaRPr b="1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" name="Cloud"/>
            <p:cNvSpPr/>
            <p:nvPr/>
          </p:nvSpPr>
          <p:spPr>
            <a:xfrm>
              <a:off x="108000" y="765000"/>
              <a:ext cx="4895280" cy="2592720"/>
            </a:xfrm>
            <a:custGeom>
              <a:avLst/>
              <a:gdLst>
                <a:gd name="textAreaLeft" fmla="*/ 674280 w 4895280"/>
                <a:gd name="textAreaRight" fmla="*/ 3871800 w 4895280"/>
                <a:gd name="textAreaTop" fmla="*/ 391680 h 2592720"/>
                <a:gd name="textAreaBottom" fmla="*/ 2081880 h 259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5" name="Text Box 15"/>
          <p:cNvSpPr/>
          <p:nvPr/>
        </p:nvSpPr>
        <p:spPr>
          <a:xfrm>
            <a:off x="5927040" y="1681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富兰克林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2050920" y="4364640"/>
            <a:ext cx="4321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你了解富兰克林吗？ 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2"/>
          <a:stretch/>
        </p:blipFill>
        <p:spPr>
          <a:xfrm>
            <a:off x="5940360" y="2492280"/>
            <a:ext cx="3024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9"/>
          <p:cNvSpPr/>
          <p:nvPr/>
        </p:nvSpPr>
        <p:spPr>
          <a:xfrm>
            <a:off x="684360" y="119700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兰克林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9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美国资产阶级革命时期的民主主义主义者、科学家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3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在费城建立美国第一个公共图书馆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4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组织美国哲学会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5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创办宾夕法尼亚大学。独立战争时期参加反英斗争，并参加起草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立宣言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7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8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使法国，缔结法美同盟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8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为制宪会议代表，主张废除奴隶制度。富兰克林在研究大气、电方面曾作出贡献，发明了避雷针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755640" y="22050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　　默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3.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自然段，画出富兰克林是怎样想的，怎样做的句子。并想想你觉得富兰克林给你留下了什么印象？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2556000" y="1052640"/>
            <a:ext cx="23032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06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温馨提示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8"/>
          <p:cNvSpPr/>
          <p:nvPr/>
        </p:nvSpPr>
        <p:spPr>
          <a:xfrm>
            <a:off x="395280" y="28526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富兰克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早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观察到，天上的雷暴与静电放电现象有很多相似之处：它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会发光，光的颜色相同，光的方向相似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伴随着爆炸声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能毙伤动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由此他大胆地推测，雷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就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熟知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放电现象。　　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116000" y="12160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从哪些地方可以看出他注意观察、大胆推测？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755640" y="191628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种推论现在看起来</a:t>
            </a:r>
            <a:r>
              <a:rPr b="1" lang="zh-CN" sz="3200" spc="-1" strike="noStrike">
                <a:solidFill>
                  <a:srgbClr val="f83a75"/>
                </a:solidFill>
                <a:latin typeface="Arial"/>
                <a:ea typeface="楷体_GB2312"/>
              </a:rPr>
              <a:t>不足为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但在当时却是令人</a:t>
            </a:r>
            <a:r>
              <a:rPr b="1" lang="zh-CN" sz="3200" spc="-1" strike="noStrike">
                <a:solidFill>
                  <a:srgbClr val="f83a75"/>
                </a:solidFill>
                <a:latin typeface="Arial"/>
                <a:ea typeface="楷体_GB2312"/>
              </a:rPr>
              <a:t>难以置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26920" y="3573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“不足为奇”和“难以置信”各是什么意思？你能用“不足为奇”说一句话吗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684360" y="1052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人们已经习惯地认为天上地下是两个世界，雷暴是神灵的火焰，怎么可以同人间的事物混为一谈呢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不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般人不相信他的推论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就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许多自称有学问的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对他冷嘲热讽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851280" y="4149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们会说些什么呢？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0" y="3737880"/>
            <a:ext cx="4465800" cy="1439640"/>
          </a:xfrm>
          <a:prstGeom prst="irregularSeal2">
            <a:avLst/>
          </a:pr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象说话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China User</cp:lastModifiedBy>
  <dcterms:modified xsi:type="dcterms:W3CDTF">2017-10-26T14:27:55Z</dcterms:modified>
  <cp:revision>200</cp:revision>
  <dc:subject/>
  <dc:title>幻灯片 1</dc:title>
</cp:coreProperties>
</file>