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24F27-82D7-4B4F-A1F9-66197F1E81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A72A1-207B-4057-B7EE-E5C317B02A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E87-237C-4AD3-8A4B-23689B79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86C-C555-420D-A9E6-DB65C558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19F-7E65-4247-B94E-FC837EF7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B07-13F2-47F7-8D73-188C93D5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830-E1AB-407B-953B-C6C5EE7A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2C1-DFCE-4D0D-93AA-9E996B94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DBF-C5BC-4D2D-A74E-709AFBE8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FF1-D8C2-4117-BED2-94448EEE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1D5-2841-4D4C-92CE-D6893FA8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912-38D8-4B44-B85A-D55310E3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570-1D49-463C-92BB-AD65513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6B2-64D7-4923-B0AC-591496CF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AE0CA-9737-48B3-BE0F-0CA05E7073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2" name="任意多边形 3" descr=""/>
            <p:cNvPicPr/>
            <p:nvPr/>
          </p:nvPicPr>
          <p:blipFill>
            <a:blip r:embed="rId3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3338"/>
          <p:cNvGrpSpPr/>
          <p:nvPr/>
        </p:nvGrpSpPr>
        <p:grpSpPr>
          <a:xfrm>
            <a:off x="2019240" y="781200"/>
            <a:ext cx="6019920" cy="1304640"/>
            <a:chOff x="2019240" y="781200"/>
            <a:chExt cx="6019920" cy="1304640"/>
          </a:xfrm>
        </p:grpSpPr>
        <p:sp>
          <p:nvSpPr>
            <p:cNvPr id="60" name="Text Box 2"/>
            <p:cNvSpPr/>
            <p:nvPr/>
          </p:nvSpPr>
          <p:spPr>
            <a:xfrm>
              <a:off x="3420720" y="1011240"/>
              <a:ext cx="461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秋天的怀念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" name="组合 13337"/>
            <p:cNvGrpSpPr/>
            <p:nvPr/>
          </p:nvGrpSpPr>
          <p:grpSpPr>
            <a:xfrm>
              <a:off x="2019240" y="781200"/>
              <a:ext cx="1323360" cy="1304640"/>
              <a:chOff x="2019240" y="781200"/>
              <a:chExt cx="1323360" cy="1304640"/>
            </a:xfrm>
          </p:grpSpPr>
          <p:sp>
            <p:nvSpPr>
              <p:cNvPr id="62" name="AutoShape 11"/>
              <p:cNvSpPr/>
              <p:nvPr/>
            </p:nvSpPr>
            <p:spPr>
              <a:xfrm>
                <a:off x="2019240" y="781200"/>
                <a:ext cx="1323360" cy="130464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文本框 13"/>
              <p:cNvSpPr/>
              <p:nvPr/>
            </p:nvSpPr>
            <p:spPr>
              <a:xfrm>
                <a:off x="2133360" y="93060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4" name="Picture 23" descr=""/>
          <p:cNvPicPr/>
          <p:nvPr/>
        </p:nvPicPr>
        <p:blipFill>
          <a:blip r:embed="rId7"/>
          <a:stretch/>
        </p:blipFill>
        <p:spPr>
          <a:xfrm>
            <a:off x="2374920" y="2239920"/>
            <a:ext cx="4608360" cy="2989440"/>
          </a:xfrm>
          <a:prstGeom prst="rect">
            <a:avLst/>
          </a:prstGeom>
          <a:ln w="0">
            <a:noFill/>
          </a:ln>
        </p:spPr>
      </p:pic>
      <p:grpSp>
        <p:nvGrpSpPr>
          <p:cNvPr id="65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6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979560" y="1457280"/>
            <a:ext cx="76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完故事，你是不是被伟大的母爱所震撼？让我们引用两句名言诗词来表达对母亲的敬意吧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 ________________________________________________ ________________________________________________ ______________________________________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24" descr="花盆.png"/>
          <p:cNvPicPr/>
          <p:nvPr/>
        </p:nvPicPr>
        <p:blipFill>
          <a:blip r:embed="rId1"/>
          <a:stretch/>
        </p:blipFill>
        <p:spPr>
          <a:xfrm>
            <a:off x="736560" y="161136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01" name="矩形 2"/>
          <p:cNvSpPr/>
          <p:nvPr/>
        </p:nvSpPr>
        <p:spPr>
          <a:xfrm>
            <a:off x="1071720" y="3073320"/>
            <a:ext cx="68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51080" indent="-135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全世界的母亲是多么的相像！她们的心始终一样，每一个母亲都有一颗极为纯真的赤子之心。（惠特曼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51080" indent="-135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谁言寸草心，报得三春晖。（孟郊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961920" y="3430440"/>
            <a:ext cx="7425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母亲是在秋天去世的，秋天对“我”有着不同的意义；母亲在世时曾多次想要带“我”去北海看菊花，菊花是秋天的象征，文末也写到“我”与妹妹同看菊花。对菊花、秋天的怀念就是对母亲的怀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题目为什么叫“秋天的怀念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5680" indent="-12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哪些事例说明了“双腿瘫痪后，我的脾气变得暴怒无常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1197000" y="359244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望着望着天上北归的雁阵，我会突然把面前的玻璃砸碎；听着听着李谷一甜美的歌声，我会猛地把手边的东西摔向四周的墙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对“我”的关心主要体现在哪几件事上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839880" y="2616120"/>
            <a:ext cx="741672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“我”发脾气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劝慰“我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母亲重病缠身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却不告诉“我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想给“我”增添痛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母亲央求“我”去看菊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母亲的临终嘱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内容占位符 2"/>
          <p:cNvSpPr/>
          <p:nvPr/>
        </p:nvSpPr>
        <p:spPr>
          <a:xfrm>
            <a:off x="804960" y="147492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多次提到菊花，有何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1230480" y="2201760"/>
            <a:ext cx="70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文中多次提到菊花，它在文中起线索的作用，把母亲对“我”的爱和“我”对母亲的怀念串联在一起。同时，菊花具有深刻的象征意义。菊花象征着母亲对生命的热爱，象征着母亲希望“我”也能热爱生活、珍惜生命；菊花淡雅高洁，是母亲品质的写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内容占位符 2"/>
          <p:cNvSpPr/>
          <p:nvPr/>
        </p:nvSpPr>
        <p:spPr>
          <a:xfrm>
            <a:off x="790560" y="198900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母亲”是一个怎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1182600" y="297648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是一个仁慈、善良、有耐心、细致、坚强、伟大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26"/>
          <p:cNvSpPr/>
          <p:nvPr/>
        </p:nvSpPr>
        <p:spPr>
          <a:xfrm>
            <a:off x="857880" y="20210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秋天的怀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左大括号 3"/>
          <p:cNvSpPr/>
          <p:nvPr/>
        </p:nvSpPr>
        <p:spPr>
          <a:xfrm>
            <a:off x="2801880" y="3313080"/>
            <a:ext cx="324000" cy="1378080"/>
          </a:xfrm>
          <a:custGeom>
            <a:avLst/>
            <a:gdLst>
              <a:gd name="textAreaLeft" fmla="*/ 207000 w 324000"/>
              <a:gd name="textAreaRight" fmla="*/ 324360 w 324000"/>
              <a:gd name="textAreaTop" fmla="*/ 8280 h 1378080"/>
              <a:gd name="textAreaBottom" fmla="*/ 1369800 h 137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3"/>
                </a:cubicBezTo>
                <a:lnTo>
                  <a:pt x="10800" y="10377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3"/>
                </a:cubicBezTo>
                <a:lnTo>
                  <a:pt x="10800" y="21177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1851120" y="194004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腿瘫痪，“我”发脾气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左大括号 6"/>
          <p:cNvSpPr/>
          <p:nvPr/>
        </p:nvSpPr>
        <p:spPr>
          <a:xfrm>
            <a:off x="1558800" y="2216160"/>
            <a:ext cx="312840" cy="3360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3360600"/>
              <a:gd name="textAreaBottom" fmla="*/ 3352680 h 33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3056040" y="3154320"/>
            <a:ext cx="5076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母病重自己忍受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无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母亲求“我”去赏菊花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细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母临终深情嘱托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无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左大括号 24"/>
          <p:cNvSpPr/>
          <p:nvPr/>
        </p:nvSpPr>
        <p:spPr>
          <a:xfrm flipH="1">
            <a:off x="7334280" y="2128680"/>
            <a:ext cx="169920" cy="3711600"/>
          </a:xfrm>
          <a:custGeom>
            <a:avLst/>
            <a:gdLst>
              <a:gd name="textAreaLeft" fmla="*/ 109080 w 169920"/>
              <a:gd name="textAreaRight" fmla="*/ 170640 w 169920"/>
              <a:gd name="textAreaTop" fmla="*/ 4320 h 3711600"/>
              <a:gd name="textAreaBottom" fmla="*/ 3707280 h 371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"/>
                  <a:pt x="10800" y="82"/>
                </a:cubicBezTo>
                <a:lnTo>
                  <a:pt x="10800" y="10718"/>
                </a:lnTo>
                <a:cubicBezTo>
                  <a:pt x="10800" y="10759"/>
                  <a:pt x="5400" y="10800"/>
                  <a:pt x="0" y="10800"/>
                </a:cubicBezTo>
                <a:cubicBezTo>
                  <a:pt x="5400" y="10800"/>
                  <a:pt x="10800" y="10841"/>
                  <a:pt x="10800" y="10882"/>
                </a:cubicBezTo>
                <a:lnTo>
                  <a:pt x="10800" y="21518"/>
                </a:lnTo>
                <a:cubicBezTo>
                  <a:pt x="10800" y="2155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3413160" y="1911240"/>
            <a:ext cx="3103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砸玻璃，摔东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抓“我”手，柔声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3732120" y="4921200"/>
            <a:ext cx="2710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菊花美，懂母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兄妹俩，好好儿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1763640" y="5143680"/>
            <a:ext cx="18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妹妹推“我”赏菊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1782720" y="3578400"/>
            <a:ext cx="119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为母看菊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26"/>
          <p:cNvSpPr/>
          <p:nvPr/>
        </p:nvSpPr>
        <p:spPr>
          <a:xfrm>
            <a:off x="7546320" y="2225160"/>
            <a:ext cx="139932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母爱深似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怀念到永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9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左大括号 18"/>
          <p:cNvSpPr/>
          <p:nvPr/>
        </p:nvSpPr>
        <p:spPr>
          <a:xfrm>
            <a:off x="3139920" y="2104920"/>
            <a:ext cx="301680" cy="804960"/>
          </a:xfrm>
          <a:custGeom>
            <a:avLst/>
            <a:gdLst>
              <a:gd name="textAreaLeft" fmla="*/ 192960 w 301680"/>
              <a:gd name="textAreaRight" fmla="*/ 302040 w 301680"/>
              <a:gd name="textAreaTop" fmla="*/ 7560 h 804960"/>
              <a:gd name="textAreaBottom" fmla="*/ 797400 h 8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左大括号 19"/>
          <p:cNvSpPr/>
          <p:nvPr/>
        </p:nvSpPr>
        <p:spPr>
          <a:xfrm>
            <a:off x="3457440" y="5108400"/>
            <a:ext cx="357480" cy="7765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776520"/>
              <a:gd name="textAreaBottom" fmla="*/ 767520 h 7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4"/>
                  <a:pt x="10800" y="828"/>
                </a:cubicBezTo>
                <a:lnTo>
                  <a:pt x="10800" y="9972"/>
                </a:lnTo>
                <a:cubicBezTo>
                  <a:pt x="10800" y="10386"/>
                  <a:pt x="5400" y="10800"/>
                  <a:pt x="0" y="10800"/>
                </a:cubicBezTo>
                <a:cubicBezTo>
                  <a:pt x="5400" y="10800"/>
                  <a:pt x="10800" y="11214"/>
                  <a:pt x="10800" y="11628"/>
                </a:cubicBezTo>
                <a:lnTo>
                  <a:pt x="10800" y="20772"/>
                </a:lnTo>
                <a:cubicBezTo>
                  <a:pt x="10800" y="211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左大括号 20"/>
          <p:cNvSpPr/>
          <p:nvPr/>
        </p:nvSpPr>
        <p:spPr>
          <a:xfrm flipH="1">
            <a:off x="6075360" y="2070000"/>
            <a:ext cx="334800" cy="804960"/>
          </a:xfrm>
          <a:custGeom>
            <a:avLst/>
            <a:gdLst>
              <a:gd name="textAreaLeft" fmla="*/ 214200 w 334800"/>
              <a:gd name="textAreaRight" fmla="*/ 335520 w 334800"/>
              <a:gd name="textAreaTop" fmla="*/ 8640 h 804960"/>
              <a:gd name="textAreaBottom" fmla="*/ 796320 h 8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5"/>
                  <a:pt x="10800" y="749"/>
                </a:cubicBezTo>
                <a:lnTo>
                  <a:pt x="10800" y="10051"/>
                </a:lnTo>
                <a:cubicBezTo>
                  <a:pt x="10800" y="10426"/>
                  <a:pt x="5400" y="10800"/>
                  <a:pt x="0" y="10800"/>
                </a:cubicBezTo>
                <a:cubicBezTo>
                  <a:pt x="5400" y="10800"/>
                  <a:pt x="10800" y="11175"/>
                  <a:pt x="10800" y="11549"/>
                </a:cubicBezTo>
                <a:lnTo>
                  <a:pt x="10800" y="20851"/>
                </a:lnTo>
                <a:cubicBezTo>
                  <a:pt x="10800" y="2122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1"/>
          <p:cNvSpPr/>
          <p:nvPr/>
        </p:nvSpPr>
        <p:spPr>
          <a:xfrm>
            <a:off x="6464160" y="2257560"/>
            <a:ext cx="310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22"/>
          <p:cNvSpPr/>
          <p:nvPr/>
        </p:nvSpPr>
        <p:spPr>
          <a:xfrm flipH="1">
            <a:off x="6146640" y="5086440"/>
            <a:ext cx="370080" cy="825480"/>
          </a:xfrm>
          <a:custGeom>
            <a:avLst/>
            <a:gdLst>
              <a:gd name="textAreaLeft" fmla="*/ 236520 w 370080"/>
              <a:gd name="textAreaRight" fmla="*/ 370440 w 370080"/>
              <a:gd name="textAreaTop" fmla="*/ 9360 h 825480"/>
              <a:gd name="textAreaBottom" fmla="*/ 81612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4"/>
                  <a:pt x="10800" y="807"/>
                </a:cubicBezTo>
                <a:lnTo>
                  <a:pt x="10800" y="9993"/>
                </a:lnTo>
                <a:cubicBezTo>
                  <a:pt x="10800" y="10397"/>
                  <a:pt x="5400" y="10800"/>
                  <a:pt x="0" y="10800"/>
                </a:cubicBezTo>
                <a:cubicBezTo>
                  <a:pt x="5400" y="10800"/>
                  <a:pt x="10800" y="11204"/>
                  <a:pt x="10800" y="11607"/>
                </a:cubicBezTo>
                <a:lnTo>
                  <a:pt x="10800" y="20793"/>
                </a:lnTo>
                <a:cubicBezTo>
                  <a:pt x="10800" y="2119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3"/>
          <p:cNvSpPr/>
          <p:nvPr/>
        </p:nvSpPr>
        <p:spPr>
          <a:xfrm>
            <a:off x="6546960" y="5240160"/>
            <a:ext cx="98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深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内容占位符 2"/>
          <p:cNvSpPr/>
          <p:nvPr/>
        </p:nvSpPr>
        <p:spPr>
          <a:xfrm>
            <a:off x="1101600" y="2603520"/>
            <a:ext cx="72374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讲述了一位重病缠身的母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贴入微地照顾双腿瘫痪的儿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鼓励儿子要好好儿活下去的故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歌颂了伟大而无私的母爱，表达了作者对母亲的深深怀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3"/>
          <p:cNvGrpSpPr/>
          <p:nvPr/>
        </p:nvGrpSpPr>
        <p:grpSpPr>
          <a:xfrm>
            <a:off x="584280" y="1523880"/>
            <a:ext cx="2593800" cy="666720"/>
            <a:chOff x="584280" y="1523880"/>
            <a:chExt cx="2593800" cy="666720"/>
          </a:xfrm>
        </p:grpSpPr>
        <p:sp>
          <p:nvSpPr>
            <p:cNvPr id="140" name="圆角矩形 4"/>
            <p:cNvSpPr/>
            <p:nvPr/>
          </p:nvSpPr>
          <p:spPr>
            <a:xfrm>
              <a:off x="1400040" y="16617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84280" y="152388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16"/>
            <p:cNvSpPr/>
            <p:nvPr/>
          </p:nvSpPr>
          <p:spPr>
            <a:xfrm>
              <a:off x="1659600" y="168084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与父亲不相见已二年余了，我最不能忘记的是他的背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那年冬天，祖母死了，父亲的差使也交卸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xi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了，正是祸不单行的日子。我从北京到徐州打算跟着父亲奔丧回家。到徐州见着父亲，看见满院狼藉的东西，又想起祖母，不禁簌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s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簌地流下眼泪。父亲说：“事已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此，不必难过，好在天无绝人之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家变卖典质，父亲还了亏空；又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钱办了丧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8" descr="C:\Users\Administrator\Desktop\五上CC推荐阅读图片\20背影.jpg"/>
          <p:cNvPicPr/>
          <p:nvPr/>
        </p:nvPicPr>
        <p:blipFill>
          <a:blip r:embed="rId3"/>
          <a:stretch/>
        </p:blipFill>
        <p:spPr>
          <a:xfrm>
            <a:off x="5389560" y="4245120"/>
            <a:ext cx="31240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用一定的速度默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，感悟母爱的伟大。初步领悟借小事来表达人物情感的写法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这些日子，家中光景很是惨淡，一半为了丧事，一半为了父亲赋闲。丧事完毕，父亲要到南京谋事，我也要回北京念书，我们便同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到南京时，有朋友约去游逛，勾留了一日；第二日上午便须渡江到浦口，下午上车北去。父亲因为事忙，本已说定不送我，叫旅馆里一个熟识的茶房陪我同去。他再三嘱咐茶房，甚是仔细。但他终于不放心，怕茶房不妥帖；颇踌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chóu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ch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了一会。其实我那年已二十岁，北京已来往过两三次，是没有什么要紧的了。他踌躇了一会，终于决定还是自己送我去。我再三劝他不必去；他只说：“不要紧，他们去不好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们过了江，进了车站。我买票，他忙着照看行李。行李太多了，得向脚夫行些小费才可过去。他便又忙着和他们讲价钱。我那时真是聪明过分，总觉他说话不大漂亮，非自己插嘴不可，但他终于讲定了价钱；就送我上车。他给我拣定了靠车门的一张椅子；我将他给我做的紫毛大衣铺好座位。他嘱我路上小心，夜里要警醒些，不要受凉。又嘱托茶房好好照应我。我心里暗笑他的迂；他们只认得钱，托他们只是白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而且我这样大年纪的人，难道还不能料理自己么？唉，我现在想想，那时真是太聪明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说道：“爸爸，你走吧。”他往车外看了看说：“我买几个橘子去。你就在此地，不要走动。”我看那边月台的栅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zh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栏外有几个卖东西的等着顾客。走到那边月台，须穿过铁道，须跳下去又爬上去。父亲是一个胖子，走过去自然要费事些。我本来要去的，他不肯，只好让他去。我看见他戴着黑布小帽，穿着黑布大马褂，深青布棉袍，蹒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pá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跚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shā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地走到铁道边，慢慢探身下去，尚不大难。可是他穿过铁道，要爬上那边月台，就不容易了。他用两手攀着上面，两脚再向上缩；他肥胖的身子向左微倾，显出努力的样子，这时我看见他的背影，我的泪很快地流下来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赶紧拭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shì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干了泪。怕他看见，也怕别人看见。我再向外看时，他已抱了朱红的橘子往回走了。过铁道时，他先将橘子散放在地上，自己慢慢爬下，再抱起橘子走。到这边时，我赶紧去搀他。他和我走到车上，将橘子一股脑儿放在我的皮大衣上。于是扑扑衣上的泥土，心里很轻松似的。过一会说：“我走了，到那边来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望着他走出去。他走了几步，回头看见我，说：“进去吧，里边没人。”等他的背影混入来来往往的人里，再找不着了，我便进来坐下，我的眼泪又来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近几年来，父亲和我都是东奔西走，家中光景是一日不如一日。他少年出外谋生，独立支持，做了许多大事。哪知老境却如此颓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tuí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他触目伤怀，自然情不能自已。情郁于中，自然要发之于外；家庭琐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suǒ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屑便往往触他之怒。他待我渐渐不同往日。但最近两年的不见，他终于忘却我的不好，只是惦记着我，惦记着我的儿子。我北来后，他写了一信给我，信中说道：“我身体平安，惟膀子疼痛厉害，举箸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zh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提笔，诸多不便，大约大去之期不远矣。”我读到此处，在晶莹的泪光中，又看见那肥胖的、青布棉袍黑布马褂的背影。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不知何时再能与他相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1" descr="http://s6.sinaimg.cn/bmiddle/49a01391951bb87626de5"/>
          <p:cNvPicPr/>
          <p:nvPr/>
        </p:nvPicPr>
        <p:blipFill>
          <a:blip r:embed="rId1"/>
          <a:stretch/>
        </p:blipFill>
        <p:spPr>
          <a:xfrm>
            <a:off x="996840" y="2125800"/>
            <a:ext cx="7338960" cy="3760560"/>
          </a:xfrm>
          <a:prstGeom prst="rect">
            <a:avLst/>
          </a:prstGeom>
          <a:ln w="0">
            <a:noFill/>
          </a:ln>
        </p:spPr>
      </p:pic>
      <p:sp>
        <p:nvSpPr>
          <p:cNvPr id="156" name="矩形 1"/>
          <p:cNvSpPr/>
          <p:nvPr/>
        </p:nvSpPr>
        <p:spPr>
          <a:xfrm>
            <a:off x="993600" y="2162160"/>
            <a:ext cx="7342200" cy="3142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父母皆艰辛，尤以母为笃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劝孝歌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徐熙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慈父之爱子，非为报也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淮南子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刘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大意：慈祥的父亲疼爱自己的孩子，并不是为了什么回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慈母倚门情，游子行路苦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墨萱图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王冕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哀哀父母，生我劬劳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诗经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小雅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蓼莪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8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1483200" y="2095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子路孝敬父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1265400" y="256212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子路小时候家里很穷，长年靠吃粗粮野菜度日。有一次，年老的父母想吃米饭，可是家里一点儿米也没有。子路想着去向亲戚借米。于是，子路走了十几里路，从亲戚家背回了一小袋米，看到父母吃上了香喷喷的米饭，子路忘记了疲劳。邻居们都夸子路是一个勇敢孝顺的好孩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4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68" name="矩形 11"/>
          <p:cNvSpPr/>
          <p:nvPr/>
        </p:nvSpPr>
        <p:spPr>
          <a:xfrm>
            <a:off x="1017720" y="226836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着史铁生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秋天的怀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感受着伟大而无私的母爱，爱是悄悄地观望，爱是央求般的眼神，爱是无限的牵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应懂得感恩，珍惜亲情与友情，好好儿活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909720" y="3530520"/>
            <a:ext cx="7483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读这篇文章，语速要缓慢，语调要低沉。其中，文章的第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3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自然段描写母亲的心理由焦虑、希望到惊喜，又转为兴奋，最后回到痛苦的现实中的变化，应注意把握。反复朗读课文，体会作者是怎样通过小事来表达对母亲的深切怀念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15"/>
          <p:cNvGrpSpPr/>
          <p:nvPr/>
        </p:nvGrpSpPr>
        <p:grpSpPr>
          <a:xfrm>
            <a:off x="814320" y="1657440"/>
            <a:ext cx="7661520" cy="1439280"/>
            <a:chOff x="814320" y="1657440"/>
            <a:chExt cx="7661520" cy="1439280"/>
          </a:xfrm>
        </p:grpSpPr>
        <p:sp>
          <p:nvSpPr>
            <p:cNvPr id="172" name="圆角矩形 14"/>
            <p:cNvSpPr/>
            <p:nvPr/>
          </p:nvSpPr>
          <p:spPr>
            <a:xfrm>
              <a:off x="814320" y="2385000"/>
              <a:ext cx="766152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如果你是课文中的“我”，你会有什么感受？请你带着这种感受朗读课文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组合 10"/>
            <p:cNvGrpSpPr/>
            <p:nvPr/>
          </p:nvGrpSpPr>
          <p:grpSpPr>
            <a:xfrm>
              <a:off x="904320" y="1657440"/>
              <a:ext cx="1594080" cy="678240"/>
              <a:chOff x="904320" y="1657440"/>
              <a:chExt cx="1594080" cy="678240"/>
            </a:xfrm>
          </p:grpSpPr>
          <p:sp>
            <p:nvSpPr>
              <p:cNvPr id="174" name="任意多边形 11"/>
              <p:cNvSpPr/>
              <p:nvPr/>
            </p:nvSpPr>
            <p:spPr>
              <a:xfrm>
                <a:off x="1321560" y="1749600"/>
                <a:ext cx="1176840" cy="4932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5" name="椭圆 12"/>
              <p:cNvGrpSpPr/>
              <p:nvPr/>
            </p:nvGrpSpPr>
            <p:grpSpPr>
              <a:xfrm>
                <a:off x="904320" y="1657440"/>
                <a:ext cx="700560" cy="678240"/>
                <a:chOff x="904320" y="1657440"/>
                <a:chExt cx="700560" cy="678240"/>
              </a:xfrm>
            </p:grpSpPr>
            <p:pic>
              <p:nvPicPr>
                <p:cNvPr id="176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4320" y="1657440"/>
                  <a:ext cx="700560" cy="67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1017000" y="1764360"/>
                  <a:ext cx="47484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3"/>
          <p:cNvGrpSpPr/>
          <p:nvPr/>
        </p:nvGrpSpPr>
        <p:grpSpPr>
          <a:xfrm>
            <a:off x="677880" y="1204920"/>
            <a:ext cx="7661160" cy="1495080"/>
            <a:chOff x="677880" y="1204920"/>
            <a:chExt cx="7661160" cy="1495080"/>
          </a:xfrm>
        </p:grpSpPr>
        <p:grpSp>
          <p:nvGrpSpPr>
            <p:cNvPr id="179" name="组合 6"/>
            <p:cNvGrpSpPr/>
            <p:nvPr/>
          </p:nvGrpSpPr>
          <p:grpSpPr>
            <a:xfrm>
              <a:off x="677880" y="1318320"/>
              <a:ext cx="7661160" cy="1381680"/>
              <a:chOff x="677880" y="1318320"/>
              <a:chExt cx="7661160" cy="1381680"/>
            </a:xfrm>
          </p:grpSpPr>
          <p:sp>
            <p:nvSpPr>
              <p:cNvPr id="180" name="圆角矩形 7"/>
              <p:cNvSpPr/>
              <p:nvPr/>
            </p:nvSpPr>
            <p:spPr>
              <a:xfrm>
                <a:off x="677880" y="1988280"/>
                <a:ext cx="766116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457200" indent="-457200">
                  <a:lnSpc>
                    <a:spcPct val="150000"/>
                  </a:lnSpc>
                  <a:buClr>
                    <a:srgbClr val="000000"/>
                  </a:buClr>
                  <a:buFont typeface="宋体"/>
                  <a:buAutoNum type="arabicPeriod"/>
                  <a:tabLst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课文中说“双腿瘫痪后，我的脾气变得暴怒无常”。请举出文中的事例来说明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任意多边形 10"/>
              <p:cNvSpPr/>
              <p:nvPr/>
            </p:nvSpPr>
            <p:spPr>
              <a:xfrm>
                <a:off x="1174680" y="1318320"/>
                <a:ext cx="2265120" cy="5050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804600" y="1204920"/>
              <a:ext cx="804600" cy="73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Box 2"/>
          <p:cNvSpPr/>
          <p:nvPr/>
        </p:nvSpPr>
        <p:spPr>
          <a:xfrm>
            <a:off x="790560" y="343368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：望着望着天上北归的雁阵，我会突然把面前的玻璃砸碎；听着听着李谷一甜美的歌声，我会猛地把手边的东西摔向四周的墙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圆角矩形 7"/>
          <p:cNvSpPr/>
          <p:nvPr/>
        </p:nvSpPr>
        <p:spPr>
          <a:xfrm>
            <a:off x="609480" y="1545840"/>
            <a:ext cx="76615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请结合课文中相关的语句来体会，“母亲”是一个怎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023840" y="2660760"/>
            <a:ext cx="7315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母亲是一个坚强的、伟大的人。如“母亲扑过来抓住我的手，忍住哭声说：‘咱娘儿俩在一块儿，好好儿活，好好儿活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……’”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母亲是一个无私的人。如“别人告诉我，她昏迷前的最后一句话是：‘我那个有病的儿子和我那个还未成年的女儿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……’”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再如，听说“我”愿意去看花，“她高兴得一会儿坐下，一会儿站起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角矩形 7"/>
          <p:cNvSpPr/>
          <p:nvPr/>
        </p:nvSpPr>
        <p:spPr>
          <a:xfrm>
            <a:off x="681120" y="1323720"/>
            <a:ext cx="7661160" cy="61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合课文内容体会文中四个省略号所表达的意思，并试着说一说省略的内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982800" y="2174760"/>
            <a:ext cx="730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第一个：“咱娘儿俩在一块儿，好好儿活，好好儿活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省略号省略了重复的语言，省略了“好好儿活，好好儿活”。第二个：“你偏说那杨树花是毛毛虫，跑着，一脚踩扁一个。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省略号表示话未说完，突然停止。省略的是“我”小时候去北海公园玩儿的趣事。第三个：“我那个有病的儿子和我那个还未成年的女儿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省略未说完的话，省略了“我真是放心不下”。第四个：“我俩在一块儿，要好好儿活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省略的是未尽的语意，省略了“我俩要像母亲说的那样，好好儿活下去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"/>
          <p:cNvGrpSpPr/>
          <p:nvPr/>
        </p:nvGrpSpPr>
        <p:grpSpPr>
          <a:xfrm>
            <a:off x="814320" y="1258920"/>
            <a:ext cx="7661520" cy="1262520"/>
            <a:chOff x="814320" y="1258920"/>
            <a:chExt cx="7661520" cy="1262520"/>
          </a:xfrm>
        </p:grpSpPr>
        <p:grpSp>
          <p:nvGrpSpPr>
            <p:cNvPr id="189" name="组合 6"/>
            <p:cNvGrpSpPr/>
            <p:nvPr/>
          </p:nvGrpSpPr>
          <p:grpSpPr>
            <a:xfrm>
              <a:off x="814320" y="1346040"/>
              <a:ext cx="7661520" cy="1175400"/>
              <a:chOff x="814320" y="1346040"/>
              <a:chExt cx="7661520" cy="1175400"/>
            </a:xfrm>
          </p:grpSpPr>
          <p:sp>
            <p:nvSpPr>
              <p:cNvPr id="190" name="圆角矩形 7"/>
              <p:cNvSpPr/>
              <p:nvPr/>
            </p:nvSpPr>
            <p:spPr>
              <a:xfrm>
                <a:off x="814320" y="1809720"/>
                <a:ext cx="766152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你想对课文中的母亲、“我”和妹妹说点什么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任意多边形 9"/>
              <p:cNvSpPr/>
              <p:nvPr/>
            </p:nvSpPr>
            <p:spPr>
              <a:xfrm>
                <a:off x="1069920" y="1346040"/>
                <a:ext cx="2544840" cy="5040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2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258920"/>
              <a:ext cx="749520" cy="6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TextBox 2"/>
          <p:cNvSpPr/>
          <p:nvPr/>
        </p:nvSpPr>
        <p:spPr>
          <a:xfrm>
            <a:off x="995400" y="2789280"/>
            <a:ext cx="7299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是理解课文所表达的情感，即母亲在生命中最后的日子，忍着病痛默默地、坚定地、乐观地支撑着“我”几乎绝望的生活，还有母亲去世后妹妹所表现出来的行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998640" y="4387680"/>
            <a:ext cx="7299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母亲：您是一位伟大的、坚强的、无私的母亲。“我”：你要坚强起来，好好儿活下去。妹妹：你是一个懂事的孩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6"/>
          <p:cNvGrpSpPr/>
          <p:nvPr/>
        </p:nvGrpSpPr>
        <p:grpSpPr>
          <a:xfrm>
            <a:off x="814320" y="1211400"/>
            <a:ext cx="7661520" cy="2762640"/>
            <a:chOff x="814320" y="1211400"/>
            <a:chExt cx="7661520" cy="2762640"/>
          </a:xfrm>
        </p:grpSpPr>
        <p:grpSp>
          <p:nvGrpSpPr>
            <p:cNvPr id="196" name="组合 2"/>
            <p:cNvGrpSpPr/>
            <p:nvPr/>
          </p:nvGrpSpPr>
          <p:grpSpPr>
            <a:xfrm>
              <a:off x="814320" y="1341720"/>
              <a:ext cx="7661520" cy="2632320"/>
              <a:chOff x="814320" y="1341720"/>
              <a:chExt cx="7661520" cy="2632320"/>
            </a:xfrm>
          </p:grpSpPr>
          <p:sp>
            <p:nvSpPr>
              <p:cNvPr id="197" name="圆角矩形 4"/>
              <p:cNvSpPr/>
              <p:nvPr/>
            </p:nvSpPr>
            <p:spPr>
              <a:xfrm>
                <a:off x="814320" y="1919520"/>
                <a:ext cx="7661520" cy="2054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.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，结合课文内容理解加点词语的意思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瘫痪       沉寂       侍弄       暴怒无常         喜出望外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憔悴      央求        敏感        翻来覆去        絮絮叨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任意多边形 5"/>
              <p:cNvSpPr/>
              <p:nvPr/>
            </p:nvSpPr>
            <p:spPr>
              <a:xfrm>
                <a:off x="1214280" y="1341720"/>
                <a:ext cx="1436760" cy="507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9" name="椭圆 7"/>
            <p:cNvGrpSpPr/>
            <p:nvPr/>
          </p:nvGrpSpPr>
          <p:grpSpPr>
            <a:xfrm>
              <a:off x="889920" y="1211400"/>
              <a:ext cx="755640" cy="716760"/>
              <a:chOff x="889920" y="1211400"/>
              <a:chExt cx="755640" cy="716760"/>
            </a:xfrm>
          </p:grpSpPr>
          <p:pic>
            <p:nvPicPr>
              <p:cNvPr id="200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211400"/>
                <a:ext cx="755640" cy="71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007640" y="1323360"/>
                <a:ext cx="51840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2" name="TextBox 9"/>
          <p:cNvSpPr/>
          <p:nvPr/>
        </p:nvSpPr>
        <p:spPr>
          <a:xfrm>
            <a:off x="814320" y="4241880"/>
            <a:ext cx="75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沉寂：十分寂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憔悴：形容人瘦弱，面色不好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敏感：生理上或心理上对外界事物反应很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2470320" y="288144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17680" y="351324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3564000" y="35193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4"/>
          <p:cNvSpPr/>
          <p:nvPr/>
        </p:nvSpPr>
        <p:spPr>
          <a:xfrm>
            <a:off x="663480" y="1428480"/>
            <a:ext cx="76615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背诵课文的最后两个自然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77960" y="2617920"/>
            <a:ext cx="757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可以抓住几个相似的句式，即“黄色的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白色的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紫红色的”；也可以通过想象画面的方法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在北海公园，作者看到各种颜色的菊花，正开得烂漫，由花想到母亲，想到母亲的话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7167"/>
          <p:cNvSpPr/>
          <p:nvPr/>
        </p:nvSpPr>
        <p:spPr>
          <a:xfrm>
            <a:off x="1509840" y="2082960"/>
            <a:ext cx="754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带点的字选择正确的读音，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憔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á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侍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宿整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豌豆黄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ǎ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0" name="矩形 7168"/>
          <p:cNvSpPr/>
          <p:nvPr/>
        </p:nvSpPr>
        <p:spPr>
          <a:xfrm>
            <a:off x="4997160" y="294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7168"/>
          <p:cNvSpPr/>
          <p:nvPr/>
        </p:nvSpPr>
        <p:spPr>
          <a:xfrm>
            <a:off x="1574640" y="294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7168"/>
          <p:cNvSpPr/>
          <p:nvPr/>
        </p:nvSpPr>
        <p:spPr>
          <a:xfrm>
            <a:off x="1917720" y="350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7168"/>
          <p:cNvSpPr/>
          <p:nvPr/>
        </p:nvSpPr>
        <p:spPr>
          <a:xfrm>
            <a:off x="1592280" y="4056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3214080" y="282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6322680" y="282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4380120" y="340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3092760" y="390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3"/>
          <p:cNvSpPr/>
          <p:nvPr/>
        </p:nvSpPr>
        <p:spPr>
          <a:xfrm>
            <a:off x="1608120" y="191448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选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艰　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诀　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]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3654360" y="2517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6084000" y="2517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3900240" y="3100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"/>
          <p:cNvSpPr/>
          <p:nvPr/>
        </p:nvSpPr>
        <p:spPr>
          <a:xfrm>
            <a:off x="6084000" y="3121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3"/>
          <p:cNvSpPr/>
          <p:nvPr/>
        </p:nvSpPr>
        <p:spPr>
          <a:xfrm>
            <a:off x="1446120" y="167148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ō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ù     ɡà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ǒ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ě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èi             tián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ěi             ni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ɑ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71760" y="2747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571760" y="39006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751200" y="27478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751200" y="39006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923080" y="2747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923080" y="39006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矩形 2"/>
          <p:cNvSpPr/>
          <p:nvPr/>
        </p:nvSpPr>
        <p:spPr>
          <a:xfrm>
            <a:off x="1751760" y="2762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玻 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5"/>
          <p:cNvSpPr/>
          <p:nvPr/>
        </p:nvSpPr>
        <p:spPr>
          <a:xfrm>
            <a:off x="3920400" y="2754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覆 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6108120" y="2778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懂 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1745640" y="3916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姐 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3918960" y="3932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甜 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6114240" y="3900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念 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3"/>
          <p:cNvSpPr/>
          <p:nvPr/>
        </p:nvSpPr>
        <p:spPr>
          <a:xfrm>
            <a:off x="1682640" y="206064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写近义词和反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沉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烂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敏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2900160" y="2752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寂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7"/>
          <p:cNvSpPr/>
          <p:nvPr/>
        </p:nvSpPr>
        <p:spPr>
          <a:xfrm>
            <a:off x="4829040" y="269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喧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8"/>
          <p:cNvSpPr/>
          <p:nvPr/>
        </p:nvSpPr>
        <p:spPr>
          <a:xfrm>
            <a:off x="2900160" y="3251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绚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4792320" y="322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黯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2"/>
          <p:cNvSpPr/>
          <p:nvPr/>
        </p:nvSpPr>
        <p:spPr>
          <a:xfrm>
            <a:off x="2931840" y="3805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敏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3"/>
          <p:cNvSpPr/>
          <p:nvPr/>
        </p:nvSpPr>
        <p:spPr>
          <a:xfrm>
            <a:off x="4829040" y="3784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迟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"/>
          <p:cNvSpPr/>
          <p:nvPr/>
        </p:nvSpPr>
        <p:spPr>
          <a:xfrm>
            <a:off x="1550880" y="1963800"/>
            <a:ext cx="733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填字成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去      絮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(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"/>
          <p:cNvSpPr/>
          <p:nvPr/>
        </p:nvSpPr>
        <p:spPr>
          <a:xfrm>
            <a:off x="2136960" y="2603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翻　    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7"/>
          <p:cNvSpPr/>
          <p:nvPr/>
        </p:nvSpPr>
        <p:spPr>
          <a:xfrm>
            <a:off x="6050520" y="26146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叨 　 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9"/>
          <p:cNvSpPr/>
          <p:nvPr/>
        </p:nvSpPr>
        <p:spPr>
          <a:xfrm>
            <a:off x="2147760" y="31701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喜　    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0"/>
          <p:cNvSpPr/>
          <p:nvPr/>
        </p:nvSpPr>
        <p:spPr>
          <a:xfrm>
            <a:off x="5425200" y="31701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暴　  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8764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文中哪些事例说明了“双腿瘫痪后，我的脾气变得暴怒无常”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40640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母亲对“我”的关心主要体现在哪几件事上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239080"/>
              <a:ext cx="3468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“母亲”是一个怎样的人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214240"/>
              <a:ext cx="3207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文中多次提到菊花，有何作用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718360" y="2098440"/>
                <a:ext cx="370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题目为什么叫“秋天的怀念”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489560" y="130392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怀 念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3"/>
          <p:cNvSpPr/>
          <p:nvPr/>
        </p:nvSpPr>
        <p:spPr>
          <a:xfrm>
            <a:off x="649440" y="1546200"/>
            <a:ext cx="7907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六、句子练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修改病句：我的回答已经喜出望外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指出省略号的用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那个有病的儿子和我那个还未成年的女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俩在一块儿，要好好儿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1"/>
          <p:cNvSpPr/>
          <p:nvPr/>
        </p:nvSpPr>
        <p:spPr>
          <a:xfrm>
            <a:off x="1214280" y="2733840"/>
            <a:ext cx="50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的回答已经让她喜出望外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1746720" y="4397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话未说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6177600" y="493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语意未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735120" y="18144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望着望着天上北归的雁阵，我会突然把面前的玻璃砸碎；听着听着李谷一甜美的歌声，我会猛地把手边的东西摔向四周的墙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885960" y="36910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具体写“我”的“暴怒无常”，尤其是“突然、砸碎、猛地、摔向”几个词最能体现这一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735120" y="14191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天我又独自坐在屋里，看着窗外的树叶“唰唰啦啦”地飘落。母亲进来了，挡在窗前：“北海的菊花开了，我推着你去看看吧。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她憔悴的脸上现出央求般的神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826920" y="3086280"/>
            <a:ext cx="76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看着窗外的树叶“‘唰唰啦啦’地飘落”，母亲“挡”在窗前，是怕儿子见叶伤秋，所以“挡”在窗前，而故意说北海的菊花开了，是想让儿子见花开颜。“央求”一般用于下级对上级，晚辈对长辈，可这里却是母亲对儿子，足见母亲对儿子的诚恳与耐心、仁慈与博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844560" y="141120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又是秋天，妹妹推我去北海看了菊花。黄色的花淡雅，白色的花高洁，紫红色的花热烈而深沉，泼泼洒洒，秋风中正开得烂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774720" y="3193920"/>
            <a:ext cx="782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段话中用的排比句，表面上是在描写北海美丽的菊花，实际上是用象征的手法，赋予菊花深刻的含义。作者之所以浓墨重彩地写菊花，恰恰是对母亲生前那句“好好儿活”的深情解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那多姿多彩的菊花象征着人生百态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活出自己的尊严、价值，绽放属于自己的人生之花！怀念秋天的菊花就是怀念母亲。对于菊花的描绘也恰到好处地点出文题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——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秋天的怀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象征手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3"/>
          <p:cNvSpPr/>
          <p:nvPr/>
        </p:nvSpPr>
        <p:spPr>
          <a:xfrm>
            <a:off x="903240" y="1846440"/>
            <a:ext cx="76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象征手法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艺术创作的基本手法之一，借助于某一个具体事物的外在特征，寄寓艺术家某种深邃的思想，或表达某种富有特殊意义的事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运用象征手法的窍门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鸽子象征“和平”；竹子象征“虚心”“有气节”；蜡烛象征“燃烧自己，照亮他人，有奉献精神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844560" y="15476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懂得母亲没有说完的话。妹妹也懂。我俩在一块儿，要好好儿活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3"/>
          <p:cNvGrpSpPr/>
          <p:nvPr/>
        </p:nvGrpSpPr>
        <p:grpSpPr>
          <a:xfrm>
            <a:off x="873000" y="2989440"/>
            <a:ext cx="7683480" cy="558720"/>
            <a:chOff x="873000" y="2989440"/>
            <a:chExt cx="7683480" cy="558720"/>
          </a:xfrm>
        </p:grpSpPr>
        <p:sp>
          <p:nvSpPr>
            <p:cNvPr id="96" name="直接连接符 4"/>
            <p:cNvSpPr/>
            <p:nvPr/>
          </p:nvSpPr>
          <p:spPr>
            <a:xfrm>
              <a:off x="873000" y="35481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任意多边形 5"/>
            <p:cNvSpPr/>
            <p:nvPr/>
          </p:nvSpPr>
          <p:spPr>
            <a:xfrm>
              <a:off x="873000" y="298944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最后一段的作用是什么？表达了作者怎样的情感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1"/>
          <p:cNvSpPr/>
          <p:nvPr/>
        </p:nvSpPr>
        <p:spPr>
          <a:xfrm>
            <a:off x="873000" y="3822840"/>
            <a:ext cx="78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与前面的部分连起来，起点题的作用。每到秋天，“我”看到菊花就会怀念母亲。同时暗示“我”的生活态度：一定会做一个生活上的强者，做一个身残志坚的人。句中的省略号表示语意未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8:16:38Z</dcterms:modified>
  <cp:revision>4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