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11.wmf" ContentType="image/x-wmf"/>
  <Override PartName="/ppt/media/image3.png" ContentType="image/png"/>
  <Override PartName="/ppt/media/image26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gif" ContentType="image/gif"/>
  <Override PartName="/ppt/media/image23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A8E38F-C8ED-4BE4-9977-6D3A82AFB53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1DDA39-C482-4EB3-830B-1EB29DC1569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97BB-9472-4470-A49D-DB72CD4A8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662F-DA7A-4E45-9808-5F3287A4A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55EE-A1C2-422F-9B09-E036D951E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3680-F439-4B09-938D-186CC445E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01E4-37F4-402C-A2D5-AACC1A2D5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D7A9-8D17-4271-B0F6-052891EB4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70DD-F3BE-4621-863F-318F4E3CE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C5EC-D6CC-4A45-9962-99AF21F3F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BB4C-DAC0-4040-B603-5547362D6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32A9-06D3-4741-AD3C-85147DDF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86B1-963D-4DA3-9540-200FAB9E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FE7F-1941-40DE-A5A9-3B1C8DDF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64E24E-AC95-4FD1-A94B-31CDE61386E1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gif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51" name="组合 13322"/>
          <p:cNvGrpSpPr/>
          <p:nvPr/>
        </p:nvGrpSpPr>
        <p:grpSpPr>
          <a:xfrm>
            <a:off x="1001880" y="5640480"/>
            <a:ext cx="7140240" cy="717480"/>
            <a:chOff x="1001880" y="5640480"/>
            <a:chExt cx="7140240" cy="717480"/>
          </a:xfrm>
        </p:grpSpPr>
        <p:pic>
          <p:nvPicPr>
            <p:cNvPr id="52" name="任意多边形 3" descr=""/>
            <p:cNvPicPr/>
            <p:nvPr/>
          </p:nvPicPr>
          <p:blipFill>
            <a:blip r:embed="rId3"/>
            <a:stretch/>
          </p:blipFill>
          <p:spPr>
            <a:xfrm>
              <a:off x="100188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任意多边形 6" descr=""/>
            <p:cNvPicPr/>
            <p:nvPr/>
          </p:nvPicPr>
          <p:blipFill>
            <a:blip r:embed="rId4"/>
            <a:stretch/>
          </p:blipFill>
          <p:spPr>
            <a:xfrm>
              <a:off x="274248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任意多边形 8" descr=""/>
            <p:cNvPicPr/>
            <p:nvPr/>
          </p:nvPicPr>
          <p:blipFill>
            <a:blip r:embed="rId5"/>
            <a:stretch/>
          </p:blipFill>
          <p:spPr>
            <a:xfrm>
              <a:off x="448920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任意多边形 19" descr=""/>
            <p:cNvPicPr/>
            <p:nvPr/>
          </p:nvPicPr>
          <p:blipFill>
            <a:blip r:embed="rId6"/>
            <a:stretch/>
          </p:blipFill>
          <p:spPr>
            <a:xfrm>
              <a:off x="625356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流程图: 摘录 25"/>
            <p:cNvSpPr/>
            <p:nvPr/>
          </p:nvSpPr>
          <p:spPr>
            <a:xfrm rot="5400000">
              <a:off x="275148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流程图: 摘录 40"/>
            <p:cNvSpPr/>
            <p:nvPr/>
          </p:nvSpPr>
          <p:spPr>
            <a:xfrm rot="5400000">
              <a:off x="448452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流程图: 摘录 41"/>
            <p:cNvSpPr/>
            <p:nvPr/>
          </p:nvSpPr>
          <p:spPr>
            <a:xfrm rot="5400000">
              <a:off x="625176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组合 13338"/>
          <p:cNvGrpSpPr/>
          <p:nvPr/>
        </p:nvGrpSpPr>
        <p:grpSpPr>
          <a:xfrm>
            <a:off x="2060640" y="781200"/>
            <a:ext cx="4921200" cy="1304640"/>
            <a:chOff x="2060640" y="781200"/>
            <a:chExt cx="4921200" cy="1304640"/>
          </a:xfrm>
        </p:grpSpPr>
        <p:sp>
          <p:nvSpPr>
            <p:cNvPr id="60" name="Text Box 2"/>
            <p:cNvSpPr/>
            <p:nvPr/>
          </p:nvSpPr>
          <p:spPr>
            <a:xfrm>
              <a:off x="3420720" y="1011240"/>
              <a:ext cx="35611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60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黄 昏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" name="组合 13337"/>
            <p:cNvGrpSpPr/>
            <p:nvPr/>
          </p:nvGrpSpPr>
          <p:grpSpPr>
            <a:xfrm>
              <a:off x="2060640" y="781200"/>
              <a:ext cx="1282320" cy="1304640"/>
              <a:chOff x="2060640" y="781200"/>
              <a:chExt cx="1282320" cy="1304640"/>
            </a:xfrm>
          </p:grpSpPr>
          <p:sp>
            <p:nvSpPr>
              <p:cNvPr id="62" name="AutoShape 11"/>
              <p:cNvSpPr/>
              <p:nvPr/>
            </p:nvSpPr>
            <p:spPr>
              <a:xfrm>
                <a:off x="2060640" y="781200"/>
                <a:ext cx="1282320" cy="1304640"/>
              </a:xfrm>
              <a:prstGeom prst="diamond">
                <a:avLst/>
              </a:prstGeom>
              <a:solidFill>
                <a:srgbClr val="236b2a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" name="文本框 13"/>
              <p:cNvSpPr/>
              <p:nvPr/>
            </p:nvSpPr>
            <p:spPr>
              <a:xfrm>
                <a:off x="2201040" y="944280"/>
                <a:ext cx="10951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60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23</a:t>
                </a:r>
                <a:endParaRPr b="0" lang="en-US" sz="6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64" name="Picture 23" descr=""/>
          <p:cNvPicPr/>
          <p:nvPr/>
        </p:nvPicPr>
        <p:blipFill>
          <a:blip r:embed="rId7"/>
          <a:stretch/>
        </p:blipFill>
        <p:spPr>
          <a:xfrm>
            <a:off x="2320920" y="2432160"/>
            <a:ext cx="4543560" cy="3000240"/>
          </a:xfrm>
          <a:prstGeom prst="rect">
            <a:avLst/>
          </a:prstGeom>
          <a:ln w="0">
            <a:noFill/>
          </a:ln>
        </p:spPr>
      </p:pic>
      <p:grpSp>
        <p:nvGrpSpPr>
          <p:cNvPr id="65" name="组合 13336"/>
          <p:cNvGrpSpPr/>
          <p:nvPr/>
        </p:nvGrpSpPr>
        <p:grpSpPr>
          <a:xfrm>
            <a:off x="3086280" y="3159000"/>
            <a:ext cx="3186000" cy="1150920"/>
            <a:chOff x="3086280" y="3159000"/>
            <a:chExt cx="3186000" cy="1150920"/>
          </a:xfrm>
        </p:grpSpPr>
        <p:sp>
          <p:nvSpPr>
            <p:cNvPr id="66" name="矩形 13324"/>
            <p:cNvSpPr/>
            <p:nvPr/>
          </p:nvSpPr>
          <p:spPr>
            <a:xfrm>
              <a:off x="3307680" y="3159000"/>
              <a:ext cx="2729520" cy="110448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7" name="图片 46" descr="枫叶副本"/>
            <p:cNvPicPr/>
            <p:nvPr/>
          </p:nvPicPr>
          <p:blipFill>
            <a:blip r:embed="rId8"/>
            <a:stretch/>
          </p:blipFill>
          <p:spPr>
            <a:xfrm>
              <a:off x="3989160" y="3244320"/>
              <a:ext cx="911160" cy="9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矩形 47" descr=""/>
            <p:cNvPicPr/>
            <p:nvPr/>
          </p:nvPicPr>
          <p:blipFill>
            <a:blip r:embed="rId9"/>
            <a:stretch/>
          </p:blipFill>
          <p:spPr>
            <a:xfrm>
              <a:off x="3086280" y="3204360"/>
              <a:ext cx="3186000" cy="1105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内容占位符 2"/>
          <p:cNvSpPr/>
          <p:nvPr/>
        </p:nvSpPr>
        <p:spPr>
          <a:xfrm>
            <a:off x="635040" y="1940040"/>
            <a:ext cx="220356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Aft>
                <a:spcPts val="601"/>
              </a:spcAft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核心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矩形 1"/>
          <p:cNvSpPr/>
          <p:nvPr/>
        </p:nvSpPr>
        <p:spPr>
          <a:xfrm>
            <a:off x="961920" y="3554280"/>
            <a:ext cx="742500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99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本文为我们展现了“黄昏”这一时间段大海色彩斑斓的景象，表达了作者对明天充满信心，唤起人们激昂、奋斗、前进的精神的思想感情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矩形 5"/>
          <p:cNvSpPr/>
          <p:nvPr/>
        </p:nvSpPr>
        <p:spPr>
          <a:xfrm>
            <a:off x="961920" y="2530440"/>
            <a:ext cx="742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本文表达了作者怎样的思想感情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7" descr=""/>
          <p:cNvPicPr/>
          <p:nvPr/>
        </p:nvPicPr>
        <p:blipFill>
          <a:blip r:embed="rId1"/>
          <a:stretch/>
        </p:blipFill>
        <p:spPr>
          <a:xfrm>
            <a:off x="531720" y="1185840"/>
            <a:ext cx="551808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内容占位符 2"/>
          <p:cNvSpPr/>
          <p:nvPr/>
        </p:nvSpPr>
        <p:spPr>
          <a:xfrm>
            <a:off x="851040" y="2454120"/>
            <a:ext cx="76453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55680" indent="-12556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一读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文中所描写的景物中，哪些是主要的，哪些是次要的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矩形 1"/>
          <p:cNvSpPr/>
          <p:nvPr/>
        </p:nvSpPr>
        <p:spPr>
          <a:xfrm>
            <a:off x="1197000" y="3809880"/>
            <a:ext cx="725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70956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作者主要描写了黄昏的海浪和夕阳，次要描写了海鸥和海风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内容占位符 2"/>
          <p:cNvSpPr/>
          <p:nvPr/>
        </p:nvSpPr>
        <p:spPr>
          <a:xfrm>
            <a:off x="635040" y="1733400"/>
            <a:ext cx="220356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串珠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内容占位符 2"/>
          <p:cNvSpPr/>
          <p:nvPr/>
        </p:nvSpPr>
        <p:spPr>
          <a:xfrm>
            <a:off x="625320" y="1947960"/>
            <a:ext cx="784728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二思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作者是如何写海浪的，展开了哪些想象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矩形 1"/>
          <p:cNvSpPr/>
          <p:nvPr/>
        </p:nvSpPr>
        <p:spPr>
          <a:xfrm>
            <a:off x="971640" y="279396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6220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作者由海浪涌上岸想到闻号令而前进的士兵，文中写道：“排了队的小浪头在正步走，数不清有多少‘一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—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二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—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一’的口令，朝喇叭口的海塘涌来了。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内容占位符 2"/>
          <p:cNvSpPr/>
          <p:nvPr/>
        </p:nvSpPr>
        <p:spPr>
          <a:xfrm>
            <a:off x="804960" y="1916280"/>
            <a:ext cx="764532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三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作者是如何写夕阳的，展开了哪些想象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矩形 1"/>
          <p:cNvSpPr/>
          <p:nvPr/>
        </p:nvSpPr>
        <p:spPr>
          <a:xfrm>
            <a:off x="965160" y="2838600"/>
            <a:ext cx="707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62856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由映着夕阳、闪着金光的波浪想到了大眼睛。文中写道：“小波浪跳跃着，每一个都像大眼睛，闪着金光。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内容占位符 2"/>
          <p:cNvSpPr/>
          <p:nvPr/>
        </p:nvSpPr>
        <p:spPr>
          <a:xfrm>
            <a:off x="790560" y="1701720"/>
            <a:ext cx="7645320" cy="30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四品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本文在写作上有什么特点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矩形 1"/>
          <p:cNvSpPr/>
          <p:nvPr/>
        </p:nvSpPr>
        <p:spPr>
          <a:xfrm>
            <a:off x="1198440" y="2419200"/>
            <a:ext cx="72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53172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作者是用散文的形式写黄昏之景、抒胸中之情，别具风采，另辟新境。作者对黄昏不是孤立地直笔描写，而是以大海为背景，以海浪色彩的变幻来烘托、映衬，使深绿色的海、火红的夕阳、烧红了半边天的晚霞，相映生辉，显得十分壮丽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文本框 26"/>
          <p:cNvSpPr/>
          <p:nvPr/>
        </p:nvSpPr>
        <p:spPr>
          <a:xfrm>
            <a:off x="1170720" y="2940840"/>
            <a:ext cx="78984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黄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矩形 4"/>
          <p:cNvSpPr/>
          <p:nvPr/>
        </p:nvSpPr>
        <p:spPr>
          <a:xfrm>
            <a:off x="2046240" y="2228760"/>
            <a:ext cx="2048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965a"/>
                </a:solidFill>
                <a:latin typeface="黑体"/>
                <a:ea typeface="黑体"/>
              </a:rPr>
              <a:t>黄昏时的波浪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左大括号 6"/>
          <p:cNvSpPr/>
          <p:nvPr/>
        </p:nvSpPr>
        <p:spPr>
          <a:xfrm>
            <a:off x="1844640" y="2284560"/>
            <a:ext cx="349200" cy="2765160"/>
          </a:xfrm>
          <a:custGeom>
            <a:avLst/>
            <a:gdLst>
              <a:gd name="textAreaLeft" fmla="*/ 223200 w 349200"/>
              <a:gd name="textAreaRight" fmla="*/ 349560 w 349200"/>
              <a:gd name="textAreaTop" fmla="*/ 9000 h 2765160"/>
              <a:gd name="textAreaBottom" fmla="*/ 2756160 h 2765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4"/>
                  <a:pt x="10800" y="227"/>
                </a:cubicBezTo>
                <a:lnTo>
                  <a:pt x="10800" y="10573"/>
                </a:lnTo>
                <a:cubicBezTo>
                  <a:pt x="10800" y="10687"/>
                  <a:pt x="5400" y="10800"/>
                  <a:pt x="0" y="10800"/>
                </a:cubicBezTo>
                <a:cubicBezTo>
                  <a:pt x="5400" y="10800"/>
                  <a:pt x="10800" y="10914"/>
                  <a:pt x="10800" y="11027"/>
                </a:cubicBezTo>
                <a:lnTo>
                  <a:pt x="10800" y="21373"/>
                </a:lnTo>
                <a:cubicBezTo>
                  <a:pt x="10800" y="21487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矩形 12"/>
          <p:cNvSpPr/>
          <p:nvPr/>
        </p:nvSpPr>
        <p:spPr>
          <a:xfrm>
            <a:off x="3884760" y="3448080"/>
            <a:ext cx="507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黑体"/>
                <a:ea typeface="黑体"/>
              </a:rPr>
              <a:t>——</a:t>
            </a:r>
            <a:r>
              <a:rPr b="1" lang="zh-CN" sz="2200" spc="-1" strike="noStrike">
                <a:solidFill>
                  <a:srgbClr val="0000ff"/>
                </a:solidFill>
                <a:latin typeface="黑体"/>
                <a:ea typeface="黑体"/>
              </a:rPr>
              <a:t>愤怒 威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左大括号 24"/>
          <p:cNvSpPr/>
          <p:nvPr/>
        </p:nvSpPr>
        <p:spPr>
          <a:xfrm flipH="1">
            <a:off x="5848200" y="2293920"/>
            <a:ext cx="200160" cy="2892600"/>
          </a:xfrm>
          <a:custGeom>
            <a:avLst/>
            <a:gdLst>
              <a:gd name="textAreaLeft" fmla="*/ 127800 w 200160"/>
              <a:gd name="textAreaRight" fmla="*/ 200520 w 200160"/>
              <a:gd name="textAreaTop" fmla="*/ 5040 h 2892600"/>
              <a:gd name="textAreaBottom" fmla="*/ 2887560 h 2892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2"/>
                  <a:pt x="10800" y="124"/>
                </a:cubicBezTo>
                <a:lnTo>
                  <a:pt x="10800" y="10676"/>
                </a:lnTo>
                <a:cubicBezTo>
                  <a:pt x="10800" y="10738"/>
                  <a:pt x="5400" y="10800"/>
                  <a:pt x="0" y="10800"/>
                </a:cubicBezTo>
                <a:cubicBezTo>
                  <a:pt x="5400" y="10800"/>
                  <a:pt x="10800" y="10862"/>
                  <a:pt x="10800" y="10924"/>
                </a:cubicBezTo>
                <a:lnTo>
                  <a:pt x="10800" y="21476"/>
                </a:lnTo>
                <a:cubicBezTo>
                  <a:pt x="10800" y="21538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矩形 7"/>
          <p:cNvSpPr/>
          <p:nvPr/>
        </p:nvSpPr>
        <p:spPr>
          <a:xfrm>
            <a:off x="3816360" y="2241720"/>
            <a:ext cx="3763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黑体"/>
                <a:ea typeface="黑体"/>
              </a:rPr>
              <a:t>——</a:t>
            </a:r>
            <a:r>
              <a:rPr b="1" lang="zh-CN" sz="2200" spc="-1" strike="noStrike">
                <a:solidFill>
                  <a:srgbClr val="0000ff"/>
                </a:solidFill>
                <a:latin typeface="黑体"/>
                <a:ea typeface="黑体"/>
              </a:rPr>
              <a:t>躁怒 跳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矩形 8"/>
          <p:cNvSpPr/>
          <p:nvPr/>
        </p:nvSpPr>
        <p:spPr>
          <a:xfrm>
            <a:off x="3876840" y="4641840"/>
            <a:ext cx="4128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黑体"/>
                <a:ea typeface="黑体"/>
              </a:rPr>
              <a:t>——</a:t>
            </a:r>
            <a:r>
              <a:rPr b="1" lang="zh-CN" sz="2200" spc="-1" strike="noStrike">
                <a:solidFill>
                  <a:srgbClr val="0000ff"/>
                </a:solidFill>
                <a:latin typeface="黑体"/>
                <a:ea typeface="黑体"/>
              </a:rPr>
              <a:t>溶化 摊平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9"/>
          <p:cNvSpPr/>
          <p:nvPr/>
        </p:nvSpPr>
        <p:spPr>
          <a:xfrm>
            <a:off x="2448360" y="4643280"/>
            <a:ext cx="118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965a"/>
                </a:solidFill>
                <a:latin typeface="黑体"/>
                <a:ea typeface="黑体"/>
              </a:rPr>
              <a:t>黄昏时的波浪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矩形 10"/>
          <p:cNvSpPr/>
          <p:nvPr/>
        </p:nvSpPr>
        <p:spPr>
          <a:xfrm>
            <a:off x="2477520" y="3475080"/>
            <a:ext cx="118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965a"/>
                </a:solidFill>
                <a:latin typeface="黑体"/>
                <a:ea typeface="黑体"/>
              </a:rPr>
              <a:t>黄昏时的夕阳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文本框 26"/>
          <p:cNvSpPr/>
          <p:nvPr/>
        </p:nvSpPr>
        <p:spPr>
          <a:xfrm>
            <a:off x="5676120" y="2662200"/>
            <a:ext cx="139932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雄浑壮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6" descr="C:\Users\Administrator\Desktop\可改图标 - 副本\结构主旨22.png"/>
          <p:cNvPicPr/>
          <p:nvPr/>
        </p:nvPicPr>
        <p:blipFill>
          <a:blip r:embed="rId1"/>
          <a:stretch/>
        </p:blipFill>
        <p:spPr>
          <a:xfrm>
            <a:off x="3584520" y="326880"/>
            <a:ext cx="2406600" cy="631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22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23" name="圆角矩形 1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4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结构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内容占位符 2"/>
          <p:cNvSpPr/>
          <p:nvPr/>
        </p:nvSpPr>
        <p:spPr>
          <a:xfrm>
            <a:off x="934920" y="2084400"/>
            <a:ext cx="7417080" cy="26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本文为我们展现了“黄昏”这一时间段的景象。先写在风的猛吹下，大海一片欢腾。然后写夕阳不因消逝而颓废，风把太阳的宣言带到全世界。最后写随着风的离去，大海慢慢归于平静。从而唤起人们激昂、奋斗、前进的精神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7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28" name="圆角矩形 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9" name="图片 5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主旨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16" descr=""/>
          <p:cNvPicPr/>
          <p:nvPr/>
        </p:nvPicPr>
        <p:blipFill>
          <a:blip r:embed="rId1"/>
          <a:stretch/>
        </p:blipFill>
        <p:spPr>
          <a:xfrm>
            <a:off x="3284640" y="34308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32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33" name="圆角矩形 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4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推荐阅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6" name="内容占位符 2"/>
          <p:cNvSpPr/>
          <p:nvPr/>
        </p:nvSpPr>
        <p:spPr>
          <a:xfrm>
            <a:off x="996840" y="1828800"/>
            <a:ext cx="739620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海上日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为了看日出，我常常早起。那时天还没有大亮，周围很静，只听见船里机器的声音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天空还是一片浅蓝，很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很浅的。转眼间，天水相接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地方出现了一道红霞。红霞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范围慢慢扩大，越来越亮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我知道太阳就要从天边升起来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了，便目不转睛地望着那里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8" descr="C:\Users\Administrator\Desktop\五上CC推荐阅读图片\23海上日出.jpg"/>
          <p:cNvPicPr/>
          <p:nvPr/>
        </p:nvPicPr>
        <p:blipFill>
          <a:blip r:embed="rId3"/>
          <a:stretch/>
        </p:blipFill>
        <p:spPr>
          <a:xfrm>
            <a:off x="4667400" y="3621240"/>
            <a:ext cx="336384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矩形 1"/>
          <p:cNvSpPr/>
          <p:nvPr/>
        </p:nvSpPr>
        <p:spPr>
          <a:xfrm>
            <a:off x="668160" y="1373040"/>
            <a:ext cx="8010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楷体"/>
              </a:rPr>
              <a:t>果然，过了一会儿，那里出现了太阳的小半边脸，红是红得很，却没有亮光。太阳像负着什么重担似的，慢慢地，一步一步地，使劲向上升。到了最后，它终于冲破了云霞，完全跳出了海面，颜色红得可爱。一刹那间，这深红的圆东西发出夺目的亮光，射得人眼睛发痛。它旁边的云也突然有了光彩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楷体"/>
              </a:rPr>
              <a:t>有时候太阳躲进云里。阳光透过云缝直射到水面上，很难分辨出哪里是水，哪里是天，只看见一片灿烂的亮光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楷体"/>
              </a:rPr>
              <a:t>　　有时候天边有黑云，而且云片很厚，太阳升起来，人就不能够看见。然而太阳在黑云背后放射它的光芒，给黑云镶了一道光亮的金边。后来，太阳慢慢突出重围，出现在天空，把一片片云染成了紫色或者红色。这时候，不仅是太阳、云和海水，连我自己也成了光亮的了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楷体"/>
              </a:rPr>
              <a:t>　　这不是伟大的奇观么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1"/>
          <p:cNvSpPr/>
          <p:nvPr/>
        </p:nvSpPr>
        <p:spPr>
          <a:xfrm>
            <a:off x="996840" y="2279520"/>
            <a:ext cx="750564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121280" indent="-4121280">
              <a:lnSpc>
                <a:spcPct val="150000"/>
              </a:lnSpc>
              <a:spcAft>
                <a:spcPts val="2401"/>
              </a:spcAft>
              <a:tabLst>
                <a:tab algn="l" pos="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向晚意不适，驱车登古原。夕阳无限好，只是近黄昏。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乐游原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李商隐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21280" indent="-4121280">
              <a:lnSpc>
                <a:spcPct val="150000"/>
              </a:lnSpc>
              <a:tabLst>
                <a:tab algn="l" pos="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江回望见双华表，知是浔阳西郭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21280" indent="-4121280">
              <a:lnSpc>
                <a:spcPct val="150000"/>
              </a:lnSpc>
              <a:tabLst>
                <a:tab algn="l" pos="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犹去孤舟三四里，水烟沙雨欲黄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21280" indent="-4121280">
              <a:lnSpc>
                <a:spcPct val="150000"/>
              </a:lnSpc>
              <a:tabLst>
                <a:tab algn="l" pos="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望江州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白居易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0" name="组合 5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41" name="圆角矩形 6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2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国学诵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6"/>
          <p:cNvSpPr/>
          <p:nvPr/>
        </p:nvSpPr>
        <p:spPr>
          <a:xfrm>
            <a:off x="1138320" y="2381400"/>
            <a:ext cx="74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抓重点句体会黄昏的特点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体会文中“想象和联想”的作用，梳理作者的写作思路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难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图示 3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70"/>
          <p:cNvSpPr/>
          <p:nvPr/>
        </p:nvSpPr>
        <p:spPr>
          <a:xfrm>
            <a:off x="-3943440" y="714240"/>
            <a:ext cx="1895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72" descr=""/>
          <p:cNvPicPr/>
          <p:nvPr/>
        </p:nvPicPr>
        <p:blipFill>
          <a:blip r:embed="rId2"/>
          <a:stretch/>
        </p:blipFill>
        <p:spPr>
          <a:xfrm>
            <a:off x="-3943440" y="714240"/>
            <a:ext cx="1897200" cy="18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矩形 1"/>
          <p:cNvSpPr/>
          <p:nvPr/>
        </p:nvSpPr>
        <p:spPr>
          <a:xfrm>
            <a:off x="1023840" y="2838600"/>
            <a:ext cx="72932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弱柳千条杏一枝，半含春雨半垂丝。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题望苑驿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温庭筠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春眠不觉晓，处处闻啼鸟。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春晓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孟浩然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组合 5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46" name="圆角矩形 6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7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国学诵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矩形 1"/>
          <p:cNvSpPr/>
          <p:nvPr/>
        </p:nvSpPr>
        <p:spPr>
          <a:xfrm>
            <a:off x="1551240" y="2095560"/>
            <a:ext cx="145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【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茅盾爱读书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1251000" y="2562120"/>
            <a:ext cx="705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茅盾上小学时就爱看旧小说。他家屋后有一间堆放破烂的小屋，不知哪位叔祖在那里放了一板箱杂七杂八的书籍，其中就有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七侠五义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》《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西游记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》《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三国演义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之类的旧小说，茅盾找到了这些书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立即被其中的动人情节吸引住了，他爱不释手，有空就偷偷翻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1" name="组合 6"/>
          <p:cNvGrpSpPr/>
          <p:nvPr/>
        </p:nvGrpSpPr>
        <p:grpSpPr>
          <a:xfrm>
            <a:off x="558720" y="1190520"/>
            <a:ext cx="3849840" cy="666720"/>
            <a:chOff x="558720" y="1190520"/>
            <a:chExt cx="3849840" cy="666720"/>
          </a:xfrm>
        </p:grpSpPr>
        <p:sp>
          <p:nvSpPr>
            <p:cNvPr id="152" name="圆角矩形 7"/>
            <p:cNvSpPr/>
            <p:nvPr/>
          </p:nvSpPr>
          <p:spPr>
            <a:xfrm>
              <a:off x="1374480" y="1328400"/>
              <a:ext cx="303408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文本框 16"/>
            <p:cNvSpPr/>
            <p:nvPr/>
          </p:nvSpPr>
          <p:spPr>
            <a:xfrm>
              <a:off x="1634040" y="1347480"/>
              <a:ext cx="277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走进中华传统文化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4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图示 7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156" name="矩形 11"/>
          <p:cNvSpPr/>
          <p:nvPr/>
        </p:nvSpPr>
        <p:spPr>
          <a:xfrm>
            <a:off x="934920" y="2556000"/>
            <a:ext cx="7380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篇文质兼美的散文以传神的笔墨描绘黄昏大海的景象，雄浑壮美，饱含诗意。作者所抒之情，表现了崇高的理想与博大的胸襟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2"/>
          <p:cNvSpPr/>
          <p:nvPr/>
        </p:nvSpPr>
        <p:spPr>
          <a:xfrm>
            <a:off x="853920" y="3298680"/>
            <a:ext cx="748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教师点拨：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朗读时，注意使用破折号的几处地方，依据破折号用法的不同，读出不同的情感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7" descr=""/>
          <p:cNvPicPr/>
          <p:nvPr/>
        </p:nvPicPr>
        <p:blipFill>
          <a:blip r:embed="rId1"/>
          <a:stretch/>
        </p:blipFill>
        <p:spPr>
          <a:xfrm>
            <a:off x="-103320" y="768240"/>
            <a:ext cx="4303800" cy="1243080"/>
          </a:xfrm>
          <a:prstGeom prst="rect">
            <a:avLst/>
          </a:prstGeom>
          <a:ln w="0">
            <a:noFill/>
          </a:ln>
        </p:spPr>
      </p:pic>
      <p:grpSp>
        <p:nvGrpSpPr>
          <p:cNvPr id="159" name="组合 15"/>
          <p:cNvGrpSpPr/>
          <p:nvPr/>
        </p:nvGrpSpPr>
        <p:grpSpPr>
          <a:xfrm>
            <a:off x="826920" y="1657440"/>
            <a:ext cx="7661520" cy="1266840"/>
            <a:chOff x="826920" y="1657440"/>
            <a:chExt cx="7661520" cy="1266840"/>
          </a:xfrm>
        </p:grpSpPr>
        <p:sp>
          <p:nvSpPr>
            <p:cNvPr id="160" name="圆角矩形 14"/>
            <p:cNvSpPr/>
            <p:nvPr/>
          </p:nvSpPr>
          <p:spPr>
            <a:xfrm>
              <a:off x="826920" y="2212560"/>
              <a:ext cx="7661520" cy="7117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8eb4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lvl="1">
                <a:lnSpc>
                  <a:spcPct val="150000"/>
                </a:lnSpc>
                <a:spcAft>
                  <a:spcPts val="451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朗读时注意破折号的停顿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1" name="组合 10"/>
            <p:cNvGrpSpPr/>
            <p:nvPr/>
          </p:nvGrpSpPr>
          <p:grpSpPr>
            <a:xfrm>
              <a:off x="903240" y="1657440"/>
              <a:ext cx="1594080" cy="677520"/>
              <a:chOff x="903240" y="1657440"/>
              <a:chExt cx="1594080" cy="677520"/>
            </a:xfrm>
          </p:grpSpPr>
          <p:sp>
            <p:nvSpPr>
              <p:cNvPr id="162" name="任意多边形 11"/>
              <p:cNvSpPr/>
              <p:nvPr/>
            </p:nvSpPr>
            <p:spPr>
              <a:xfrm>
                <a:off x="1319400" y="1749600"/>
                <a:ext cx="1177920" cy="492480"/>
              </a:xfrm>
              <a:prstGeom prst="pie">
                <a:avLst/>
              </a:prstGeom>
              <a:solidFill>
                <a:srgbClr val="ffffff"/>
              </a:solidFill>
              <a:ln w="255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2080" rIns="170640" tIns="91440" bIns="914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049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朗读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63" name="椭圆 12"/>
              <p:cNvGrpSpPr/>
              <p:nvPr/>
            </p:nvGrpSpPr>
            <p:grpSpPr>
              <a:xfrm>
                <a:off x="903240" y="1657440"/>
                <a:ext cx="695160" cy="677520"/>
                <a:chOff x="903240" y="1657440"/>
                <a:chExt cx="695160" cy="677520"/>
              </a:xfrm>
            </p:grpSpPr>
            <p:pic>
              <p:nvPicPr>
                <p:cNvPr id="164" name="椭圆 1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03240" y="1657440"/>
                  <a:ext cx="695160" cy="677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5" name=""/>
                <p:cNvSpPr/>
                <p:nvPr/>
              </p:nvSpPr>
              <p:spPr>
                <a:xfrm>
                  <a:off x="1015200" y="1764360"/>
                  <a:ext cx="475560" cy="46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组合 13"/>
          <p:cNvGrpSpPr/>
          <p:nvPr/>
        </p:nvGrpSpPr>
        <p:grpSpPr>
          <a:xfrm>
            <a:off x="814320" y="1357200"/>
            <a:ext cx="7661520" cy="4272120"/>
            <a:chOff x="814320" y="1357200"/>
            <a:chExt cx="7661520" cy="4272120"/>
          </a:xfrm>
        </p:grpSpPr>
        <p:grpSp>
          <p:nvGrpSpPr>
            <p:cNvPr id="167" name="组合 6"/>
            <p:cNvGrpSpPr/>
            <p:nvPr/>
          </p:nvGrpSpPr>
          <p:grpSpPr>
            <a:xfrm>
              <a:off x="823680" y="1471320"/>
              <a:ext cx="7652160" cy="4158000"/>
              <a:chOff x="823680" y="1471320"/>
              <a:chExt cx="7652160" cy="4158000"/>
            </a:xfrm>
          </p:grpSpPr>
          <p:sp>
            <p:nvSpPr>
              <p:cNvPr id="168" name="圆角矩形 7"/>
              <p:cNvSpPr/>
              <p:nvPr/>
            </p:nvSpPr>
            <p:spPr>
              <a:xfrm>
                <a:off x="823680" y="3701520"/>
                <a:ext cx="7652160" cy="19278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 lvl="1" marL="355680" indent="-355680">
                  <a:lnSpc>
                    <a:spcPct val="150000"/>
                  </a:lnSpc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1.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认真读课文，一边读一边思考，作者写了黄昏时的哪些景物？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lvl="1" marL="355680" indent="-355680">
                  <a:lnSpc>
                    <a:spcPct val="150000"/>
                  </a:lnSpc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2.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作者看到了这些景物后展开了哪些联想？用文中的语言来举例说明。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lvl="1" marL="355680" indent="-355680">
                  <a:lnSpc>
                    <a:spcPct val="150000"/>
                  </a:lnSpc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3.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从课文描写的景物和想象中，你体会到了作者怎样的思想感情？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" name="任意多边形 10"/>
              <p:cNvSpPr/>
              <p:nvPr/>
            </p:nvSpPr>
            <p:spPr>
              <a:xfrm>
                <a:off x="1183320" y="1471320"/>
                <a:ext cx="2262600" cy="507600"/>
              </a:xfrm>
              <a:prstGeom prst="pie">
                <a:avLst/>
              </a:prstGeom>
              <a:solidFill>
                <a:srgbClr val="ffffff"/>
              </a:solidFill>
              <a:ln w="255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2080" rIns="170640" tIns="91440" bIns="914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049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思考与交流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70" name="Picture 2" descr=""/>
            <p:cNvPicPr/>
            <p:nvPr/>
          </p:nvPicPr>
          <p:blipFill>
            <a:blip r:embed="rId1"/>
            <a:stretch/>
          </p:blipFill>
          <p:spPr>
            <a:xfrm>
              <a:off x="814320" y="1357200"/>
              <a:ext cx="803520" cy="740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组合 2"/>
          <p:cNvGrpSpPr/>
          <p:nvPr/>
        </p:nvGrpSpPr>
        <p:grpSpPr>
          <a:xfrm>
            <a:off x="760320" y="2085480"/>
            <a:ext cx="7878960" cy="3247200"/>
            <a:chOff x="760320" y="2085480"/>
            <a:chExt cx="7878960" cy="3247200"/>
          </a:xfrm>
        </p:grpSpPr>
        <p:sp>
          <p:nvSpPr>
            <p:cNvPr id="172" name="圆角矩形 7"/>
            <p:cNvSpPr/>
            <p:nvPr/>
          </p:nvSpPr>
          <p:spPr>
            <a:xfrm>
              <a:off x="760320" y="2085480"/>
              <a:ext cx="7661520" cy="31438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8eb4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lvl="1" marL="355680" indent="-355680">
                <a:lnSpc>
                  <a:spcPct val="150000"/>
                </a:lnSpc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4.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读下面的句子，注意加点字的部分，体会这些句子的表达效果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355680" indent="-355680">
                <a:lnSpc>
                  <a:spcPct val="150000"/>
                </a:lnSpc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）小波浪跳跃着，每一个都像大眼睛，闪着金光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355680" indent="-355680">
                <a:lnSpc>
                  <a:spcPct val="150000"/>
                </a:lnSpc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）海里跳跃着金眼睛，重重叠叠，一排接一排，一排怒似一排，一排比一排有着更浓重的颜色，连到天边，成为金色的一抹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355680" indent="-355680">
                <a:lnSpc>
                  <a:spcPct val="150000"/>
                </a:lnSpc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）愤怒地挣扎着的夕阳似乎在说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……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355680" indent="-355680">
                <a:lnSpc>
                  <a:spcPct val="150000"/>
                </a:lnSpc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）风带着夕阳的宣言离去了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355680" indent="-355680">
                <a:lnSpc>
                  <a:spcPct val="150000"/>
                </a:lnSpc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　　我还能从文中找到这样的句子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TextBox 1"/>
            <p:cNvSpPr/>
            <p:nvPr/>
          </p:nvSpPr>
          <p:spPr>
            <a:xfrm>
              <a:off x="2525400" y="2662200"/>
              <a:ext cx="178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. . 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TextBox 8"/>
            <p:cNvSpPr/>
            <p:nvPr/>
          </p:nvSpPr>
          <p:spPr>
            <a:xfrm>
              <a:off x="4581360" y="2651040"/>
              <a:ext cx="178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. . . 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TextBox 9"/>
            <p:cNvSpPr/>
            <p:nvPr/>
          </p:nvSpPr>
          <p:spPr>
            <a:xfrm>
              <a:off x="5897520" y="2662200"/>
              <a:ext cx="178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. . . 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TextBox 11"/>
            <p:cNvSpPr/>
            <p:nvPr/>
          </p:nvSpPr>
          <p:spPr>
            <a:xfrm>
              <a:off x="5315040" y="3105000"/>
              <a:ext cx="178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. . . . 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TextBox 12"/>
            <p:cNvSpPr/>
            <p:nvPr/>
          </p:nvSpPr>
          <p:spPr>
            <a:xfrm>
              <a:off x="6856560" y="3124080"/>
              <a:ext cx="178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. . . 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TextBox 14"/>
            <p:cNvSpPr/>
            <p:nvPr/>
          </p:nvSpPr>
          <p:spPr>
            <a:xfrm>
              <a:off x="1688760" y="3567240"/>
              <a:ext cx="178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. .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TextBox 15"/>
            <p:cNvSpPr/>
            <p:nvPr/>
          </p:nvSpPr>
          <p:spPr>
            <a:xfrm>
              <a:off x="2508120" y="3581280"/>
              <a:ext cx="369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. . . . . . . . . . . . 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TextBox 16"/>
            <p:cNvSpPr/>
            <p:nvPr/>
          </p:nvSpPr>
          <p:spPr>
            <a:xfrm>
              <a:off x="4065480" y="4468680"/>
              <a:ext cx="178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. . . 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TextBox 18"/>
            <p:cNvSpPr/>
            <p:nvPr/>
          </p:nvSpPr>
          <p:spPr>
            <a:xfrm>
              <a:off x="3790800" y="4933800"/>
              <a:ext cx="178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. .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2"/>
          <p:cNvSpPr/>
          <p:nvPr/>
        </p:nvSpPr>
        <p:spPr>
          <a:xfrm>
            <a:off x="644400" y="1139760"/>
            <a:ext cx="7680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参考答案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本文主要描写的景物有海浪和夕阳，次要描写的有海鸥和海风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由海浪涌上海岸想到闻号令而前进的士兵。文中写道：“排了队的小浪头在正步走，数不清有多少‘一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—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二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—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一’的口令，朝喇叭口的海塘涌来了。” 　由映着夕阳闪着金光的波浪想到金眼睛。文中写道：“小波浪跳跃着，每一个都像大眼睛，闪着金光。满海全是金眼睛，全在跳跃。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Box 2"/>
          <p:cNvSpPr/>
          <p:nvPr/>
        </p:nvSpPr>
        <p:spPr>
          <a:xfrm>
            <a:off x="658800" y="1585800"/>
            <a:ext cx="7680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如，“海里跳跃着金眼睛，重重叠叠，一排接一排，一排怒似一排，一排比一排有着更浓重的颜色，连到天边，成为金色的一抹。”从这句描写中可以看出作者那种不畏艰险的精神。“风把太阳永生不灭的宣言带到了全世界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夕阳都喷上了红光烈焰！”由夕阳的宣言，想到作者对明天充满信心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Box 2"/>
          <p:cNvSpPr/>
          <p:nvPr/>
        </p:nvSpPr>
        <p:spPr>
          <a:xfrm>
            <a:off x="644400" y="1407960"/>
            <a:ext cx="7680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4.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第（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）句中的加点字使“小波浪”充满动感，让这句话也因此变得活泼灵动、生机勃勃。第（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）句中的加点字增强了文章的气势，能使人自然地想到波浪不断翻滚的样子。第（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）句中的加点字赋予了夕阳人的情感，使后面的内容显得更加自然而可信，同时也把情感和景物巧妙地联系在了一起。第（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4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）句中的加点字使风有了生命，仿佛成为夕阳的使者，将夕阳的宣言传遍世界。课文中这样的句子还有：“半边天烧红了，沉甸甸地压在夕阳的光头上。”“我已经完成了今天的使命，我已经走完了今天的路程！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组合 2"/>
          <p:cNvGrpSpPr/>
          <p:nvPr/>
        </p:nvGrpSpPr>
        <p:grpSpPr>
          <a:xfrm>
            <a:off x="716040" y="973080"/>
            <a:ext cx="7691400" cy="2173320"/>
            <a:chOff x="716040" y="973080"/>
            <a:chExt cx="7691400" cy="2173320"/>
          </a:xfrm>
        </p:grpSpPr>
        <p:grpSp>
          <p:nvGrpSpPr>
            <p:cNvPr id="186" name="组合 6"/>
            <p:cNvGrpSpPr/>
            <p:nvPr/>
          </p:nvGrpSpPr>
          <p:grpSpPr>
            <a:xfrm>
              <a:off x="766440" y="1061280"/>
              <a:ext cx="7641000" cy="2085120"/>
              <a:chOff x="766440" y="1061280"/>
              <a:chExt cx="7641000" cy="2085120"/>
            </a:xfrm>
          </p:grpSpPr>
          <p:sp>
            <p:nvSpPr>
              <p:cNvPr id="187" name="圆角矩形 7"/>
              <p:cNvSpPr/>
              <p:nvPr/>
            </p:nvSpPr>
            <p:spPr>
              <a:xfrm>
                <a:off x="766440" y="1826280"/>
                <a:ext cx="7641000" cy="132012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lvl="1">
                  <a:lnSpc>
                    <a:spcPct val="150000"/>
                  </a:lnSpc>
                  <a:spcAft>
                    <a:spcPts val="451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读了课文之后，你一定受到很多启示，请你也来观察黄昏时周围的景物，并展开联想。把你看到的和同学们交流一下。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任意多边形 9"/>
              <p:cNvSpPr/>
              <p:nvPr/>
            </p:nvSpPr>
            <p:spPr>
              <a:xfrm>
                <a:off x="911880" y="1061280"/>
                <a:ext cx="2538000" cy="506520"/>
              </a:xfrm>
              <a:prstGeom prst="pie">
                <a:avLst/>
              </a:prstGeom>
              <a:solidFill>
                <a:srgbClr val="ffffff"/>
              </a:solidFill>
              <a:ln w="255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2080" rIns="170640" tIns="91440" bIns="914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049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拓展与运用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89" name="Picture 7" descr=""/>
            <p:cNvPicPr/>
            <p:nvPr/>
          </p:nvPicPr>
          <p:blipFill>
            <a:blip r:embed="rId1"/>
            <a:stretch/>
          </p:blipFill>
          <p:spPr>
            <a:xfrm>
              <a:off x="716040" y="973080"/>
              <a:ext cx="747720" cy="654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0" name="TextBox 2"/>
          <p:cNvSpPr/>
          <p:nvPr/>
        </p:nvSpPr>
        <p:spPr>
          <a:xfrm>
            <a:off x="852480" y="3497400"/>
            <a:ext cx="7500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教师点拨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描写黄昏时周围的景物，最重要的是要抓住景物的特征，其次要合理地安排描写顺序。另外在描写时还要做到情景交融，更要尽可能地运用比喻、拟人等修辞手法，使描绘的景物生动起来。还要展开丰富的联想，使抒情和写景相互渗透，融为一体。只有这样才能增强文章的感染力，引起读者的共鸣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1"/>
          <p:cNvSpPr/>
          <p:nvPr/>
        </p:nvSpPr>
        <p:spPr>
          <a:xfrm>
            <a:off x="900000" y="1576440"/>
            <a:ext cx="7575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通过上一节课的学习，我们已经初步理解了课文内容，为了更深入地理解课文，老师送给大家一把金钥匙，这就是核心问题和串珠问题。让我们带着这些问题理解课文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Box 2"/>
          <p:cNvSpPr/>
          <p:nvPr/>
        </p:nvSpPr>
        <p:spPr>
          <a:xfrm>
            <a:off x="971640" y="1600200"/>
            <a:ext cx="729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参考答案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秋末的黄昏来得总是很快，还没等山野上被日光蒸发起的水汽消散，太阳就落进了西山。于是，山谷中的风带着浓重的凉意，驱赶着白色的雾气，向山下游荡；而山峰的阴影，更快地倒映在村庄上，阴影越来越浓，渐渐和夜色混为一体，但不久，又被月亮染成银灰色的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组合 6"/>
          <p:cNvGrpSpPr/>
          <p:nvPr/>
        </p:nvGrpSpPr>
        <p:grpSpPr>
          <a:xfrm>
            <a:off x="731880" y="1347840"/>
            <a:ext cx="7661160" cy="1299960"/>
            <a:chOff x="731880" y="1347840"/>
            <a:chExt cx="7661160" cy="1299960"/>
          </a:xfrm>
        </p:grpSpPr>
        <p:grpSp>
          <p:nvGrpSpPr>
            <p:cNvPr id="193" name="组合 2"/>
            <p:cNvGrpSpPr/>
            <p:nvPr/>
          </p:nvGrpSpPr>
          <p:grpSpPr>
            <a:xfrm>
              <a:off x="731880" y="1479960"/>
              <a:ext cx="7661160" cy="1167840"/>
              <a:chOff x="731880" y="1479960"/>
              <a:chExt cx="7661160" cy="1167840"/>
            </a:xfrm>
          </p:grpSpPr>
          <p:sp>
            <p:nvSpPr>
              <p:cNvPr id="194" name="圆角矩形 4"/>
              <p:cNvSpPr/>
              <p:nvPr/>
            </p:nvSpPr>
            <p:spPr>
              <a:xfrm>
                <a:off x="731880" y="1936080"/>
                <a:ext cx="7661160" cy="71172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lvl="1">
                  <a:lnSpc>
                    <a:spcPct val="150000"/>
                  </a:lnSpc>
                  <a:spcAft>
                    <a:spcPts val="451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1.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背诵课文第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1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到第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4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Calibri"/>
                    <a:ea typeface="宋体"/>
                  </a:rPr>
                  <a:t>自然段。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任意多边形 5"/>
              <p:cNvSpPr/>
              <p:nvPr/>
            </p:nvSpPr>
            <p:spPr>
              <a:xfrm>
                <a:off x="1131840" y="1479960"/>
                <a:ext cx="1436400" cy="505080"/>
              </a:xfrm>
              <a:prstGeom prst="pie">
                <a:avLst/>
              </a:prstGeom>
              <a:solidFill>
                <a:srgbClr val="ffffff"/>
              </a:solidFill>
              <a:ln w="25560">
                <a:solidFill>
                  <a:srgbClr val="8eb4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2080" rIns="170640" tIns="91440" bIns="9144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049"/>
                  </a:spcAft>
                  <a:tabLst>
                    <a:tab algn="l" pos="0"/>
                    <a:tab algn="l" pos="1066680"/>
                    <a:tab algn="l" pos="2133720"/>
                    <a:tab algn="l" pos="3200400"/>
                    <a:tab algn="l" pos="4267080"/>
                    <a:tab algn="l" pos="5334120"/>
                    <a:tab algn="l" pos="6400800"/>
                    <a:tab algn="l" pos="7467480"/>
                    <a:tab algn="l" pos="8534520"/>
                    <a:tab algn="l" pos="9601200"/>
                    <a:tab algn="l" pos="1066788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积累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6" name="椭圆 7"/>
            <p:cNvGrpSpPr/>
            <p:nvPr/>
          </p:nvGrpSpPr>
          <p:grpSpPr>
            <a:xfrm>
              <a:off x="804600" y="1347840"/>
              <a:ext cx="761760" cy="713160"/>
              <a:chOff x="804600" y="1347840"/>
              <a:chExt cx="761760" cy="713160"/>
            </a:xfrm>
          </p:grpSpPr>
          <p:pic>
            <p:nvPicPr>
              <p:cNvPr id="197" name="椭圆 7" descr=""/>
              <p:cNvPicPr/>
              <p:nvPr/>
            </p:nvPicPr>
            <p:blipFill>
              <a:blip r:embed="rId1"/>
              <a:stretch/>
            </p:blipFill>
            <p:spPr>
              <a:xfrm>
                <a:off x="804600" y="1347840"/>
                <a:ext cx="761760" cy="71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" name=""/>
              <p:cNvSpPr/>
              <p:nvPr/>
            </p:nvSpPr>
            <p:spPr>
              <a:xfrm>
                <a:off x="925200" y="1461600"/>
                <a:ext cx="518400" cy="488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99" name="TextBox 9"/>
          <p:cNvSpPr/>
          <p:nvPr/>
        </p:nvSpPr>
        <p:spPr>
          <a:xfrm>
            <a:off x="720720" y="2949480"/>
            <a:ext cx="787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教师点拨：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要在理解课文内容的基础上，抓住行文的顺序和线索进行背诵，如第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 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自然段写的是波浪的奔涌，第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 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自然段写的是波浪的躁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通过背诵，积累精美词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圆角矩形 4"/>
          <p:cNvSpPr/>
          <p:nvPr/>
        </p:nvSpPr>
        <p:spPr>
          <a:xfrm>
            <a:off x="814320" y="1285560"/>
            <a:ext cx="7661520" cy="19278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eb4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>
              <a:lnSpc>
                <a:spcPct val="15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读一读，写一写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愤怒　躁怒　悲壮　沉重　重重叠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宁静　繁华　掠过　跳跃　永生不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Box 9"/>
          <p:cNvSpPr/>
          <p:nvPr/>
        </p:nvSpPr>
        <p:spPr>
          <a:xfrm>
            <a:off x="909720" y="3344760"/>
            <a:ext cx="744228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Calibri"/>
              </a:rPr>
              <a:t>教师点拨：</a:t>
            </a: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读这些词语时，注意“重”和“宁”是多音字。“重”在“重重叠叠”一词中读“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chóng”</a:t>
            </a: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，在“沉重”一词中读“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zhòng”</a:t>
            </a: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；“宁”在“宁静”一词中读“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nínɡ”</a:t>
            </a: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。书写时，注意“躁”的左部是“”；“叠”中三个“又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的最后一笔均为点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矩形 7167"/>
          <p:cNvSpPr/>
          <p:nvPr/>
        </p:nvSpPr>
        <p:spPr>
          <a:xfrm>
            <a:off x="801720" y="2363760"/>
            <a:ext cx="770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、给带点的字选择正确的读音打“√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夜的黑幕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ù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夕阳的宣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xiān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xuān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将落未落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jiāng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jiàng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愤怒地挣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zá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zh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悲壮的笳声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qié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ji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图片 17" descr=""/>
          <p:cNvPicPr/>
          <p:nvPr/>
        </p:nvPicPr>
        <p:blipFill>
          <a:blip r:embed="rId1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04" name="文本框 17"/>
          <p:cNvSpPr/>
          <p:nvPr/>
        </p:nvSpPr>
        <p:spPr>
          <a:xfrm>
            <a:off x="4206960" y="1342080"/>
            <a:ext cx="729720" cy="368640"/>
          </a:xfrm>
          <a:prstGeom prst="pie">
            <a:avLst/>
          </a:prstGeom>
          <a:solidFill>
            <a:srgbClr val="dce6f2"/>
          </a:solidFill>
          <a:ln w="25560">
            <a:solidFill>
              <a:srgbClr val="95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仿宋"/>
                <a:ea typeface="仿宋"/>
              </a:rPr>
              <a:t>基础练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矩形 7168"/>
          <p:cNvSpPr/>
          <p:nvPr/>
        </p:nvSpPr>
        <p:spPr>
          <a:xfrm>
            <a:off x="2595600" y="4808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矩形 7168"/>
          <p:cNvSpPr/>
          <p:nvPr/>
        </p:nvSpPr>
        <p:spPr>
          <a:xfrm>
            <a:off x="2319120" y="3171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矩形 7168"/>
          <p:cNvSpPr/>
          <p:nvPr/>
        </p:nvSpPr>
        <p:spPr>
          <a:xfrm>
            <a:off x="2300040" y="3703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矩形 7168"/>
          <p:cNvSpPr/>
          <p:nvPr/>
        </p:nvSpPr>
        <p:spPr>
          <a:xfrm>
            <a:off x="1357200" y="4292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矩形 7168"/>
          <p:cNvSpPr/>
          <p:nvPr/>
        </p:nvSpPr>
        <p:spPr>
          <a:xfrm>
            <a:off x="2319120" y="5373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矩形 5"/>
          <p:cNvSpPr/>
          <p:nvPr/>
        </p:nvSpPr>
        <p:spPr>
          <a:xfrm>
            <a:off x="2802960" y="3078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矩形 6"/>
          <p:cNvSpPr/>
          <p:nvPr/>
        </p:nvSpPr>
        <p:spPr>
          <a:xfrm>
            <a:off x="3984120" y="3583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矩形 7"/>
          <p:cNvSpPr/>
          <p:nvPr/>
        </p:nvSpPr>
        <p:spPr>
          <a:xfrm>
            <a:off x="2845800" y="4165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矩形 8"/>
          <p:cNvSpPr/>
          <p:nvPr/>
        </p:nvSpPr>
        <p:spPr>
          <a:xfrm>
            <a:off x="3738240" y="4673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矩形 9"/>
          <p:cNvSpPr/>
          <p:nvPr/>
        </p:nvSpPr>
        <p:spPr>
          <a:xfrm>
            <a:off x="3727080" y="5280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矩形 3"/>
          <p:cNvSpPr/>
          <p:nvPr/>
        </p:nvSpPr>
        <p:spPr>
          <a:xfrm>
            <a:off x="830160" y="1914480"/>
            <a:ext cx="756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二、形近字组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躁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 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   　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 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焰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 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矩形 7"/>
          <p:cNvSpPr/>
          <p:nvPr/>
        </p:nvSpPr>
        <p:spPr>
          <a:xfrm>
            <a:off x="2431800" y="2533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躁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矩形 12"/>
          <p:cNvSpPr/>
          <p:nvPr/>
        </p:nvSpPr>
        <p:spPr>
          <a:xfrm>
            <a:off x="5924160" y="2584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干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矩形 10"/>
          <p:cNvSpPr/>
          <p:nvPr/>
        </p:nvSpPr>
        <p:spPr>
          <a:xfrm>
            <a:off x="2422080" y="3084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火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矩形 11"/>
          <p:cNvSpPr/>
          <p:nvPr/>
        </p:nvSpPr>
        <p:spPr>
          <a:xfrm>
            <a:off x="5985360" y="3111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烟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矩形 3"/>
          <p:cNvSpPr/>
          <p:nvPr/>
        </p:nvSpPr>
        <p:spPr>
          <a:xfrm>
            <a:off x="789120" y="1671480"/>
            <a:ext cx="7489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、读拼音写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lǎ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bɑ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      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hǎi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ōu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     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hóng  di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hōng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dòng              jí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zào             róng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hu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592280" y="274968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1587600" y="3822840"/>
          <a:ext cx="1439640" cy="73152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3735360" y="3838680"/>
          <a:ext cx="1548000" cy="731880"/>
        </p:xfrm>
        <a:graphic>
          <a:graphicData uri="http://schemas.openxmlformats.org/drawingml/2006/table">
            <a:tbl>
              <a:tblPr/>
              <a:tblGrid>
                <a:gridCol w="387360"/>
                <a:gridCol w="387360"/>
                <a:gridCol w="385920"/>
                <a:gridCol w="387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3751200" y="2765520"/>
          <a:ext cx="1548000" cy="731880"/>
        </p:xfrm>
        <a:graphic>
          <a:graphicData uri="http://schemas.openxmlformats.org/drawingml/2006/table">
            <a:tbl>
              <a:tblPr/>
              <a:tblGrid>
                <a:gridCol w="387360"/>
                <a:gridCol w="387360"/>
                <a:gridCol w="385920"/>
                <a:gridCol w="387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6039000" y="3843360"/>
          <a:ext cx="1547640" cy="731880"/>
        </p:xfrm>
        <a:graphic>
          <a:graphicData uri="http://schemas.openxmlformats.org/drawingml/2006/table">
            <a:tbl>
              <a:tblPr/>
              <a:tblGrid>
                <a:gridCol w="387360"/>
                <a:gridCol w="385560"/>
                <a:gridCol w="387360"/>
                <a:gridCol w="387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6054840" y="2770200"/>
          <a:ext cx="1547640" cy="731880"/>
        </p:xfrm>
        <a:graphic>
          <a:graphicData uri="http://schemas.openxmlformats.org/drawingml/2006/table">
            <a:tbl>
              <a:tblPr/>
              <a:tblGrid>
                <a:gridCol w="387360"/>
                <a:gridCol w="385560"/>
                <a:gridCol w="387360"/>
                <a:gridCol w="387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7" name="矩形 1"/>
          <p:cNvSpPr/>
          <p:nvPr/>
        </p:nvSpPr>
        <p:spPr>
          <a:xfrm>
            <a:off x="1812240" y="27734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喇 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矩形 2"/>
          <p:cNvSpPr/>
          <p:nvPr/>
        </p:nvSpPr>
        <p:spPr>
          <a:xfrm>
            <a:off x="3967920" y="27939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海 鸥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矩形 4"/>
          <p:cNvSpPr/>
          <p:nvPr/>
        </p:nvSpPr>
        <p:spPr>
          <a:xfrm>
            <a:off x="6242760" y="27939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重 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矩形 6"/>
          <p:cNvSpPr/>
          <p:nvPr/>
        </p:nvSpPr>
        <p:spPr>
          <a:xfrm>
            <a:off x="1780560" y="38368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轰 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矩形 7"/>
          <p:cNvSpPr/>
          <p:nvPr/>
        </p:nvSpPr>
        <p:spPr>
          <a:xfrm>
            <a:off x="3940920" y="38419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急 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矩形 8"/>
          <p:cNvSpPr/>
          <p:nvPr/>
        </p:nvSpPr>
        <p:spPr>
          <a:xfrm>
            <a:off x="6290640" y="38498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溶 化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矩形 3"/>
          <p:cNvSpPr/>
          <p:nvPr/>
        </p:nvSpPr>
        <p:spPr>
          <a:xfrm>
            <a:off x="917640" y="1666800"/>
            <a:ext cx="7569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四、写近义词、反义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近义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躁怒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  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   繁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  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解散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悲壮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  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反义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溶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浓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  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解散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宁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  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矩形 1"/>
          <p:cNvSpPr/>
          <p:nvPr/>
        </p:nvSpPr>
        <p:spPr>
          <a:xfrm>
            <a:off x="2630160" y="2884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暴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矩形 4"/>
          <p:cNvSpPr/>
          <p:nvPr/>
        </p:nvSpPr>
        <p:spPr>
          <a:xfrm>
            <a:off x="6005160" y="2895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繁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矩形 5"/>
          <p:cNvSpPr/>
          <p:nvPr/>
        </p:nvSpPr>
        <p:spPr>
          <a:xfrm>
            <a:off x="2630160" y="3436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分散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矩形 6"/>
          <p:cNvSpPr/>
          <p:nvPr/>
        </p:nvSpPr>
        <p:spPr>
          <a:xfrm>
            <a:off x="6036840" y="3421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悲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矩形 8"/>
          <p:cNvSpPr/>
          <p:nvPr/>
        </p:nvSpPr>
        <p:spPr>
          <a:xfrm>
            <a:off x="2634840" y="45435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凝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矩形 12"/>
          <p:cNvSpPr/>
          <p:nvPr/>
        </p:nvSpPr>
        <p:spPr>
          <a:xfrm>
            <a:off x="5994000" y="4527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清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矩形 14"/>
          <p:cNvSpPr/>
          <p:nvPr/>
        </p:nvSpPr>
        <p:spPr>
          <a:xfrm>
            <a:off x="2576160" y="50990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集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矩形 15"/>
          <p:cNvSpPr/>
          <p:nvPr/>
        </p:nvSpPr>
        <p:spPr>
          <a:xfrm>
            <a:off x="5994000" y="5062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喧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矩形 1"/>
          <p:cNvSpPr/>
          <p:nvPr/>
        </p:nvSpPr>
        <p:spPr>
          <a:xfrm>
            <a:off x="717480" y="1212840"/>
            <a:ext cx="7783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五、句子练习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指出下面句子中破折号的用法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排了队的小浪头在正步走，数不清有多少“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”的口令，朝喇叭口的海塘涌来了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五只白鸥轻轻地掠过，翅膀扑着波浪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点一点躁怒起来的波浪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            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           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矩形 2"/>
          <p:cNvSpPr/>
          <p:nvPr/>
        </p:nvSpPr>
        <p:spPr>
          <a:xfrm>
            <a:off x="1668600" y="3524400"/>
            <a:ext cx="26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表示声音的延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矩形 3"/>
          <p:cNvSpPr/>
          <p:nvPr/>
        </p:nvSpPr>
        <p:spPr>
          <a:xfrm>
            <a:off x="3860640" y="4605480"/>
            <a:ext cx="46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表示对前面的词语加以解释说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矩形 4"/>
          <p:cNvSpPr/>
          <p:nvPr/>
        </p:nvSpPr>
        <p:spPr>
          <a:xfrm>
            <a:off x="3402000" y="5149800"/>
            <a:ext cx="26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表示声音的延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矩形 1"/>
          <p:cNvSpPr/>
          <p:nvPr/>
        </p:nvSpPr>
        <p:spPr>
          <a:xfrm>
            <a:off x="669960" y="1338120"/>
            <a:ext cx="7959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缩句：两点三点白鸥划破了渐变为赭色的天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指出下列句子所使用的修辞手法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海塘下轰隆轰隆地腾起了喊杀声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花儿在欢笑，鸟儿在歌唱，蝴蝶在翩翩起舞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   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每一个小波浪都像大眼睛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危楼高百尺，手可摘星辰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矩形 2"/>
          <p:cNvSpPr/>
          <p:nvPr/>
        </p:nvSpPr>
        <p:spPr>
          <a:xfrm>
            <a:off x="1251000" y="1962000"/>
            <a:ext cx="27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白鸥划破了天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矩形 4"/>
          <p:cNvSpPr/>
          <p:nvPr/>
        </p:nvSpPr>
        <p:spPr>
          <a:xfrm>
            <a:off x="6348240" y="31082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拟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矩形 5"/>
          <p:cNvSpPr/>
          <p:nvPr/>
        </p:nvSpPr>
        <p:spPr>
          <a:xfrm>
            <a:off x="1785240" y="4208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拟人、排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矩形 6"/>
          <p:cNvSpPr/>
          <p:nvPr/>
        </p:nvSpPr>
        <p:spPr>
          <a:xfrm>
            <a:off x="5339880" y="4713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比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矩形 7"/>
          <p:cNvSpPr/>
          <p:nvPr/>
        </p:nvSpPr>
        <p:spPr>
          <a:xfrm>
            <a:off x="5339880" y="5280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夸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组合 8"/>
          <p:cNvGrpSpPr/>
          <p:nvPr/>
        </p:nvGrpSpPr>
        <p:grpSpPr>
          <a:xfrm>
            <a:off x="600120" y="1014480"/>
            <a:ext cx="8080200" cy="5508720"/>
            <a:chOff x="600120" y="1014480"/>
            <a:chExt cx="8080200" cy="5508720"/>
          </a:xfrm>
        </p:grpSpPr>
        <p:sp>
          <p:nvSpPr>
            <p:cNvPr id="75" name="圆角矩形 4"/>
            <p:cNvSpPr/>
            <p:nvPr/>
          </p:nvSpPr>
          <p:spPr>
            <a:xfrm>
              <a:off x="600120" y="3876480"/>
              <a:ext cx="3207600" cy="84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一读：</a:t>
              </a:r>
              <a:r>
                <a:rPr b="1" lang="zh-CN" sz="2200" spc="-1" strike="noStrike">
                  <a:solidFill>
                    <a:srgbClr val="000000"/>
                  </a:solidFill>
                  <a:latin typeface="宋体"/>
                </a:rPr>
                <a:t>在文中所描写的景物中，哪些是主要的，哪些是次要的？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圆角矩形 5"/>
            <p:cNvSpPr/>
            <p:nvPr/>
          </p:nvSpPr>
          <p:spPr>
            <a:xfrm>
              <a:off x="5224320" y="4011840"/>
              <a:ext cx="3456000" cy="84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二思：</a:t>
              </a:r>
              <a:r>
                <a:rPr b="1" lang="zh-CN" sz="2200" spc="-1" strike="noStrike">
                  <a:solidFill>
                    <a:srgbClr val="000000"/>
                  </a:solidFill>
                  <a:latin typeface="宋体"/>
                </a:rPr>
                <a:t>作者是如何写海浪的，展开了哪些想象？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圆角矩形 6"/>
            <p:cNvSpPr/>
            <p:nvPr/>
          </p:nvSpPr>
          <p:spPr>
            <a:xfrm>
              <a:off x="5211720" y="5239080"/>
              <a:ext cx="3468600" cy="475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四品：</a:t>
              </a:r>
              <a:r>
                <a:rPr b="1" lang="zh-CN" sz="2200" spc="-1" strike="noStrike">
                  <a:solidFill>
                    <a:srgbClr val="000000"/>
                  </a:solidFill>
                  <a:latin typeface="宋体"/>
                </a:rPr>
                <a:t>本文在写作上有什么特点？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圆角矩形 7"/>
            <p:cNvSpPr/>
            <p:nvPr/>
          </p:nvSpPr>
          <p:spPr>
            <a:xfrm>
              <a:off x="600120" y="5214240"/>
              <a:ext cx="3207600" cy="84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三探：</a:t>
              </a:r>
              <a:r>
                <a:rPr b="1" lang="zh-CN" sz="2200" spc="-1" strike="noStrike">
                  <a:solidFill>
                    <a:srgbClr val="000000"/>
                  </a:solidFill>
                  <a:latin typeface="宋体"/>
                </a:rPr>
                <a:t>作者是如何写夕阳的，展开了哪些想象？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9" name="组合 3"/>
            <p:cNvGrpSpPr/>
            <p:nvPr/>
          </p:nvGrpSpPr>
          <p:grpSpPr>
            <a:xfrm>
              <a:off x="2188080" y="1014480"/>
              <a:ext cx="4767480" cy="5508720"/>
              <a:chOff x="2188080" y="1014480"/>
              <a:chExt cx="4767480" cy="5508720"/>
            </a:xfrm>
          </p:grpSpPr>
          <p:pic>
            <p:nvPicPr>
              <p:cNvPr id="80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2188080" y="1014480"/>
                <a:ext cx="4767480" cy="550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" name="矩形 1"/>
              <p:cNvSpPr/>
              <p:nvPr/>
            </p:nvSpPr>
            <p:spPr>
              <a:xfrm>
                <a:off x="2626560" y="2112120"/>
                <a:ext cx="42199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核心问题：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本文表达了作者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怎样的思想感情？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" name="矩形 2"/>
              <p:cNvSpPr/>
              <p:nvPr/>
            </p:nvSpPr>
            <p:spPr>
              <a:xfrm>
                <a:off x="4417200" y="1335600"/>
                <a:ext cx="63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黄 昏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>
            <a:off x="574560" y="1133640"/>
            <a:ext cx="157644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2"/>
          <p:cNvSpPr/>
          <p:nvPr/>
        </p:nvSpPr>
        <p:spPr>
          <a:xfrm>
            <a:off x="790560" y="160956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风在吹号。冲锋号！小波浪跳跃着，每一个都像大眼睛，闪着金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" name="组合 3"/>
          <p:cNvGrpSpPr/>
          <p:nvPr/>
        </p:nvGrpSpPr>
        <p:grpSpPr>
          <a:xfrm>
            <a:off x="873000" y="2927520"/>
            <a:ext cx="7683480" cy="558720"/>
            <a:chOff x="873000" y="2927520"/>
            <a:chExt cx="7683480" cy="558720"/>
          </a:xfrm>
        </p:grpSpPr>
        <p:sp>
          <p:nvSpPr>
            <p:cNvPr id="86" name="直接连接符 4"/>
            <p:cNvSpPr/>
            <p:nvPr/>
          </p:nvSpPr>
          <p:spPr>
            <a:xfrm>
              <a:off x="873000" y="3486240"/>
              <a:ext cx="7683480" cy="0"/>
            </a:xfrm>
            <a:prstGeom prst="line">
              <a:avLst/>
            </a:prstGeom>
            <a:ln w="25560">
              <a:solidFill>
                <a:srgbClr val="c0504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任意多边形 5"/>
            <p:cNvSpPr/>
            <p:nvPr/>
          </p:nvSpPr>
          <p:spPr>
            <a:xfrm>
              <a:off x="873000" y="2927520"/>
              <a:ext cx="7683480" cy="558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b">
              <a:noAutofit/>
            </a:bodyPr>
            <a:p>
              <a:pPr marL="343080" indent="-343080">
                <a:lnSpc>
                  <a:spcPct val="90000"/>
                </a:lnSpc>
                <a:spcAft>
                  <a:spcPts val="1049"/>
                </a:spcAft>
                <a:buClr>
                  <a:srgbClr val="c00000"/>
                </a:buClr>
                <a:buFont typeface="Wingdings" charset="2"/>
                <a:buChar char="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作者用生动的语言写出了波浪怎样的特点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" name="矩形 1"/>
          <p:cNvSpPr/>
          <p:nvPr/>
        </p:nvSpPr>
        <p:spPr>
          <a:xfrm>
            <a:off x="885960" y="3691080"/>
            <a:ext cx="779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作者采用</a:t>
            </a:r>
            <a:r>
              <a:rPr b="1" lang="zh-CN" sz="2400" spc="-1" strike="noStrike" u="sng">
                <a:solidFill>
                  <a:srgbClr val="ff33cc"/>
                </a:solidFill>
                <a:uFillTx/>
                <a:latin typeface="宋体"/>
              </a:rPr>
              <a:t>拟人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和</a:t>
            </a:r>
            <a:r>
              <a:rPr b="1" lang="zh-CN" sz="2400" spc="-1" strike="noStrike" u="sng">
                <a:solidFill>
                  <a:srgbClr val="ff33cc"/>
                </a:solidFill>
                <a:uFillTx/>
                <a:latin typeface="宋体"/>
              </a:rPr>
              <a:t>比喻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的手法，将波浪的自然运动当成人在跳跃，把小波浪比喻成“闪着金光”的大眼睛，写出了波浪的可爱之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C:\Users\Administrator\Desktop\可改图标 - 副本\品读释疑.png"/>
          <p:cNvPicPr/>
          <p:nvPr/>
        </p:nvPicPr>
        <p:blipFill>
          <a:blip r:embed="rId1"/>
          <a:stretch/>
        </p:blipFill>
        <p:spPr>
          <a:xfrm>
            <a:off x="3343320" y="266760"/>
            <a:ext cx="2571840" cy="674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1"/>
          <p:cNvSpPr/>
          <p:nvPr/>
        </p:nvSpPr>
        <p:spPr>
          <a:xfrm>
            <a:off x="885960" y="1827360"/>
            <a:ext cx="76834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拓展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请你用比喻、拟人等修辞手法写一写下雪时的美丽景象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___ ________________________________________________ ______________________________________________ ________________________________________________ ________________________________________________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图片 24" descr="花盆.png"/>
          <p:cNvPicPr/>
          <p:nvPr/>
        </p:nvPicPr>
        <p:blipFill>
          <a:blip r:embed="rId1"/>
          <a:stretch/>
        </p:blipFill>
        <p:spPr>
          <a:xfrm>
            <a:off x="642960" y="1981080"/>
            <a:ext cx="322200" cy="368280"/>
          </a:xfrm>
          <a:prstGeom prst="rect">
            <a:avLst/>
          </a:prstGeom>
          <a:ln w="0">
            <a:noFill/>
          </a:ln>
        </p:spPr>
      </p:pic>
      <p:sp>
        <p:nvSpPr>
          <p:cNvPr id="92" name="矩形 2"/>
          <p:cNvSpPr/>
          <p:nvPr/>
        </p:nvSpPr>
        <p:spPr>
          <a:xfrm>
            <a:off x="982800" y="2917800"/>
            <a:ext cx="758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0000" indent="-90000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示例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雪，继续悠悠地飘着，像柳絮，如芦花，似轻烟流转，追逐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不一会儿，树枝上挂满了雪花，她们是那样的轻柔，那样的松软，仿佛睡着了一样静静地躺在每一根枝条上，在微风的轻拂下，轻轻地摇曳，看上去是那样的安详、惬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2"/>
          <p:cNvSpPr/>
          <p:nvPr/>
        </p:nvSpPr>
        <p:spPr>
          <a:xfrm>
            <a:off x="735120" y="152892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海里跳跃着金眼睛，重重叠叠，一排接一排，一排怒似一排，一排比一排有着更浓重的颜色，连到天边，成为金色的一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矩形 4"/>
          <p:cNvSpPr/>
          <p:nvPr/>
        </p:nvSpPr>
        <p:spPr>
          <a:xfrm>
            <a:off x="892080" y="3549600"/>
            <a:ext cx="766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这句话用</a:t>
            </a:r>
            <a:r>
              <a:rPr b="1" lang="zh-CN" sz="2400" spc="-1" strike="noStrike" u="sng">
                <a:solidFill>
                  <a:srgbClr val="ff33cc"/>
                </a:solidFill>
                <a:uFillTx/>
                <a:latin typeface="宋体"/>
              </a:rPr>
              <a:t>排比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的手法，层层递进，强调了一浪接一浪的动态美，赋予海浪生命和情感因素，表达了作者不畏艰险的精神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2"/>
          <p:cNvSpPr/>
          <p:nvPr/>
        </p:nvSpPr>
        <p:spPr>
          <a:xfrm>
            <a:off x="844560" y="1411200"/>
            <a:ext cx="768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我已经完成了今天的使命，我已经走完了今天的路程！我今天的日子要结束了；哦（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ò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，我的新生也快开始了！明天，从海的那一头，我将威武地升起来，带来光明、温暖、快乐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1"/>
          <p:cNvSpPr/>
          <p:nvPr/>
        </p:nvSpPr>
        <p:spPr>
          <a:xfrm>
            <a:off x="681120" y="3648240"/>
            <a:ext cx="801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作者赋予了夕阳崇高的抱负、博大的胸怀、坚定的信仰，为夕阳注入了蓬勃的战斗激情。同时，更为夕阳塑造了一种崭新的意境，不因即将消逝而颓丧，而是朝气蓬勃、充满自信、充满理想、充满希望地迎接崭新的明天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矩形 2"/>
          <p:cNvSpPr/>
          <p:nvPr/>
        </p:nvSpPr>
        <p:spPr>
          <a:xfrm>
            <a:off x="955800" y="2089080"/>
            <a:ext cx="723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同学们刚才已经跟随老师走进课文，品读了课文中的重点语句，现在，让我们拿起金钥匙开启智慧之门吧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dministrator</dc:creator>
  <dc:description/>
  <dc:language>en-US</dc:language>
  <cp:lastModifiedBy>Administrator</cp:lastModifiedBy>
  <dcterms:modified xsi:type="dcterms:W3CDTF">2017-11-20T08:36:11Z</dcterms:modified>
  <cp:revision>44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