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19.png" ContentType="image/png"/>
  <Override PartName="/ppt/media/image1.png" ContentType="image/png"/>
  <Override PartName="/ppt/media/image18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2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C1B6-104A-47C5-8F9B-F87D62F73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C3AD-B431-4B1A-ABAE-AA7770115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8157-A870-47AB-8D9F-44CCFB7E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378B-5EC9-4696-ABDE-F846DB5B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7A6D-E23D-4BA9-BA26-E7272DE6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6C4D-A371-4204-AA12-18F70FBF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D6E0-C486-43BF-9F8B-4B36A44E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00A2-4326-4190-A3B9-01B921A2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E510-9AB1-49B2-857C-07556E0A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E52A-3112-4EB7-BCD5-CD0CDC8B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0171-0D55-434A-B6C7-7D22C9A1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0CE8-795C-4D24-84D7-9BFAD61E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6D60-80B2-480C-99F6-9660D07C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64B3-6BD8-4387-8550-C54DE65D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36E0-57C5-4619-B8DB-1A821B9E8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" Target="slide14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XC920004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63514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7164360" y="692280"/>
            <a:ext cx="1281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1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2222640" y="2079720"/>
            <a:ext cx="69498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暮春三月，长江边，烟雾迷蒙，繁花似锦。年轻的李白正在黄鹤楼上为大诗人孟浩然饯行。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148360" y="1628640"/>
            <a:ext cx="237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219640" y="386064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1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1928880" y="2230560"/>
            <a:ext cx="69501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暮春三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长江边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烟雾迷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繁花似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年轻的李白正在黄鹤楼上为大诗人孟浩然饯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771640" y="1773360"/>
            <a:ext cx="2521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148360" y="1628640"/>
            <a:ext cx="237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219640" y="386064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400360" y="4967280"/>
            <a:ext cx="23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3300"/>
                </a:solidFill>
                <a:latin typeface="Arial"/>
              </a:rPr>
              <a:t>烟花三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1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2124000" y="1916280"/>
            <a:ext cx="70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李白和孟浩然一会儿仰望蓝天白云，一会儿远眺江上景色，都有意不去触动藏在心底的依依惜别之情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1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098800" y="2060640"/>
            <a:ext cx="701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李白和孟浩然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一会儿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仰望蓝天白云，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一会儿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远眺江上景色，都有意不去触动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藏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在心底的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依依惜别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之情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送别"/>
          <p:cNvPicPr/>
          <p:nvPr/>
        </p:nvPicPr>
        <p:blipFill>
          <a:blip r:embed="rId2"/>
          <a:stretch/>
        </p:blipFill>
        <p:spPr>
          <a:xfrm>
            <a:off x="117360" y="998640"/>
            <a:ext cx="4646880" cy="4521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773240" y="1576080"/>
            <a:ext cx="4032360" cy="397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李白举起了酒杯说：“孟夫子，您的人品令人敬仰，您的诗篇誉满天下。自从我结识了您，就一直把您当作我的兄长和老师。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809720" y="5519880"/>
            <a:ext cx="589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您就要顺江东下，前往扬州，不知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们何日才能再见面，就请您满饮此杯吧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送别"/>
          <p:cNvPicPr/>
          <p:nvPr/>
        </p:nvPicPr>
        <p:blipFill>
          <a:blip r:embed="rId2"/>
          <a:stretch/>
        </p:blipFill>
        <p:spPr>
          <a:xfrm>
            <a:off x="122400" y="855720"/>
            <a:ext cx="4690800" cy="4565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74840" y="1052280"/>
            <a:ext cx="4032360" cy="44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孟浩然接过酒杯，一饮而尽，然后说道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王勃说得好：‘海内存知己，天涯若比邻。’ 我们虽然暂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616040" y="5411880"/>
            <a:ext cx="48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别了，我们的友谊却像这长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波涛永世不绝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beijing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2881440" y="2090880"/>
            <a:ext cx="338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岸边杨柳依依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江上沙鸥点点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top2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2556000" y="1817640"/>
            <a:ext cx="63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友人登上了船。白帆随着江风渐渐远去，消失在蓝天的尽头。李白依然        在江边，      着远方，只见一江春水浩浩荡荡地流向天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156360" y="2825640"/>
            <a:ext cx="151272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伫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348000" y="3475080"/>
            <a:ext cx="151308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凝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top2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556000" y="2127240"/>
            <a:ext cx="63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友人登上了船。白帆随着江风渐渐远去，消失在蓝天的尽头。李白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依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     在江边，      着远方，只见一江春水浩浩荡荡地流向天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156360" y="3135240"/>
            <a:ext cx="151272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伫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348000" y="3784680"/>
            <a:ext cx="151308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凝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msotw9_temp0"/>
          <p:cNvPicPr/>
          <p:nvPr/>
        </p:nvPicPr>
        <p:blipFill>
          <a:blip r:embed="rId2"/>
          <a:stretch/>
        </p:blipFill>
        <p:spPr>
          <a:xfrm>
            <a:off x="4952880" y="1413000"/>
            <a:ext cx="4191120" cy="5445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msotw9_temp0"/>
          <p:cNvPicPr/>
          <p:nvPr/>
        </p:nvPicPr>
        <p:blipFill>
          <a:blip r:embed="rId3"/>
          <a:stretch/>
        </p:blipFill>
        <p:spPr>
          <a:xfrm>
            <a:off x="0" y="1413000"/>
            <a:ext cx="5715000" cy="54165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704880" y="2492280"/>
            <a:ext cx="84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李白按捺不住激动的心情，随即吟出了脍炙人口的名诗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XC920004"/>
          <p:cNvPicPr/>
          <p:nvPr/>
        </p:nvPicPr>
        <p:blipFill>
          <a:blip r:embed="rId2"/>
          <a:stretch/>
        </p:blipFill>
        <p:spPr>
          <a:xfrm>
            <a:off x="-7920" y="907920"/>
            <a:ext cx="7027920" cy="59198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5076720" y="1628640"/>
            <a:ext cx="3613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黄鹤楼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鹤楼始建于三国时期，历经风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beijing8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-38160" y="1844640"/>
            <a:ext cx="8928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黄鹤楼送孟浩然之广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故人西辞黄鹤楼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烟花三月下扬州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孤帆远影碧空尽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唯见长江天际流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黄鹤楼20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611280" y="2205000"/>
            <a:ext cx="886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隶书"/>
                <a:ea typeface="隶书"/>
              </a:rPr>
              <a:t>结合课文，用自己的话说这首诗的意思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高山流水.mp3" descr=""/>
          <p:cNvPicPr/>
          <p:nvPr/>
        </p:nvPicPr>
        <p:blipFill>
          <a:blip r:embed="rId3"/>
          <a:stretch/>
        </p:blipFill>
        <p:spPr>
          <a:xfrm>
            <a:off x="68580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6" name="WordArt 6"/>
          <p:cNvSpPr txBox="1"/>
          <p:nvPr/>
        </p:nvSpPr>
        <p:spPr>
          <a:xfrm>
            <a:off x="3314880" y="2216160"/>
            <a:ext cx="2514600" cy="7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小练笔</a:t>
            </a:r>
            <a:endParaRPr b="0" lang="en-US" sz="66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-973080" y="1447920"/>
            <a:ext cx="10972800" cy="9829800"/>
          </a:xfrm>
          <a:custGeom>
            <a:avLst/>
            <a:gdLst>
              <a:gd name="textAreaLeft" fmla="*/ 1016280 w 10972800"/>
              <a:gd name="textAreaRight" fmla="*/ 9956520 w 10972800"/>
              <a:gd name="textAreaTop" fmla="*/ 0 h 9829800"/>
              <a:gd name="textAreaBottom" fmla="*/ 3864960 h 9829800"/>
            </a:gdLst>
            <a:ahLst/>
            <a:rect l="textAreaLeft" t="textAreaTop" r="textAreaRight" b="textAreaBottom"/>
            <a:pathLst>
              <a:path w="21600" h="21600">
                <a:moveTo>
                  <a:pt x="8119" y="7859"/>
                </a:moveTo>
                <a:cubicBezTo>
                  <a:pt x="8852" y="7191"/>
                  <a:pt x="9808" y="6820"/>
                  <a:pt x="10800" y="6821"/>
                </a:cubicBezTo>
                <a:cubicBezTo>
                  <a:pt x="11791" y="6821"/>
                  <a:pt x="12747" y="7191"/>
                  <a:pt x="13480" y="7859"/>
                </a:cubicBezTo>
                <a:lnTo>
                  <a:pt x="18075" y="2818"/>
                </a:lnTo>
                <a:cubicBezTo>
                  <a:pt x="16086" y="1005"/>
                  <a:pt x="13491" y="-1"/>
                  <a:pt x="10799" y="0"/>
                </a:cubicBezTo>
                <a:cubicBezTo>
                  <a:pt x="8108" y="0"/>
                  <a:pt x="5513" y="1005"/>
                  <a:pt x="3524" y="2818"/>
                </a:cubicBezTo>
                <a:lnTo>
                  <a:pt x="8119" y="785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 rot="1860000">
            <a:off x="5547960" y="1843920"/>
            <a:ext cx="1033560" cy="29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故人西辞黄鹤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 rot="756000">
            <a:off x="4659120" y="1547640"/>
            <a:ext cx="103356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烟花三月下扬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717720" y="1376280"/>
            <a:ext cx="1033560" cy="31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孤帆远影碧空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 rot="20280000">
            <a:off x="2724840" y="1672560"/>
            <a:ext cx="1033560" cy="30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唯见长江天际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 rot="19800000">
            <a:off x="2215800" y="2581200"/>
            <a:ext cx="60660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黄鹤楼送孟浩然之广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back_50"/>
          <p:cNvPicPr/>
          <p:nvPr/>
        </p:nvPicPr>
        <p:blipFill>
          <a:blip r:embed="rId2"/>
          <a:stretch/>
        </p:blipFill>
        <p:spPr>
          <a:xfrm>
            <a:off x="-6480" y="1390680"/>
            <a:ext cx="9144000" cy="6453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-757080" y="1373040"/>
            <a:ext cx="6242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6521400" y="1373040"/>
            <a:ext cx="45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-252360" y="4722840"/>
            <a:ext cx="5290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6824520" y="4662360"/>
            <a:ext cx="45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723080" y="4135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045800" y="87480"/>
            <a:ext cx="297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1344600" y="2460600"/>
            <a:ext cx="6861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送杜少府之任蜀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王勃（唐） 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城阙辅三秦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风烟望五津。 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与君离别意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同是宦游人。 </a:t>
            </a:r>
            <a:br>
              <a:rPr sz="4800"/>
            </a:b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海内存知己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天涯若比邻。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无为在歧路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儿女共沾巾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0WK25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9640" y="21938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42c58"/>
                </a:solidFill>
                <a:latin typeface="Arial"/>
                <a:ea typeface="黑体"/>
              </a:rPr>
              <a:t>送朱大入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42c58"/>
                </a:solidFill>
                <a:latin typeface="Arial"/>
                <a:ea typeface="隶书"/>
              </a:rPr>
              <a:t>（孟浩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42c58"/>
                </a:solidFill>
                <a:latin typeface="Arial"/>
              </a:rPr>
              <a:t>游人五陵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42c58"/>
                </a:solidFill>
                <a:latin typeface="Arial"/>
              </a:rPr>
              <a:t>宝剑值千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42c58"/>
                </a:solidFill>
                <a:latin typeface="Arial"/>
              </a:rPr>
              <a:t>分手脱相赠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42c58"/>
                </a:solidFill>
                <a:latin typeface="Arial"/>
              </a:rPr>
              <a:t>平生一片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4859280" y="2120760"/>
            <a:ext cx="3816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别董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隶书"/>
              </a:rPr>
              <a:t>（高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千里黄云白日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北风吹雁雪纷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莫愁前路无知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天下谁人不识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back_50"/>
          <p:cNvPicPr/>
          <p:nvPr/>
        </p:nvPicPr>
        <p:blipFill>
          <a:blip r:embed="rId2"/>
          <a:stretch/>
        </p:blipFill>
        <p:spPr>
          <a:xfrm>
            <a:off x="0" y="1373040"/>
            <a:ext cx="9144000" cy="54849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-757080" y="1373040"/>
            <a:ext cx="6242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521400" y="1373040"/>
            <a:ext cx="45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-252360" y="4722840"/>
            <a:ext cx="5290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6824520" y="4662360"/>
            <a:ext cx="45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7723080" y="4135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988280" y="1735200"/>
            <a:ext cx="565488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赠孟浩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李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吾爱孟夫子，风流天下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红颜弃轩冕，白首卧松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醉月频中圣，迷花不事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高山安可仰，徒此揖清芬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back_50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-757080" y="806040"/>
            <a:ext cx="6242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芙蓉楼送辛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王昌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寒雨连江夜入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明送客楚山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洛阳亲友如相问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一片冰心在玉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5490000" y="1013760"/>
            <a:ext cx="2100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送元二使安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王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渭城朝雨浥轻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客舍青青柳色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劝君更尽一杯酒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　西出阳关无故人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-252360" y="3852360"/>
            <a:ext cx="5290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别董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高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千里黄云白日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北风吹雁雪纷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莫愁前路无知已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天下谁人不识君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!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5778000" y="3924720"/>
            <a:ext cx="2131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赠汪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李白乘舟将欲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忽闻岸上踏歌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桃花潭水深千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及汪伦送我情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723080" y="4135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华文行楷"/>
              </a:rPr>
              <a:t>谢谢各位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74720" y="2344680"/>
            <a:ext cx="617400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古诗背诵比赛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钟时间内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看谁背诵出来的古诗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WW_015"/>
          <p:cNvPicPr/>
          <p:nvPr/>
        </p:nvPicPr>
        <p:blipFill>
          <a:blip r:embed="rId2"/>
          <a:stretch/>
        </p:blipFill>
        <p:spPr>
          <a:xfrm>
            <a:off x="7559640" y="5445000"/>
            <a:ext cx="1584360" cy="16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468360" y="112536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孟浩然早年有济世之志，但政治上困顿失意，以隐士终。他是个洁身自好的人，不乐于趋承逢迎。他耿介不随的性格和清白高尚的情操，为同时和后世所倾慕。 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 他是唐代第一个大力写作山水诗的诗人，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孟浩然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与王维齐名，并称“王孟”。其诗今存二百余首，大部分是山水诗，还有少数诗篇是写田园村居生活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黄鹤楼20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2131560" y="817560"/>
            <a:ext cx="47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8000"/>
                </a:solidFill>
                <a:latin typeface="隶书"/>
                <a:ea typeface="隶书"/>
              </a:rPr>
              <a:t>25 </a:t>
            </a:r>
            <a:r>
              <a:rPr b="1" lang="zh-CN" sz="7200" spc="-1" strike="noStrike">
                <a:solidFill>
                  <a:srgbClr val="008000"/>
                </a:solidFill>
                <a:latin typeface="隶书"/>
                <a:ea typeface="隶书"/>
              </a:rPr>
              <a:t>黄鹤楼送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417840" y="3716280"/>
            <a:ext cx="57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隶书"/>
                <a:ea typeface="隶书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高山流水.mp3" descr=""/>
          <p:cNvPicPr/>
          <p:nvPr/>
        </p:nvPicPr>
        <p:blipFill>
          <a:blip r:embed="rId3"/>
          <a:stretch/>
        </p:blipFill>
        <p:spPr>
          <a:xfrm>
            <a:off x="68580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6450120" y="4005360"/>
            <a:ext cx="17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南安阳小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杨  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200804111110255270"/>
          <p:cNvPicPr/>
          <p:nvPr/>
        </p:nvPicPr>
        <p:blipFill>
          <a:blip r:embed="rId2"/>
          <a:srcRect l="0" t="35182" r="0" b="0"/>
          <a:stretch/>
        </p:blipFill>
        <p:spPr>
          <a:xfrm>
            <a:off x="0" y="1341360"/>
            <a:ext cx="9144000" cy="4638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0" y="2852640"/>
            <a:ext cx="946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由朗读课文，要求读准字音，看清字形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826920" y="3860640"/>
            <a:ext cx="871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瀑布1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msotw9_temp0"/>
          <p:cNvPicPr/>
          <p:nvPr/>
        </p:nvPicPr>
        <p:blipFill>
          <a:blip r:embed="rId3"/>
          <a:stretch/>
        </p:blipFill>
        <p:spPr>
          <a:xfrm>
            <a:off x="0" y="1413000"/>
            <a:ext cx="9144000" cy="5416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395280" y="31417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2276640"/>
            <a:ext cx="900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烟雾迷蒙   繁花似锦    飞檐凌空   依依惜别　誉满天下　永世不绝　杨柳依依　沙鸥点点　一江春水　浩浩荡荡　按捺不住　脍炙人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327480" y="69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8"/>
          <p:cNvSpPr txBox="1"/>
          <p:nvPr/>
        </p:nvSpPr>
        <p:spPr>
          <a:xfrm>
            <a:off x="2212920" y="836640"/>
            <a:ext cx="43401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能读好</a:t>
            </a:r>
            <a:endParaRPr b="1" i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020000" y="333360"/>
            <a:ext cx="95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6372360" y="836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瀑布1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msotw9_temp0"/>
          <p:cNvPicPr/>
          <p:nvPr/>
        </p:nvPicPr>
        <p:blipFill>
          <a:blip r:embed="rId3"/>
          <a:stretch/>
        </p:blipFill>
        <p:spPr>
          <a:xfrm>
            <a:off x="0" y="1413000"/>
            <a:ext cx="9144000" cy="5416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395280" y="31417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68200" y="3068640"/>
            <a:ext cx="8893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烟雾迷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蒙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繁花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似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锦　                  依依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别　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誉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满天下　永世不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绝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杨柳依依　沙鸥点点　一江春水　浩浩荡荡　按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捺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不住　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脍炙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人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3327480" y="69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7"/>
          <p:cNvSpPr txBox="1"/>
          <p:nvPr/>
        </p:nvSpPr>
        <p:spPr>
          <a:xfrm>
            <a:off x="2443320" y="1716120"/>
            <a:ext cx="4336920" cy="97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能读好</a:t>
            </a:r>
            <a:endParaRPr b="1" i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6372360" y="836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6807600" y="29955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飞檐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2006831224756546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6591240" y="802440"/>
            <a:ext cx="1003320" cy="38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Arial"/>
              </a:rPr>
              <a:t>飞檐凌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back_165[1]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1258920" y="1484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4932360" y="2637000"/>
            <a:ext cx="72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4934160" y="1484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150920" y="180504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公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2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，李白乘船来到襄阳，带着自己的诗特地去拜访孟浩然。孟浩然对李白的诗大加赞赏，并留他住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多日，热情款待，两人一起饮酒吟诗，游山玩水，结下了深厚的情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libai"/>
          <p:cNvPicPr/>
          <p:nvPr/>
        </p:nvPicPr>
        <p:blipFill>
          <a:blip r:embed="rId2"/>
          <a:stretch/>
        </p:blipFill>
        <p:spPr>
          <a:xfrm>
            <a:off x="5076720" y="2492280"/>
            <a:ext cx="3167280" cy="4289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孟浩然3"/>
          <p:cNvPicPr/>
          <p:nvPr/>
        </p:nvPicPr>
        <p:blipFill>
          <a:blip r:embed="rId3"/>
          <a:stretch/>
        </p:blipFill>
        <p:spPr>
          <a:xfrm>
            <a:off x="415800" y="1916280"/>
            <a:ext cx="3494160" cy="4824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1187280" y="1368360"/>
            <a:ext cx="2735280" cy="9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黑体"/>
                <a:hlinkClick r:id="rId4" action="ppaction://hlinksldjump"/>
              </a:rPr>
              <a:t>孟浩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689—740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5256360" y="1368360"/>
            <a:ext cx="2808000" cy="9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黑体"/>
                <a:hlinkClick r:id="rId5" action="ppaction://hlinksldjump"/>
              </a:rPr>
              <a:t>李  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701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—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762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24000" y="59500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ina User</cp:lastModifiedBy>
  <dcterms:modified xsi:type="dcterms:W3CDTF">2017-10-26T14:31:51Z</dcterms:modified>
  <cp:revision>57</cp:revision>
  <dc:subject/>
  <dc:title>幻灯片 1</dc:title>
</cp:coreProperties>
</file>