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3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WordArt 3"/>
          <p:cNvSpPr txBox="1"/>
          <p:nvPr/>
        </p:nvSpPr>
        <p:spPr>
          <a:xfrm>
            <a:off x="1514520" y="880920"/>
            <a:ext cx="5976720" cy="263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8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cc6600"/>
                </a:solidFill>
                <a:latin typeface="宋体"/>
              </a:rPr>
              <a:t>语文百花园二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cc6600"/>
              </a:solidFill>
              <a:latin typeface="宋体"/>
              <a:ea typeface="宋体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0840" y="882720"/>
            <a:ext cx="50958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Calibri"/>
              </a:rPr>
              <a:t>拓展与交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47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1f497d"/>
                </a:solidFill>
                <a:latin typeface="Calibri"/>
              </a:rPr>
              <a:t>）读“阅读笔记”，从内容看，丫丫阅读中更多的感悟了一些阅读方法，宁宁注重了文章的写作技巧，这些对我们的读写能力提高都是非常有帮助的。所以说，用心阅读，你会从中汲取很多有用的东西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1f497d"/>
                </a:solidFill>
                <a:latin typeface="Calibri"/>
              </a:rPr>
              <a:t>）想一想，在前四课阅读中，你的收获是什么？写的形式多样，可以摘录，可以仿照样子学写阅读笔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Oval 4"/>
          <p:cNvSpPr/>
          <p:nvPr/>
        </p:nvSpPr>
        <p:spPr>
          <a:xfrm>
            <a:off x="507960" y="768240"/>
            <a:ext cx="2801880" cy="652680"/>
          </a:xfrm>
          <a:prstGeom prst="ellipse">
            <a:avLst/>
          </a:prstGeom>
          <a:solidFill>
            <a:srgbClr val="fdd3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合作探究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274680" y="1258920"/>
            <a:ext cx="8550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亲爱的老师和同学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长期以来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人们认为水是“取之不尽，用之不竭”的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在日常生活中用水不知珍惜。事实上，我们生活中存在着相当严重的问题，留意一下就会发现身边的确存在着这样或那样浪费水资源的现象。节约用水，不仅仅是一句口号，应该从爱惜一点一滴做起。大而言之，为了保护及合理利用国家有限的水资源；小而言之，为了维护学校和我们的利益，为学校发展做贡献，我们希望小学五年级三班特向全体师生员工发出节约用水倡仪：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请尽量使用脸盆洗脸、洗手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请控制水龙头开关大小，并及时关水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请做到一水多用。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发现水龙头有滴水现象，请及时关闭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见到有浪费水的现象，请及时制止。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宣传节约用水，做到身体力行，带动身边的老师、同学共同参与节约用水。自来水不是“自来的”，水资源也是有限的，我们必须科学合理地加以利用，节约用水，提高水的重复利用率，为此向大家倡仪：积极行动起来，从我做起，珍惜点滴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杜绝浪费，从杜绝“滴、漏、跑”开始，此外，也应该认识到：珍惜水资源，保护水环境从我做起。只有这样，我们的水环境才能得到逐步改善。 最后我们发自内心地呼吁大家：珍惜资源，节约水资源，从现在开始！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希望小学五年级三班全体同学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017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2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3832200" y="490680"/>
            <a:ext cx="237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Comic Sans MS"/>
              </a:rPr>
              <a:t>倡议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val 2"/>
          <p:cNvSpPr/>
          <p:nvPr/>
        </p:nvSpPr>
        <p:spPr>
          <a:xfrm>
            <a:off x="507960" y="696960"/>
            <a:ext cx="2716200" cy="652320"/>
          </a:xfrm>
          <a:prstGeom prst="ellipse">
            <a:avLst/>
          </a:prstGeom>
          <a:solidFill>
            <a:srgbClr val="fdd3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展示提升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395280" y="2322360"/>
            <a:ext cx="821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星期五，我跟老师和同学一起去了我盼望已久的海洋馆。一进门我就被眼前的景象吸引住了，我好像遨游在浩瀚的大海之中，真叫人惊叹。各式各样的鱼儿在我的周围欢快地跳跃着，嘴一张一合好像在说：“欢迎你们的到来，看到你们我真开心！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Rectangle 16"/>
          <p:cNvSpPr/>
          <p:nvPr/>
        </p:nvSpPr>
        <p:spPr>
          <a:xfrm>
            <a:off x="4407480" y="133200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海洋馆之旅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44320" y="773280"/>
            <a:ext cx="8026200" cy="47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我迫不及待想去探索一下“海洋”的奥秘，我兴奋不已地跟着老师继续往里走，映入眼帘的是一座小桥。小桥下面游动着五颜六色的鱼，名字叫锦鲤。不一会儿，我们来到了海底通道。长长的通道一眼望不到头，走在通道上面犹如腾云驾雾一般。通道两旁还有头顶上都是海底的小精灵。有面带微笑的魔鬼鱼，庞大的鲨鱼，还有长五六米的巨骷鱼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他们都摇头摆尾，极力在展示他们的风采。我看得眼花缭乱，不知看谁好了，真希望自己有三头六臂。过了海底通道我们看见了海豹、北极狐，平日认为比较凶猛的家伙，现在看来是那么的和蔼可亲，让你有想抱一抱的冲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01120" y="728280"/>
            <a:ext cx="8286840" cy="53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走出通道我们意犹未尽地来到了表演区，我们观看了人鲨共舞，美人鱼表演和海狮表演。最精彩的要数海狮表演了，它表演的第一个节目是套圈，饲养员扔一个它就能接一个，动作非常灵敏。第二个节目是武术，它表演的武术不亚于我们人类的，从表演当中可以看出它是个“武林高手”，让在坐的观众连连叫好！海狮的出色表演赢得一片热烈的掌声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出了海洋馆，我的脑海里还浮现着刚才动物表演的一幕幕，多么令人难忘啊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39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阅读平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0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800080"/>
                </a:solidFill>
                <a:latin typeface="Calibri"/>
              </a:rPr>
              <a:t>、出示“阅读平台”栏目，阅读</a:t>
            </a:r>
            <a:r>
              <a:rPr b="1" lang="en-US" sz="3200" spc="-1" strike="noStrike">
                <a:solidFill>
                  <a:srgbClr val="800080"/>
                </a:solidFill>
                <a:latin typeface="Calibri"/>
              </a:rPr>
              <a:t>《</a:t>
            </a:r>
            <a:r>
              <a:rPr b="1" lang="zh-CN" sz="3200" spc="-1" strike="noStrike">
                <a:solidFill>
                  <a:srgbClr val="800080"/>
                </a:solidFill>
                <a:latin typeface="Calibri"/>
              </a:rPr>
              <a:t>七月的天山</a:t>
            </a:r>
            <a:r>
              <a:rPr b="1" lang="en-US" sz="3200" spc="-1" strike="noStrike">
                <a:solidFill>
                  <a:srgbClr val="800080"/>
                </a:solidFill>
                <a:latin typeface="Calibri"/>
              </a:rPr>
              <a:t>》</a:t>
            </a:r>
            <a:r>
              <a:rPr b="1" lang="zh-CN" sz="3200" spc="-1" strike="noStrike">
                <a:solidFill>
                  <a:srgbClr val="800080"/>
                </a:solidFill>
                <a:latin typeface="Calibri"/>
              </a:rPr>
              <a:t>，理清文章的层次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800080"/>
                </a:solidFill>
                <a:latin typeface="Calibri"/>
              </a:rPr>
              <a:t>、短文按怎样的顺序描写七月的天山的？主要描写了哪些景物，它们有什么特点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天山1"/>
          <p:cNvPicPr/>
          <p:nvPr/>
        </p:nvPicPr>
        <p:blipFill>
          <a:blip r:embed="rId1"/>
          <a:stretch/>
        </p:blipFill>
        <p:spPr>
          <a:xfrm>
            <a:off x="739800" y="636480"/>
            <a:ext cx="7850160" cy="56977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07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Calibri"/>
              </a:rPr>
              <a:t>天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天山2"/>
          <p:cNvPicPr/>
          <p:nvPr/>
        </p:nvPicPr>
        <p:blipFill>
          <a:blip r:embed="rId1"/>
          <a:stretch/>
        </p:blipFill>
        <p:spPr>
          <a:xfrm>
            <a:off x="770040" y="611280"/>
            <a:ext cx="7831080" cy="56815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Calibri"/>
              </a:rPr>
              <a:t>天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天山3"/>
          <p:cNvPicPr/>
          <p:nvPr/>
        </p:nvPicPr>
        <p:blipFill>
          <a:blip r:embed="rId1"/>
          <a:stretch/>
        </p:blipFill>
        <p:spPr>
          <a:xfrm>
            <a:off x="514440" y="668160"/>
            <a:ext cx="8048520" cy="56185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5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Calibri"/>
              </a:rPr>
              <a:t>天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天山4"/>
          <p:cNvPicPr/>
          <p:nvPr/>
        </p:nvPicPr>
        <p:blipFill>
          <a:blip r:embed="rId1"/>
          <a:stretch/>
        </p:blipFill>
        <p:spPr>
          <a:xfrm>
            <a:off x="895320" y="711360"/>
            <a:ext cx="7747200" cy="56322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23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Calibri"/>
              </a:rPr>
              <a:t>天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4" descr="岳阳楼2"/>
          <p:cNvPicPr/>
          <p:nvPr/>
        </p:nvPicPr>
        <p:blipFill>
          <a:blip r:embed="rId1"/>
          <a:srcRect l="0" t="0" r="0" b="4389"/>
          <a:stretch/>
        </p:blipFill>
        <p:spPr>
          <a:xfrm>
            <a:off x="711360" y="631800"/>
            <a:ext cx="7989840" cy="574668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Calibri"/>
              </a:rPr>
              <a:t>岳阳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Oval 5"/>
          <p:cNvSpPr/>
          <p:nvPr/>
        </p:nvSpPr>
        <p:spPr>
          <a:xfrm>
            <a:off x="507960" y="784080"/>
            <a:ext cx="2816280" cy="652680"/>
          </a:xfrm>
          <a:prstGeom prst="ellipse">
            <a:avLst/>
          </a:prstGeom>
          <a:solidFill>
            <a:srgbClr val="fdd3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情境导入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天山5"/>
          <p:cNvPicPr/>
          <p:nvPr/>
        </p:nvPicPr>
        <p:blipFill>
          <a:blip r:embed="rId1"/>
          <a:stretch/>
        </p:blipFill>
        <p:spPr>
          <a:xfrm>
            <a:off x="725400" y="695160"/>
            <a:ext cx="7721640" cy="56739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8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Calibri"/>
              </a:rPr>
              <a:t>天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Oval 2"/>
          <p:cNvSpPr/>
          <p:nvPr/>
        </p:nvSpPr>
        <p:spPr>
          <a:xfrm>
            <a:off x="507960" y="812880"/>
            <a:ext cx="2745000" cy="652320"/>
          </a:xfrm>
          <a:prstGeom prst="ellipse">
            <a:avLst/>
          </a:prstGeom>
          <a:solidFill>
            <a:srgbClr val="fdd3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4032360" y="2894760"/>
            <a:ext cx="10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800080"/>
                </a:solidFill>
                <a:latin typeface="Comic Sans MS"/>
              </a:rPr>
              <a:t>、课后调查、采访，争做文明小公民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800080"/>
                </a:solidFill>
                <a:latin typeface="Comic Sans MS"/>
              </a:rPr>
              <a:t>、课外游览景点，记录游览体会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6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习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92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80008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800080"/>
                </a:solidFill>
                <a:latin typeface="Calibri"/>
              </a:rPr>
              <a:t>）把握住景物的特点和写法。按游览顺序想一想：哪些景物给你留下了深刻的印象？抓住特点写下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80008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80008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800080"/>
                </a:solidFill>
                <a:latin typeface="Calibri"/>
              </a:rPr>
              <a:t>）把游览时的真实感受表达出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80008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80008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800080"/>
                </a:solidFill>
                <a:latin typeface="Calibri"/>
              </a:rPr>
              <a:t>）写的时候注意运用平时积累的优美词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4" descr="岳阳楼1"/>
          <p:cNvPicPr/>
          <p:nvPr/>
        </p:nvPicPr>
        <p:blipFill>
          <a:blip r:embed="rId1"/>
          <a:stretch/>
        </p:blipFill>
        <p:spPr>
          <a:xfrm>
            <a:off x="465120" y="1309680"/>
            <a:ext cx="8097840" cy="5140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5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Calibri"/>
              </a:rPr>
              <a:t>岳阳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颐和园"/>
          <p:cNvPicPr/>
          <p:nvPr/>
        </p:nvPicPr>
        <p:blipFill>
          <a:blip r:embed="rId1"/>
          <a:stretch/>
        </p:blipFill>
        <p:spPr>
          <a:xfrm>
            <a:off x="558720" y="600120"/>
            <a:ext cx="7989840" cy="5668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20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Calibri"/>
              </a:rPr>
              <a:t>颐和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颐和园十七孔桥"/>
          <p:cNvPicPr/>
          <p:nvPr/>
        </p:nvPicPr>
        <p:blipFill>
          <a:blip r:embed="rId1"/>
          <a:stretch/>
        </p:blipFill>
        <p:spPr>
          <a:xfrm>
            <a:off x="826920" y="690480"/>
            <a:ext cx="7831440" cy="5577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8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Calibri"/>
              </a:rPr>
              <a:t>颐和园十七孔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颐和园远景"/>
          <p:cNvPicPr/>
          <p:nvPr/>
        </p:nvPicPr>
        <p:blipFill>
          <a:blip r:embed="rId1"/>
          <a:stretch/>
        </p:blipFill>
        <p:spPr>
          <a:xfrm>
            <a:off x="457200" y="674640"/>
            <a:ext cx="8201160" cy="5346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9720" y="70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Calibri"/>
              </a:rPr>
              <a:t>颐和园远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大明湖"/>
          <p:cNvPicPr/>
          <p:nvPr/>
        </p:nvPicPr>
        <p:blipFill>
          <a:blip r:embed="rId1"/>
          <a:stretch/>
        </p:blipFill>
        <p:spPr>
          <a:xfrm>
            <a:off x="587520" y="828720"/>
            <a:ext cx="8028000" cy="5432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9720" y="793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Calibri"/>
              </a:rPr>
              <a:t>大明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大明湖荷花"/>
          <p:cNvPicPr/>
          <p:nvPr/>
        </p:nvPicPr>
        <p:blipFill>
          <a:blip r:embed="rId1"/>
          <a:srcRect l="0" t="3780" r="0" b="0"/>
          <a:stretch/>
        </p:blipFill>
        <p:spPr>
          <a:xfrm>
            <a:off x="573120" y="755640"/>
            <a:ext cx="8040600" cy="52261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23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Calibri"/>
              </a:rPr>
              <a:t>大明湖荷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85640" y="1441440"/>
            <a:ext cx="828864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读读“温故知新”栏目，学习书上的这三句话，想想它们在表达上有什么共同点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读读“泡泡框”的话，说出我们的发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学以致用，把景物描写的生动、形象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“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仿照例子”怎么理解？我们仿的是什么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仿写法，就是在描写景物时，赋予它人的神情、动作和情感。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动脑筋，大胆想象，完成练习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通过读的形式交流自己的仿写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Oval 4"/>
          <p:cNvSpPr/>
          <p:nvPr/>
        </p:nvSpPr>
        <p:spPr>
          <a:xfrm>
            <a:off x="378000" y="739800"/>
            <a:ext cx="2439720" cy="652320"/>
          </a:xfrm>
          <a:prstGeom prst="ellipse">
            <a:avLst/>
          </a:prstGeom>
          <a:solidFill>
            <a:srgbClr val="fdd3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自主学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/>
  <dc:description/>
  <dc:language>en-US</dc:language>
  <cp:lastModifiedBy>china</cp:lastModifiedBy>
  <dcterms:modified xsi:type="dcterms:W3CDTF">2017-11-06T14:48:26Z</dcterms:modified>
  <cp:revision>1506</cp:revision>
  <dc:subject/>
  <dc:title>幻灯片 1</dc:title>
</cp:coreProperties>
</file>