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CD9-2856-4067-BB53-79B58A6B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287-7C7A-4C64-AD6D-4EBCA626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514520" y="1461960"/>
            <a:ext cx="5976720" cy="263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语文百花园六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755640" y="1916280"/>
            <a:ext cx="68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619280" y="292428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2060640"/>
          <a:ext cx="8064360" cy="2425680"/>
        </p:xfrm>
        <a:graphic>
          <a:graphicData uri="http://schemas.openxmlformats.org/drawingml/2006/table">
            <a:tbl>
              <a:tblPr/>
              <a:tblGrid>
                <a:gridCol w="1612800"/>
                <a:gridCol w="1627200"/>
                <a:gridCol w="1598760"/>
                <a:gridCol w="1612800"/>
                <a:gridCol w="16128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作品题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作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4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人物描写精彩之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特点概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精彩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综合评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16040" y="2060640"/>
            <a:ext cx="7564320" cy="40068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3851280" y="1125360"/>
            <a:ext cx="203832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习作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背景音01597.wav" descr=""/>
          <p:cNvPicPr/>
          <p:nvPr/>
        </p:nvPicPr>
        <p:blipFill>
          <a:blip r:embed="rId2"/>
          <a:stretch/>
        </p:blipFill>
        <p:spPr>
          <a:xfrm>
            <a:off x="7983360" y="652320"/>
            <a:ext cx="405000" cy="4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49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684360" y="21337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选择最能表现人物特点的内容写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具体描写人物的外貌、心理、语言、动作、神态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755640" y="7491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花的梅妮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叫梅妮，读小学三年级。乌黑的刘海，把她的圆脸衬得瓷白瓷白的；清亮的眼睛，静静地注视着跟她讲话的人。别人说完了，她才细细甜甜地开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讲得真有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的音高扬上去，溢着浓浓的童味。梅妮是邻居的外孙女，经常来看望外婆，所以我和她成了熟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花，便在阳台上养了几盆花。梅妮也爱花，每次来给外婆问了好之后，就到我家阳台帮我给花喷水、上肥、捉虫、打枝。她伺弄花的样子，十分认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785880" y="5619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妮用她嫩芽姜似的小手，拿起小花铲，在花株的根部小心翼翼地将泥土扒成一个凹形，铲起一点花肥放入土窝，再把泥土扒拢来盖上。之后，拎起小喷壶，轻悠悠地将水丝洒在盆土里、花叶上。随着她脚步慢慢地移动，几盆花都得到了滋润。发现了黄叶，她便将食指和无名指翘成兰花状，用大拇指和食指将叶柄掐断。手指用力时，口中发出轻微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，同时脸蛋布上了红晕。她的眼睛很尖，与绿叶浑然一体的虫子，也难从她的眼皮底下逃脱。她用小镊子把一个个虫子从叶丛中夹出来，放进玻璃瓶里。她做完了这些，便笑眯眯地观看着盆花，似乎得到了很大的满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826920" y="1628640"/>
            <a:ext cx="71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玫瑰开了，跟火烧云似的。一天，梅妮告诉我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姐，我的同桌后天生日，我想送她一枝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呀，这玫瑰也蕴含着梅妮的劳动呢！我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中了哪枝就采哪枝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妮急了，小脑袋摆得像拨浪鼓似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！不！我要照着画一枝玫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六，梅妮花了一下午时间，画了一枝玫瑰，红红的花，绿绿的叶，是那样美丽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3"/>
          <p:cNvSpPr/>
          <p:nvPr/>
        </p:nvSpPr>
        <p:spPr>
          <a:xfrm>
            <a:off x="581040" y="831960"/>
            <a:ext cx="25272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179960" y="289476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学生自读名言警句，体会名言警句的意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把自己的体会说给其他同学听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）在人类一切健康的消遣中，读书是最高尚的。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——【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英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】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培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）一本书像一艘船，带领我们从狭隘的地方，驶向无限广阔的海洋。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——【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美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】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）读书仅仅是向大脑提供知识原料，只有思考才能把所学的知识变成我们自己的东西。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——【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英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】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洛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24960" y="1485000"/>
            <a:ext cx="58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完成一篇习作，注意把所写的人的特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表现出来，把自己的情感表达出来。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容要具体，语句要通顺，情感要真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互读习作，先请同伴提意见，再自己修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展示所选片段的内容是否完整，朗读时是否有感情，评析时是否有条理，谈感受是否能抓住重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要认真倾听别人的发言，边听边思考，提出自己的看法和建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发言时语气要自然，态度要大方；补充质疑时要诚恳，注意使用礼貌用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3355920" y="72720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评价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3"/>
          <p:cNvSpPr/>
          <p:nvPr/>
        </p:nvSpPr>
        <p:spPr>
          <a:xfrm>
            <a:off x="493560" y="696960"/>
            <a:ext cx="25704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278320" y="68112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欣赏名家笔下的艺术形象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说说阅读名著的乐趣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5" descr="齐天大圣大战二郎神04"/>
          <p:cNvPicPr/>
          <p:nvPr/>
        </p:nvPicPr>
        <p:blipFill>
          <a:blip r:embed="rId1"/>
          <a:srcRect l="9213" t="1417" r="9213" b="1890"/>
          <a:stretch/>
        </p:blipFill>
        <p:spPr>
          <a:xfrm>
            <a:off x="3666960" y="3922560"/>
            <a:ext cx="2457720" cy="231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天窗 插图 01"/>
          <p:cNvPicPr/>
          <p:nvPr/>
        </p:nvPicPr>
        <p:blipFill>
          <a:blip r:embed="rId2"/>
          <a:stretch/>
        </p:blipFill>
        <p:spPr>
          <a:xfrm>
            <a:off x="3816360" y="1658880"/>
            <a:ext cx="2438280" cy="20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我是猫 插图 01"/>
          <p:cNvPicPr/>
          <p:nvPr/>
        </p:nvPicPr>
        <p:blipFill>
          <a:blip r:embed="rId3"/>
          <a:stretch/>
        </p:blipFill>
        <p:spPr>
          <a:xfrm>
            <a:off x="6094440" y="1542960"/>
            <a:ext cx="2438280" cy="200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武松打虎 插图 03"/>
          <p:cNvPicPr/>
          <p:nvPr/>
        </p:nvPicPr>
        <p:blipFill>
          <a:blip r:embed="rId4"/>
          <a:stretch/>
        </p:blipFill>
        <p:spPr>
          <a:xfrm>
            <a:off x="6221520" y="3832200"/>
            <a:ext cx="2446200" cy="2416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杨子荣借题发挥 插图 01"/>
          <p:cNvPicPr/>
          <p:nvPr/>
        </p:nvPicPr>
        <p:blipFill>
          <a:blip r:embed="rId5"/>
          <a:srcRect l="2480" t="0" r="0" b="0"/>
          <a:stretch/>
        </p:blipFill>
        <p:spPr>
          <a:xfrm>
            <a:off x="324000" y="1601640"/>
            <a:ext cx="3384360" cy="471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739800" y="831960"/>
            <a:ext cx="26128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193840" y="1637280"/>
            <a:ext cx="481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我们围绕一个人的品质、特点，通过具体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事例写出令自己喜欢或敬佩的人。同时，我们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知道只有紧紧抓住人物的语言、动作等方面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行描写，人物才会立体、丰满、感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课后交流搜集到的有关读书的名言警句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阅读名家作品。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318960" y="1450800"/>
            <a:ext cx="8463240" cy="4997520"/>
            <a:chOff x="318960" y="1450800"/>
            <a:chExt cx="8463240" cy="4997520"/>
          </a:xfrm>
        </p:grpSpPr>
        <p:pic>
          <p:nvPicPr>
            <p:cNvPr id="52" name="Picture 3" descr="20071130_447bb1776bbb19462d47YdIiJ5pNaZSj"/>
            <p:cNvPicPr/>
            <p:nvPr/>
          </p:nvPicPr>
          <p:blipFill>
            <a:blip r:embed="rId1"/>
            <a:srcRect l="0" t="3232" r="6685" b="4862"/>
            <a:stretch/>
          </p:blipFill>
          <p:spPr>
            <a:xfrm>
              <a:off x="318960" y="1450800"/>
              <a:ext cx="8463240" cy="49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20071130_447bb1776bbb19462d47YdIiJ5pNaZSj"/>
            <p:cNvPicPr/>
            <p:nvPr/>
          </p:nvPicPr>
          <p:blipFill>
            <a:blip r:embed="rId2"/>
            <a:srcRect l="14306" t="74323" r="59858" b="16156"/>
            <a:stretch/>
          </p:blipFill>
          <p:spPr>
            <a:xfrm>
              <a:off x="1417680" y="5704920"/>
              <a:ext cx="2265480" cy="44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5"/>
          <p:cNvSpPr/>
          <p:nvPr/>
        </p:nvSpPr>
        <p:spPr>
          <a:xfrm>
            <a:off x="1573200" y="230652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单元有不少心理描写。读下面的句子注意加点的词语，画出描写心理活动的语句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042920" y="452592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8"/>
          <p:cNvSpPr/>
          <p:nvPr/>
        </p:nvSpPr>
        <p:spPr>
          <a:xfrm>
            <a:off x="493560" y="652320"/>
            <a:ext cx="254160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368280" y="1052640"/>
            <a:ext cx="85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边盯住碗底一边想：假如有人来才好呢！可是，终于没人来，也就终于非吃年糕不可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读了印信榜文，方知端的有虎。欲待转身再  回酒店里来，寻思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回去时，须吃他耻笑，不是好汉，难以转去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想了一回，说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甚么，且只顾上去，看怎地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子荣一听，刷地全身冷下来，心脏紧张地跳动，内心一阵苦思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？二零三首长真的这样冒失吗？真的随着匪徒的脚印袭来吗？如果真的这样，战斗的结果是不堪设想的！我现在怎么办？一阵大肚匣子和手榴弹先消灭自己跟前的匪首吗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组合 13"/>
          <p:cNvGrpSpPr/>
          <p:nvPr/>
        </p:nvGrpSpPr>
        <p:grpSpPr>
          <a:xfrm>
            <a:off x="1931400" y="4197240"/>
            <a:ext cx="639000" cy="597600"/>
            <a:chOff x="1931400" y="4197240"/>
            <a:chExt cx="639000" cy="597600"/>
          </a:xfrm>
        </p:grpSpPr>
        <p:sp>
          <p:nvSpPr>
            <p:cNvPr id="59" name="Rectangle 10"/>
            <p:cNvSpPr/>
            <p:nvPr/>
          </p:nvSpPr>
          <p:spPr>
            <a:xfrm>
              <a:off x="2279880" y="419724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931400" y="421344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" name="组合 12"/>
          <p:cNvGrpSpPr/>
          <p:nvPr/>
        </p:nvGrpSpPr>
        <p:grpSpPr>
          <a:xfrm>
            <a:off x="2661120" y="2535120"/>
            <a:ext cx="622800" cy="540000"/>
            <a:chOff x="2661120" y="2535120"/>
            <a:chExt cx="622800" cy="540000"/>
          </a:xfrm>
        </p:grpSpPr>
        <p:sp>
          <p:nvSpPr>
            <p:cNvPr id="62" name="Rectangle 12"/>
            <p:cNvSpPr/>
            <p:nvPr/>
          </p:nvSpPr>
          <p:spPr>
            <a:xfrm>
              <a:off x="3008880" y="2535120"/>
              <a:ext cx="2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2661120" y="2554560"/>
              <a:ext cx="2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" name="Rectangle 14"/>
          <p:cNvSpPr/>
          <p:nvPr/>
        </p:nvSpPr>
        <p:spPr>
          <a:xfrm>
            <a:off x="4448520" y="12826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组合 11"/>
          <p:cNvGrpSpPr/>
          <p:nvPr/>
        </p:nvGrpSpPr>
        <p:grpSpPr>
          <a:xfrm>
            <a:off x="4107240" y="2978280"/>
            <a:ext cx="612000" cy="529200"/>
            <a:chOff x="4107240" y="2978280"/>
            <a:chExt cx="612000" cy="529200"/>
          </a:xfrm>
        </p:grpSpPr>
        <p:sp>
          <p:nvSpPr>
            <p:cNvPr id="66" name="Rectangle 12"/>
            <p:cNvSpPr/>
            <p:nvPr/>
          </p:nvSpPr>
          <p:spPr>
            <a:xfrm>
              <a:off x="4444200" y="2978280"/>
              <a:ext cx="2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4107240" y="2986920"/>
              <a:ext cx="2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1619280" y="32432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1"/>
          <a:stretch/>
        </p:blipFill>
        <p:spPr>
          <a:xfrm>
            <a:off x="1020600" y="1343160"/>
            <a:ext cx="6915240" cy="5160960"/>
          </a:xfrm>
          <a:prstGeom prst="rect">
            <a:avLst/>
          </a:prstGeom>
          <a:ln w="0">
            <a:noFill/>
          </a:ln>
        </p:spPr>
      </p:pic>
      <p:sp>
        <p:nvSpPr>
          <p:cNvPr id="70" name="WordArt 10"/>
          <p:cNvSpPr txBox="1"/>
          <p:nvPr/>
        </p:nvSpPr>
        <p:spPr>
          <a:xfrm>
            <a:off x="2771640" y="302724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名著馆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" name="背景音0320.wav" descr=""/>
          <p:cNvPicPr/>
          <p:nvPr/>
        </p:nvPicPr>
        <p:blipFill>
          <a:blip r:embed="rId4"/>
          <a:stretch/>
        </p:blipFill>
        <p:spPr>
          <a:xfrm>
            <a:off x="8166240" y="74304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72" name="Oval 7"/>
          <p:cNvSpPr/>
          <p:nvPr/>
        </p:nvSpPr>
        <p:spPr>
          <a:xfrm>
            <a:off x="333360" y="623880"/>
            <a:ext cx="26575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49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755640" y="1916280"/>
            <a:ext cx="68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19280" y="292428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9680" y="1320840"/>
          <a:ext cx="8064360" cy="437364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761840"/>
                <a:gridCol w="146376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标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作者（国度、姓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8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文章出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内容梗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词语摘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佳句摘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感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思想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表达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6"/>
          <p:cNvSpPr/>
          <p:nvPr/>
        </p:nvSpPr>
        <p:spPr>
          <a:xfrm>
            <a:off x="1187280" y="141300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卡罗纳遭遇怎样的巨大不幸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家是怎样对待卡罗纳的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了文章后你受到了什么启发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2843280" y="2421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26920" y="1195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人类一切健康的消遣中，读书是最高尚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　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英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〕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培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本书像一艘船，带领我们从狭隘的地方，驶向无限广阔的海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〕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书仅仅是向大脑提供知识原料，只有思考才能把所学的知识变成我们自己的东西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英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〕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洛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787920" y="5904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积少成多</a:t>
            </a:r>
            <a:endParaRPr b="0" lang="en-US" sz="1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684360" y="1413000"/>
            <a:ext cx="734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丹麦安徒生《坚定的锡兵》里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坚定的锡兵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曲波《杨子荣借题发挥》中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物），施耐庵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打虎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物），韩少功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桨声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物），还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作者）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物）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5:58:04Z</dcterms:modified>
  <cp:revision>1506</cp:revision>
  <dc:subject/>
  <dc:title>幻灯片 1</dc:title>
</cp:coreProperties>
</file>