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3"/>
          <p:cNvSpPr txBox="1"/>
          <p:nvPr/>
        </p:nvSpPr>
        <p:spPr>
          <a:xfrm>
            <a:off x="1500120" y="1344600"/>
            <a:ext cx="5977080" cy="26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6600"/>
                </a:solidFill>
                <a:latin typeface="宋体"/>
              </a:rPr>
              <a:t>语文百花园四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6600"/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活动评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91880"/>
            <a:ext cx="822960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发言是否观点明确、有事例，表达是否连贯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故事是否真实，能否准确地说明观点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评价、补充或反驳他人发言时要有礼貌，并恰当使用文明用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2"/>
          <p:cNvSpPr/>
          <p:nvPr/>
        </p:nvSpPr>
        <p:spPr>
          <a:xfrm>
            <a:off x="507960" y="841320"/>
            <a:ext cx="244008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展示提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156120" y="898560"/>
            <a:ext cx="345564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习作内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2021040"/>
            <a:ext cx="8229600" cy="343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克服困难，信守诺言的事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由于各种原因而无法完成答应了别人的事；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超出自己的能力范围而无法做到的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28400" y="723600"/>
            <a:ext cx="4948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习作讨论平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49120"/>
            <a:ext cx="822960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．你想选择哪一件事情来描述呢？它发生在什么时间？什么地点？你答应了谁？后来遇到了什么困难？结果怎样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．你打算按怎样的顺序来写这篇文章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．在写遇到困难和想办法解决困难这部分时，应该写得具体些，并把你当时的想法写出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9480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评议要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20680"/>
            <a:ext cx="8229600" cy="365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．事情的起因、经过和结果是否写得清楚，写得完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．是否抓住了人物的神态、动作、语言和外貌描写，把事情的经过写具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．是否写出了自己当时的想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2"/>
          <p:cNvSpPr/>
          <p:nvPr/>
        </p:nvSpPr>
        <p:spPr>
          <a:xfrm>
            <a:off x="507960" y="841320"/>
            <a:ext cx="259884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WordArt 3"/>
          <p:cNvSpPr txBox="1"/>
          <p:nvPr/>
        </p:nvSpPr>
        <p:spPr>
          <a:xfrm>
            <a:off x="2557440" y="2104920"/>
            <a:ext cx="4114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克服困难，信守诺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2057400" y="3436920"/>
            <a:ext cx="5029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如果遇到了困难，怎么办？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当一个人的时候"/>
          <p:cNvPicPr/>
          <p:nvPr/>
        </p:nvPicPr>
        <p:blipFill>
          <a:blip r:embed="rId1"/>
          <a:stretch/>
        </p:blipFill>
        <p:spPr>
          <a:xfrm>
            <a:off x="784080" y="703440"/>
            <a:ext cx="7793280" cy="5554440"/>
          </a:xfrm>
          <a:prstGeom prst="rect">
            <a:avLst/>
          </a:prstGeom>
          <a:ln w="0">
            <a:noFill/>
          </a:ln>
        </p:spPr>
      </p:pic>
      <p:sp>
        <p:nvSpPr>
          <p:cNvPr id="38" name="Oval 3"/>
          <p:cNvSpPr/>
          <p:nvPr/>
        </p:nvSpPr>
        <p:spPr>
          <a:xfrm>
            <a:off x="855720" y="831960"/>
            <a:ext cx="268596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情境导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“食”面埋伏"/>
          <p:cNvPicPr/>
          <p:nvPr/>
        </p:nvPicPr>
        <p:blipFill>
          <a:blip r:embed="rId1"/>
          <a:stretch/>
        </p:blipFill>
        <p:spPr>
          <a:xfrm>
            <a:off x="1052640" y="78912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6" descr="个人信息记录"/>
          <p:cNvPicPr/>
          <p:nvPr/>
        </p:nvPicPr>
        <p:blipFill>
          <a:blip r:embed="rId2"/>
          <a:stretch/>
        </p:blipFill>
        <p:spPr>
          <a:xfrm>
            <a:off x="514440" y="62064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个人信用报个是个人的“经济身份证”"/>
          <p:cNvPicPr/>
          <p:nvPr/>
        </p:nvPicPr>
        <p:blipFill>
          <a:blip r:embed="rId3"/>
          <a:stretch/>
        </p:blipFill>
        <p:spPr>
          <a:xfrm>
            <a:off x="706320" y="708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守信"/>
          <p:cNvPicPr/>
          <p:nvPr/>
        </p:nvPicPr>
        <p:blipFill>
          <a:blip r:embed="rId4"/>
          <a:stretch/>
        </p:blipFill>
        <p:spPr>
          <a:xfrm>
            <a:off x="601560" y="793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2447640" y="1427040"/>
            <a:ext cx="453924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读下面的句子，注意带点词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的用法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00280" y="3387600"/>
            <a:ext cx="776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如果你是那个犯了错的孩子，就把十美元放在信封里封好交给丹尼斯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即使他有这样的心意，也无法把礼物送到我的手中啊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031760" y="3351240"/>
            <a:ext cx="116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· ·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5776200" y="3379680"/>
            <a:ext cx="4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omic Sans MS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537080" y="4768920"/>
            <a:ext cx="73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omic Sans MS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058760" y="4626000"/>
            <a:ext cx="116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· ·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Oval 9"/>
          <p:cNvSpPr/>
          <p:nvPr/>
        </p:nvSpPr>
        <p:spPr>
          <a:xfrm>
            <a:off x="739800" y="652320"/>
            <a:ext cx="277344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自主学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457200" y="1600200"/>
            <a:ext cx="83311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给下面的句子选择适当的关联词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无论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都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……   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即使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也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只要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就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……   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不是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而是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在前进的道路上，（    ）遇到困难，我们（   ）不能灰心丧气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（   ）是北风呼啸的冬天，还是赤日炎炎的夏天，清洁工人天天（    ）要打扫街道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2436840"/>
            <a:ext cx="7788600" cy="22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Calibri"/>
              </a:rPr>
              <a:t>在本单元，我们结识了好几位可敬的人物，其中，你印象最深的是哪位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6920" y="696960"/>
            <a:ext cx="6937560" cy="14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结合具体事例来评价印象最深的人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9480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发表看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21040"/>
            <a:ext cx="82296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读了宁宁的日记，你是不是也想发表自己的意见呢？大胆说出你的看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诚信是人最美丽的外套，是心灵最圣洁的鲜花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诚信是你价格不菲的鞋子，踏遍千山万水，质量也应永恒不变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诚信像一面镜子，一旦打破，你的人格就会出现裂痕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诚信是做人之根本，立业之基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诚信是沟通心灵的桥梁，善于欺骗的人，永远到不了桥的另一端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诚信，让心灵无瑕，让友谊长存，让世界美好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694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Calibri"/>
              </a:rPr>
              <a:t>诚信格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507960" y="841320"/>
            <a:ext cx="265752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41720" y="782640"/>
            <a:ext cx="4165560" cy="89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活动建议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2021040"/>
            <a:ext cx="82296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．从自己经历过或者听说过的讲诚信或不讲诚信的故事中，选择印象最深的事讲一讲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．讲的时候可以适当地使用平时积累的名言警句或成语，以增强表达效果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．同学之间可以相互补充，有不同的意见还可以展开辩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china</cp:lastModifiedBy>
  <dcterms:modified xsi:type="dcterms:W3CDTF">2017-11-06T15:39:06Z</dcterms:modified>
  <cp:revision>1506</cp:revision>
  <dc:subject/>
  <dc:title>幻灯片 1</dc:title>
</cp:coreProperties>
</file>