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9.gif" ContentType="image/gif"/>
  <Override PartName="/ppt/media/image1.gif" ContentType="image/gif"/>
  <Override PartName="/ppt/media/image7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2.gif" ContentType="image/gif"/>
  <Override PartName="/ppt/media/image8.jpeg" ContentType="image/jpeg"/>
  <Override PartName="/ppt/media/image10.gif" ContentType="image/gif"/>
  <Override PartName="/ppt/media/image11.wmf" ContentType="image/x-wmf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WordArt 3"/>
          <p:cNvSpPr txBox="1"/>
          <p:nvPr/>
        </p:nvSpPr>
        <p:spPr>
          <a:xfrm>
            <a:off x="1674720" y="1650960"/>
            <a:ext cx="5977080" cy="26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cc6600"/>
                </a:solidFill>
                <a:latin typeface="宋体"/>
              </a:rPr>
              <a:t>语文百花园五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cc6600"/>
              </a:solidFill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724360" y="356220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-324000" y="33336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539640" y="981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24000" y="549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练习：下面句子中标点符号有错误吗？请改正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684360" y="1773360"/>
            <a:ext cx="705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、今天来开会的大概有七、八十人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这项任务由五年级的一二班共同完成 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花园里的花可多了，什么海棠呀、玫瑰呀、米兰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五颜六色，挺吸引人的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来这儿参加冬令营的有湖南、湖北的中学生、广西、云南的大学生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724360" y="356220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-324000" y="33336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539640" y="981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24000" y="549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练习：下面句子中标点符号有错误吗？请改正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84360" y="1773360"/>
            <a:ext cx="7912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今天来开会的大概有七八十人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项任务由五年级的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班共同完成 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花园里的花可多了，什么海棠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玫瑰呀，米兰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颜六色，挺吸引人的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来这儿参加冬令营的有湖南、湖北的中学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广西、云南的大学生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4449600" y="3652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724360" y="396864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693800" y="739800"/>
            <a:ext cx="64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修改病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9640" y="13874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为什么要修改病句？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684360" y="2106720"/>
            <a:ext cx="77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修改病句的目的是为了使句子表达准确，语句明白无误。修改病句时，必须保留原意，不可改走样了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71480" y="384012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修改病句有哪些方法？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743040" y="51228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修改病句的常规方法是增加、删减和调换词语等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Oval 10"/>
          <p:cNvSpPr/>
          <p:nvPr/>
        </p:nvSpPr>
        <p:spPr>
          <a:xfrm>
            <a:off x="507960" y="826920"/>
            <a:ext cx="2570040" cy="65268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4449600" y="3565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724360" y="388152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116000" y="723960"/>
            <a:ext cx="63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会经常遇到哪些病句呢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407880" y="1380960"/>
            <a:ext cx="7664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在艺术节活动中，受到了美的熏陶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在艺术节活动中，使我受到了美的熏陶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49200" y="3154320"/>
            <a:ext cx="8150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英勇的炮兵部队击落了许多飞机和坦克 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来参观的人都夸耀我们学校的环境美化好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06360" y="5045040"/>
            <a:ext cx="67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把不正确的错别字改正过来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781760" y="1066680"/>
            <a:ext cx="10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ff"/>
                </a:solidFill>
                <a:latin typeface="Arial"/>
              </a:rPr>
              <a:t>成分残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7831080" y="2855880"/>
            <a:ext cx="1033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ff"/>
                </a:solidFill>
                <a:latin typeface="Arial"/>
              </a:rPr>
              <a:t>搭配不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7691400" y="4683240"/>
            <a:ext cx="1033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ff"/>
                </a:solidFill>
                <a:latin typeface="Arial"/>
              </a:rPr>
              <a:t>语义重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50920" y="765000"/>
            <a:ext cx="79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通过这部电影，使我受到了深刻的教育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警察叔叔正在维护交通秩序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校体育室里摆满了足球、排球、篮球、地球仪等体育器材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忍不住不禁笑了出来 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经常看到小明有时在早锻炼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即使你是天才，却同样离不开老师的培养教育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草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作者是老舍写的。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些是唐朝出土的文物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358640"/>
            <a:ext cx="8229600" cy="14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同学们发现了吗？本单元课文的学习，都需要我们认真查阅相关资料，这样才能获得更大的收获。下面是丫丫查资料时制作的“名人小档案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415880" y="2700360"/>
            <a:ext cx="6175440" cy="2835000"/>
          </a:xfrm>
          <a:prstGeom prst="rect">
            <a:avLst/>
          </a:prstGeom>
          <a:solidFill>
            <a:srgbClr val="ccffff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名人小档案之一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孔子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简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（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51~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79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名丘，字仲尼，春秋时期鲁国人。伟大的思想家、教育家。儒家学说的创始人。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名言：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而不厌，诲人不倦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温故而知新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发愤忘食，乐以忘忧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WordArt 6"/>
          <p:cNvSpPr txBox="1"/>
          <p:nvPr/>
        </p:nvSpPr>
        <p:spPr>
          <a:xfrm>
            <a:off x="3255840" y="566640"/>
            <a:ext cx="221472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拓展与交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925560" y="652320"/>
            <a:ext cx="77407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看了丫丫的“名人小档案”，你能把自己学习本单元课文时查到的资料和同学分享吗？同学们合作学习，可以取得事半功倍的效果。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763640" y="2940120"/>
            <a:ext cx="6265800" cy="23781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名人小档案之一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柳公权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简介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（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78-86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字诚悬，晚唐大书法家 。善于书法，尤其是正楷遍阅近代各种笔法，后自成一体。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作品：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书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送梨贴题跋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玄秘塔碑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《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刚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《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神策军碑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63280" y="3212640"/>
            <a:ext cx="5924520" cy="118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新三字经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黑体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节选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%E9%98%85%E8%AF%BB%E5%B9%B3%E5%8F%B0"/>
          <p:cNvPicPr/>
          <p:nvPr/>
        </p:nvPicPr>
        <p:blipFill>
          <a:blip r:embed="rId1"/>
          <a:stretch/>
        </p:blipFill>
        <p:spPr>
          <a:xfrm>
            <a:off x="1042920" y="853920"/>
            <a:ext cx="6408720" cy="129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436920" y="676440"/>
            <a:ext cx="23144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新三字经（节选）</a:t>
            </a:r>
            <a:br>
              <a:rPr sz="3500"/>
            </a:b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华夏史，似长河。五千年，豪杰多。</a:t>
            </a:r>
            <a:br>
              <a:rPr sz="3500"/>
            </a:b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炎黄德，尧舜继。禹治水，周制礼。</a:t>
            </a:r>
            <a:br>
              <a:rPr sz="3500"/>
            </a:b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秦始皇，四海一。汉武帝，托疆域。</a:t>
            </a:r>
            <a:br>
              <a:rPr sz="3500"/>
            </a:b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唐太宗，贞观治。清康熙，多建树。</a:t>
            </a:r>
            <a:br>
              <a:rPr sz="3500"/>
            </a:b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苏武节，骨铮铮。直谏镜，有魏征。</a:t>
            </a:r>
            <a:br>
              <a:rPr sz="3500"/>
            </a:b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范仲淹，怀天下。宋包拯，助横霸。</a:t>
            </a:r>
            <a:br>
              <a:rPr sz="3500"/>
            </a:b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岳家军，复河山。文天祥，寸心丹。</a:t>
            </a:r>
            <a:br>
              <a:rPr sz="3500"/>
            </a:b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威家军，煨单寒。郑成功，复台湾。</a:t>
            </a:r>
            <a:br>
              <a:rPr sz="3500"/>
            </a:b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举先贤，难尽说。如薪火，传不绝。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888840" y="145260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读一读，说说你了解其中提到的那些人物，跟同学讲讲他们的事迹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Oval 3"/>
          <p:cNvSpPr/>
          <p:nvPr/>
        </p:nvSpPr>
        <p:spPr>
          <a:xfrm>
            <a:off x="306360" y="684360"/>
            <a:ext cx="270036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情境导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Rectangle 4"/>
          <p:cNvSpPr/>
          <p:nvPr/>
        </p:nvSpPr>
        <p:spPr>
          <a:xfrm>
            <a:off x="603360" y="1503360"/>
            <a:ext cx="809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还有一次，孔子在</a:t>
            </a: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陈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蔡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两国之间的路上断了粮，跟随的弟子都饿得爬不起来了。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他宁愿每顿只有</a:t>
            </a: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一碗饭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一点点罐头食品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或一小块咸鱼，宁愿时刻提心吊胆地面对头顶上呼啸而过的炸弹，也不愿失去作为一个正直的中国人所应当具备的民族气节。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黄帝时代一系列灿烂的制作和发明，诸如</a:t>
            </a: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衣冠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宫室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舟车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蚕桑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文字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音乐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历法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指南车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等等，为古代中国的悠久文明和传统文化奠定了基础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%E8%AF%AD%E6%96%87%E5%A4%A7%E8%AF%BE%E5%A0%82"/>
          <p:cNvPicPr/>
          <p:nvPr/>
        </p:nvPicPr>
        <p:blipFill>
          <a:blip r:embed="rId1"/>
          <a:stretch/>
        </p:blipFill>
        <p:spPr>
          <a:xfrm>
            <a:off x="3813120" y="1125360"/>
            <a:ext cx="3816360" cy="11750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2941560" y="3216240"/>
            <a:ext cx="284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黑体"/>
              </a:rPr>
              <a:t>寻找名人的足迹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507960" y="855720"/>
            <a:ext cx="254160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展示提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693720"/>
            <a:ext cx="8713800" cy="566424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在中华名族的发展史上，涌现了多少名人啊！思想家、教育家、文学家、艺术家、当代英雄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他们就像颗颗璀璨的星辰，装点着民族历史的天空。在我们家乡的历史和现实生活中，也有很多名人，他们为家乡的建设和发展作出了杰出的贡献。让我们以“寻找名人的足迹”为主题，开展一次语文实践活动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11628467be323c607e"/>
          <p:cNvPicPr/>
          <p:nvPr/>
        </p:nvPicPr>
        <p:blipFill>
          <a:blip r:embed="rId1"/>
          <a:srcRect l="0" t="0" r="0" b="9071"/>
          <a:stretch/>
        </p:blipFill>
        <p:spPr>
          <a:xfrm>
            <a:off x="3333600" y="3932280"/>
            <a:ext cx="2422800" cy="253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2008820142654621"/>
          <p:cNvPicPr/>
          <p:nvPr/>
        </p:nvPicPr>
        <p:blipFill>
          <a:blip r:embed="rId2"/>
          <a:srcRect l="0" t="1780" r="0" b="593"/>
          <a:stretch/>
        </p:blipFill>
        <p:spPr>
          <a:xfrm>
            <a:off x="574560" y="3956040"/>
            <a:ext cx="2467080" cy="2497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2909043884304651470"/>
          <p:cNvPicPr/>
          <p:nvPr/>
        </p:nvPicPr>
        <p:blipFill>
          <a:blip r:embed="rId3"/>
          <a:srcRect l="0" t="0" r="0" b="1540"/>
          <a:stretch/>
        </p:blipFill>
        <p:spPr>
          <a:xfrm>
            <a:off x="3409920" y="681120"/>
            <a:ext cx="2327400" cy="2925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a69a4c539f7dc4280cf3e391"/>
          <p:cNvPicPr/>
          <p:nvPr/>
        </p:nvPicPr>
        <p:blipFill>
          <a:blip r:embed="rId4"/>
          <a:srcRect l="0" t="0" r="0" b="2129"/>
          <a:stretch/>
        </p:blipFill>
        <p:spPr>
          <a:xfrm>
            <a:off x="574560" y="682560"/>
            <a:ext cx="2508480" cy="293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db57af38a60408ebd5622593"/>
          <p:cNvPicPr/>
          <p:nvPr/>
        </p:nvPicPr>
        <p:blipFill>
          <a:blip r:embed="rId5"/>
          <a:stretch/>
        </p:blipFill>
        <p:spPr>
          <a:xfrm>
            <a:off x="6251400" y="3879720"/>
            <a:ext cx="2473560" cy="2571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F200909240834201272513784"/>
          <p:cNvPicPr/>
          <p:nvPr/>
        </p:nvPicPr>
        <p:blipFill>
          <a:blip r:embed="rId6"/>
          <a:srcRect l="0" t="0" r="0" b="9114"/>
          <a:stretch/>
        </p:blipFill>
        <p:spPr>
          <a:xfrm>
            <a:off x="6222960" y="782640"/>
            <a:ext cx="2508120" cy="279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47400" y="660240"/>
            <a:ext cx="8443800" cy="556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Calibri"/>
                <a:ea typeface="黑体"/>
              </a:rPr>
              <a:t>一、讨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100" spc="-1" strike="noStrike">
                <a:solidFill>
                  <a:srgbClr val="000000"/>
                </a:solidFill>
                <a:latin typeface="Calibri"/>
              </a:rPr>
              <a:t>你知道哪些中华名人？你的家乡有哪些中华民人？你最想了解哪一位？你已经了解他哪些方面的情况，还想了解他哪些方面的情况？你打算通过什么方式去了解？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Calibri"/>
                <a:ea typeface="黑体"/>
              </a:rPr>
              <a:t>二、搜集资料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100" spc="-1" strike="noStrike">
                <a:solidFill>
                  <a:srgbClr val="000000"/>
                </a:solidFill>
                <a:latin typeface="Calibri"/>
              </a:rPr>
              <a:t>可以利用图书馆、书店或互联网，还可以访问长辈、熟人来搜集你所需要的资料或线索。除了搜集有关的文字资料，最好能搜集一些照片、音像等方面的资料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459"/>
          <p:cNvPicPr/>
          <p:nvPr/>
        </p:nvPicPr>
        <p:blipFill>
          <a:blip r:embed="rId1"/>
          <a:stretch/>
        </p:blipFill>
        <p:spPr>
          <a:xfrm>
            <a:off x="4894200" y="541656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5"/>
          <p:cNvSpPr txBox="1"/>
          <p:nvPr/>
        </p:nvSpPr>
        <p:spPr>
          <a:xfrm>
            <a:off x="6647040" y="5665680"/>
            <a:ext cx="18288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实施建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79160" y="1074240"/>
            <a:ext cx="8258040" cy="444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三、整理资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汇总、整理搜集到的资料，选着其中的典型事例，整理出一篇介绍这位名人的文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四、交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向同学们介绍你了解到的名人的情况，并展示你搜集到的照片、音像等方面的资料，说一说你搜集这些资料的途径和方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720" y="17776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Calibri"/>
                <a:ea typeface="黑体"/>
              </a:rPr>
              <a:t>二十年后再相会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3960" y="2798640"/>
            <a:ext cx="822960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认识了那么多名人，了解了他们那么多感人的事迹，他家心中一定会心潮澎湃，也会对自己的未来充满遐想。现在，就让我们展开想象，假想二十年后同学们相聚一堂时，将是怎样的情景。拿起笔来描绘一下相聚时的情景吧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%E4%B9%A0%E4%BD%9C"/>
          <p:cNvPicPr/>
          <p:nvPr/>
        </p:nvPicPr>
        <p:blipFill>
          <a:blip r:embed="rId1"/>
          <a:stretch/>
        </p:blipFill>
        <p:spPr>
          <a:xfrm>
            <a:off x="1176480" y="770040"/>
            <a:ext cx="2195280" cy="1074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MCj04163620000[1]"/>
          <p:cNvPicPr/>
          <p:nvPr/>
        </p:nvPicPr>
        <p:blipFill>
          <a:blip r:embed="rId2"/>
          <a:stretch/>
        </p:blipFill>
        <p:spPr>
          <a:xfrm>
            <a:off x="290520" y="826920"/>
            <a:ext cx="895320" cy="1341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503"/>
          <p:cNvPicPr/>
          <p:nvPr/>
        </p:nvPicPr>
        <p:blipFill>
          <a:blip r:embed="rId3"/>
          <a:stretch/>
        </p:blipFill>
        <p:spPr>
          <a:xfrm>
            <a:off x="7585200" y="12970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504"/>
          <p:cNvPicPr/>
          <p:nvPr/>
        </p:nvPicPr>
        <p:blipFill>
          <a:blip r:embed="rId1"/>
          <a:stretch/>
        </p:blipFill>
        <p:spPr>
          <a:xfrm>
            <a:off x="8317080" y="6021360"/>
            <a:ext cx="304560" cy="285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505"/>
          <p:cNvPicPr/>
          <p:nvPr/>
        </p:nvPicPr>
        <p:blipFill>
          <a:blip r:embed="rId2"/>
          <a:stretch/>
        </p:blipFill>
        <p:spPr>
          <a:xfrm>
            <a:off x="3995640" y="98100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469800" y="1038240"/>
            <a:ext cx="83343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仿宋_GB2312"/>
              </a:rPr>
              <a:t>●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仿宋_GB2312"/>
              </a:rPr>
              <a:t>你觉得你和你同学长大后会成为什么样的人呢？如果二十年后大家聚在一起，都会怎样介绍自己呢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仿宋_GB2312"/>
              </a:rPr>
              <a:t>●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仿宋_GB2312"/>
              </a:rPr>
              <a:t>你打算重点写哪几个人？你能在写作前先列一个提纲吗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仿宋_GB2312"/>
              </a:rPr>
              <a:t>●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仿宋_GB2312"/>
              </a:rPr>
              <a:t>修改文章时，注意句子是否通顺，标点使用是否正确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3448080" y="773280"/>
            <a:ext cx="2009520" cy="70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习作讨论平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val 2"/>
          <p:cNvSpPr/>
          <p:nvPr/>
        </p:nvSpPr>
        <p:spPr>
          <a:xfrm>
            <a:off x="522360" y="831960"/>
            <a:ext cx="260028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2289600" y="2165760"/>
            <a:ext cx="4569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根据新三字经内容讲述相关的故事，了解历史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课后搜集资料制作名人小档案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将整理后的文章放在班里的名人专栏上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大家共同浏览，并评选星级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搜集名人的感人事迹。观看有关名人的影片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3"/>
          <p:cNvSpPr/>
          <p:nvPr/>
        </p:nvSpPr>
        <p:spPr>
          <a:xfrm>
            <a:off x="4449600" y="3406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724360" y="372276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684360" y="56055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粮食不卖，给八路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1781280" y="62244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妙用标点符号的趣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38040" y="1487520"/>
            <a:ext cx="861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抗日战争时期，日本鬼子对我抗日军队实行封锁，贴出大标语：“粮食不卖给八路军！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百姓见了，肺都要气炸了，有人在标语上加了标点，意思完全变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知道这个人把标点加在什么地方吗？请你在标语上标出来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1835280" y="4957920"/>
            <a:ext cx="489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粮食不卖给八路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165320" y="900000"/>
            <a:ext cx="72388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标点和句子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读读下面的句子，体会顿号的用法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468360" y="2440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还有一次，孔子在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国之间的路上断了粮，跟随的弟子都饿得爬不起来了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宁愿每顿只有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一碗饭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一点点罐头食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一小块咸鱼，宁愿时刻提心吊胆地面对头顶上呼啸而过的炸弹，也不愿失去作为一个正直的中国人所应当具备的民族气节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黄帝时代一系列灿烂的制作和发明，诸如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衣冠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宫室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舟车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蚕桑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文字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音乐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历法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指南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等等，为古代中国的悠久文明和传统文化奠定了基础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Oval 4"/>
          <p:cNvSpPr/>
          <p:nvPr/>
        </p:nvSpPr>
        <p:spPr>
          <a:xfrm>
            <a:off x="304920" y="682560"/>
            <a:ext cx="2657520" cy="65268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自主学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9000" y="100008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什么情况下用顿号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763640" y="1341360"/>
            <a:ext cx="58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692360" y="198432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93800" y="1981080"/>
            <a:ext cx="787248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句子内部并列词语之间的停顿，用顿号。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顿号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并列词语或短语， 地位一样并肩站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顿号用来做分界， 读到它时停顿短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24000" y="6811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Arial"/>
              </a:rPr>
              <a:t>想一想，下面句子中的标点有错误吗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68360" y="1976400"/>
            <a:ext cx="611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原子弹氢弹的爆炸，人造卫星的发射，回收，标志我国科学技术的发展达到了新的水平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语文课本第三册四五单元是小说，同学们学习得很有兴趣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的年龄大概是十六、七岁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443640" y="1760400"/>
            <a:ext cx="208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找一找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些句子中有没有并列词组或并列短语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4000" y="768240"/>
            <a:ext cx="583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Arial"/>
              </a:rPr>
              <a:t>想一想，下面句子中的标点有错误吗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6443640" y="1560600"/>
            <a:ext cx="2305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如果并列词语中还有并列词语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大的并列词语要用逗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小的并列词语之间要用顿号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句中概数的中间不用顿号 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68360" y="2063880"/>
            <a:ext cx="611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原子弹氢弹的爆炸，人造卫星的发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回收，标志我国科学技术的发展达到了新的水平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语文课本第三册四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五单元是小说，同学们学习得很有兴趣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的年龄大概是十六七岁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6877080" y="984240"/>
            <a:ext cx="136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注  意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724360" y="356220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-324000" y="33336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39640" y="981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84360" y="90792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退休后生活很丰富，遛遛鸟呀、打打麻将呀、听听戏呀 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755640" y="2708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个故事讲得真实、动人 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724360" y="356220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-324000" y="33336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9640" y="981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003320" y="6904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退休后生活很丰富，遛遛鸟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打麻将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听戏呀 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741240" y="395604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个故事讲得真实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人 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795240" y="2035080"/>
            <a:ext cx="754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注意：并列词语之间带有“啊”、“哇”、“啦”、“呀”等语气词时，并列成分之间用逗号，不用顿号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1087560" y="48531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注意：并列词语作谓语，并列词语之间不用顿号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而用逗号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china</cp:lastModifiedBy>
  <dcterms:modified xsi:type="dcterms:W3CDTF">2017-11-06T15:40:59Z</dcterms:modified>
  <cp:revision>1506</cp:revision>
  <dc:subject/>
  <dc:title>幻灯片 1</dc:title>
</cp:coreProperties>
</file>