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WordArt 3"/>
          <p:cNvSpPr txBox="1"/>
          <p:nvPr/>
        </p:nvSpPr>
        <p:spPr>
          <a:xfrm>
            <a:off x="1441440" y="1460520"/>
            <a:ext cx="5977080" cy="26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cc6600"/>
                </a:solidFill>
                <a:latin typeface="宋体"/>
              </a:rPr>
              <a:t>语文百花园一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cc6600"/>
              </a:solidFill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657000"/>
            <a:ext cx="822960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谐音的歇后语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外甥打灯笼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照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孔夫子搬家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净是输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书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火烧旗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长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炭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粪坑关刀──文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也不能，武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也不能。 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百日不下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久情（晴） 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百尺竿头挂剪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高才（裁） 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百川归海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大势所趋 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老爷下轿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不（步）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12360"/>
            <a:ext cx="8229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常见关于动物的歇后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猪八戒背媳妇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舍得花力气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猪八戒照镜子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自找难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牛犊拉车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乱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牛角上挂稻草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轻巧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比喻说得十分简单，容易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牛身上拔根毛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无伤大体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比喻不损害到整体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牛背上放马鞍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乱套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牛皮鼓湿水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牛皮鼓，青铜锣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打不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牛身上拔根毛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在乎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713880"/>
            <a:ext cx="82296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牛蹄子两瓣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合不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牛王爷不管驴的事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各管各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猫捉老鼠狗看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本分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贵州驴子学马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南腔北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麻雀飞进烟囱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有命也没毛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蚂蚁搬家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大家动口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骑驴看唱本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走着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苍蝇飞进花园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装蜂（疯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公鸡戴帽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冠上加冠（官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山鸡吃着黄连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苦在心窝不敢啼（提）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积少成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47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麻雀虽小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五脏俱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赶鸭子上架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强人所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猪鼻子插葱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装像（装象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黄牛吃草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吞吞吐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老鼠钻烟囱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直来直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黄鼠狼给鸡拜年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没安好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Oval 2"/>
          <p:cNvSpPr/>
          <p:nvPr/>
        </p:nvSpPr>
        <p:spPr>
          <a:xfrm>
            <a:off x="507960" y="812880"/>
            <a:ext cx="2614680" cy="65232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合作探究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09600" y="26470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童话以离奇的故事、丰富的想象、生动的语言，让我们遐想，给我们启迪，是我们成长路上的好伙伴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56996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选择一个自己喜欢的童话故事，讲给大家听。讲的时候，要交化清楚时间、地点、人物和故事的开头、发展、高潮和结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想想怎样把其中精彩的片段、讲得生动些，怎样合理地使用动作和表情，还要考虑讲的时间不能超过五分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听的同学要注意把握故事的主要内容，理解故事的道理，听后可对故事的内容进行补充和质疑，也可对讲故事者的发言者进行评议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故事情节是否完整，故事中的角色、角色的身份和事情的来龙去脉是否清楚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WordArt 4"/>
          <p:cNvSpPr txBox="1"/>
          <p:nvPr/>
        </p:nvSpPr>
        <p:spPr>
          <a:xfrm>
            <a:off x="2917800" y="652320"/>
            <a:ext cx="1828800" cy="92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活动建议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白雪公主"/>
          <p:cNvPicPr/>
          <p:nvPr/>
        </p:nvPicPr>
        <p:blipFill>
          <a:blip r:embed="rId1"/>
          <a:stretch/>
        </p:blipFill>
        <p:spPr>
          <a:xfrm>
            <a:off x="668160" y="660240"/>
            <a:ext cx="7823520" cy="5249880"/>
          </a:xfrm>
          <a:prstGeom prst="rect">
            <a:avLst/>
          </a:prstGeom>
          <a:ln w="0">
            <a:noFill/>
          </a:ln>
        </p:spPr>
      </p:pic>
      <p:sp>
        <p:nvSpPr>
          <p:cNvPr id="74" name="WordArt 5"/>
          <p:cNvSpPr txBox="1"/>
          <p:nvPr/>
        </p:nvSpPr>
        <p:spPr>
          <a:xfrm>
            <a:off x="3500280" y="5826240"/>
            <a:ext cx="1812960" cy="59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白雪公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75" name="Picture 6" descr="皇帝的新装"/>
          <p:cNvPicPr/>
          <p:nvPr/>
        </p:nvPicPr>
        <p:blipFill>
          <a:blip r:embed="rId2"/>
          <a:stretch/>
        </p:blipFill>
        <p:spPr>
          <a:xfrm>
            <a:off x="685800" y="687240"/>
            <a:ext cx="7875720" cy="5774040"/>
          </a:xfrm>
          <a:prstGeom prst="rect">
            <a:avLst/>
          </a:prstGeom>
          <a:ln w="0">
            <a:noFill/>
          </a:ln>
        </p:spPr>
      </p:pic>
      <p:sp>
        <p:nvSpPr>
          <p:cNvPr id="76" name="WordArt 7"/>
          <p:cNvSpPr txBox="1"/>
          <p:nvPr/>
        </p:nvSpPr>
        <p:spPr>
          <a:xfrm>
            <a:off x="2616120" y="776160"/>
            <a:ext cx="22860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皇帝的新装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741240" y="3341520"/>
            <a:ext cx="803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Comic Sans MS"/>
              </a:rPr>
              <a:t>四人一小组，一个人讲故事，其他三个人听。听后按活动评价要求来评价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380480" y="8380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Comic Sans MS"/>
              </a:rPr>
              <a:t>小组交流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自己编童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47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选择三个不是同一课的“人物”编一个童话。写下来。看谁编的生动有趣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小麻雀     麻雀妈妈     大拇指汤姆     乌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喜鹊       鸟王孔雀     国王      补锅匠     锡兵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纸做的姑娘     没头脑        不高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2"/>
          <p:cNvSpPr/>
          <p:nvPr/>
        </p:nvSpPr>
        <p:spPr>
          <a:xfrm>
            <a:off x="507960" y="812880"/>
            <a:ext cx="2513160" cy="65232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展示提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845880" y="2662920"/>
            <a:ext cx="3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读读编写的故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评价修改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Oval 3"/>
          <p:cNvSpPr/>
          <p:nvPr/>
        </p:nvSpPr>
        <p:spPr>
          <a:xfrm>
            <a:off x="507960" y="826920"/>
            <a:ext cx="2614680" cy="65268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情境导入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Text Box 4"/>
          <p:cNvSpPr/>
          <p:nvPr/>
        </p:nvSpPr>
        <p:spPr>
          <a:xfrm>
            <a:off x="958680" y="2525760"/>
            <a:ext cx="750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本单元课文中有很多地方引用了别人说的话。读读下面的句子，想一想引用别人说的话有哪些不同的方式，标点符号的使用有什么不同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WordArt 5"/>
          <p:cNvSpPr txBox="1"/>
          <p:nvPr/>
        </p:nvSpPr>
        <p:spPr>
          <a:xfrm>
            <a:off x="4052880" y="1190520"/>
            <a:ext cx="228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语言与标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Oval 2"/>
          <p:cNvSpPr/>
          <p:nvPr/>
        </p:nvSpPr>
        <p:spPr>
          <a:xfrm>
            <a:off x="507960" y="739800"/>
            <a:ext cx="2570040" cy="65232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382280" y="2894760"/>
            <a:ext cx="3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Comic Sans MS"/>
              </a:rPr>
              <a:t>课后有计划阅读童话故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Comic Sans MS"/>
              </a:rPr>
              <a:t>收集歇后语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57200" y="772920"/>
            <a:ext cx="822960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妈妈纠正说：“你说得不对。他是人，人没有翅膀。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为什么？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人是高一等的动物，他们不是用翅膀飞，而是用双脚走。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是啊，金奖章非大王莫属！”大伙儿异口同声地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怎么啦？”默林问，“为什么愁眉苦脸呢？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什么叫“提示语”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提示语”的位置有几种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在人物语言的前面、中间、后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提示语”的位置不同，所用的标点符号也不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提示语在前面，用冒号、引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提示语在中间，用引号、逗号、引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提示语在后面，用引号、句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39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给下面的句子加标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0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老师摸了摸我的头   亲切地问   你的病完全好了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全好了    我感激地点点头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放学后到我这儿来      老师说      我帮你把落下的功课补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601880" y="81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读书方法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Picture 3" descr="书1"/>
          <p:cNvPicPr/>
          <p:nvPr/>
        </p:nvPicPr>
        <p:blipFill>
          <a:blip r:embed="rId1"/>
          <a:stretch/>
        </p:blipFill>
        <p:spPr>
          <a:xfrm>
            <a:off x="7213680" y="5425920"/>
            <a:ext cx="1066680" cy="10004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685800" y="1557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抓住主人公和身上发生的事件把握主要内容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609480" y="2776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弄清人物关系，了解人物特点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838080" y="36147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抓住中心词，整体感知课文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62120" y="45291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按照起因、经过、结果理清文章脉络，概括主要内容等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Oval 13"/>
          <p:cNvSpPr/>
          <p:nvPr/>
        </p:nvSpPr>
        <p:spPr>
          <a:xfrm>
            <a:off x="507960" y="682560"/>
            <a:ext cx="2643120" cy="65268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自主学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WordArt 14"/>
          <p:cNvSpPr txBox="1"/>
          <p:nvPr/>
        </p:nvSpPr>
        <p:spPr>
          <a:xfrm>
            <a:off x="2209680" y="5443560"/>
            <a:ext cx="41148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宁宁、丫丫怎么说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457200" y="1219320"/>
            <a:ext cx="823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用你学的阅读方法阅读短文，你读懂什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609480" y="208296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蚂蚁和蜘蛛的做法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762120" y="33019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过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762120" y="4444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结果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85800" y="566424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道理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2209680" y="26161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蜘蛛让小蚂蚁看看他们的生活，蚂蚁才知道蜘蛛每天通宵达旦地重新织网，一天也不间断，才能生存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2133720" y="436896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蚂蚁明白了，只有勤劳工作才能生活得更好的道理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1981080" y="551196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有努力不间断地工作，才能更好地生存，想一劳永逸是不可能的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WordArt 14"/>
          <p:cNvSpPr txBox="1"/>
          <p:nvPr/>
        </p:nvSpPr>
        <p:spPr>
          <a:xfrm>
            <a:off x="3570120" y="6192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阅读平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歇后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6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歇后语是中国人民在生活实践中创造的一种特殊语言形式。它一般由两个部分组成，前半截是形象的比喻，像谜面，后半截是解释、说明，像谜底，十分自然、贴切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一定的语言环境中，通常说出前半截，“歇”去后半截，就可以领会和猜想出它的本意，所以称它为歇后语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569880"/>
            <a:ext cx="822960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歇后语的类型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逻辑推理式的歇后语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猪八戒照镜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里外不是人 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水仙不开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装蒜 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哑巴吃黄莲──有苦说不出 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>china</cp:lastModifiedBy>
  <dcterms:modified xsi:type="dcterms:W3CDTF">2017-11-06T14:40:10Z</dcterms:modified>
  <cp:revision>1506</cp:revision>
  <dc:subject/>
  <dc:title>幻灯片 1</dc:title>
</cp:coreProperties>
</file>