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C24-4251-415B-96AA-46E12AD8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D70-CCD1-4118-A74C-28BB2833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033-3261-4F4A-A77A-A1B4E83D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433-A4A3-41D5-836E-5C0DB073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4A3-CF0E-4771-BC65-60BA5365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A31-DCE3-475B-931F-63C20883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8E2-A15A-4E14-A47C-5FE3C757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0D0-7653-40AE-AD9F-A2FF34B9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387-D8FF-47BC-9B63-D478B195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6D2-A1FD-4C3F-9D17-19BC4D3F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74A-4722-4577-9ED3-61195EE7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EE3C-B467-4203-8C6A-B96AC923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2FD6-277B-470D-8589-09FF092AC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1806840" y="785880"/>
            <a:ext cx="552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feff"/>
                </a:solidFill>
                <a:latin typeface="Arial"/>
                <a:ea typeface="幼圆"/>
              </a:rPr>
              <a:t>感谢各位老师来到本校听课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5" descr="53b39e6597fe6.png"/>
          <p:cNvPicPr/>
          <p:nvPr/>
        </p:nvPicPr>
        <p:blipFill>
          <a:blip r:embed="rId1"/>
          <a:stretch/>
        </p:blipFill>
        <p:spPr>
          <a:xfrm>
            <a:off x="3429000" y="2365200"/>
            <a:ext cx="538164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大象阿布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关于大象阿布的段落哪些地方你觉得特别有趣？用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”划出有关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大象阿布有什么性格、样貌特点？用波浪线划出有关句子，并写上批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928800"/>
            <a:ext cx="857232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关于大象阿布的段落哪些地方你觉得特别有趣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28760" y="1857240"/>
            <a:ext cx="814392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仿宋"/>
                <a:ea typeface="仿宋"/>
              </a:rPr>
              <a:t>当我坐在他的头上，双腿搭在它的两只大耳朵上的时候，我真不知道这世上还有没有比这更快活的时候</a:t>
            </a: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428760" y="4429080"/>
            <a:ext cx="13572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仿宋"/>
                <a:ea typeface="仿宋"/>
              </a:rPr>
              <a:t>快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571680" y="-76320"/>
            <a:ext cx="335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幼圆"/>
              </a:rPr>
              <a:t>大象阿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1283760"/>
            <a:ext cx="829152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仿宋"/>
                <a:ea typeface="仿宋"/>
              </a:rPr>
              <a:t>阿布体重五吨，但他从来不会踩着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500040" y="0"/>
            <a:ext cx="33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幼圆"/>
              </a:rPr>
              <a:t>大象阿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/>
          <p:cNvSpPr/>
          <p:nvPr/>
        </p:nvSpPr>
        <p:spPr>
          <a:xfrm>
            <a:off x="1581840" y="7142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b9920"/>
                </a:solidFill>
                <a:latin typeface="新宋体"/>
                <a:ea typeface="新宋体"/>
              </a:rPr>
              <a:t>大象阿布有什么性格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2428920" y="1219320"/>
            <a:ext cx="264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仿宋"/>
                <a:ea typeface="仿宋"/>
              </a:rPr>
              <a:t>体重五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4876920" y="1371600"/>
            <a:ext cx="35719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新宋体"/>
                <a:ea typeface="新宋体"/>
              </a:rPr>
              <a:t>（身体庞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0" y="3657600"/>
            <a:ext cx="8858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仿宋"/>
                <a:ea typeface="仿宋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象就是这样，它们总是十分关照     小孩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6143760" y="2971800"/>
            <a:ext cx="257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仿宋"/>
                <a:ea typeface="仿宋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仿宋"/>
                <a:ea typeface="仿宋"/>
              </a:rPr>
              <a:t>十分关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2143080" y="4214880"/>
            <a:ext cx="3357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新宋体"/>
                <a:ea typeface="新宋体"/>
              </a:rPr>
              <a:t>（与人亲近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643720" y="2357280"/>
            <a:ext cx="25714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2060"/>
                </a:solidFill>
                <a:latin typeface="新宋体"/>
                <a:ea typeface="新宋体"/>
              </a:rPr>
              <a:t>朋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428760" y="2286000"/>
            <a:ext cx="27144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2060"/>
                </a:solidFill>
                <a:latin typeface="新宋体"/>
                <a:ea typeface="新宋体"/>
              </a:rPr>
              <a:t>野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571840" y="2286000"/>
            <a:ext cx="36432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2060"/>
                </a:solidFill>
                <a:latin typeface="新宋体"/>
                <a:ea typeface="新宋体"/>
              </a:rPr>
              <a:t>动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999880" y="3499920"/>
            <a:ext cx="6496200" cy="4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Arial"/>
              </a:rPr>
              <a:t>作者</a:t>
            </a: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002060"/>
                </a:solidFill>
                <a:latin typeface="Arial"/>
              </a:rPr>
              <a:t>蒂皮</a:t>
            </a: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·</a:t>
            </a:r>
            <a:r>
              <a:rPr b="0" lang="zh-CN" sz="3600" spc="-1" strike="noStrike">
                <a:solidFill>
                  <a:srgbClr val="002060"/>
                </a:solidFill>
                <a:latin typeface="Arial"/>
              </a:rPr>
              <a:t>德格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2405520" y="1571760"/>
            <a:ext cx="458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幼圆"/>
              </a:rPr>
              <a:t>23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我的野生动物朋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57120" y="107172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5000"/>
              </a:lnSpc>
              <a:spcBef>
                <a:spcPts val="11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楷体"/>
                <a:ea typeface="楷体"/>
              </a:rPr>
              <a:t>            </a:t>
            </a: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这本书的作者是法国女孩儿蒂皮（</a:t>
            </a:r>
            <a:r>
              <a:rPr b="1" lang="en-US" sz="3200" spc="-1" strike="noStrike">
                <a:solidFill>
                  <a:srgbClr val="002060"/>
                </a:solidFill>
                <a:latin typeface="楷体"/>
                <a:ea typeface="楷体"/>
              </a:rPr>
              <a:t>Tippi</a:t>
            </a: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）。她的父母是专门拍摄非洲野生动物的摄影师。</a:t>
            </a:r>
            <a:r>
              <a:rPr b="1" lang="en-US" sz="3200" spc="-1" strike="noStrike">
                <a:solidFill>
                  <a:srgbClr val="002060"/>
                </a:solidFill>
                <a:latin typeface="楷体"/>
                <a:ea typeface="楷体"/>
              </a:rPr>
              <a:t>1990</a:t>
            </a: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年蒂皮在非洲的纳米比亚出生了，也在非洲丛林一天天长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          </a:t>
            </a: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她从小就知道如何与动物打交道：她与大象阿布交朋友，与狒狒争吵，和小狮子一起睡午觉，有时她也与大青蛙、变色龙嬉戏，最终都成了她最好的朋友。她只吃不认识的鸡。她曾说，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"/>
              </a:rPr>
              <a:t>“</a:t>
            </a: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动物就是我家里人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"/>
              </a:rPr>
              <a:t>”“</a:t>
            </a: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非洲才是我的故乡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"/>
              </a:rPr>
              <a:t>”</a:t>
            </a: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。 她的生活充满着传奇色彩，这也许才是人和自然的和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小作者：蒂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德格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Tippi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20100102_cc808d21291765c2d0c1WUmVaUravf0P"/>
          <p:cNvPicPr/>
          <p:nvPr/>
        </p:nvPicPr>
        <p:blipFill>
          <a:blip r:embed="rId1"/>
          <a:stretch/>
        </p:blipFill>
        <p:spPr>
          <a:xfrm>
            <a:off x="357120" y="357120"/>
            <a:ext cx="4143600" cy="5500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2005092603"/>
          <p:cNvPicPr/>
          <p:nvPr/>
        </p:nvPicPr>
        <p:blipFill>
          <a:blip r:embed="rId2"/>
          <a:srcRect l="0" t="8781" r="0" b="0"/>
          <a:stretch/>
        </p:blipFill>
        <p:spPr>
          <a:xfrm>
            <a:off x="4714920" y="762120"/>
            <a:ext cx="385776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377adab44aed2e73e3711b918701a18b86d6faf7"/>
          <p:cNvPicPr/>
          <p:nvPr/>
        </p:nvPicPr>
        <p:blipFill>
          <a:blip r:embed="rId1"/>
          <a:stretch/>
        </p:blipFill>
        <p:spPr>
          <a:xfrm>
            <a:off x="285840" y="357120"/>
            <a:ext cx="5214960" cy="3786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20100420042506566"/>
          <p:cNvPicPr/>
          <p:nvPr/>
        </p:nvPicPr>
        <p:blipFill>
          <a:blip r:embed="rId2"/>
          <a:srcRect l="0" t="0" r="0" b="5651"/>
          <a:stretch/>
        </p:blipFill>
        <p:spPr>
          <a:xfrm>
            <a:off x="5324400" y="1500120"/>
            <a:ext cx="381960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1221186991200873_file"/>
          <p:cNvPicPr/>
          <p:nvPr/>
        </p:nvPicPr>
        <p:blipFill>
          <a:blip r:embed="rId1"/>
          <a:stretch/>
        </p:blipFill>
        <p:spPr>
          <a:xfrm>
            <a:off x="285840" y="500040"/>
            <a:ext cx="3643200" cy="5286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123602834468194"/>
          <p:cNvPicPr/>
          <p:nvPr/>
        </p:nvPicPr>
        <p:blipFill>
          <a:blip r:embed="rId2"/>
          <a:stretch/>
        </p:blipFill>
        <p:spPr>
          <a:xfrm>
            <a:off x="3929040" y="0"/>
            <a:ext cx="3745080" cy="476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26604845"/>
          <p:cNvPicPr/>
          <p:nvPr/>
        </p:nvPicPr>
        <p:blipFill>
          <a:blip r:embed="rId3"/>
          <a:stretch/>
        </p:blipFill>
        <p:spPr>
          <a:xfrm>
            <a:off x="3714840" y="340200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61640"/>
            <a:ext cx="8291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2060"/>
                </a:solidFill>
                <a:latin typeface="Arial"/>
              </a:rPr>
              <a:t>自读要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213920"/>
            <a:ext cx="829152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通句子，读准字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想一想，文中讲了哪些动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联系文章想一想，小标题有什么作用？在文中有什么特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642960" y="4000680"/>
            <a:ext cx="7929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微软雅黑"/>
              </a:rPr>
              <a:t>小标题的作用是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微软雅黑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71680" y="5214960"/>
            <a:ext cx="7143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微软雅黑"/>
              </a:rPr>
              <a:t>小标题在文中的特点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929040" y="5143680"/>
            <a:ext cx="1571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微软雅黑"/>
              </a:rPr>
              <a:t>短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929120" y="5143680"/>
            <a:ext cx="1500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微软雅黑"/>
              </a:rPr>
              <a:t>醒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6000840" y="5143680"/>
            <a:ext cx="1571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微软雅黑"/>
              </a:rPr>
              <a:t>鲜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4081320" y="4143240"/>
            <a:ext cx="2923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微软雅黑"/>
              </a:rPr>
              <a:t>提示各部分的要点，理清文章层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060"/>
                </a:solidFill>
                <a:latin typeface="Arial"/>
              </a:rPr>
              <a:t>文中讲了什么野生动物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500040" y="1428840"/>
            <a:ext cx="2428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大象阿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500280" y="1428840"/>
            <a:ext cx="250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狒狒星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6143760" y="1428840"/>
            <a:ext cx="235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豹子杰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1" descr="53b39e7021719.png"/>
          <p:cNvPicPr/>
          <p:nvPr/>
        </p:nvPicPr>
        <p:blipFill>
          <a:blip r:embed="rId1"/>
          <a:stretch/>
        </p:blipFill>
        <p:spPr>
          <a:xfrm>
            <a:off x="6000840" y="2365200"/>
            <a:ext cx="3143160" cy="449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08-07T17:57:24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