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288-6CCC-489C-9914-4594930F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EF9-8938-4AD8-9785-83D4F75B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E09-1E34-4987-B252-AEE9B42E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D55-FD90-4FDC-BA07-8AD9ED51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446-8516-4E17-BFFF-B084EFCA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8A7-3B5D-45C8-BBDE-5335B60F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6E6-A19B-4054-AEAB-A27B14BC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485-16FF-4CD4-91AD-6A33CF9F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DF4-C872-467D-872F-97201C9A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A9F-BDA9-4267-8413-EFB0BFB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131-E1E8-4355-86DD-769AE15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F97-B0AB-47BF-9FC8-122B385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54CD-1BF2-4210-9538-AEA833A6D6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62864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坐在最后一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6080" y="3500280"/>
            <a:ext cx="138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华文新魏"/>
              </a:rPr>
              <a:t>这世界上有最后一排的座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华文新魏"/>
              </a:rPr>
              <a:t>但不会有永远坐在最后一排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907920"/>
            <a:ext cx="81392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联系上下文想象说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每当她带着清香的气息悠悠离去时，每当她弯下腰挨近我低低地和我说这说那时，每当她那满含笑意的目光注视着我时，我都感到从未有过的惭愧，惭愧的是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Times New Roman"/>
              </a:rPr>
              <a:t>                                                    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357336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914400"/>
            <a:ext cx="83059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我这才发现，我以往的愤愤不平和自暴自弃是</a:t>
            </a:r>
            <a:r>
              <a:rPr b="0" lang="zh-CN" sz="3600" spc="-1" strike="noStrike" u="sng">
                <a:solidFill>
                  <a:srgbClr val="9900cc"/>
                </a:solidFill>
                <a:uFillTx/>
                <a:latin typeface="楷体"/>
                <a:ea typeface="楷体"/>
              </a:rPr>
              <a:t>               </a:t>
            </a:r>
            <a:r>
              <a:rPr b="0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，我的虚荣和脆弱让我受到的伤害是</a:t>
            </a:r>
            <a:r>
              <a:rPr b="0" lang="zh-CN" sz="3600" spc="-1" strike="noStrike" u="sng">
                <a:solidFill>
                  <a:srgbClr val="9900cc"/>
                </a:solidFill>
                <a:uFillTx/>
                <a:latin typeface="楷体"/>
                <a:ea typeface="楷体"/>
              </a:rPr>
              <a:t>           </a:t>
            </a:r>
            <a:r>
              <a:rPr b="0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，因为我</a:t>
            </a:r>
            <a:r>
              <a:rPr b="0" lang="zh-CN" sz="3600" spc="-1" strike="noStrike" u="sng">
                <a:solidFill>
                  <a:srgbClr val="9900cc"/>
                </a:solidFill>
                <a:uFillTx/>
                <a:latin typeface="楷体"/>
                <a:ea typeface="楷体"/>
              </a:rPr>
              <a:t>                        </a:t>
            </a:r>
            <a:r>
              <a:rPr b="0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，像我这样的学生，</a:t>
            </a:r>
            <a:r>
              <a:rPr b="0" lang="zh-CN" sz="3600" spc="-1" strike="noStrike" u="sng">
                <a:solidFill>
                  <a:srgbClr val="9900cc"/>
                </a:solidFill>
                <a:uFillTx/>
                <a:latin typeface="楷体"/>
                <a:ea typeface="楷体"/>
              </a:rPr>
              <a:t>                  </a:t>
            </a:r>
            <a:r>
              <a:rPr b="0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1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以后的日子里，白老师特别注意查阅我的练习册和作业本，关切地询问我其他课的成绩，还抽空给我讲一些浅显的文学知识。 每当她带着清香的气息悠悠离去时，每当她弯下腰挨近我低低地和我说这说那时，每当她那满含笑意的目光注视着我时，我都感到从未有过的紧张、激动、惭愧和欢乐。我这才发现，我以往的愤愤不平和自暴自弃是多么无知和愚蠢。我的虚荣和脆弱让我受到的伤害是罪有应得，因为我从来就没有引以为荣的值得骄傲的资本！——我这样的学生，其实只配坐最后一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836640"/>
            <a:ext cx="78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cc"/>
                </a:solidFill>
                <a:latin typeface="宋体"/>
                <a:ea typeface="华文行楷"/>
              </a:rPr>
              <a:t>    “</a:t>
            </a:r>
            <a:r>
              <a:rPr b="0" lang="zh-CN" sz="5400" spc="-1" strike="noStrike">
                <a:solidFill>
                  <a:srgbClr val="9900cc"/>
                </a:solidFill>
                <a:latin typeface="宋体"/>
                <a:ea typeface="华文行楷"/>
              </a:rPr>
              <a:t>要知道，这世界上有最后一排的座位，但不会有永远坐在最后一排的人。”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cc"/>
                </a:solidFill>
                <a:latin typeface="宋体"/>
                <a:ea typeface="华文行楷"/>
              </a:rPr>
              <a:t>    </a:t>
            </a:r>
            <a:r>
              <a:rPr b="0" lang="zh-CN" sz="5400" spc="-1" strike="noStrike">
                <a:solidFill>
                  <a:srgbClr val="9900cc"/>
                </a:solidFill>
                <a:latin typeface="宋体"/>
                <a:ea typeface="华文行楷"/>
              </a:rPr>
              <a:t>我的热泪汹涌而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836640"/>
            <a:ext cx="8064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听了老师的话，此时的“我”会怎么想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想像说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cc"/>
                </a:solidFill>
                <a:latin typeface="宋体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宋体"/>
                <a:ea typeface="华文行楷"/>
              </a:rPr>
              <a:t>我的热泪汹涌而出，</a:t>
            </a:r>
            <a:r>
              <a:rPr b="0" lang="zh-CN" sz="3200" spc="-1" strike="noStrike" u="sng">
                <a:solidFill>
                  <a:srgbClr val="9900cc"/>
                </a:solidFill>
                <a:uFillTx/>
                <a:latin typeface="宋体"/>
                <a:ea typeface="华文行楷"/>
              </a:rPr>
              <a:t>                  </a:t>
            </a:r>
            <a:r>
              <a:rPr b="0" lang="zh-CN" sz="3200" spc="-1" strike="noStrike">
                <a:solidFill>
                  <a:srgbClr val="9900cc"/>
                </a:solidFill>
                <a:latin typeface="宋体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篇课文告诉我们无论在什么时候，只要努力进取、信心十足，就能取得成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476280"/>
            <a:ext cx="8352000" cy="49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近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近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呆滞—呆板    畏惧—恐惧   惭愧—愧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聚精会神—全神贯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反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愚蠢—聪明  深奥—浅显  严厉—慈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漫长—短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3360" y="148428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卑    倔强    孤僻    遐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呆滞    惭愧    笨拙    短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嘉奖    通宵未眠    聚精会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暴自弃    跃跃欲试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懵懵懂懂    愤愤不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61944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19890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9900cc"/>
                </a:solidFill>
                <a:latin typeface="华文楷体"/>
                <a:ea typeface="华文楷体"/>
              </a:rPr>
              <a:t>上小学时 ，我一直是个非常自卑的女孩子。因为丑，因为笨，因为脾气倔强、性格孤僻，没人愿意和我一块儿坐。老师只好把她安排在最后一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24560" y="620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乔小叶：当代青春美文十佳作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92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红衬衣白裙子，齐耳短发，模样甜甜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叫白明，倒着读就是‘明白’，也就是说对每个同学的情况我都知道得明明白白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826920" y="47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白老师的外貌、语言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3971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我不屑地瞧着她。他真有那么大的神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她会知道我是近视眼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她会知道我不想坐在最后一排却倔着性子坐在最后一排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她会知道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780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765000"/>
            <a:ext cx="77770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再想一想课文主要写了“我”哪几件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、老师读我的造句，表扬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、数学课，白老师发现我近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、语文测验得第一，我坐到了第一排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未享受过如此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礼遇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我禁不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心头一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但还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老老实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趴在桌上，胆怯地听着他翻阅练习册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一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受到如此嘉奖，我顿时大胆起来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一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觉快乐和幸福的时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98100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再读课文</a:t>
            </a: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15</a:t>
            </a: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节，抓住描写心理活动的句子，体会作者思想情感的变化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260280"/>
            <a:ext cx="81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以后的日子里，白老师特别注意查阅我的练习册和作业本，关切地询问我其他课的成绩，还抽空给我讲一些浅显的文学知识。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每当她带着清香的气息悠悠离去时，每当她弯下腰挨近我低低地和我说这说那时，每当她那满含笑意的目光注视着我时，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我都感到从未有过的紧张、激动、惭愧和欢乐。我这才发现，我以往的愤愤不平和自暴自弃是多么无知和愚蠢。我的虚荣和脆弱让我受到的伤害是罪有应得，因为我从来就没有引以为荣的值得骄傲的资本！——我这样的学生，其实只配坐最后一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5T22:28:46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