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2.jpeg" ContentType="image/jpe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11C06-25D3-466F-9C32-53E8F4689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A5A1-2A8F-4473-8C44-8D5F6E52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62BB0-90BF-4867-A447-26308A5AD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6F66B-E825-4E2D-B23D-AC1C53AD6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4D472-8C03-4692-A9B8-C46B5A35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B83C3-4173-4F47-9E50-87D829C2E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536C5-8C14-4753-8B81-7B94A030E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C2BE-1D94-4130-90A7-70E863AD6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1FC47-88B0-4FCB-A70F-F9E94958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AA76B-A943-4DAF-822D-5147C8158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EE94-BF1E-41E7-B4FE-827ABF37B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64FE-F096-410D-826B-36D9AB8FE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259E-8DA8-4D7E-84CD-2F35883F87A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1" name="Picture 4" descr="b1"/>
          <p:cNvPicPr/>
          <p:nvPr/>
        </p:nvPicPr>
        <p:blipFill>
          <a:blip r:embed="rId2"/>
          <a:stretch/>
        </p:blipFill>
        <p:spPr>
          <a:xfrm>
            <a:off x="1600200" y="6222960"/>
            <a:ext cx="1562040" cy="635040"/>
          </a:xfrm>
          <a:prstGeom prst="rect">
            <a:avLst/>
          </a:prstGeom>
          <a:ln w="0">
            <a:noFill/>
          </a:ln>
        </p:spPr>
      </p:pic>
      <p:pic>
        <p:nvPicPr>
          <p:cNvPr id="42" name="Picture 5" descr="b6"/>
          <p:cNvPicPr/>
          <p:nvPr/>
        </p:nvPicPr>
        <p:blipFill>
          <a:blip r:embed="rId3"/>
          <a:stretch/>
        </p:blipFill>
        <p:spPr>
          <a:xfrm>
            <a:off x="7535880" y="6213600"/>
            <a:ext cx="1562040" cy="635040"/>
          </a:xfrm>
          <a:prstGeom prst="rect">
            <a:avLst/>
          </a:prstGeom>
          <a:ln w="0">
            <a:noFill/>
          </a:ln>
        </p:spPr>
      </p:pic>
      <p:pic>
        <p:nvPicPr>
          <p:cNvPr id="43" name="Picture 6" descr="b2"/>
          <p:cNvPicPr/>
          <p:nvPr/>
        </p:nvPicPr>
        <p:blipFill>
          <a:blip r:embed="rId4"/>
          <a:stretch/>
        </p:blipFill>
        <p:spPr>
          <a:xfrm>
            <a:off x="0" y="6222960"/>
            <a:ext cx="1562040" cy="635040"/>
          </a:xfrm>
          <a:prstGeom prst="rect">
            <a:avLst/>
          </a:prstGeom>
          <a:ln w="0">
            <a:noFill/>
          </a:ln>
        </p:spPr>
      </p:pic>
      <p:pic>
        <p:nvPicPr>
          <p:cNvPr id="44" name="Picture 7" descr="b3"/>
          <p:cNvPicPr/>
          <p:nvPr/>
        </p:nvPicPr>
        <p:blipFill>
          <a:blip r:embed="rId5"/>
          <a:stretch/>
        </p:blipFill>
        <p:spPr>
          <a:xfrm>
            <a:off x="3035160" y="6213600"/>
            <a:ext cx="1562400" cy="635040"/>
          </a:xfrm>
          <a:prstGeom prst="rect">
            <a:avLst/>
          </a:prstGeom>
          <a:ln w="0">
            <a:noFill/>
          </a:ln>
        </p:spPr>
      </p:pic>
      <p:pic>
        <p:nvPicPr>
          <p:cNvPr id="45" name="Picture 8" descr="b4"/>
          <p:cNvPicPr/>
          <p:nvPr/>
        </p:nvPicPr>
        <p:blipFill>
          <a:blip r:embed="rId6"/>
          <a:stretch/>
        </p:blipFill>
        <p:spPr>
          <a:xfrm>
            <a:off x="4548240" y="6213600"/>
            <a:ext cx="1562040" cy="635040"/>
          </a:xfrm>
          <a:prstGeom prst="rect">
            <a:avLst/>
          </a:prstGeom>
          <a:ln w="0">
            <a:noFill/>
          </a:ln>
        </p:spPr>
      </p:pic>
      <p:pic>
        <p:nvPicPr>
          <p:cNvPr id="46" name="Picture 9" descr="b5"/>
          <p:cNvPicPr/>
          <p:nvPr/>
        </p:nvPicPr>
        <p:blipFill>
          <a:blip r:embed="rId7"/>
          <a:stretch/>
        </p:blipFill>
        <p:spPr>
          <a:xfrm>
            <a:off x="6039000" y="6213600"/>
            <a:ext cx="1562040" cy="635040"/>
          </a:xfrm>
          <a:prstGeom prst="rect">
            <a:avLst/>
          </a:prstGeom>
          <a:ln w="0">
            <a:noFill/>
          </a:ln>
        </p:spPr>
      </p:pic>
      <p:pic>
        <p:nvPicPr>
          <p:cNvPr id="47" name="WordArt 10" descr=""/>
          <p:cNvPicPr/>
          <p:nvPr/>
        </p:nvPicPr>
        <p:blipFill>
          <a:blip r:embed="rId8"/>
          <a:stretch/>
        </p:blipFill>
        <p:spPr>
          <a:xfrm>
            <a:off x="611280" y="2060640"/>
            <a:ext cx="7848360" cy="223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4"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85"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86"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7" name="Text Box 13"/>
          <p:cNvSpPr/>
          <p:nvPr/>
        </p:nvSpPr>
        <p:spPr>
          <a:xfrm>
            <a:off x="684360" y="1268280"/>
            <a:ext cx="813744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读词语</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恬静  苍翠　俊俏  呜咽  低吟  芬芳</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百鸟争鸣  触景生情  生机勃勃</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8"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89"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90"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91" name="Rectangle 16"/>
          <p:cNvSpPr/>
          <p:nvPr/>
        </p:nvSpPr>
        <p:spPr>
          <a:xfrm>
            <a:off x="900000" y="1449000"/>
            <a:ext cx="765972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作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抄写词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练习有感情朗读课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搜集有关的资料，说说其他音乐家与其作品之间的故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 name="Picture 4"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49" name="Picture 5"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50" name="Picture 6"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51" name="Text Box 7"/>
          <p:cNvSpPr/>
          <p:nvPr/>
        </p:nvSpPr>
        <p:spPr>
          <a:xfrm>
            <a:off x="250920" y="836640"/>
            <a:ext cx="8496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学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自主地学习课文中不理解的字词，并能在一定的语言环境中区别</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幽静、幽雅、幽深</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等词语的意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能根据</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穿越</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森林的线索，将恬静神秘的维也纳森林和作曲家惊世之作的诞生紧紧地联系在一起，学习概括课文的主要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自己的理解有感情地朗读出来，并自主地积累文中有关描写维也纳森林美景的词语或句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搜集有关的资料，说说其他音乐家与其作品之间的故事。</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 name="Picture 4"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53" name="Picture 5"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54" name="Picture 6" descr="next">
            <a:hlinkClick r:id="" action="ppaction://hlinkshowjump?jump=nextslide"/>
          </p:cNvPr>
          <p:cNvPicPr/>
          <p:nvPr/>
        </p:nvPicPr>
        <p:blipFill>
          <a:blip r:embed="rId4"/>
          <a:stretch/>
        </p:blipFill>
        <p:spPr>
          <a:xfrm>
            <a:off x="8317080" y="6165720"/>
            <a:ext cx="761760" cy="736560"/>
          </a:xfrm>
          <a:prstGeom prst="rect">
            <a:avLst/>
          </a:prstGeom>
          <a:ln w="0">
            <a:noFill/>
          </a:ln>
        </p:spPr>
      </p:pic>
      <p:pic>
        <p:nvPicPr>
          <p:cNvPr id="55" name="Picture 18" descr="d7925ad3d2145ed1a9ec9af7"/>
          <p:cNvPicPr/>
          <p:nvPr/>
        </p:nvPicPr>
        <p:blipFill>
          <a:blip r:embed="rId5"/>
          <a:stretch/>
        </p:blipFill>
        <p:spPr>
          <a:xfrm>
            <a:off x="826920" y="620640"/>
            <a:ext cx="7561440" cy="5383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57"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58"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59" name="Rectangle 29"/>
          <p:cNvSpPr/>
          <p:nvPr/>
        </p:nvSpPr>
        <p:spPr>
          <a:xfrm>
            <a:off x="2082600" y="9072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维也纳森林给你留下怎样的印象？ </a:t>
            </a:r>
            <a:endParaRPr b="0" lang="en-US" sz="2800" spc="-1" strike="noStrike">
              <a:solidFill>
                <a:srgbClr val="000000"/>
              </a:solidFill>
              <a:latin typeface="Arial"/>
            </a:endParaRPr>
          </a:p>
        </p:txBody>
      </p:sp>
      <p:sp>
        <p:nvSpPr>
          <p:cNvPr id="60" name="Rectangle 30"/>
          <p:cNvSpPr/>
          <p:nvPr/>
        </p:nvSpPr>
        <p:spPr>
          <a:xfrm>
            <a:off x="1692360" y="1989000"/>
            <a:ext cx="167436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幽静：幽雅寂静</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悠悠：从容不迫</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1" name="Picture 4"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62" name="Picture 5"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63" name="Picture 6"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64" name="Rectangle 20"/>
          <p:cNvSpPr/>
          <p:nvPr/>
        </p:nvSpPr>
        <p:spPr>
          <a:xfrm>
            <a:off x="468360" y="2192400"/>
            <a:ext cx="8209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据说，圆舞曲的</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国王</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约翰</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施特劳斯当年就是在这多瑙河畔的幽静的森林中，触景生情，用动人的旋律，描述了波光粼粼、蜿蜒多姿的多瑙河，叙述了郁郁葱葱、生机勃勃的维也纳森林的美丽景色。《蓝色的多瑙河》和《维也纳森林的故事》从这里飘进了人类音乐文化的宝库。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5"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66"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67"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pic>
        <p:nvPicPr>
          <p:cNvPr id="68" name="Picture 10" descr="9874993df8585fff3c6d9714"/>
          <p:cNvPicPr/>
          <p:nvPr/>
        </p:nvPicPr>
        <p:blipFill>
          <a:blip r:embed="rId5"/>
          <a:stretch/>
        </p:blipFill>
        <p:spPr>
          <a:xfrm>
            <a:off x="900000" y="620640"/>
            <a:ext cx="3240360" cy="2430360"/>
          </a:xfrm>
          <a:prstGeom prst="rect">
            <a:avLst/>
          </a:prstGeom>
          <a:ln w="0">
            <a:noFill/>
          </a:ln>
        </p:spPr>
      </p:pic>
      <p:pic>
        <p:nvPicPr>
          <p:cNvPr id="69" name="Picture 11" descr="7b3a3b0f09916a256059f38b"/>
          <p:cNvPicPr/>
          <p:nvPr/>
        </p:nvPicPr>
        <p:blipFill>
          <a:blip r:embed="rId6"/>
          <a:stretch/>
        </p:blipFill>
        <p:spPr>
          <a:xfrm>
            <a:off x="1908000" y="3284640"/>
            <a:ext cx="3888000" cy="2592360"/>
          </a:xfrm>
          <a:prstGeom prst="rect">
            <a:avLst/>
          </a:prstGeom>
          <a:ln w="0">
            <a:noFill/>
          </a:ln>
        </p:spPr>
      </p:pic>
      <p:pic>
        <p:nvPicPr>
          <p:cNvPr id="70" name="Picture 12" descr="20071119123307839"/>
          <p:cNvPicPr/>
          <p:nvPr/>
        </p:nvPicPr>
        <p:blipFill>
          <a:blip r:embed="rId7"/>
          <a:stretch/>
        </p:blipFill>
        <p:spPr>
          <a:xfrm>
            <a:off x="4932360" y="692280"/>
            <a:ext cx="3170160" cy="2367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1"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72"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73"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pic>
        <p:nvPicPr>
          <p:cNvPr id="74" name="Picture 15" descr="贝多芬"/>
          <p:cNvPicPr/>
          <p:nvPr/>
        </p:nvPicPr>
        <p:blipFill>
          <a:blip r:embed="rId5"/>
          <a:stretch/>
        </p:blipFill>
        <p:spPr>
          <a:xfrm>
            <a:off x="611280" y="1341360"/>
            <a:ext cx="2135160" cy="3095640"/>
          </a:xfrm>
          <a:prstGeom prst="rect">
            <a:avLst/>
          </a:prstGeom>
          <a:ln w="0">
            <a:noFill/>
          </a:ln>
        </p:spPr>
      </p:pic>
      <p:sp>
        <p:nvSpPr>
          <p:cNvPr id="75" name="Rectangle 16"/>
          <p:cNvSpPr/>
          <p:nvPr/>
        </p:nvSpPr>
        <p:spPr>
          <a:xfrm>
            <a:off x="3059280" y="2790000"/>
            <a:ext cx="5616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一七九二年，二十二岁的路德维希</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凡</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贝多芬从波恩来到维也纳，一直到他一八二七年逝世，他就从未离开过这座对音乐家特别有吸引力的城市。贝多芬的绝大部分作品是在这里创作的。他的九部交响曲全都在维也纳举行了首演式。贝多芬被后人认为是有史以来最伟大的交响曲作家。他的《英雄交响曲》充满了激情。他的第九部交响曲取材于德国诗人席勒的《欢乐颂》，如今已经成为欧盟的盟歌。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6"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77"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78"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79" name="Rectangle 7"/>
          <p:cNvSpPr/>
          <p:nvPr/>
        </p:nvSpPr>
        <p:spPr>
          <a:xfrm>
            <a:off x="755640" y="2546280"/>
            <a:ext cx="770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辉煌的创作并不能掩饰贝多芬多难的一生。一八零二年，贝多芬由于逐渐丧失听力，悲愤之余，写下了一封可能是给他兄弟的遗嘱。激情满腔的禀性迫使他频繁地搬家。他在维也纳市区北部有温泉的地方留下了几十处居所。但是温泉最终还是无法挽救他的失聪，一八一九年，贝多芬的听力彻底丧失了。一八二七年，人们在魏林格墓地为他举行了隆重的葬礼。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0" name="Picture 2" descr="back">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81" name="Picture 3" descr="up">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82" name="Picture 4" descr="next">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3" name="Rectangle 6"/>
          <p:cNvSpPr/>
          <p:nvPr/>
        </p:nvSpPr>
        <p:spPr>
          <a:xfrm>
            <a:off x="468360" y="2117520"/>
            <a:ext cx="8137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来到林中的欣特布吕尔小村，我们可以看到，在村边的路旁有一座破旧的磨坊，村口的一株菩提树下有一口古老的水井，村中舒伯特的故居现在仍然保持着当年的原状。据说，当年磨坊的主人有一个叫露茜的女儿，长得非常俊俏。每天清晨，她提着水桶到井边去打水，一招一式显得特别优雅。舒伯特在他的住房里经常临窗欣赏这番情景，并唤发起强烈的创作意识，后来谱写了《美丽的磨坊姑娘》这首名曲。</a:t>
            </a:r>
            <a:r>
              <a:rPr b="1" lang="zh-CN" sz="2400" spc="-1" strike="noStrike">
                <a:solidFill>
                  <a:srgbClr val="000000"/>
                </a:solidFill>
                <a:latin typeface="Times New Roman"/>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USER</cp:lastModifiedBy>
  <dcterms:modified xsi:type="dcterms:W3CDTF">2015-08-06T05:52:59Z</dcterms:modified>
  <cp:revision>0</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