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13.jpeg" ContentType="image/jpeg"/>
  <Override PartName="/ppt/media/coin.wav" ContentType="audio/x-wav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199-8477-477F-9738-7E524E88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2BE-FFAA-4308-8193-96A822E3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EFF-4ABD-46DE-A1D8-9A1188DE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ABC-C6A0-4B8B-8565-8E0F8EE3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E1C-97CF-4738-9DFB-CB34C97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F3F-3E4E-47D0-A4C3-6D22E3F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D51-BB44-45B9-9934-8064810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B9A-D464-413A-92C6-7A985AD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78C-F50B-47F7-B3B5-A9BF41E7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03A-AF7F-4796-A4AA-8B761DDD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7A8-125D-4F15-88D7-A8BB4B0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DBD-E09D-4A26-A504-D58DB56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DC1-0664-4ABB-A14A-53FEB3C26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dou.com/programs/view/9_9VfdQbBc4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6.com/u90/v_Mzc5NTEwNDc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WINDOWS\Desktop\hhs2.MP3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773360"/>
            <a:ext cx="777240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) 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澎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(  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屏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(      )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连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   )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检查预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生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3080" y="1844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1080" y="1844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2000" y="2924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3080" y="285264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2924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7000" y="1989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8200" y="36450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67840" y="357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71160" y="45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9440" y="45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9440" y="5300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530064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91280" cy="556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79680" y="3184560"/>
            <a:ext cx="2916360" cy="1068480"/>
          </a:xfrm>
          <a:custGeom>
            <a:avLst/>
            <a:gdLst/>
            <a:ahLst/>
            <a:rect l="l" t="t" r="r" b="b"/>
            <a:pathLst>
              <a:path w="2101" h="709">
                <a:moveTo>
                  <a:pt x="2101" y="213"/>
                </a:moveTo>
                <a:cubicBezTo>
                  <a:pt x="2069" y="234"/>
                  <a:pt x="2031" y="254"/>
                  <a:pt x="1994" y="266"/>
                </a:cubicBezTo>
                <a:cubicBezTo>
                  <a:pt x="1991" y="275"/>
                  <a:pt x="1992" y="286"/>
                  <a:pt x="1985" y="293"/>
                </a:cubicBezTo>
                <a:cubicBezTo>
                  <a:pt x="1979" y="299"/>
                  <a:pt x="1967" y="297"/>
                  <a:pt x="1959" y="301"/>
                </a:cubicBezTo>
                <a:cubicBezTo>
                  <a:pt x="1866" y="340"/>
                  <a:pt x="1969" y="303"/>
                  <a:pt x="1897" y="328"/>
                </a:cubicBezTo>
                <a:cubicBezTo>
                  <a:pt x="1872" y="401"/>
                  <a:pt x="1811" y="462"/>
                  <a:pt x="1746" y="505"/>
                </a:cubicBezTo>
                <a:cubicBezTo>
                  <a:pt x="1704" y="532"/>
                  <a:pt x="1602" y="528"/>
                  <a:pt x="1560" y="532"/>
                </a:cubicBezTo>
                <a:cubicBezTo>
                  <a:pt x="1495" y="575"/>
                  <a:pt x="1565" y="535"/>
                  <a:pt x="1418" y="558"/>
                </a:cubicBezTo>
                <a:cubicBezTo>
                  <a:pt x="1400" y="561"/>
                  <a:pt x="1365" y="576"/>
                  <a:pt x="1365" y="576"/>
                </a:cubicBezTo>
                <a:cubicBezTo>
                  <a:pt x="1350" y="573"/>
                  <a:pt x="1327" y="581"/>
                  <a:pt x="1321" y="567"/>
                </a:cubicBezTo>
                <a:cubicBezTo>
                  <a:pt x="1314" y="550"/>
                  <a:pt x="1339" y="514"/>
                  <a:pt x="1339" y="514"/>
                </a:cubicBezTo>
                <a:cubicBezTo>
                  <a:pt x="1333" y="455"/>
                  <a:pt x="1327" y="403"/>
                  <a:pt x="1312" y="346"/>
                </a:cubicBezTo>
                <a:cubicBezTo>
                  <a:pt x="1374" y="325"/>
                  <a:pt x="1359" y="346"/>
                  <a:pt x="1374" y="301"/>
                </a:cubicBezTo>
                <a:cubicBezTo>
                  <a:pt x="1362" y="283"/>
                  <a:pt x="1334" y="269"/>
                  <a:pt x="1339" y="248"/>
                </a:cubicBezTo>
                <a:cubicBezTo>
                  <a:pt x="1347" y="212"/>
                  <a:pt x="1353" y="190"/>
                  <a:pt x="1374" y="160"/>
                </a:cubicBezTo>
                <a:cubicBezTo>
                  <a:pt x="1377" y="151"/>
                  <a:pt x="1379" y="141"/>
                  <a:pt x="1383" y="133"/>
                </a:cubicBezTo>
                <a:cubicBezTo>
                  <a:pt x="1388" y="124"/>
                  <a:pt x="1403" y="117"/>
                  <a:pt x="1401" y="107"/>
                </a:cubicBezTo>
                <a:cubicBezTo>
                  <a:pt x="1399" y="96"/>
                  <a:pt x="1383" y="95"/>
                  <a:pt x="1374" y="89"/>
                </a:cubicBezTo>
                <a:cubicBezTo>
                  <a:pt x="1368" y="71"/>
                  <a:pt x="1374" y="42"/>
                  <a:pt x="1356" y="36"/>
                </a:cubicBezTo>
                <a:cubicBezTo>
                  <a:pt x="1286" y="12"/>
                  <a:pt x="1135" y="9"/>
                  <a:pt x="1135" y="9"/>
                </a:cubicBezTo>
                <a:cubicBezTo>
                  <a:pt x="1047" y="16"/>
                  <a:pt x="1027" y="0"/>
                  <a:pt x="984" y="62"/>
                </a:cubicBezTo>
                <a:cubicBezTo>
                  <a:pt x="978" y="80"/>
                  <a:pt x="965" y="117"/>
                  <a:pt x="966" y="133"/>
                </a:cubicBezTo>
                <a:cubicBezTo>
                  <a:pt x="968" y="152"/>
                  <a:pt x="984" y="186"/>
                  <a:pt x="984" y="186"/>
                </a:cubicBezTo>
                <a:cubicBezTo>
                  <a:pt x="965" y="215"/>
                  <a:pt x="942" y="229"/>
                  <a:pt x="922" y="257"/>
                </a:cubicBezTo>
                <a:cubicBezTo>
                  <a:pt x="896" y="334"/>
                  <a:pt x="905" y="324"/>
                  <a:pt x="816" y="337"/>
                </a:cubicBezTo>
                <a:cubicBezTo>
                  <a:pt x="803" y="341"/>
                  <a:pt x="763" y="350"/>
                  <a:pt x="763" y="372"/>
                </a:cubicBezTo>
                <a:cubicBezTo>
                  <a:pt x="763" y="383"/>
                  <a:pt x="780" y="384"/>
                  <a:pt x="789" y="390"/>
                </a:cubicBezTo>
                <a:cubicBezTo>
                  <a:pt x="786" y="402"/>
                  <a:pt x="789" y="418"/>
                  <a:pt x="780" y="426"/>
                </a:cubicBezTo>
                <a:cubicBezTo>
                  <a:pt x="766" y="438"/>
                  <a:pt x="745" y="437"/>
                  <a:pt x="727" y="443"/>
                </a:cubicBezTo>
                <a:cubicBezTo>
                  <a:pt x="686" y="456"/>
                  <a:pt x="644" y="465"/>
                  <a:pt x="603" y="479"/>
                </a:cubicBezTo>
                <a:cubicBezTo>
                  <a:pt x="585" y="476"/>
                  <a:pt x="567" y="474"/>
                  <a:pt x="550" y="470"/>
                </a:cubicBezTo>
                <a:cubicBezTo>
                  <a:pt x="532" y="465"/>
                  <a:pt x="497" y="452"/>
                  <a:pt x="497" y="452"/>
                </a:cubicBezTo>
                <a:cubicBezTo>
                  <a:pt x="467" y="455"/>
                  <a:pt x="436" y="451"/>
                  <a:pt x="408" y="461"/>
                </a:cubicBezTo>
                <a:cubicBezTo>
                  <a:pt x="374" y="472"/>
                  <a:pt x="380" y="537"/>
                  <a:pt x="399" y="567"/>
                </a:cubicBezTo>
                <a:cubicBezTo>
                  <a:pt x="407" y="580"/>
                  <a:pt x="429" y="573"/>
                  <a:pt x="444" y="576"/>
                </a:cubicBezTo>
                <a:cubicBezTo>
                  <a:pt x="462" y="637"/>
                  <a:pt x="502" y="642"/>
                  <a:pt x="550" y="674"/>
                </a:cubicBezTo>
                <a:cubicBezTo>
                  <a:pt x="558" y="697"/>
                  <a:pt x="572" y="709"/>
                  <a:pt x="532" y="709"/>
                </a:cubicBezTo>
                <a:cubicBezTo>
                  <a:pt x="518" y="709"/>
                  <a:pt x="437" y="669"/>
                  <a:pt x="426" y="665"/>
                </a:cubicBezTo>
                <a:cubicBezTo>
                  <a:pt x="361" y="643"/>
                  <a:pt x="404" y="656"/>
                  <a:pt x="275" y="647"/>
                </a:cubicBezTo>
                <a:cubicBezTo>
                  <a:pt x="215" y="626"/>
                  <a:pt x="284" y="658"/>
                  <a:pt x="240" y="594"/>
                </a:cubicBezTo>
                <a:cubicBezTo>
                  <a:pt x="235" y="586"/>
                  <a:pt x="222" y="588"/>
                  <a:pt x="213" y="585"/>
                </a:cubicBezTo>
                <a:cubicBezTo>
                  <a:pt x="210" y="576"/>
                  <a:pt x="212" y="563"/>
                  <a:pt x="204" y="558"/>
                </a:cubicBezTo>
                <a:cubicBezTo>
                  <a:pt x="189" y="547"/>
                  <a:pt x="151" y="541"/>
                  <a:pt x="151" y="541"/>
                </a:cubicBezTo>
                <a:cubicBezTo>
                  <a:pt x="114" y="551"/>
                  <a:pt x="112" y="556"/>
                  <a:pt x="71" y="541"/>
                </a:cubicBezTo>
                <a:cubicBezTo>
                  <a:pt x="61" y="537"/>
                  <a:pt x="55" y="526"/>
                  <a:pt x="45" y="523"/>
                </a:cubicBezTo>
                <a:cubicBezTo>
                  <a:pt x="30" y="519"/>
                  <a:pt x="15" y="523"/>
                  <a:pt x="0" y="5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6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黄河的基本走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762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124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28640"/>
            <a:ext cx="51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Times New Roman"/>
              </a:rPr>
              <a:t>欣赏图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476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中宋"/>
              </a:rPr>
              <a:t>你能用一句话说说你的感受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95280" y="1484280"/>
            <a:ext cx="8416800" cy="3661920"/>
            <a:chOff x="395280" y="1484280"/>
            <a:chExt cx="8416800" cy="3661920"/>
          </a:xfrm>
        </p:grpSpPr>
        <p:pic>
          <p:nvPicPr>
            <p:cNvPr id="86" name="发源地景观1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4176720" cy="36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发源地景观2" descr=""/>
            <p:cNvPicPr/>
            <p:nvPr/>
          </p:nvPicPr>
          <p:blipFill>
            <a:blip r:embed="rId3"/>
            <a:stretch/>
          </p:blipFill>
          <p:spPr>
            <a:xfrm>
              <a:off x="4714560" y="1512000"/>
              <a:ext cx="4097520" cy="361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454560" y="55897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华文中宋"/>
              </a:rPr>
              <a:t>注：黄河源于青海省巴颜喀拉山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4046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华文中宋"/>
              </a:rPr>
              <a:t>黄河源头景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7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欣赏黄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7464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440" y="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河上游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黄河中游景观" descr=""/>
          <p:cNvPicPr/>
          <p:nvPr/>
        </p:nvPicPr>
        <p:blipFill>
          <a:blip r:embed="rId2"/>
          <a:srcRect l="0" t="0" r="0" b="8325"/>
          <a:stretch/>
        </p:blipFill>
        <p:spPr>
          <a:xfrm>
            <a:off x="971640" y="1197000"/>
            <a:ext cx="7488000" cy="481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40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中宋"/>
              </a:rPr>
              <a:t>黄河中游景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50920" y="907920"/>
            <a:ext cx="8315280" cy="5040360"/>
            <a:chOff x="250920" y="907920"/>
            <a:chExt cx="8315280" cy="5040360"/>
          </a:xfrm>
        </p:grpSpPr>
        <p:pic>
          <p:nvPicPr>
            <p:cNvPr id="96" name="黄河入海口(山东东营)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38131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黄河入海口的苇塘" descr=""/>
            <p:cNvPicPr/>
            <p:nvPr/>
          </p:nvPicPr>
          <p:blipFill>
            <a:blip r:embed="rId3"/>
            <a:stretch/>
          </p:blipFill>
          <p:spPr>
            <a:xfrm>
              <a:off x="4354560" y="2781000"/>
              <a:ext cx="4211640" cy="31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 txBox="1"/>
          <p:nvPr/>
        </p:nvSpPr>
        <p:spPr>
          <a:xfrm rot="7330800">
            <a:off x="4564800" y="1195920"/>
            <a:ext cx="343836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黄河入海口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落日                            芦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47_hshtqg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6084720" y="5661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黄水黄土奇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33_hkp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084720" y="4046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黑体"/>
              </a:rPr>
              <a:t>壶口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049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宋体"/>
                <a:ea typeface="方正姚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73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476280"/>
            <a:ext cx="8540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词语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澎湃：形容波浪互相撞击，比喻声势浩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狂澜：巨大的波浪，比喻猛烈的气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宛转：辗转，经过许多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育：比喻培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泻万丈：形容江河水流迅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九曲连环：形容黄河流势盘旋往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屏障：像屏风一样遮挡着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000000"/>
            </a:outerShdw>
          </a:effectLst>
        </p:spPr>
      </p:pic>
    </p:spTree>
  </p:cSld>
  <p:transition advTm="5000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3049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隶书"/>
                <a:ea typeface="隶书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981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81280" y="1752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620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611520"/>
            <a:ext cx="495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5181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1428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0" t="0" r="0" b="187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429000"/>
            <a:ext cx="5638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b61"/>
                </a:solidFill>
                <a:latin typeface="Times New Roman"/>
                <a:ea typeface="隶书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17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476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中宋"/>
              </a:rPr>
              <a:t>你能用一句话说说你的感受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77336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你认为应该用一种什么样的语气来朗读这首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260280"/>
            <a:ext cx="244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朗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500280"/>
            <a:ext cx="856944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激昂、雄健、悲壮</a:t>
            </a: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86596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河是中华民族的摇篮，是我们的母亲河，是我们的民族之魂，是中华儿女的骄傲和自豪。古往今来，有多少文人墨客用手中的生花妙笔挥洒激情赞美过它；多少仁人志士为它抛头颅、撒热血；多少浪迹天涯的游子对它魂牵梦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著名的民族音乐家冼星海创作的大型民族交响乐《黄河大合唱》曾感动了一批又一批的中华儿女为祖国而战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，让我们吟诵着《黄河颂》，走进它的词作者——著名诗人光未然那充满强烈民族精神和爱国情感的心灵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导入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197000"/>
            <a:ext cx="792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根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序曲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主体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尾声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三个部分，划分层次并能概括大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新宋体"/>
              </a:rPr>
              <a:t>序曲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 </a:t>
            </a: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新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黄河伟大坚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2050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主体</a:t>
            </a:r>
            <a:r>
              <a:rPr b="1" i="1" lang="zh-CN" sz="5400" spc="-1" strike="noStrike">
                <a:solidFill>
                  <a:srgbClr val="009999"/>
                </a:solidFill>
                <a:latin typeface="宋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望黄河——颂黄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400536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尾声</a:t>
            </a:r>
            <a:r>
              <a:rPr b="0" lang="zh-CN" sz="5400" spc="-1" strike="noStrike">
                <a:solidFill>
                  <a:srgbClr val="009999"/>
                </a:solidFill>
                <a:latin typeface="宋体"/>
              </a:rPr>
              <a:t> </a:t>
            </a:r>
            <a:r>
              <a:rPr b="0" lang="zh-CN" sz="5400" spc="-1" strike="noStrike">
                <a:solidFill>
                  <a:srgbClr val="003300"/>
                </a:solidFill>
                <a:latin typeface="宋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学习黄河精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3068640"/>
            <a:ext cx="8459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一往无前、无坚不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 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的气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05264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这首诗歌的主要内容是歌颂黄河，在歌颂前对黄河进行了一番描绘。你觉得这些句子表现了黄河的什么特点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望——劈成南北两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789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近镜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48840" y="69156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体部分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所统领的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4680" y="310788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望……劈成南北两面”是如何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66640" y="5943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横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6640" y="5229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纵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66640" y="4508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俯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59540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两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0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特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4724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全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537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5600" y="3860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2880" y="4437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1240" y="508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9960" y="5851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60" y="-93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文章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为什么把黄河比作“摇篮”和“屏障”？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1628640"/>
            <a:ext cx="58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是中华民族的发祥地，孕育了中华文化养育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413244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重黄河保卫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民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960" y="1585800"/>
            <a:ext cx="12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黄河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摇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5320" y="3746520"/>
            <a:ext cx="118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黄河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屏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59364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何理解黄河“向南北两岸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伸出万千条铁的臂膀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2860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全句看，这是一个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比喻句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把黄河比喻为一个巨人，黄河主流是巨人的躯干，黄河流域中的无数条支流就是“巨人”身上千万条“铁的臂膀”。其次，应该和上文结合起来理解，如此巨人，“一泻万丈，浩浩荡荡”体现了气势磅礴、勇不可挡的气度和力量，正足以激发民族的精神和信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159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啊！黄河”在诗中反复出现几次？说说它有什么作用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5118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由实到虚    环环紧扣  逐步深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916280"/>
            <a:ext cx="21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1111"/>
                </a:solidFill>
                <a:latin typeface="Arial"/>
                <a:ea typeface="隶书"/>
              </a:rPr>
              <a:t>把从“啊！黄河”到“发扬滋长”分成三个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06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摇篮，养育了中华民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3068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屏障，黄河保卫了中华民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149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臂膀，黄河激励了中华民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24560" y="24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11111"/>
                </a:solidFill>
                <a:latin typeface="Arial"/>
                <a:ea typeface="华文行楷"/>
              </a:rPr>
              <a:t>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57400" y="4133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Arial"/>
                <a:ea typeface="华文行楷"/>
              </a:rPr>
              <a:t>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32920" y="29973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476280"/>
            <a:ext cx="822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诗人反复吟唱：“啊！黄河！”， 我们应该怎样来读出这三层的情感与气魄呢？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28356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屏障，坚强有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36760" y="19065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摇篮，舒缓深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0760" y="44402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臂膀，高亢激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有关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/>
              </a:rPr>
              <a:t>黄河</a:t>
            </a: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的著名诗句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君不见黄河之水天上来，奔流到海不复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李白《将进酒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河落天走东海，万里写入胸怀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李白《赠裴十四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河远上白云间，一片孤城万仞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王之涣《凉州词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日依山尽，黄河入海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王之涣《登鹳雀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曲黄河万里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刘禹锡《浪淘沙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渡黄河冰塞川，将登太行雪满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李白《行路难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家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光未然，原名张光年，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13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出生在湖北光华县。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27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在中学年代就参加革命工作。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创作了《五月的鲜花》歌词，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到延安后创作了歌颂中华民族精神的组诗《黄河大合唱》。经冼星海谱曲后风行全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243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冼星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5-19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中国近现代著名的音乐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考入巴黎音乐院在肖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托鲁姆作曲班学习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回国后，积极参加抗日救亡运动，创作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救国军歌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《游击军歌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茫茫的西伯利亚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《在太行山上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各种类型的声乐作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任延安鲁迅艺术学院音乐系主任，并在“女大”兼课。教学之余，创作了不朽名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《黄河大合唱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《生产大合唱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作品。由于他对发展我国革命音乐所作的巨大贡献，赢得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“人民音乐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光荣称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2"/>
          </p:cNvPr>
          <p:cNvSpPr/>
          <p:nvPr/>
        </p:nvSpPr>
        <p:spPr>
          <a:xfrm>
            <a:off x="250920" y="7239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末，光未然随抗日部队行军至大西北的黄河岸边。中国雄奇的山川，战士们英勇的身姿激发了作者的创作灵感，时代的呼唤促使他怀着高涨的爱国热情谱写了一篇大型朗诵诗《黄河吟》。冼星海在除夕晚会上听了该诗的朗诵异常兴奋，连续写作六天，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完成了《黄河大合唱》这部史诗性杰作。这部大型声乐作品共八个乐章，其中尤以《黄河颂》、《黄水谣》、《保卫黄河》等为人们所传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720" y="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时代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2240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河船夫曲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22240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河颂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1608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河之水天上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31608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河对口曲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40244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水谣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4024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黄河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9608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保卫黄河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9608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怒吼吧！黄河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260280"/>
            <a:ext cx="228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《黄河大合唱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是一部大型合唱音乐作品，共有八个乐章，分别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029_h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908000" y="189000"/>
            <a:ext cx="49150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走近黄河</a:t>
            </a:r>
            <a:endParaRPr b="1" lang="en-US" sz="9600" spc="1" strike="noStrike">
              <a:ln w="1260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39_hhlk" descr="039_hhlk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黄河是中国第二长河，世界第五长河，世界上含沙量最多的河流。被誉为中国的“母亲河”。黄河长达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6300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千米。从高空俯瞰，它非常像一个巨大的“几”字。上、中游分界点是内蒙古自治区的河口镇，中、下游分界点是河南省的旧孟津。黄河源于青藏高原巴颜喀拉山，在山东省东营市垦利县注入渤海。干流贯穿九个省、自治区，分别为：青海、四川、甘肃、宁夏、内蒙古、陕西、山西、河南、山东，注入渤海。年径流量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574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亿立方米，平均径流深度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79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6T06:08:20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