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482-28F9-4ADF-A4CD-1E6E061B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6E2-9A6D-4B4A-BFAB-1F7AE485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D22-2169-415B-B7EA-F6A5D337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816-0D7D-4D77-9CB3-A86177A3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DB1-87D4-4A3A-91CB-37BB4FD7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6EF-2284-4CE5-8D04-B328BEF7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EE13-0847-4E4E-A3BC-2D01037B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643-1AEE-4C1C-8A15-D716F1DE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373-048C-4CEF-B316-9D0D9054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BDB-4B98-44B6-A1EB-5489CB68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026-50DF-4236-BAF6-300427AB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33E-4DF8-4C02-9634-2A7518EE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3B86-5605-458A-A508-65E2C9C35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447920" y="83808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方正姚体简体"/>
                <a:ea typeface="方正姚体简体"/>
              </a:rPr>
              <a:t>1    </a:t>
            </a:r>
            <a:r>
              <a:rPr b="0" lang="zh-CN" sz="5400" spc="-1" strike="noStrike">
                <a:solidFill>
                  <a:srgbClr val="336600"/>
                </a:solidFill>
                <a:latin typeface="方正姚体简体"/>
                <a:ea typeface="方正姚体简体"/>
              </a:rPr>
              <a:t>快乐的杉树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304920" y="37623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我家门外有一片杉树林，它给我的童年带来了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快乐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04920" y="5286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我家门外的杉树林给我金色的童年带来无穷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欢乐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304920" y="3273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  <a:ea typeface="楷体_GB2312"/>
              </a:rPr>
              <a:t>       </a:t>
            </a:r>
            <a:r>
              <a:rPr b="1" lang="zh-CN" sz="2800" spc="-1" strike="noStrike">
                <a:solidFill>
                  <a:srgbClr val="002a00"/>
                </a:solidFill>
                <a:latin typeface="Arial"/>
                <a:ea typeface="楷体_GB2312"/>
              </a:rPr>
              <a:t>天渐渐热了，酷暑难挡的盛夏来临了。太阳老是火辣辣地烤着大地，树上的知了大概也赚天气热，拼命地叫着。这时，杉树林可是一个极好的避暑“胜地”。当然，这里是我们的天下喽！我们不约而同地带着椅子、板凳到杉树林里避暑。别看树多，小虫子可是少得很。杉树林里凉快极了，我们做完了暑假作业，有的下棋．有的做游。欢声笑语给整个杉树林带来了生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04920" y="3049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夏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304920" y="4264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       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天渐渐热了，酷暑难挡的盛夏来临了。太阳老是火辣辣地烤着大地，树上的知了大概也赚天气热，拼命地叫着。这时，杉树林可是一个极好的避暑“胜地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3049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夏天的景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304920" y="32734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         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当然，这里是我们的天下喽！我们不约而同地带着椅子、板凳到杉树林里避暑。别看树多，小虫子可是少得很。杉树林里凉快极了，我们做完了暑假作业，有的下棋，有的做游戏。欢声笑语给整个杉树林带来了生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57200" y="3808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夏天    快乐的杉树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04920" y="32767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         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当然，这里是我们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天下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喽！我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约而同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地带着椅子、板凳到杉树林里避暑。别看树多，小虫子可是少得很。杉树林里凉快极了，我们做完了暑假作业，有的下棋</a:t>
            </a:r>
            <a:r>
              <a:rPr b="1" lang="en-US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,   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有的做游戏。欢声笑语给整个杉树林带来了生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b7187e09a1e620e40de595c0938f2ee8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52280" y="771480"/>
            <a:ext cx="4038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          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杉树林里凉快极了，我们做完了暑假作业，有的下棋，有的做游戏，有的（     ），还有的（     ）</a:t>
            </a:r>
            <a:r>
              <a:rPr b="1" lang="en-US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欢声笑语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给整个杉树林带来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生机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419720" y="5943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夏天  快乐的杉树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304920" y="37623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我家门外有一片杉树林，它给我的童年带来了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快乐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4920" y="5286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我家门外的杉树林给我金色的童年带来无穷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欢乐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0" y="297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  <a:ea typeface="楷体_GB2312"/>
              </a:rPr>
              <a:t>        </a:t>
            </a:r>
            <a:r>
              <a:rPr b="1" lang="zh-CN" sz="2800" spc="-1" strike="noStrike">
                <a:solidFill>
                  <a:srgbClr val="002a00"/>
                </a:solidFill>
                <a:latin typeface="Arial"/>
                <a:ea typeface="楷体_GB2312"/>
              </a:rPr>
              <a:t>一阵阵凉风吹来，赶走了炎热的夏天，迎来了秋高气爽的季节。杉树林也更新换貌了。杉树的叶子开始由绿色变成了半黄半绿的颜色；过不多久，叶子全变成红色。红得那样鲜艳，火红火红的，远远看去，好似一团团燃烧的火焰。秋风扫过，那邓火焰般的红叶飘落在地上，像红色的地毯，美而极了。夕阳和晚霞增添了它的红，雨后的水塘更映出它的的红。秋天，是杉树林最美丽的时候。我们时常迎着夕阳在这条用红叶铺的路上来回走动，脚下软绵绵的，舒服极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3049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秋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0" y="3776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  <a:ea typeface="楷体_GB2312"/>
              </a:rPr>
              <a:t>        </a:t>
            </a:r>
            <a:r>
              <a:rPr b="1" lang="zh-CN" sz="2800" spc="-1" strike="noStrike">
                <a:solidFill>
                  <a:srgbClr val="002a00"/>
                </a:solidFill>
                <a:latin typeface="Arial"/>
                <a:ea typeface="楷体_GB2312"/>
              </a:rPr>
              <a:t>一阵阵凉风吹来，赶走了炎热的夏天，迎来了秋高气爽的季节。杉树林也更新换貌了。杉树的叶子开始由绿色变成了半黄半绿的颜色；过不多久，叶子全变成红色。红得那样鲜艳，火红火红的，远远看去，好似一团团燃烧的火焰。秋风扫过，那火焰般的红叶飘落在地上，像红色的地毯，美丽极了。夕阳和晚霞增添了它的红，雨后的水塘更映出它的的红。秋天，是杉树林最美丽的时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4920" y="3808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秋天的景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228600" y="1522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秋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762120" y="914400"/>
            <a:ext cx="7619760" cy="5562720"/>
            <a:chOff x="762120" y="914400"/>
            <a:chExt cx="7619760" cy="5562720"/>
          </a:xfrm>
        </p:grpSpPr>
        <p:pic>
          <p:nvPicPr>
            <p:cNvPr id="107" name="Picture 5" descr="200712120533757113"/>
            <p:cNvPicPr/>
            <p:nvPr/>
          </p:nvPicPr>
          <p:blipFill>
            <a:blip r:embed="rId1"/>
            <a:stretch/>
          </p:blipFill>
          <p:spPr>
            <a:xfrm>
              <a:off x="762120" y="914400"/>
              <a:ext cx="7619760" cy="55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6"/>
            <p:cNvSpPr/>
            <p:nvPr/>
          </p:nvSpPr>
          <p:spPr>
            <a:xfrm>
              <a:off x="990360" y="5105520"/>
              <a:ext cx="700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杉树林也更新换貌了。杉树的叶子开始由绿色变成了半黄半绿的颜色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7"/>
          <p:cNvGrpSpPr/>
          <p:nvPr/>
        </p:nvGrpSpPr>
        <p:grpSpPr>
          <a:xfrm>
            <a:off x="762120" y="990720"/>
            <a:ext cx="7619760" cy="5486400"/>
            <a:chOff x="762120" y="990720"/>
            <a:chExt cx="7619760" cy="5486400"/>
          </a:xfrm>
        </p:grpSpPr>
        <p:pic>
          <p:nvPicPr>
            <p:cNvPr id="110" name="Picture 8" descr="200712120532486894"/>
            <p:cNvPicPr/>
            <p:nvPr/>
          </p:nvPicPr>
          <p:blipFill>
            <a:blip r:embed="rId2"/>
            <a:stretch/>
          </p:blipFill>
          <p:spPr>
            <a:xfrm>
              <a:off x="762120" y="990720"/>
              <a:ext cx="76197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9"/>
            <p:cNvSpPr/>
            <p:nvPr/>
          </p:nvSpPr>
          <p:spPr>
            <a:xfrm>
              <a:off x="990360" y="5029200"/>
              <a:ext cx="723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过不多久，叶子全变成红色。红得那样鲜艳，火红火红的，远远看去，好似一团团燃烧的火焰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0"/>
          <p:cNvGrpSpPr/>
          <p:nvPr/>
        </p:nvGrpSpPr>
        <p:grpSpPr>
          <a:xfrm>
            <a:off x="838080" y="838080"/>
            <a:ext cx="7620120" cy="5562720"/>
            <a:chOff x="838080" y="838080"/>
            <a:chExt cx="7620120" cy="5562720"/>
          </a:xfrm>
        </p:grpSpPr>
        <p:grpSp>
          <p:nvGrpSpPr>
            <p:cNvPr id="113" name="Group 11"/>
            <p:cNvGrpSpPr/>
            <p:nvPr/>
          </p:nvGrpSpPr>
          <p:grpSpPr>
            <a:xfrm>
              <a:off x="838080" y="838080"/>
              <a:ext cx="7620120" cy="5562720"/>
              <a:chOff x="838080" y="838080"/>
              <a:chExt cx="7620120" cy="5562720"/>
            </a:xfrm>
          </p:grpSpPr>
          <p:pic>
            <p:nvPicPr>
              <p:cNvPr id="114" name="Picture 12" descr="21_10_eaebaa8396e981d"/>
              <p:cNvPicPr/>
              <p:nvPr/>
            </p:nvPicPr>
            <p:blipFill>
              <a:blip r:embed="rId3">
                <a:lum contrast="24000"/>
              </a:blip>
              <a:srcRect l="0" t="0" r="53753" b="0"/>
              <a:stretch/>
            </p:blipFill>
            <p:spPr>
              <a:xfrm>
                <a:off x="838080" y="838080"/>
                <a:ext cx="3625920" cy="556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13" descr="21_10_eaebaa8396e981d"/>
              <p:cNvPicPr/>
              <p:nvPr/>
            </p:nvPicPr>
            <p:blipFill>
              <a:blip r:embed="rId4">
                <a:lum contrast="24000"/>
              </a:blip>
              <a:srcRect l="0" t="0" r="53753" b="0"/>
              <a:stretch/>
            </p:blipFill>
            <p:spPr>
              <a:xfrm>
                <a:off x="6553080" y="838080"/>
                <a:ext cx="1905120" cy="556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14" descr="21_10_eaebaa8396e981d"/>
              <p:cNvPicPr/>
              <p:nvPr/>
            </p:nvPicPr>
            <p:blipFill>
              <a:blip r:embed="rId5">
                <a:lum contrast="30000"/>
              </a:blip>
              <a:srcRect l="0" t="0" r="53753" b="0"/>
              <a:stretch/>
            </p:blipFill>
            <p:spPr>
              <a:xfrm>
                <a:off x="3352680" y="838080"/>
                <a:ext cx="3219480" cy="556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7" name="Text Box 15"/>
            <p:cNvSpPr/>
            <p:nvPr/>
          </p:nvSpPr>
          <p:spPr>
            <a:xfrm>
              <a:off x="838080" y="4952880"/>
              <a:ext cx="7620120" cy="581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a00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秋风扫过，那火焰般的红叶飘落在地上，像红色的地毯，美丽极了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6"/>
          <p:cNvGrpSpPr/>
          <p:nvPr/>
        </p:nvGrpSpPr>
        <p:grpSpPr>
          <a:xfrm>
            <a:off x="838080" y="838080"/>
            <a:ext cx="7619760" cy="5667840"/>
            <a:chOff x="838080" y="838080"/>
            <a:chExt cx="7619760" cy="5667840"/>
          </a:xfrm>
        </p:grpSpPr>
        <p:pic>
          <p:nvPicPr>
            <p:cNvPr id="119" name="Picture 17" descr="fa724356f8a40ab5c67a3e449fc967fc"/>
            <p:cNvPicPr/>
            <p:nvPr/>
          </p:nvPicPr>
          <p:blipFill>
            <a:blip r:embed="rId6"/>
            <a:stretch/>
          </p:blipFill>
          <p:spPr>
            <a:xfrm>
              <a:off x="838080" y="838080"/>
              <a:ext cx="7619760" cy="55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8"/>
            <p:cNvSpPr/>
            <p:nvPr/>
          </p:nvSpPr>
          <p:spPr>
            <a:xfrm>
              <a:off x="995040" y="5028840"/>
              <a:ext cx="707040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   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夕阳和晚霞增添了它的红，雨后的水塘更映出它的的红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28600" y="1522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秋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fa724356f8a40ab5c67a3e449fc967fc"/>
          <p:cNvPicPr/>
          <p:nvPr/>
        </p:nvPicPr>
        <p:blipFill>
          <a:blip r:embed="rId1"/>
          <a:srcRect l="0" t="0" r="2128" b="8331"/>
          <a:stretch/>
        </p:blipFill>
        <p:spPr>
          <a:xfrm>
            <a:off x="4648320" y="3581280"/>
            <a:ext cx="3504960" cy="2514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200712120533757113"/>
          <p:cNvPicPr/>
          <p:nvPr/>
        </p:nvPicPr>
        <p:blipFill>
          <a:blip r:embed="rId2"/>
          <a:stretch/>
        </p:blipFill>
        <p:spPr>
          <a:xfrm>
            <a:off x="762120" y="914400"/>
            <a:ext cx="3429000" cy="2503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200712120532486894"/>
          <p:cNvPicPr/>
          <p:nvPr/>
        </p:nvPicPr>
        <p:blipFill>
          <a:blip r:embed="rId3"/>
          <a:stretch/>
        </p:blipFill>
        <p:spPr>
          <a:xfrm>
            <a:off x="4648320" y="838080"/>
            <a:ext cx="3581280" cy="2578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21_10_eaebaa8396e981d"/>
          <p:cNvPicPr/>
          <p:nvPr/>
        </p:nvPicPr>
        <p:blipFill>
          <a:blip r:embed="rId4"/>
          <a:srcRect l="0" t="0" r="53753" b="0"/>
          <a:stretch/>
        </p:blipFill>
        <p:spPr>
          <a:xfrm>
            <a:off x="2362320" y="3581280"/>
            <a:ext cx="1838160" cy="274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21_10_eaebaa8396e981d"/>
          <p:cNvPicPr/>
          <p:nvPr/>
        </p:nvPicPr>
        <p:blipFill>
          <a:blip r:embed="rId5"/>
          <a:srcRect l="0" t="0" r="53753" b="0"/>
          <a:stretch/>
        </p:blipFill>
        <p:spPr>
          <a:xfrm>
            <a:off x="762120" y="3581280"/>
            <a:ext cx="1609560" cy="2743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990720" y="27432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绿色  半黄半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4648320" y="2809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红色  鲜艳  火红火红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8458200" y="251460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53753" dir="2700000" blurRad="0" rotWithShape="0">
                    <a:srgbClr val="000099">
                      <a:alpha val="50000"/>
                    </a:srgbClr>
                  </a:outerShdw>
                </a:effectLst>
                <a:latin typeface="宋体"/>
              </a:rPr>
              <a:t>好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53753" dir="2700000" blurRad="0" rotWithShape="0">
                  <a:srgbClr val="000099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9144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红叶   红色的地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13"/>
          <p:cNvSpPr txBox="1"/>
          <p:nvPr/>
        </p:nvSpPr>
        <p:spPr>
          <a:xfrm>
            <a:off x="0" y="556272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53753" dir="2700000" blurRad="0" rotWithShape="0">
                    <a:srgbClr val="000099">
                      <a:alpha val="50000"/>
                    </a:srgbClr>
                  </a:outerShdw>
                </a:effectLst>
                <a:latin typeface="宋体"/>
              </a:rPr>
              <a:t>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53753" dir="2700000" blurRad="0" rotWithShape="0">
                  <a:srgbClr val="000099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4800600" y="5562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增添  红    映出 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213372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杉树林也更新换貌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685800" y="6400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秋天，是杉树林最美丽的时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yt20071108223136156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367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b7187e09a1e620e40de595c0938f2ee8"/>
          <p:cNvPicPr/>
          <p:nvPr/>
        </p:nvPicPr>
        <p:blipFill>
          <a:blip r:embed="rId2"/>
          <a:srcRect l="0" t="0" r="0" b="21430"/>
          <a:stretch/>
        </p:blipFill>
        <p:spPr>
          <a:xfrm>
            <a:off x="228600" y="228600"/>
            <a:ext cx="4267080" cy="6400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b7187e09a1e620e40de595c0938f2ee8"/>
          <p:cNvPicPr/>
          <p:nvPr/>
        </p:nvPicPr>
        <p:blipFill>
          <a:blip r:embed="rId3"/>
          <a:srcRect l="0" t="0" r="0" b="21430"/>
          <a:stretch/>
        </p:blipFill>
        <p:spPr>
          <a:xfrm>
            <a:off x="4495680" y="228600"/>
            <a:ext cx="4343400" cy="6400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119984920040420132548"/>
          <p:cNvPicPr/>
          <p:nvPr/>
        </p:nvPicPr>
        <p:blipFill>
          <a:blip r:embed="rId4"/>
          <a:stretch/>
        </p:blipFill>
        <p:spPr>
          <a:xfrm>
            <a:off x="228600" y="4572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228600" y="5303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楷体_GB2312"/>
              </a:rPr>
              <a:t>常绿乔木，树冠的形状像塔，叶子呈针形，果实是球形的。木材白色，有香味，供建筑和制作器具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28600" y="22860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6600"/>
                </a:solidFill>
                <a:latin typeface="方正姚体简体"/>
                <a:ea typeface="方正姚体简体"/>
              </a:rPr>
              <a:t>杉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0" y="3886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         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我们时常迎着夕阳在这条用红叶铺的路上来回走动，脚下软绵绵的，舒服极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04920" y="38088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秋天  快乐的杉树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304920" y="37623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我家门外有一片杉树林，它给我的童年带来了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快乐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04920" y="5286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我家门外的杉树林给我金色的童年带来无穷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欢乐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0" y="4127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冬天来了，西北风呼啸而来。吹起地上的落叶，吹动了树枝上还悬挂着的残叶。有时天空还飞舞着雪花，被杉树叶铺盖着的地面上，褐色的树干上，远处近处的屋顶上，都蒙上一层白雪，大地变成了粉妆玉砌的世界。我们和往常一样来到杉树林，高兴地玩了起来，有的堆雪人，有的掷雪球，室中回荡着喊声、打闹声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80880" y="30492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冬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457200" y="425304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冬天来了，西北风呼啸而来。吹起地上的落叶，吹动了树枝上还悬挂着的残叶。有时天空还飞舞着雪花，被杉树叶铺盖着的地面上，褐色的树干上，远处近处的屋顶上，都蒙上一层白雪，大地变成了粉妆玉砌的世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80880" y="30492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冬天的景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267080" y="62485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57200" y="425304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冬天来了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西北风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呼啸而来。吹起地上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落叶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，吹动了树枝上还悬挂着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残叶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。有时天空还飞舞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雪花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被杉树叶铺盖着的地面上，褐色的树干上，远处近处的屋顶上，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都蒙上一层白雪，大地变成了粉妆玉砌的世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0" y="5041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我们和往常一样来到杉树林，高兴地玩了起来，有的堆雪人，有的掷雪球，空中回荡着喊声、打闹声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80880" y="30492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冬天    快乐的杉树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304920" y="37623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我家门外有一片杉树林，它给我的童年带来了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快乐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4920" y="5286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我家门外的杉树林给我金色的童年带来无穷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欢乐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114300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春回大地，杉树林长出嫩绿的幼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天渐渐热了，酷暑难挡的盛夏来临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阵阵凉风吹来，赶走了炎热的夏天，迎来了秋高气爽的季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冬天来了，西北风呼啸而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0" y="304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我家门前的杉树林（             ）以及我们在（      ）的情景，写出了杉树林给我的童年带来了（     ），抒发了我（        ），（         ）思想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371600" y="144792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方正姚体简体"/>
                <a:ea typeface="方正姚体简体"/>
              </a:rPr>
              <a:t>1    </a:t>
            </a:r>
            <a:r>
              <a:rPr b="0" lang="zh-CN" sz="6000" spc="-1" strike="noStrike">
                <a:solidFill>
                  <a:srgbClr val="336600"/>
                </a:solidFill>
                <a:latin typeface="方正姚体简体"/>
                <a:ea typeface="方正姚体简体"/>
              </a:rPr>
              <a:t>快乐的杉树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371600" y="14479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方正姚体简体"/>
                <a:ea typeface="方正姚体简体"/>
              </a:rPr>
              <a:t>1 </a:t>
            </a:r>
            <a:r>
              <a:rPr b="0" lang="zh-CN" sz="6000" spc="-1" strike="noStrike">
                <a:solidFill>
                  <a:srgbClr val="ff0000"/>
                </a:solidFill>
                <a:latin typeface="方正姚体简体"/>
                <a:ea typeface="方正姚体简体"/>
              </a:rPr>
              <a:t>快乐</a:t>
            </a:r>
            <a:r>
              <a:rPr b="0" lang="zh-CN" sz="6000" spc="-1" strike="noStrike">
                <a:solidFill>
                  <a:srgbClr val="336600"/>
                </a:solidFill>
                <a:latin typeface="方正姚体简体"/>
                <a:ea typeface="方正姚体简体"/>
              </a:rPr>
              <a:t>的杉树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04920" y="37623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我家门外有一片杉树林，它给我的童年带来了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快乐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04920" y="5286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我家门外的杉树林给我金色的童年带来无穷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欢乐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6600"/>
                </a:solidFill>
                <a:latin typeface="黑体"/>
                <a:ea typeface="黑体"/>
              </a:rPr>
              <a:t>快速读课文的</a:t>
            </a:r>
            <a:r>
              <a:rPr b="1" lang="en-US" sz="32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3366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336600"/>
                </a:solidFill>
                <a:latin typeface="黑体"/>
                <a:ea typeface="黑体"/>
              </a:rPr>
              <a:t>小节，思考：这</a:t>
            </a:r>
            <a:r>
              <a:rPr b="1" lang="en-US" sz="3200" spc="-1" strike="noStrike">
                <a:solidFill>
                  <a:srgbClr val="3366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336600"/>
                </a:solidFill>
                <a:latin typeface="黑体"/>
                <a:ea typeface="黑体"/>
              </a:rPr>
              <a:t>个小节是按什么顺序写的？再仔细读一读，这四个小节在描写上有什么相同之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33520" y="57913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黑体"/>
              </a:rPr>
              <a:t>春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666880" y="579132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夏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648320" y="57913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秋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553080" y="579132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冬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3352680" y="4343400"/>
            <a:ext cx="243864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886200" y="44197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大黑简体"/>
              </a:rPr>
              <a:t>时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380880" y="22860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黑体"/>
              </a:rPr>
              <a:t>春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164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2a00"/>
                </a:solidFill>
                <a:latin typeface="Arial"/>
                <a:ea typeface="楷体_GB2312"/>
              </a:rPr>
              <a:t>春回大地，杉树林长出嫩绿的幼芽。没几天绿芽就渐渐地长成草绿色的叶子，最后越长越大，就成了一根根针似的叶子。倘若用手指轻轻地碰一下叶尖，就会觉得像被针刺了一样，生疼生疼的。我和小伙伴一放学，就到杉树林里做游戏。玩累了，就用一根草绳系在两棵树的技干上荡秋千。因为顽皮，我们常受大人的责骂。但我们毫不在意，还是自顾自地荡秋千玩。大人们见多了也就不管了，有时还带着牙牙学语的娃娃来观看。这时我们的劲头更大了。当然我们也吃尽了苦头。大伙儿轮流荡秋千，有时会把草绳磨断。于是我们不是摔个仰面朝天，就是来个“小狗吃屎”。摔一下屁股就会疼上两三天。但过后还是照样荡秋千，毫不在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164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春回大地，杉树林长出嫩绿的幼芽。没几天绿芽就渐渐地长成草绿色的叶子，最后越长越大，就成了一根根针似的叶子。倘若用手指轻轻地碰一下叶尖，就会觉得像被针刺了一样，生疼生疼的。</a:t>
            </a:r>
            <a:r>
              <a:rPr b="1" lang="zh-CN" sz="2800" spc="-1" strike="noStrike">
                <a:solidFill>
                  <a:srgbClr val="002a00"/>
                </a:solidFill>
                <a:latin typeface="Arial"/>
                <a:ea typeface="楷体_GB2312"/>
              </a:rPr>
              <a:t>我和小伙伴一放学，就到杉树林里做游戏。玩累了，就用一根草绳系在两棵树的技干上荡秋千。因为顽皮，我们常受大人的责骂。但我们毫不在意，还是自顾自地荡秋千玩。大人们见多了也就不管了，有时还带着牙牙学语的娃娃来观看。这时我们的劲头更大了。当然我们也吃尽了苦头。大伙儿轮流荡秋千，有时会把草绳磨断。于是我们不是摔个仰面朝天，就是来个“小狗吃屎”。摔一下屁股就会疼上两三天。但过后还是照样荡秋千，毫不在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380880" y="22860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黑体"/>
              </a:rPr>
              <a:t>春天的景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0" y="401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春回大地，杉树林长出嫩绿的幼芽。没几天绿芽就渐渐地长成草绿色的叶子，最后越长越大，就成了一根根针似的叶子。倘若用手指轻轻地碰一下叶尖，就会觉得像被针刺了一样，生疼生疼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0" y="4019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春回大地，杉树林长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嫩绿的幼芽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。没几天绿芽就渐渐地长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草绿色的叶子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，最后越长越大，就成了一根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针似的叶子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。倘若用手指轻轻地碰一下叶尖，就会觉得像被针刺了一样，生疼生疼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0" y="4019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春回大地，杉树林长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嫩绿的幼芽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。没几天绿芽就渐渐地长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草绿色的叶子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，最后越长越大，就成了一根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针似的叶子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倘若用手指轻轻地碰一下叶尖，就会觉得像被针刺了一样，生疼生疼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19984920040420132548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380880" y="22860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黑体"/>
              </a:rPr>
              <a:t>春天的景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0" y="401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春回大地，杉树林长出嫩绿的幼芽。没几天绿芽就渐渐地长成草绿色的叶子，最后越长越大，就成了一根根针似的叶子。倘若用手指轻轻地碰一下叶尖，就会觉得像被针刺了一样，生疼生疼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0" y="4019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春回大地，杉树林长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嫩绿的幼芽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。没几天绿芽就渐渐地长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草绿色的叶子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，最后越长越大，就成了一根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针似的叶子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。倘若用手指轻轻地碰一下叶尖，就会觉得像被针刺了一样，生疼生疼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0" y="4038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春回大地，杉树林长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嫩绿的幼芽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。没几天绿芽就渐渐地长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草绿色的叶子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，最后越长越大，就成了一根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针似的叶子</a:t>
            </a:r>
            <a:r>
              <a:rPr b="1" lang="zh-CN" sz="3600" spc="-1" strike="noStrike">
                <a:solidFill>
                  <a:srgbClr val="002a00"/>
                </a:solidFill>
                <a:latin typeface="Arial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倘若用手指轻轻地碰一下叶尖，就会觉得像被针刺了一样，生疼生疼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7"/>
          <p:cNvSpPr/>
          <p:nvPr/>
        </p:nvSpPr>
        <p:spPr>
          <a:xfrm>
            <a:off x="152280" y="1676520"/>
            <a:ext cx="2667240" cy="1828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3200400" y="1600200"/>
            <a:ext cx="2666880" cy="1828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6324480" y="1676520"/>
            <a:ext cx="2514600" cy="1752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380880" y="2286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黑体"/>
              </a:rPr>
              <a:t>春天   快乐的杉树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0" y="1905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2a00"/>
                </a:solidFill>
                <a:latin typeface="Arial"/>
                <a:ea typeface="楷体_GB2312"/>
              </a:rPr>
              <a:t>我和小伙伴一放学，就到杉树林里做游戏。玩累了，就用一根草绳系在两棵树的技干上荡秋千。因为顽皮，我们常受大人的责骂。但我们毫不在意，还是自顾自地荡秋千玩。大人们见多了也就不管了，有时还带着牙牙学语的娃娃来观看。这时我们的劲头更大了。当然我们也吃尽了苦头。大伙儿轮流荡秋千，有时会把草绳磨断。于是我们不是摔个仰面朝天，就是来个“小狗吃屎”。摔一下屁股就会疼上两三天。但过后还是照样荡秋千，毫不在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0" y="1905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2a00"/>
                </a:solidFill>
                <a:latin typeface="Arial"/>
                <a:ea typeface="楷体_GB2312"/>
              </a:rPr>
              <a:t>我和小伙伴一放学，就到杉树林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做游戏</a:t>
            </a:r>
            <a:r>
              <a:rPr b="1" lang="zh-CN" sz="3200" spc="-1" strike="noStrike">
                <a:solidFill>
                  <a:srgbClr val="002a00"/>
                </a:solidFill>
                <a:latin typeface="Arial"/>
                <a:ea typeface="楷体_GB2312"/>
              </a:rPr>
              <a:t>。玩累了，就用一根草绳系在两棵树的技干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荡秋千</a:t>
            </a:r>
            <a:r>
              <a:rPr b="1" lang="zh-CN" sz="3200" spc="-1" strike="noStrike">
                <a:solidFill>
                  <a:srgbClr val="002a00"/>
                </a:solidFill>
                <a:latin typeface="Arial"/>
                <a:ea typeface="楷体_GB2312"/>
              </a:rPr>
              <a:t>。因为顽皮，我们常受大人的责骂。但我们毫不在意，还是自顾自地荡秋千玩。大人们见多了也就不管了，有时还带着牙牙学语的娃娃来观看。这时我们的劲头更大了。当然我们也吃尽了苦头。大伙儿轮流荡秋千，有时会把草绳磨断。于是我们不是摔个仰面朝天，就是来个“小狗吃屎”。摔一下屁股就会疼上两三天。但过后还是照样荡秋千，毫不在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914400" y="3429000"/>
            <a:ext cx="79246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152280" y="3886200"/>
            <a:ext cx="8458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76320" y="4419720"/>
            <a:ext cx="8458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76320" y="4876920"/>
            <a:ext cx="8458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76320" y="5410080"/>
            <a:ext cx="8458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76320" y="5867280"/>
            <a:ext cx="8458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152280" y="6324480"/>
            <a:ext cx="8458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152280" y="6858000"/>
            <a:ext cx="3962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380880" y="2286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黑体"/>
              </a:rPr>
              <a:t>春天   快乐的杉树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0" y="19051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2a00"/>
                </a:solidFill>
                <a:latin typeface="Arial"/>
                <a:ea typeface="楷体_GB2312"/>
              </a:rPr>
              <a:t>我和小伙伴一放学，就到杉树林里做游戏。玩累了，就用一根草绳系在两棵树的技干上荡秋千。因为（   ），我们常受大人的责骂。但我们 （      ），还是（       ）地荡秋千玩。大人们见多了也就（    ），有时还 （     ）。这时我们的劲头（      ）。当然我们也（        ）。大伙儿 （  ），有时（    ）。于是我们不是（      ），就是来个“（        ）”。摔一下，屁股（          ）。但过后（            ），（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Bonny</cp:lastModifiedBy>
  <dcterms:modified xsi:type="dcterms:W3CDTF">2015-10-18T16:19:05Z</dcterms:modified>
  <cp:revision>2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