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542-6AF3-44C7-95E0-66A4E1EE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317-4E38-404C-ACE0-2EB26F19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10F-258D-4AFB-B531-3929210D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778-606D-4931-85CC-415925A3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418-DAB0-4E7B-9D76-A7FF22F2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A9E-E62B-45F8-97EC-7D0489CE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1F34-3D45-42CB-BAA7-C4228E15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067-646E-4DFF-A9D5-E6FD4D14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9C5-BBCF-4392-8EDF-9CB5D6E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A46-0899-4CCD-8B73-5B7FC6A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FF8-F24D-43E6-A171-D752F73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AF0-63CC-49B1-9C9F-6570355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9A56-0625-43B5-A9C2-DF28B3317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859280" y="47703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古代生物的遗体、遗物或遗迹藏在地下变成的跟石头一样的东西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5817249_122918468107_2"/>
          <p:cNvPicPr/>
          <p:nvPr/>
        </p:nvPicPr>
        <p:blipFill>
          <a:blip r:embed="rId1"/>
          <a:srcRect l="0" t="0" r="0" b="11717"/>
          <a:stretch/>
        </p:blipFill>
        <p:spPr>
          <a:xfrm>
            <a:off x="4284720" y="476280"/>
            <a:ext cx="4465440" cy="318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2008102414541370_2"/>
          <p:cNvPicPr/>
          <p:nvPr/>
        </p:nvPicPr>
        <p:blipFill>
          <a:blip r:embed="rId2"/>
          <a:srcRect l="0" t="0" r="0" b="7046"/>
          <a:stretch/>
        </p:blipFill>
        <p:spPr>
          <a:xfrm>
            <a:off x="395280" y="3429000"/>
            <a:ext cx="439272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907920"/>
            <a:ext cx="3744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化石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6703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澎湃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读音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pai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词释义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浪相互冲击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申为冲击。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波相击等声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声势浩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17760" y="2589840"/>
            <a:ext cx="3774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晌午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读音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ǎng wǔ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词释义：正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4266000"/>
            <a:ext cx="807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读音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词释义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节；详情。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密完备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反义词：简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者向我们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琥珀的（             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          ）琥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琥珀的（              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个方面作了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琥珀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0" y="333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说说你所看到的琥珀是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6000" y="1341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81200" y="907920"/>
            <a:ext cx="7823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1042920" y="692280"/>
            <a:ext cx="1513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116000" y="155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84360" y="981000"/>
            <a:ext cx="712764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默读课文，找一找，课文哪小节描写了琥珀的样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826920" y="414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556000" y="2997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55640" y="384660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课文是如何描写这块琥珀的样子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195640" y="530064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258920" y="52704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这小节不但介绍了琥珀的外形，后半部分还介绍了琥珀的价值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116000" y="1341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81200" y="907920"/>
            <a:ext cx="7823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那块透明的琥珀里面，两个小东西仍旧好好地趴着。我们可以看见它们身上的每一根毫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以想象它们当时在黏稠的松脂里怎样挣扎，因为它们的腿的四周显出好几圈黑色的圆环。从那块琥珀里，我们可以推测发生在一万年前的故事，并且可以知道，在远古时代，世界上早已有那样的苍蝇和蜘蛛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411280" y="3933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推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16000" y="1341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1371600"/>
            <a:ext cx="76964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词语辨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那块琥珀里，我们可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推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生在一万年前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那块琥珀里，我们可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猜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生在一万年前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781200" y="907920"/>
            <a:ext cx="78231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那透明的琥珀里面，两个小东西仍旧好好地趴着。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身上的每一根毫毛，还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想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当时在黏稠的松脂里怎样挣扎，因为它们的腿的四周显出好几圈黑色的圆环。从那块琥珀里，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推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生在一万年前的故事，并且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在远古时代，世界上早已有那样的苍蝇和蜘蛛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16000" y="134136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81200" y="907920"/>
            <a:ext cx="7823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900000" y="692280"/>
            <a:ext cx="100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16000" y="155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6920" y="170028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组讨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这小节对琥珀外形、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描写好在哪里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187280" y="2852640"/>
            <a:ext cx="66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“趴着”（动词准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一根毫毛”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观察仔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“看见、想象、推测、知道”这几个词能否交换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能。因为先看见，才能联想，才能根据作者已经掌握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知识进行推测，最后知道结果。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词语与都是写人的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感觉和思维，用得十分正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齐读，并指导背诵方法。（具体内容、表示顺序的关键词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语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971640" y="2053440"/>
            <a:ext cx="6985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4"/>
          <p:cNvSpPr txBox="1"/>
          <p:nvPr/>
        </p:nvSpPr>
        <p:spPr>
          <a:xfrm>
            <a:off x="900000" y="692280"/>
            <a:ext cx="100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95280" y="134136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学习琥珀的形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文中从哪里到哪里是讲这块琥珀的形成经过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050920" y="3357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然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826920" y="4221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读读这几段话，说说琥珀的形成需要经过哪两个阶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835280" y="5084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形成松脂球  </a:t>
            </a:r>
            <a:r>
              <a:rPr b="1" lang="zh-CN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变为化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971640" y="2053440"/>
            <a:ext cx="6985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900000" y="692280"/>
            <a:ext cx="100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95280" y="134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结合课文内容，想想松脂球的形成需要哪些条件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11280" y="2060640"/>
            <a:ext cx="7704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晌午的阳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们知道，要形成琥珀，必须具备的第二个条件就是要有松脂，而要有松脂必须要有强烈的阳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同学们再找找看，文中有几处是描写太阳的，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划出，气温发生了怎样的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三处：①太阳暖暖地照着，②太阳照得火热，③晌午的太阳光热辣辣地照射着整个树林。气温的变化通过“暖暖”“火热”“热辣辣”可以看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苍蝇、蜘蛛在一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9640" y="50846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5867280" y="537372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867280" y="5445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琥珀可以做装饰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00000" y="69228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69228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1258376382PhZ1"/>
          <p:cNvPicPr/>
          <p:nvPr/>
        </p:nvPicPr>
        <p:blipFill>
          <a:blip r:embed="rId2"/>
          <a:stretch/>
        </p:blipFill>
        <p:spPr>
          <a:xfrm>
            <a:off x="5364000" y="1341360"/>
            <a:ext cx="3529080" cy="388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fab3ac11ba29976aca80c4eb"/>
          <p:cNvPicPr/>
          <p:nvPr/>
        </p:nvPicPr>
        <p:blipFill>
          <a:blip r:embed="rId3"/>
          <a:stretch/>
        </p:blipFill>
        <p:spPr>
          <a:xfrm>
            <a:off x="179280" y="1341360"/>
            <a:ext cx="5113440" cy="388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250920" y="562644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松柏树脂的一种化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琥珀大多呈浅黄色，也有褐色或红褐色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1042920" y="54936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琥珀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71640" y="249228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de10ad8f56fbe9c9f11f36c1[1]"/>
          <p:cNvPicPr/>
          <p:nvPr/>
        </p:nvPicPr>
        <p:blipFill>
          <a:blip r:embed="rId1"/>
          <a:stretch/>
        </p:blipFill>
        <p:spPr>
          <a:xfrm>
            <a:off x="4500720" y="549360"/>
            <a:ext cx="4392360" cy="5832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324000" y="1557360"/>
            <a:ext cx="410364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）厚厚的松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重重包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松脂继续滴下来”也是一个必不可少的条件。必须有，如果就那么一滴，俩家伙目标一致，没准儿还能挣扎出来。如果不重重包裹也许无法形成球，球太小了，也许经不起几千年几万年时间的腐化、风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创设情境"/>
          <p:cNvPicPr/>
          <p:nvPr/>
        </p:nvPicPr>
        <p:blipFill>
          <a:blip r:embed="rId2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6"/>
          <p:cNvSpPr txBox="1"/>
          <p:nvPr/>
        </p:nvSpPr>
        <p:spPr>
          <a:xfrm>
            <a:off x="900000" y="692280"/>
            <a:ext cx="100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13381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547640" y="27082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11280" y="1197000"/>
            <a:ext cx="79912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住重点语句去理解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家把形成松脂球的必需条件都找到了。作者对它们的交叉描述，使得故事情节不但合情合理，而且生动有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现在请大家默读这部分内容，找找看，哪些地方写得好，好在哪里？小组讨论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①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展开”“飞舞”“穿过”“飞进”这几个词，把小苍蝇的快乐劲儿写出来了。“伸”“掸”“拂拭”等词，写出了小苍蝇丧失了警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者把蜘蛛写活了，“慢慢地”“小心地”，简直是鬼鬼祟祟，偷偷摸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前三个小节衔接得非常紧，太阳暖，苍蝇才会出来飞，闻到香，才会飞进松树林，飞累了，想歇会儿，它歇了，蜘蛛乘机想吃掉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④ 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苍蝇不能掸翅膀了，蜘蛛也不再想什么美餐了”，这句话很幽默，这两个家伙太可怜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6"/>
          <p:cNvSpPr txBox="1"/>
          <p:nvPr/>
        </p:nvSpPr>
        <p:spPr>
          <a:xfrm>
            <a:off x="900000" y="692280"/>
            <a:ext cx="100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习课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195640" y="112536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宋体"/>
              </a:rPr>
              <a:t>变成化石的条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62120" y="23623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文鼎霹雳体"/>
                <a:ea typeface="文鼎霹雳体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文鼎霹雳体"/>
                <a:ea typeface="文鼎霹雳体"/>
              </a:rPr>
              <a:t>、时间漫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572000" y="23493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文鼎霹雳体"/>
                <a:ea typeface="文鼎霹雳体"/>
              </a:rPr>
              <a:t>2</a:t>
            </a:r>
            <a:r>
              <a:rPr b="0" lang="zh-CN" sz="4000" spc="-1" strike="noStrike">
                <a:solidFill>
                  <a:srgbClr val="ff9900"/>
                </a:solidFill>
                <a:latin typeface="文鼎霹雳体"/>
                <a:ea typeface="文鼎霹雳体"/>
              </a:rPr>
              <a:t>、陆沉水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3808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文鼎霹雳体"/>
                <a:ea typeface="文鼎霹雳体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文鼎霹雳体"/>
                <a:ea typeface="文鼎霹雳体"/>
              </a:rPr>
              <a:t>、松树腐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7200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文鼎霹雳体"/>
                <a:ea typeface="文鼎霹雳体"/>
              </a:rPr>
              <a:t>4</a:t>
            </a:r>
            <a:r>
              <a:rPr b="0" lang="zh-CN" sz="4000" spc="-1" strike="noStrike">
                <a:solidFill>
                  <a:srgbClr val="00ff00"/>
                </a:solidFill>
                <a:latin typeface="文鼎霹雳体"/>
                <a:ea typeface="文鼎霹雳体"/>
              </a:rPr>
              <a:t>、泥沙掩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1700280"/>
            <a:ext cx="84247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大滴松脂滴下来，正巧把它们一齐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里面。松脂继续滴下来，积成松脂球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苍蝇和蜘蛛正好在一起，挨得非常近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松脂球变成化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很长时间，被埋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泥沙里面。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热的夏天，阳光强烈老松树渗出松脂。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250920" y="836640"/>
            <a:ext cx="684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请把琥珀形成的四个条件，按先后顺序重新排列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028000" y="486900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667640" y="2997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380360" y="2276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059280" y="42210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68360" y="13381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547640" y="270828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71640" y="1989000"/>
            <a:ext cx="698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万年难得一见的，同时包裹着两个小生物的琥珀，被幸运的渔民及他的儿子发现了。下面，请两位同学有感情地朗读这一部分的内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位同学扮演儿子，一位同学扮演爸爸，其他同学朗读旁白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6"/>
          <p:cNvSpPr txBox="1"/>
          <p:nvPr/>
        </p:nvSpPr>
        <p:spPr>
          <a:xfrm>
            <a:off x="971640" y="620640"/>
            <a:ext cx="136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分角色朗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4360" y="1197000"/>
            <a:ext cx="7823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那透明的琥珀里面，两个小东西仍旧好好地趴着。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身上的每一根毫毛，还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想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们当时在黏稠的松脂里怎样挣扎，因为它们的腿的四周显出好几圈黑色的圆环。从那块琥珀里，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推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生在一万年前的故事，并且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在远古时代，世界上早已有那样的苍蝇和蜘蛛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>
            <a:off x="1042920" y="595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仿写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WordArt 2" descr=""/>
          <p:cNvPicPr/>
          <p:nvPr/>
        </p:nvPicPr>
        <p:blipFill>
          <a:blip r:embed="rId1"/>
          <a:stretch/>
        </p:blipFill>
        <p:spPr>
          <a:xfrm>
            <a:off x="1536840" y="755640"/>
            <a:ext cx="5748120" cy="145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恐龙脚印化石"/>
          <p:cNvPicPr/>
          <p:nvPr/>
        </p:nvPicPr>
        <p:blipFill>
          <a:blip r:embed="rId2"/>
          <a:stretch/>
        </p:blipFill>
        <p:spPr>
          <a:xfrm>
            <a:off x="2771640" y="2565360"/>
            <a:ext cx="331308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恐龙脚印化石2"/>
          <p:cNvPicPr/>
          <p:nvPr/>
        </p:nvPicPr>
        <p:blipFill>
          <a:blip r:embed="rId1"/>
          <a:stretch/>
        </p:blipFill>
        <p:spPr>
          <a:xfrm>
            <a:off x="250920" y="2852640"/>
            <a:ext cx="3887640" cy="332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甘肃永靖"/>
          <p:cNvPicPr/>
          <p:nvPr/>
        </p:nvPicPr>
        <p:blipFill>
          <a:blip r:embed="rId2"/>
          <a:stretch/>
        </p:blipFill>
        <p:spPr>
          <a:xfrm>
            <a:off x="250920" y="115920"/>
            <a:ext cx="3887640" cy="331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hicheng7-2"/>
          <p:cNvPicPr/>
          <p:nvPr/>
        </p:nvPicPr>
        <p:blipFill>
          <a:blip r:embed="rId3"/>
          <a:stretch/>
        </p:blipFill>
        <p:spPr>
          <a:xfrm>
            <a:off x="5940360" y="1989000"/>
            <a:ext cx="3079800" cy="41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20044269594"/>
          <p:cNvPicPr/>
          <p:nvPr/>
        </p:nvPicPr>
        <p:blipFill>
          <a:blip r:embed="rId4"/>
          <a:stretch/>
        </p:blipFill>
        <p:spPr>
          <a:xfrm>
            <a:off x="4500720" y="115920"/>
            <a:ext cx="2624040" cy="390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900000" y="6237360"/>
            <a:ext cx="24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甘肃永靖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219640" y="6237360"/>
            <a:ext cx="24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英国斯凯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24000" y="3213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甘肃永靖县首次发现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个恐龙脚印化石。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＿＿＿＿＿＿＿＿＿＿＿＿＿＿＿＿＿＿。还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想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时＿＿＿＿＿＿＿＿＿＿＿＿＿＿＿＿。从这些脚印里，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推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生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年前的故事，并且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这儿曾经是＿＿＿＿＿＿＿＿＿＿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甘肃永靖"/>
          <p:cNvPicPr/>
          <p:nvPr/>
        </p:nvPicPr>
        <p:blipFill>
          <a:blip r:embed="rId1"/>
          <a:stretch/>
        </p:blipFill>
        <p:spPr>
          <a:xfrm>
            <a:off x="755640" y="404640"/>
            <a:ext cx="3456000" cy="2764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恐龙脚印化石2"/>
          <p:cNvPicPr/>
          <p:nvPr/>
        </p:nvPicPr>
        <p:blipFill>
          <a:blip r:embed="rId2"/>
          <a:stretch/>
        </p:blipFill>
        <p:spPr>
          <a:xfrm>
            <a:off x="4859280" y="404640"/>
            <a:ext cx="3600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95280" y="3068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英国科学家在英国斯凯岛上发现了一组罕见的母子恐龙脚印化石。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看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些脚印＿＿＿＿＿＿＿＿＿＿＿＿＿＿＿。还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想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当时＿＿＿＿＿＿＿＿＿＿＿＿＿＿＿＿。从这组脚印里，我们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推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生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年前的故事，并且可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hicheng7-2"/>
          <p:cNvPicPr/>
          <p:nvPr/>
        </p:nvPicPr>
        <p:blipFill>
          <a:blip r:embed="rId1"/>
          <a:stretch/>
        </p:blipFill>
        <p:spPr>
          <a:xfrm>
            <a:off x="5003640" y="476280"/>
            <a:ext cx="2735280" cy="244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20044269594"/>
          <p:cNvPicPr/>
          <p:nvPr/>
        </p:nvPicPr>
        <p:blipFill>
          <a:blip r:embed="rId2"/>
          <a:stretch/>
        </p:blipFill>
        <p:spPr>
          <a:xfrm>
            <a:off x="1332000" y="476280"/>
            <a:ext cx="2879640" cy="25210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>
            <a:hlinkClick r:id="" action="ppaction://hlinkshowjump?jump=previous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2788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762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68360" y="620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植物或动物因陷进某种物质而与空气隔离，尸体不腐，从而产生活生生的化石。琥珀就是其中的一种。琥珀看起来很像透明的黄色塑料，实际上，它是树流出的粘稠的树脂长期与空气接触而变硬，最后与死树一道被埋进泥土里，几百万年之后变成的化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5076720" y="2997360"/>
            <a:ext cx="3353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琥珀与化石的关系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、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Picture 5" descr="琥珀14"/>
          <p:cNvPicPr/>
          <p:nvPr/>
        </p:nvPicPr>
        <p:blipFill>
          <a:blip r:embed="rId1"/>
          <a:stretch/>
        </p:blipFill>
        <p:spPr>
          <a:xfrm>
            <a:off x="4959360" y="58104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琥珀15"/>
          <p:cNvPicPr/>
          <p:nvPr/>
        </p:nvPicPr>
        <p:blipFill>
          <a:blip r:embed="rId2"/>
          <a:stretch/>
        </p:blipFill>
        <p:spPr>
          <a:xfrm>
            <a:off x="5003640" y="4005360"/>
            <a:ext cx="346716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琥珀19"/>
          <p:cNvPicPr/>
          <p:nvPr/>
        </p:nvPicPr>
        <p:blipFill>
          <a:blip r:embed="rId1"/>
          <a:stretch/>
        </p:blipFill>
        <p:spPr>
          <a:xfrm>
            <a:off x="0" y="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昆虫琥珀化石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昆虫琥珀化石2"/>
          <p:cNvPicPr/>
          <p:nvPr/>
        </p:nvPicPr>
        <p:blipFill>
          <a:blip r:embed="rId3"/>
          <a:stretch/>
        </p:blipFill>
        <p:spPr>
          <a:xfrm>
            <a:off x="0" y="3403440"/>
            <a:ext cx="4572000" cy="34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昆虫琥珀化石3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昆虫琥珀化石4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昆虫琥珀化石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昆虫琥珀化石6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昆虫琥珀化石8"/>
          <p:cNvPicPr/>
          <p:nvPr/>
        </p:nvPicPr>
        <p:blipFill>
          <a:blip r:embed="rId4"/>
          <a:stretch/>
        </p:blipFill>
        <p:spPr>
          <a:xfrm>
            <a:off x="4572000" y="342900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琥珀饰品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琥珀饰品2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琥珀饰品4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琥珀饰品3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743200" y="237636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珀饰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5950080"/>
            <a:ext cx="684072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选自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德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柏吉尔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乌拉波拉故事集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91138622714c2be7d7cae2f3[1]"/>
          <p:cNvPicPr/>
          <p:nvPr/>
        </p:nvPicPr>
        <p:blipFill>
          <a:blip r:embed="rId1"/>
          <a:stretch/>
        </p:blipFill>
        <p:spPr>
          <a:xfrm>
            <a:off x="179280" y="620640"/>
            <a:ext cx="6985080" cy="511344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7451640" y="765000"/>
            <a:ext cx="1224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奇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异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的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琥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珀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2042640"/>
            <a:ext cx="81374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默读课文，画出本课生字多读几遍，理解生字组成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块琥珀是什么样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这块琥珀有什么科学价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创设情境"/>
          <p:cNvPicPr/>
          <p:nvPr/>
        </p:nvPicPr>
        <p:blipFill>
          <a:blip r:embed="rId1"/>
          <a:srcRect l="0" t="0" r="70734" b="0"/>
          <a:stretch/>
        </p:blipFill>
        <p:spPr>
          <a:xfrm>
            <a:off x="250920" y="549360"/>
            <a:ext cx="649080" cy="609480"/>
          </a:xfrm>
          <a:prstGeom prst="rect">
            <a:avLst/>
          </a:prstGeom>
          <a:ln w="0">
            <a:noFill/>
          </a:ln>
        </p:spPr>
      </p:pic>
      <p:sp>
        <p:nvSpPr>
          <p:cNvPr id="81" name="WordArt 3"/>
          <p:cNvSpPr txBox="1"/>
          <p:nvPr/>
        </p:nvSpPr>
        <p:spPr>
          <a:xfrm>
            <a:off x="900000" y="692280"/>
            <a:ext cx="115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检查预习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55640" y="1773360"/>
            <a:ext cx="756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琥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珀（    ）      松脂（      ）       拂拭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飒飒（     ）地响          渗（       ）出      包裹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掸（       ）翅膀           详（          ）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黏（       ）稠（        ）          澎（         ）湃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700360" y="981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679840" y="625320"/>
            <a:ext cx="59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03280" y="17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627280" y="1700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716360" y="17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zh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7020000" y="1773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692360" y="28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427640" y="285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h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7093080" y="2852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u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403280" y="39337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4427640" y="3933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403280" y="5084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843280" y="5013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292720" y="501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7093080" y="5013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08-08T15:01:29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