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58B-16EE-46D1-A12D-A5205C06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495-DA1E-4135-A401-7AB92387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80E-B1F0-4682-973F-36338CF3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427-8304-4729-921E-3528AB71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D90-673A-4A5E-B1AE-A53D05FE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0B7-34EC-4EA0-A539-CE465CC4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E80-70AF-4A10-A10C-79F35121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C8A-FCB7-42FB-AF30-09CCF3A9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CBA-B889-4CA6-A364-CA5D33A4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031-04C6-4A42-BF7D-78C96DD6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8D8-4457-47DD-BB53-CCAD6F44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C8C-C380-4B05-9D38-8C60A5A3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83F4-5DCA-4A99-9F14-0AF15706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ewbh.cn/oblog/u/wangying/archives/2007/701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1916280"/>
            <a:ext cx="626436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瑞恩的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排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"/>
          <p:cNvPicPr/>
          <p:nvPr/>
        </p:nvPicPr>
        <p:blipFill>
          <a:blip r:embed="rId1"/>
          <a:srcRect l="0" t="0" r="0" b="1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70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5181256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0" t="0" r="0" b="1667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0" t="0" r="0" b="14445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0" t="0" r="0" b="14445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抱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瑞恩的井”基金会已经为非洲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个国家建造了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口井。这个普通的男孩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被人称为“加拿大的灵魂”，影响着越来越多的人去爱和帮助他们。“相信你的梦想”这是瑞恩经常说的一句话。他以自己的行动告诉人们，“世界是个相互联系的拼图，让世界拥有洁净的水，每个人都应走出去发现自己的热情，为梦想而努力。”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日，他接受了加拿大总督克拉克森颁发的国家荣誉勋章，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月，他作为加拿大的唯一入选者，被评为“北美洲十大少年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333360"/>
            <a:ext cx="864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208296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募捐　   额外　  爽快　  奖励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泵　   登载　  羞怯　  酷热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24000" y="0"/>
            <a:ext cx="237636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9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242100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411280" y="2349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84720" y="2421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u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659640" y="220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4360" y="40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049560" y="41497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ǎ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219640" y="40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804000" y="407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8360" y="98100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79280" y="907920"/>
            <a:ext cx="896472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个六岁的孩子，凭着坚强的毅力，朝着目标不断努力，终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以行动感动了世界！你有什么心里话想对远在加拿大的瑞恩说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以：当别人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瑞恩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句式写出你对瑞恩的敬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 rot="337800">
            <a:off x="304560" y="0"/>
            <a:ext cx="4356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要写一写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79280" y="333360"/>
            <a:ext cx="8964720" cy="67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理清文章思路，理解故事内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学习通过人物语言，行为描写的句子体会人物的精神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了解我们生存的世界，勇于承担社会责任和义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79280" y="333360"/>
            <a:ext cx="864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00000" y="2133720"/>
            <a:ext cx="6840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你从课文中了解了非洲的哪些情况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课文讲了几件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0" y="0"/>
            <a:ext cx="2736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来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9280" y="333360"/>
            <a:ext cx="864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227664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快速浏览全文，说说瑞恩的梦想是什么？ 瑞恩为实现自己的梦想都做了些什么？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324000" y="0"/>
            <a:ext cx="237636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9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来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189080" y="1052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79280" y="333360"/>
            <a:ext cx="864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620640"/>
            <a:ext cx="838836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默读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找出描写瑞恩言行的句子读一读，说说他是一个怎样的孩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文中还有一个人令人佩服，说说你对这个人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6408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1628640"/>
            <a:ext cx="91440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  “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我希望非洲每个人都能喝上干净的水。”这句话在文中出现了两次，想一想这句话有什么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 rot="236400">
            <a:off x="395280" y="259920"/>
            <a:ext cx="36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2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合作讨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2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79280" y="333360"/>
            <a:ext cx="864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0920" y="1052640"/>
            <a:ext cx="820872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     “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瑞恩的井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为了这个痛苦的社会。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说说乌干达人为什么要在井上刻这句话？这句话有什么含义？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08-08T15:04:55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