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explode.wav" ContentType="audio/x-wav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8A09-6450-4B63-A220-3EB96DF7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10B3-4A92-47A3-9168-FE6AED6C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2D4A-A28A-4B0E-8845-863FE176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CF5-AE8F-407C-99CF-50438FA7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335D-A3E6-402C-AAEA-7D58BECF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F818-32BD-4E6D-AB78-A5EC8526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FDB6-2403-40F2-8DC0-C1D5AF2D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9AEF-348B-4F30-990A-2E697304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0CF3-6CAA-4EAD-9A01-9076455D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65A5-9250-4DEB-9F40-026025DA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C6A0-51F8-4810-99C7-E85DC25B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9BB3-0E80-4DD6-A18B-CF34F640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B8C5-960D-4FC0-83B8-930D659A2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900000" y="2708280"/>
            <a:ext cx="672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楷体"/>
                <a:ea typeface="楷体"/>
              </a:rPr>
              <a:t>4﹡</a:t>
            </a:r>
            <a:r>
              <a:rPr b="1" lang="zh-CN" sz="6000" spc="-1" strike="noStrike">
                <a:solidFill>
                  <a:srgbClr val="ff00ff"/>
                </a:solidFill>
                <a:latin typeface="楷体"/>
                <a:ea typeface="楷体"/>
              </a:rPr>
              <a:t>天上偷来的火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"/>
          <p:cNvSpPr/>
          <p:nvPr/>
        </p:nvSpPr>
        <p:spPr>
          <a:xfrm>
            <a:off x="1116000" y="-747720"/>
            <a:ext cx="6985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品读句子，体会人物形象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细读感悟"/>
          <p:cNvPicPr/>
          <p:nvPr/>
        </p:nvPicPr>
        <p:blipFill>
          <a:blip r:embed="rId1"/>
          <a:stretch/>
        </p:blipFill>
        <p:spPr>
          <a:xfrm>
            <a:off x="-324000" y="-171360"/>
            <a:ext cx="2105280" cy="647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539640" y="191628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很久很久以前，人间还没有火，人类的生活非常困苦。</a:t>
            </a:r>
            <a:r>
              <a:rPr b="1" lang="zh-CN" sz="3600" spc="-1" strike="noStrike" u="sng">
                <a:solidFill>
                  <a:srgbClr val="6600cc"/>
                </a:solidFill>
                <a:uFillTx/>
                <a:latin typeface="Arial"/>
              </a:rPr>
              <a:t>没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火烧烤食物，</a:t>
            </a:r>
            <a:r>
              <a:rPr b="1" lang="zh-CN" sz="3600" spc="-1" strike="noStrike" u="sng">
                <a:solidFill>
                  <a:srgbClr val="009999"/>
                </a:solidFill>
                <a:uFillTx/>
                <a:latin typeface="Arial"/>
              </a:rPr>
              <a:t>就只好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吃生的东西；</a:t>
            </a:r>
            <a:r>
              <a:rPr b="1" lang="zh-CN" sz="3600" spc="-1" strike="noStrike" u="sng">
                <a:solidFill>
                  <a:srgbClr val="6600cc"/>
                </a:solidFill>
                <a:uFillTx/>
                <a:latin typeface="Arial"/>
              </a:rPr>
              <a:t>没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火来照明，</a:t>
            </a:r>
            <a:r>
              <a:rPr b="1" lang="zh-CN" sz="3600" spc="-1" strike="noStrike" u="sng">
                <a:solidFill>
                  <a:srgbClr val="009999"/>
                </a:solidFill>
                <a:uFillTx/>
                <a:latin typeface="Arial"/>
              </a:rPr>
              <a:t>就只好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在无边的黑暗中，熬过一个又一个漫长的夜晚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>
            <a:off x="1116000" y="-747720"/>
            <a:ext cx="6985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品读句子，体会人物形象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细读感悟"/>
          <p:cNvPicPr/>
          <p:nvPr/>
        </p:nvPicPr>
        <p:blipFill>
          <a:blip r:embed="rId1"/>
          <a:stretch/>
        </p:blipFill>
        <p:spPr>
          <a:xfrm>
            <a:off x="-324000" y="-171360"/>
            <a:ext cx="2105280" cy="647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539640" y="191628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从有了火，人类的生活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发生了想像不到的变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人们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火来烧熟食物，驱寒取暖；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火来冶炼金属，打造生产工具；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还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火来驱赶凶猛的野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581200" y="5444280"/>
            <a:ext cx="43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这段是用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Arial"/>
                <a:ea typeface="楷体_GB2312"/>
              </a:rPr>
              <a:t>先概括，后具体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的表达方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5"/>
          <p:cNvSpPr/>
          <p:nvPr/>
        </p:nvSpPr>
        <p:spPr>
          <a:xfrm>
            <a:off x="1116000" y="-747720"/>
            <a:ext cx="6985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品读句子，体会人物形象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细读感悟"/>
          <p:cNvPicPr/>
          <p:nvPr/>
        </p:nvPicPr>
        <p:blipFill>
          <a:blip r:embed="rId1"/>
          <a:stretch/>
        </p:blipFill>
        <p:spPr>
          <a:xfrm>
            <a:off x="-324000" y="-171360"/>
            <a:ext cx="2105280" cy="647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539640" y="19162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普罗米修斯是个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聪明、勇敢、慈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神。他来到人间以后，看到人类没有火的悲惨情景，心里十分难受。他决心背着宙斯，冒着生命危险，到太阳神阿波罗那里去偷取火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1332000" y="54144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从哪可以看出普罗米修斯是个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聪明、勇敢、慈善的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5"/>
          <p:cNvSpPr/>
          <p:nvPr/>
        </p:nvSpPr>
        <p:spPr>
          <a:xfrm>
            <a:off x="1116000" y="-747720"/>
            <a:ext cx="6985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品读句子，体会人物形象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细读感悟"/>
          <p:cNvPicPr/>
          <p:nvPr/>
        </p:nvPicPr>
        <p:blipFill>
          <a:blip r:embed="rId1"/>
          <a:stretch/>
        </p:blipFill>
        <p:spPr>
          <a:xfrm>
            <a:off x="-324000" y="-171360"/>
            <a:ext cx="2105280" cy="6476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539640" y="191628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当阿波罗驾驶着太阳车，轰隆隆地从天空中驶过的时候，普罗米修斯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飞快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跑到太阳车旁边，从喷射着火焰的车轮上，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悄悄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偷取了一颗火星儿。他的动作是那样的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敏捷、隐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太阳神一点儿也没有觉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1547640" y="567252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楷体_GB2312"/>
              </a:rPr>
              <a:t>聪明、勇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1116000" y="-747720"/>
            <a:ext cx="6985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品读句子，体会人物形象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细读感悟"/>
          <p:cNvPicPr/>
          <p:nvPr/>
        </p:nvPicPr>
        <p:blipFill>
          <a:blip r:embed="rId1"/>
          <a:stretch/>
        </p:blipFill>
        <p:spPr>
          <a:xfrm>
            <a:off x="-324000" y="-171360"/>
            <a:ext cx="2105280" cy="6476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539640" y="162864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普罗米修斯高兴地告诉人们：“这就是火。”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接着，他把火的性质、用途向人们详细地讲述一番。然后，他和人们把一些枯树枝堆在一起，又把从天上偷来的火种投放到枯枝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2627280" y="544392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楷体_GB2312"/>
              </a:rPr>
              <a:t>慈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品读句子，体会人物形象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宙斯得知了普罗米修斯从天上偷走火种的消息，暴跳如雷，决定给普罗米修斯以最严厉的惩罚。他要用沉重的铁链，把普罗米修斯锁在高加索山的悬崖绝壁上，并派火神赫淮斯托斯去执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品读句子，体会人物形象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这是一种多么可怕的刑罚呀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普罗米修斯的双手和双脚都套上了铁环，被死死地锁在悬崖上。他既不能动弹，也不能睡觉，终日遭受着风吹日晒、霜打雨淋的痛苦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狠心的宙斯觉得这样还不解恨，又派上了一只凶恶的鹫鹰，每天站在普罗米修斯的双膝上，用它尖利的嘴巴，啄食他的肝脏。白天，他的肝脏被吃光了，可是一到晚上，肝脏又重新长了出来。第二天早晨，鹫鹰又继续啄食他的肝脏。这样，普罗米修斯所遭受的痛苦，就永远没有止境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楷体_GB2312"/>
              </a:rPr>
              <a:t>这是一种多么可怕的刑罚呀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普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一天，希腊有名的大力英雄赫拉克勒斯在寻找金苹果的时候，经过高加索山。他看到普罗米修斯被锁在悬崖上，心中十分不忍，便挽弓搭箭，射死了那只凶恶的鹫鹰，又用石头砸碎了锁链，放走了普罗米修斯。这位敢于从天上偷取火种的英雄，终于获得了自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5"/>
          <p:cNvSpPr/>
          <p:nvPr/>
        </p:nvSpPr>
        <p:spPr>
          <a:xfrm>
            <a:off x="971640" y="2060640"/>
            <a:ext cx="648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直到现在，希腊人对普罗米修斯仍然十分敬仰，称他是“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人类的大恩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5"/>
          <p:cNvSpPr/>
          <p:nvPr/>
        </p:nvSpPr>
        <p:spPr>
          <a:xfrm>
            <a:off x="539640" y="1628640"/>
            <a:ext cx="77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由朗读课文，要求读准字音，读通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给每个自然段标上序号，找出生字生词，画出不理解的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③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边读边想课文主要写了什么？它是按怎样的顺序来写的？小组同学互相说一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初读感知"/>
          <p:cNvPicPr/>
          <p:nvPr/>
        </p:nvPicPr>
        <p:blipFill>
          <a:blip r:embed="rId1"/>
          <a:stretch/>
        </p:blipFill>
        <p:spPr>
          <a:xfrm>
            <a:off x="0" y="260280"/>
            <a:ext cx="262728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5"/>
          <p:cNvSpPr/>
          <p:nvPr/>
        </p:nvSpPr>
        <p:spPr>
          <a:xfrm>
            <a:off x="900000" y="1557360"/>
            <a:ext cx="648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、普罗米修斯是个怎样的神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、为什么直到现在，希腊人对普罗米修斯仍然十分敬仰，称他是“人类的大恩人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议和说"/>
          <p:cNvPicPr/>
          <p:nvPr/>
        </p:nvPicPr>
        <p:blipFill>
          <a:blip r:embed="rId1"/>
          <a:stretch/>
        </p:blipFill>
        <p:spPr>
          <a:xfrm>
            <a:off x="250920" y="404640"/>
            <a:ext cx="2111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663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朗读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普罗米修斯赞歌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640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谁？让漫漫黑夜跳跃希望的火苗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是谁？让蛮荒时代沐浴文明的曙光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是谁？甘愿触犯天条也要救人类于水火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是谁？深受酷刑却无怨无悔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啊！巨人，是你给人类带来火种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送来光和热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送来人类新的纪元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尽管上天和你蓄意为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――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高山险峻，铁链加身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烈日如火，暴雨如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――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但沉重的铁链只能锁住你的身躯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却怎能锁住那颗坦荡无私的心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难道仅仅是物质的火种吗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不，你给予我们的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是生生不息的精神火种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勇敢　坚强　博爱　无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这就是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―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普罗米修斯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68360" y="3141720"/>
            <a:ext cx="46800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冶炼          惩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读一读"/>
          <p:cNvPicPr/>
          <p:nvPr/>
        </p:nvPicPr>
        <p:blipFill>
          <a:blip r:embed="rId1"/>
          <a:stretch/>
        </p:blipFill>
        <p:spPr>
          <a:xfrm>
            <a:off x="684360" y="189000"/>
            <a:ext cx="1439640" cy="1368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4500720" y="24922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ché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2268360" y="2637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y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理解词语"/>
          <p:cNvPicPr/>
          <p:nvPr/>
        </p:nvPicPr>
        <p:blipFill>
          <a:blip r:embed="rId1"/>
          <a:stretch/>
        </p:blipFill>
        <p:spPr>
          <a:xfrm>
            <a:off x="179280" y="0"/>
            <a:ext cx="2087640" cy="1916280"/>
          </a:xfrm>
          <a:prstGeom prst="rect">
            <a:avLst/>
          </a:prstGeom>
          <a:ln w="0">
            <a:noFill/>
          </a:ln>
        </p:spPr>
      </p:pic>
      <p:sp>
        <p:nvSpPr>
          <p:cNvPr id="49" name="TextBox 10"/>
          <p:cNvSpPr/>
          <p:nvPr/>
        </p:nvSpPr>
        <p:spPr>
          <a:xfrm>
            <a:off x="0" y="2276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争吵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1547640" y="234936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争论吵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3"/>
          <p:cNvSpPr/>
          <p:nvPr/>
        </p:nvSpPr>
        <p:spPr>
          <a:xfrm>
            <a:off x="0" y="328464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愤然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1547640" y="335772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形容气氛发怒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6"/>
          <p:cNvSpPr/>
          <p:nvPr/>
        </p:nvSpPr>
        <p:spPr>
          <a:xfrm>
            <a:off x="2340000" y="414972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形容言行小心谨慎，不敢疏忽大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7"/>
          <p:cNvSpPr/>
          <p:nvPr/>
        </p:nvSpPr>
        <p:spPr>
          <a:xfrm>
            <a:off x="0" y="54450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奇异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8"/>
          <p:cNvSpPr/>
          <p:nvPr/>
        </p:nvSpPr>
        <p:spPr>
          <a:xfrm>
            <a:off x="1619280" y="5516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奇特，特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9"/>
          <p:cNvSpPr/>
          <p:nvPr/>
        </p:nvSpPr>
        <p:spPr>
          <a:xfrm>
            <a:off x="0" y="414972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小心翼翼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理解词语"/>
          <p:cNvPicPr/>
          <p:nvPr/>
        </p:nvPicPr>
        <p:blipFill>
          <a:blip r:embed="rId1"/>
          <a:stretch/>
        </p:blipFill>
        <p:spPr>
          <a:xfrm>
            <a:off x="179280" y="0"/>
            <a:ext cx="2087640" cy="1916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10"/>
          <p:cNvSpPr/>
          <p:nvPr/>
        </p:nvSpPr>
        <p:spPr>
          <a:xfrm>
            <a:off x="0" y="206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篝火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1547640" y="206064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原指用笼子罩着的火，现借指在空旷处或野外架木柴、树枝燃烧的火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0" y="364500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冶炼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1476360" y="37162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用焙烧。熔炼等方法，从矿石中提取出所需要的金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0" y="479736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惩罚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6"/>
          <p:cNvSpPr/>
          <p:nvPr/>
        </p:nvSpPr>
        <p:spPr>
          <a:xfrm>
            <a:off x="1476360" y="4941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处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7"/>
          <p:cNvSpPr/>
          <p:nvPr/>
        </p:nvSpPr>
        <p:spPr>
          <a:xfrm>
            <a:off x="0" y="551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敬仰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8"/>
          <p:cNvSpPr/>
          <p:nvPr/>
        </p:nvSpPr>
        <p:spPr>
          <a:xfrm>
            <a:off x="1547640" y="558972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敬重仰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8"/>
          <p:cNvSpPr/>
          <p:nvPr/>
        </p:nvSpPr>
        <p:spPr>
          <a:xfrm>
            <a:off x="990720" y="129528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课文主要写的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755640" y="270828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468360" y="1981080"/>
            <a:ext cx="773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普罗米修斯盗取火中后所受的残酷惩罚。宙斯让火神把普罗米修斯锁在悬崖上，让他日夜遭受风吹雨淋的痛苦，普罗米修斯毫不屈服；宙斯又派凶恶的鹫鹰啄食普罗米修斯的肝脏，让他的肝脏日食夜长，痛苦没有尽头。普罗米修斯被折磨了许多年，依然没有屈服，直到被大力神所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整体感知"/>
          <p:cNvPicPr/>
          <p:nvPr/>
        </p:nvPicPr>
        <p:blipFill>
          <a:blip r:embed="rId1"/>
          <a:stretch/>
        </p:blipFill>
        <p:spPr>
          <a:xfrm>
            <a:off x="324000" y="333360"/>
            <a:ext cx="334800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8"/>
          <p:cNvSpPr/>
          <p:nvPr/>
        </p:nvSpPr>
        <p:spPr>
          <a:xfrm>
            <a:off x="755640" y="134136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课文是按怎样的顺序来写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755640" y="270828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整体感知"/>
          <p:cNvPicPr/>
          <p:nvPr/>
        </p:nvPicPr>
        <p:blipFill>
          <a:blip r:embed="rId1"/>
          <a:stretch/>
        </p:blipFill>
        <p:spPr>
          <a:xfrm>
            <a:off x="324000" y="333360"/>
            <a:ext cx="3348000" cy="693720"/>
          </a:xfrm>
          <a:prstGeom prst="rect">
            <a:avLst/>
          </a:prstGeom>
          <a:ln w="0">
            <a:noFill/>
          </a:ln>
        </p:spPr>
      </p:pic>
      <p:sp>
        <p:nvSpPr>
          <p:cNvPr id="73" name="TextBox 12"/>
          <p:cNvSpPr/>
          <p:nvPr/>
        </p:nvSpPr>
        <p:spPr>
          <a:xfrm>
            <a:off x="395280" y="2708280"/>
            <a:ext cx="129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生活悲惨，心生怜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2700360" y="278136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偷取火星，藏进茴香枝的空管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5724360" y="2924280"/>
            <a:ext cx="19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遭受折磨，最终获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右箭头 15"/>
          <p:cNvSpPr/>
          <p:nvPr/>
        </p:nvSpPr>
        <p:spPr>
          <a:xfrm>
            <a:off x="1619280" y="3357720"/>
            <a:ext cx="979560" cy="484200"/>
          </a:xfrm>
          <a:prstGeom prst="rightArrow">
            <a:avLst>
              <a:gd name="adj1" fmla="val 50000"/>
              <a:gd name="adj2" fmla="val 501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右箭头 16"/>
          <p:cNvSpPr/>
          <p:nvPr/>
        </p:nvSpPr>
        <p:spPr>
          <a:xfrm>
            <a:off x="4716360" y="335772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8"/>
          <p:cNvSpPr/>
          <p:nvPr/>
        </p:nvSpPr>
        <p:spPr>
          <a:xfrm>
            <a:off x="755640" y="134136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学提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755640" y="270828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细读感悟"/>
          <p:cNvPicPr/>
          <p:nvPr/>
        </p:nvPicPr>
        <p:blipFill>
          <a:blip r:embed="rId1"/>
          <a:stretch/>
        </p:blipFill>
        <p:spPr>
          <a:xfrm>
            <a:off x="324000" y="189000"/>
            <a:ext cx="2879640" cy="850680"/>
          </a:xfrm>
          <a:prstGeom prst="rect">
            <a:avLst/>
          </a:prstGeom>
          <a:ln w="0">
            <a:noFill/>
          </a:ln>
        </p:spPr>
      </p:pic>
      <p:sp>
        <p:nvSpPr>
          <p:cNvPr id="81" name="TextBox 18"/>
          <p:cNvSpPr/>
          <p:nvPr/>
        </p:nvSpPr>
        <p:spPr>
          <a:xfrm>
            <a:off x="611280" y="227664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思考普罗米修斯“为什么盗火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9"/>
          <p:cNvSpPr/>
          <p:nvPr/>
        </p:nvSpPr>
        <p:spPr>
          <a:xfrm>
            <a:off x="611280" y="3213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普罗米修斯是怎样盗火的？他是一个怎样的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2"/>
          <p:cNvSpPr/>
          <p:nvPr/>
        </p:nvSpPr>
        <p:spPr>
          <a:xfrm>
            <a:off x="684360" y="4508640"/>
            <a:ext cx="64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最终的结局是怎样的？说一说为什么直到现在，普罗米修斯仍然被希腊人敬仰，并称他是“人类的大恩人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9"/>
          <p:cNvSpPr/>
          <p:nvPr/>
        </p:nvSpPr>
        <p:spPr>
          <a:xfrm>
            <a:off x="755640" y="270828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细读感悟"/>
          <p:cNvPicPr/>
          <p:nvPr/>
        </p:nvPicPr>
        <p:blipFill>
          <a:blip r:embed="rId1"/>
          <a:stretch/>
        </p:blipFill>
        <p:spPr>
          <a:xfrm>
            <a:off x="324000" y="189000"/>
            <a:ext cx="2879640" cy="850680"/>
          </a:xfrm>
          <a:prstGeom prst="rect">
            <a:avLst/>
          </a:prstGeom>
          <a:ln w="0">
            <a:noFill/>
          </a:ln>
        </p:spPr>
      </p:pic>
      <p:sp>
        <p:nvSpPr>
          <p:cNvPr id="86" name="TextBox 19"/>
          <p:cNvSpPr/>
          <p:nvPr/>
        </p:nvSpPr>
        <p:spPr>
          <a:xfrm>
            <a:off x="468360" y="1341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普罗米修斯是怎样盗火的？他是一个怎样的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611280" y="3068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慈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2050920" y="306864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勇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3348000" y="3068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聪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4716360" y="30686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真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826920" y="386064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畏强暴、勇于献身、甘愿受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bonny</cp:lastModifiedBy>
  <dcterms:modified xsi:type="dcterms:W3CDTF">2015-08-08T15:21:43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