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5.png" ContentType="image/png"/>
  <Override PartName="/ppt/media/image14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7C3E-E800-43FA-A8C7-2E3D7F06FE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F36-D86F-4401-8904-73CCA6010A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D5F2-8CE1-4566-ABB5-84E4B2315C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836-8011-4AF8-AFE3-CC982230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C21-330E-417F-8272-A92FC3B0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A0C-0A17-4D58-B858-61C9D070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3CF-6FFD-4CC3-BD21-C788D572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38C-14C2-47B8-9F53-D6DD8328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A79-4FFC-4AB7-B880-31CE5FB6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B87-148F-43EC-8CEB-120C411E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856-8403-42F7-AB58-6271A63C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BF1-A1C5-4F23-9461-D0ACDF73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643-6AF6-49CB-9E3D-913C73CF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5A6-7C69-42C2-9FC4-23E1D6C3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A62-8879-4543-AF8D-A06E66F2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5141-C889-42B6-A2FE-292DF01073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烟台的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>
            <a:lum bright="-24000"/>
          </a:blip>
          <a:srcRect l="0" t="0" r="0" b="148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81080" y="685800"/>
            <a:ext cx="1971720" cy="619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brigh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468360" y="333360"/>
            <a:ext cx="3433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到巨浪拍岸的日子，许多烟台人和外地的游客，纷纷顶着寒风跑到岸边，观赏这蔚为壮观的景象。还有的不顾被浪花打湿衣服，站在岸边，以那数丈高的浪花作背景拍照留念，形成一道壮丽的风景线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rcRect l="0" t="0" r="0" b="654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07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60000"/>
                </a:solidFill>
                <a:latin typeface="Arial"/>
              </a:rPr>
              <a:t>　　　作者以“小山”相喻，写出了涌浪外观的高、大；以“千万头暴怒的狮子”相比，突出了涌浪来势之凶、场面之大；以溅起的浪花“数丈高” 、“竟把岸边数百斤重的石凳掀到十几米远的马路中央”，写出了涌浪力量之巨大。紧接着，作者写了被涌浪吸引过来的游人。游人中不仅有烟台本地人，还有外地的游客，他们全然不顾刺骨的寒风，“纷纷顶着寒风跑到岸边”，“还有的不顾被浪花打湿衣服，站在岸边”“拍照留念”，他们的行动充分说明他们已经深深地为大自然壮观的景象所折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67280" y="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cover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430200"/>
            <a:ext cx="332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，海水变得绿莹莹的。微波泛起，一道道白色的浪花，从北面遥远的地平线嬉笑着追逐着奔向岸边，刚一触摸到岸边的礁石、沙滩，又害羞似的退了回去，然后又扑了上来，像个顽皮的孩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>
            <a:alphaModFix amt="17000"/>
          </a:blip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>
            <a:lum bright="84000"/>
          </a:blip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9079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，来自南太平洋的风使许多南面临海的城市感到湿漉漉的，而这股带着潮气的风经过胶东半岛崇山峻岭的阻拦、过滤、到达北面临海的烟台时，只剩下凉爽和惬意。因此，夏日烟台的海常常水平如镜，宛如一个恬静、温柔的少女。清晨，太阳像被水冲洗过的红色气球，飘飘悠地浮出水面，海面上拖着长长的倒影，每一次的海边日出都使人如痴如醉。傍晚，平静的海面倒影着万家灯火，岸边的石凳上坐满了游人，他们脚下，是海浪与堤岸的呢喃细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4140360" cy="3500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出夏日的浪漫，烟台的海步入秋天的高远。久居这座城市的人都有这样的体验，一到立秋这天，海水立刻变得格外湛蓝，天空也显得格外明朗，较之昨日，空气中立刻就有了秋的凉意。告别了冬日的凝重，春日的轻盈，夏日的浪漫，秋天的海平添了几分充实与忙碌，渔家驾船出海了，货轮起锚远航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84720" y="333360"/>
            <a:ext cx="4859280" cy="6264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>
            <a:alphaModFix amt="17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260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烟台的海，是一幅画，是一道广阔的背景，是一座壮丽的舞台。世世代代的烟台人在这里上演着威武雄壮的活剧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284640"/>
            <a:ext cx="8604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说是“画”，是因为它像“画”一样美丽多姿；说是“广阔的背景”，是因为它是烟台人物质文化生活的依托；说是“壮丽的舞台”，因为它为烟台人的生存、发展、创造提供了巨大的空间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83664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每个季节中，海都有什么特点，人们又是如何去面对的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880" y="251424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冬天－巨浪排岸（凝重）－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春天－微波泛起（轻盈）－播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夏天－凉爽恬静（浪漫）－休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秋天－湛蓝凉意（高远）－收获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本课知识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560" y="1915920"/>
            <a:ext cx="878508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台的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以生动的笔触，描写了烟台的海独特的景观：冬日的凝重，春天的轻盈，夏天的浪漫，秋日的高远及在大海的背景下烟台人的劳动与生活，激发人们热爱大自然，热爱生活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文围绕“独特”这个中心词展开，行文结构：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，按一年四季（冬春夏秋）的顺序描写烟台的海上景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76720" y="404640"/>
            <a:ext cx="1439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总结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1920" y="1844280"/>
            <a:ext cx="8991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小山似的涌浪像千万头暴怒的狮子，从北边的天际前赴后继、锲而不舍地扑向堤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  ②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又害羞似的退了回去，然后又扑上来，像个顽皮的孩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26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联系上下文，体会两个“扑”字的细微差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3068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”让人感到了海的壮观景象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42210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“扑”展现了“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4760" y="48927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波泛起”的可爱与轻盈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1905120"/>
            <a:ext cx="806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烟台的海一年四季都是那么迷人，你最喜欢其中的哪个季节呢？你来做导游向游客作一介绍。比谁介绍得好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4000" y="260280"/>
            <a:ext cx="1800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练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332000" y="620640"/>
            <a:ext cx="286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谢谢观赏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circle/>
    <p:sndAc>
      <p:stSnd>
        <p:snd r:embed="rId3" name="chimes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{C29C1D8F-3086-44D5-BFB7-878613A66281}"/>
          <p:cNvPicPr/>
          <p:nvPr/>
        </p:nvPicPr>
        <p:blipFill>
          <a:blip r:embed="rId2"/>
          <a:srcRect l="2480" t="2463" r="4976" b="3295"/>
          <a:stretch/>
        </p:blipFill>
        <p:spPr>
          <a:xfrm>
            <a:off x="179280" y="620640"/>
            <a:ext cx="8785440" cy="5832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2421000"/>
            <a:ext cx="7201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能正确、流利、有感情的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学会本课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个生字，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个字只识不写。理解由生字组成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知道烟台的海的特点，欣赏烟台的海的美丽，学习比喻、拟人的修辞手法和课文总、分、总的写作方法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3706920" y="1413000"/>
            <a:ext cx="201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checker dir="horz"/>
    <p:sndAc>
      <p:stSnd>
        <p:snd r:embed="rId3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492360" y="260280"/>
            <a:ext cx="10573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会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17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锲 而 不 舍            惬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2492280"/>
            <a:ext cx="1828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会读会写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4076640"/>
            <a:ext cx="756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 凳     蔚 蓝     嬉 笑     崇 山 峻 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 滤     恬 静     湛 蓝     如 醉 如 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1268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iè                            q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3645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èng  wèi           xī                    j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51577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ǜ      tián       zhàn                        ch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3" name="typ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09480"/>
            <a:ext cx="815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读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准字音，读顺句子，读通课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边读边想，遇到不懂的词语可以联系上下文、查阅工具书或与同学讨论解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了解课文主要内容和每个自然段的段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3248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这篇文章可以分为哪个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是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交代烟台的地理特点，总写烟台有独特的海上奇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是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具体写烟台的海一年四季的不同特点和烟台人民的生活情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是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赞颂烟台的海和烟台人民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16360" y="260280"/>
            <a:ext cx="228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文章的脉络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24000" y="1700280"/>
            <a:ext cx="8820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烟台的海在各个季节是怎样一幅独特的景观，请你找出有关语句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你认为这部分哪些语句写得好，为什么？从这些语句中你体会到了什么？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4046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品读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>
            <a:lum bright="8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92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冬天，深褐色的海面显得很凝重。来自西伯利亚的寒流经常气势汹汹地掠过这片海域。小山似的涌浪像千万头暴怒的狮子，从北边的天际前赴后继、锲而不舍地扑向堤岸，溅起数丈高的浪花，发出雷鸣般的轰响，有时竟把岸边数百斤重的石凳掀到十几米远的马路中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  <p:sndAc>
      <p:stSnd>
        <p:snd r:embed="rId4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05520" y="685800"/>
            <a:ext cx="38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深褐色的海面显得很凝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5T22:28:46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